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4A7-DADF-477F-B3A8-D829A551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A70-936B-4EC0-B6E5-A530A48A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154-0DD1-4F08-A915-2BB2F05C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54B-DC94-4E79-B990-A2159339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27F6-B256-4FBC-90B3-296CB64B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B566-94F4-449A-BC1E-FE9D471C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B77F-7612-4EC5-81D8-F3D58E08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BF8A-C40F-419D-949B-08D00DC4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43B0-E80E-47FF-8525-6C6BFCAB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2744-D037-4287-B909-03186F13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1A2B-3217-44E7-90BB-88BD9788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DE2-6BBC-4C95-B9B4-8AC555E8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6663-95B2-4E2B-ABC3-A1D9FA5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D139-9CAD-48F1-9151-AB74CEF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9D7F-FF7E-449D-8E31-00B3359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AAF5-3C1A-47E2-A657-EA27AC92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3AD1-4BE5-452E-8334-B7699A85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6E9-0799-426B-BA15-9C7BD0AB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5A3-327E-4BB4-9B0A-1A73C3FD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DB5-F194-4898-ADFB-EE300427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216-4C49-4677-81F7-C2F10A20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4F3-C42F-49F4-BEF1-A39B053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727-6D35-4DCA-B228-DDB308D0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785-6F2D-4485-8EC2-90A8639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52280" y="152280"/>
          <a:ext cx="160020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600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214A-B7F9-4142-AD15-E2B753E14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7D64-CA31-4A0B-8CE5-9A04CB32F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package" Target="../embeddings/oleObject4.xls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6.wmf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82960" y="762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nguiat Bk BT"/>
              </a:rPr>
              <a:t>Teknis Penyusun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Self-Evaluation Report</a:t>
            </a:r>
            <a:br>
              <a:rPr sz="4800"/>
            </a:b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Identifikasi &amp; Analisa Data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59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 2"/>
                <a:ea typeface="Wingdings 2"/>
              </a:rPr>
              <a:t>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Tahap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ngolahan Data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393680" y="2209680"/>
            <a:ext cx="1387800" cy="1952280"/>
            <a:chOff x="7393680" y="2209680"/>
            <a:chExt cx="1387800" cy="1952280"/>
          </a:xfrm>
        </p:grpSpPr>
        <p:sp>
          <p:nvSpPr>
            <p:cNvPr id="509" name=""/>
            <p:cNvSpPr/>
            <p:nvPr/>
          </p:nvSpPr>
          <p:spPr>
            <a:xfrm>
              <a:off x="7393680" y="3581280"/>
              <a:ext cx="138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ngumpula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620120" y="2209680"/>
              <a:ext cx="1066320" cy="1447560"/>
              <a:chOff x="7620120" y="2209680"/>
              <a:chExt cx="1066320" cy="1447560"/>
            </a:xfrm>
          </p:grpSpPr>
          <p:sp>
            <p:nvSpPr>
              <p:cNvPr id="511" name=""/>
              <p:cNvSpPr/>
              <p:nvPr/>
            </p:nvSpPr>
            <p:spPr>
              <a:xfrm>
                <a:off x="8256960" y="3530160"/>
                <a:ext cx="273960" cy="100080"/>
              </a:xfrm>
              <a:custGeom>
                <a:avLst/>
                <a:gdLst/>
                <a:ahLst/>
                <a:rect l="l" t="t" r="r" b="b"/>
                <a:pathLst>
                  <a:path w="2223" h="834">
                    <a:moveTo>
                      <a:pt x="0" y="530"/>
                    </a:moveTo>
                    <a:lnTo>
                      <a:pt x="890" y="0"/>
                    </a:lnTo>
                    <a:lnTo>
                      <a:pt x="1469" y="132"/>
                    </a:lnTo>
                    <a:lnTo>
                      <a:pt x="2223" y="178"/>
                    </a:lnTo>
                    <a:lnTo>
                      <a:pt x="1780" y="484"/>
                    </a:lnTo>
                    <a:lnTo>
                      <a:pt x="1061" y="834"/>
                    </a:lnTo>
                    <a:lnTo>
                      <a:pt x="408" y="703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63760" y="3477240"/>
                <a:ext cx="290520" cy="116640"/>
              </a:xfrm>
              <a:custGeom>
                <a:avLst/>
                <a:gdLst/>
                <a:ahLst/>
                <a:rect l="l" t="t" r="r" b="b"/>
                <a:pathLst>
                  <a:path w="2358" h="969">
                    <a:moveTo>
                      <a:pt x="0" y="0"/>
                    </a:moveTo>
                    <a:lnTo>
                      <a:pt x="786" y="0"/>
                    </a:lnTo>
                    <a:lnTo>
                      <a:pt x="1059" y="0"/>
                    </a:lnTo>
                    <a:lnTo>
                      <a:pt x="1709" y="395"/>
                    </a:lnTo>
                    <a:lnTo>
                      <a:pt x="2358" y="658"/>
                    </a:lnTo>
                    <a:lnTo>
                      <a:pt x="1676" y="969"/>
                    </a:lnTo>
                    <a:lnTo>
                      <a:pt x="1162" y="969"/>
                    </a:lnTo>
                    <a:lnTo>
                      <a:pt x="240" y="439"/>
                    </a:lnTo>
                    <a:lnTo>
                      <a:pt x="101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447040" y="2529000"/>
                <a:ext cx="229680" cy="159840"/>
              </a:xfrm>
              <a:custGeom>
                <a:avLst/>
                <a:gdLst/>
                <a:ahLst/>
                <a:rect l="l" t="t" r="r" b="b"/>
                <a:pathLst>
                  <a:path w="1866" h="1335">
                    <a:moveTo>
                      <a:pt x="0" y="710"/>
                    </a:moveTo>
                    <a:lnTo>
                      <a:pt x="679" y="381"/>
                    </a:lnTo>
                    <a:lnTo>
                      <a:pt x="828" y="189"/>
                    </a:lnTo>
                    <a:lnTo>
                      <a:pt x="870" y="0"/>
                    </a:lnTo>
                    <a:lnTo>
                      <a:pt x="1294" y="297"/>
                    </a:lnTo>
                    <a:lnTo>
                      <a:pt x="1866" y="409"/>
                    </a:lnTo>
                    <a:lnTo>
                      <a:pt x="1273" y="1037"/>
                    </a:lnTo>
                    <a:lnTo>
                      <a:pt x="701" y="1335"/>
                    </a:lnTo>
                    <a:lnTo>
                      <a:pt x="316" y="1090"/>
                    </a:lnTo>
                    <a:lnTo>
                      <a:pt x="0" y="71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796520" y="2271240"/>
                <a:ext cx="582480" cy="865440"/>
              </a:xfrm>
              <a:custGeom>
                <a:avLst/>
                <a:gdLst/>
                <a:ahLst/>
                <a:rect l="l" t="t" r="r" b="b"/>
                <a:pathLst>
                  <a:path w="4731" h="7172">
                    <a:moveTo>
                      <a:pt x="2144" y="193"/>
                    </a:moveTo>
                    <a:lnTo>
                      <a:pt x="2905" y="193"/>
                    </a:lnTo>
                    <a:lnTo>
                      <a:pt x="3202" y="654"/>
                    </a:lnTo>
                    <a:lnTo>
                      <a:pt x="3288" y="220"/>
                    </a:lnTo>
                    <a:lnTo>
                      <a:pt x="3753" y="220"/>
                    </a:lnTo>
                    <a:lnTo>
                      <a:pt x="4263" y="167"/>
                    </a:lnTo>
                    <a:lnTo>
                      <a:pt x="4646" y="0"/>
                    </a:lnTo>
                    <a:lnTo>
                      <a:pt x="4433" y="465"/>
                    </a:lnTo>
                    <a:lnTo>
                      <a:pt x="4413" y="1011"/>
                    </a:lnTo>
                    <a:lnTo>
                      <a:pt x="4516" y="1502"/>
                    </a:lnTo>
                    <a:lnTo>
                      <a:pt x="4731" y="1746"/>
                    </a:lnTo>
                    <a:lnTo>
                      <a:pt x="4560" y="1801"/>
                    </a:lnTo>
                    <a:lnTo>
                      <a:pt x="4263" y="1801"/>
                    </a:lnTo>
                    <a:lnTo>
                      <a:pt x="3776" y="1612"/>
                    </a:lnTo>
                    <a:lnTo>
                      <a:pt x="3161" y="1311"/>
                    </a:lnTo>
                    <a:lnTo>
                      <a:pt x="3099" y="1395"/>
                    </a:lnTo>
                    <a:lnTo>
                      <a:pt x="3140" y="1557"/>
                    </a:lnTo>
                    <a:lnTo>
                      <a:pt x="2969" y="1693"/>
                    </a:lnTo>
                    <a:lnTo>
                      <a:pt x="3077" y="1856"/>
                    </a:lnTo>
                    <a:lnTo>
                      <a:pt x="2886" y="2050"/>
                    </a:lnTo>
                    <a:lnTo>
                      <a:pt x="2947" y="2209"/>
                    </a:lnTo>
                    <a:lnTo>
                      <a:pt x="2801" y="2347"/>
                    </a:lnTo>
                    <a:lnTo>
                      <a:pt x="2886" y="2647"/>
                    </a:lnTo>
                    <a:lnTo>
                      <a:pt x="2653" y="6766"/>
                    </a:lnTo>
                    <a:lnTo>
                      <a:pt x="807" y="7172"/>
                    </a:lnTo>
                    <a:lnTo>
                      <a:pt x="0" y="6766"/>
                    </a:lnTo>
                    <a:lnTo>
                      <a:pt x="1125" y="329"/>
                    </a:lnTo>
                    <a:lnTo>
                      <a:pt x="2144" y="193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solidFill>
                  <a:srgbClr val="51515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84200" y="2294280"/>
                <a:ext cx="422640" cy="802440"/>
              </a:xfrm>
              <a:custGeom>
                <a:avLst/>
                <a:gdLst/>
                <a:ahLst/>
                <a:rect l="l" t="t" r="r" b="b"/>
                <a:pathLst>
                  <a:path w="3436" h="6654">
                    <a:moveTo>
                      <a:pt x="1188" y="27"/>
                    </a:moveTo>
                    <a:lnTo>
                      <a:pt x="1909" y="55"/>
                    </a:lnTo>
                    <a:lnTo>
                      <a:pt x="3010" y="0"/>
                    </a:lnTo>
                    <a:lnTo>
                      <a:pt x="3415" y="548"/>
                    </a:lnTo>
                    <a:lnTo>
                      <a:pt x="2652" y="218"/>
                    </a:lnTo>
                    <a:lnTo>
                      <a:pt x="3055" y="765"/>
                    </a:lnTo>
                    <a:lnTo>
                      <a:pt x="2588" y="548"/>
                    </a:lnTo>
                    <a:lnTo>
                      <a:pt x="2502" y="737"/>
                    </a:lnTo>
                    <a:lnTo>
                      <a:pt x="2588" y="927"/>
                    </a:lnTo>
                    <a:lnTo>
                      <a:pt x="2399" y="1090"/>
                    </a:lnTo>
                    <a:lnTo>
                      <a:pt x="2439" y="1336"/>
                    </a:lnTo>
                    <a:lnTo>
                      <a:pt x="2375" y="1500"/>
                    </a:lnTo>
                    <a:lnTo>
                      <a:pt x="2439" y="1772"/>
                    </a:lnTo>
                    <a:lnTo>
                      <a:pt x="2228" y="1963"/>
                    </a:lnTo>
                    <a:lnTo>
                      <a:pt x="2248" y="2154"/>
                    </a:lnTo>
                    <a:lnTo>
                      <a:pt x="2120" y="2427"/>
                    </a:lnTo>
                    <a:lnTo>
                      <a:pt x="2162" y="2537"/>
                    </a:lnTo>
                    <a:lnTo>
                      <a:pt x="2080" y="2781"/>
                    </a:lnTo>
                    <a:lnTo>
                      <a:pt x="2100" y="3084"/>
                    </a:lnTo>
                    <a:lnTo>
                      <a:pt x="2674" y="3136"/>
                    </a:lnTo>
                    <a:lnTo>
                      <a:pt x="2059" y="3191"/>
                    </a:lnTo>
                    <a:lnTo>
                      <a:pt x="1951" y="3380"/>
                    </a:lnTo>
                    <a:lnTo>
                      <a:pt x="1973" y="3628"/>
                    </a:lnTo>
                    <a:lnTo>
                      <a:pt x="2036" y="3709"/>
                    </a:lnTo>
                    <a:lnTo>
                      <a:pt x="3096" y="4089"/>
                    </a:lnTo>
                    <a:lnTo>
                      <a:pt x="1909" y="4336"/>
                    </a:lnTo>
                    <a:lnTo>
                      <a:pt x="1760" y="4472"/>
                    </a:lnTo>
                    <a:lnTo>
                      <a:pt x="1782" y="4608"/>
                    </a:lnTo>
                    <a:lnTo>
                      <a:pt x="1865" y="4746"/>
                    </a:lnTo>
                    <a:lnTo>
                      <a:pt x="3203" y="4417"/>
                    </a:lnTo>
                    <a:lnTo>
                      <a:pt x="3203" y="4500"/>
                    </a:lnTo>
                    <a:lnTo>
                      <a:pt x="1610" y="4963"/>
                    </a:lnTo>
                    <a:lnTo>
                      <a:pt x="2015" y="5073"/>
                    </a:lnTo>
                    <a:lnTo>
                      <a:pt x="3309" y="4937"/>
                    </a:lnTo>
                    <a:lnTo>
                      <a:pt x="2059" y="5375"/>
                    </a:lnTo>
                    <a:lnTo>
                      <a:pt x="2036" y="5511"/>
                    </a:lnTo>
                    <a:lnTo>
                      <a:pt x="3350" y="5345"/>
                    </a:lnTo>
                    <a:lnTo>
                      <a:pt x="3350" y="5453"/>
                    </a:lnTo>
                    <a:lnTo>
                      <a:pt x="2036" y="5780"/>
                    </a:lnTo>
                    <a:lnTo>
                      <a:pt x="1865" y="6055"/>
                    </a:lnTo>
                    <a:lnTo>
                      <a:pt x="1973" y="6218"/>
                    </a:lnTo>
                    <a:lnTo>
                      <a:pt x="2248" y="6244"/>
                    </a:lnTo>
                    <a:lnTo>
                      <a:pt x="3436" y="6136"/>
                    </a:lnTo>
                    <a:lnTo>
                      <a:pt x="1909" y="6654"/>
                    </a:lnTo>
                    <a:lnTo>
                      <a:pt x="215" y="6055"/>
                    </a:lnTo>
                    <a:lnTo>
                      <a:pt x="0" y="5836"/>
                    </a:lnTo>
                    <a:lnTo>
                      <a:pt x="65" y="5534"/>
                    </a:lnTo>
                    <a:lnTo>
                      <a:pt x="148" y="5126"/>
                    </a:lnTo>
                    <a:lnTo>
                      <a:pt x="171" y="4801"/>
                    </a:lnTo>
                    <a:lnTo>
                      <a:pt x="340" y="4255"/>
                    </a:lnTo>
                    <a:lnTo>
                      <a:pt x="298" y="3817"/>
                    </a:lnTo>
                    <a:lnTo>
                      <a:pt x="274" y="3709"/>
                    </a:lnTo>
                    <a:lnTo>
                      <a:pt x="470" y="3409"/>
                    </a:lnTo>
                    <a:lnTo>
                      <a:pt x="445" y="2807"/>
                    </a:lnTo>
                    <a:lnTo>
                      <a:pt x="722" y="2401"/>
                    </a:lnTo>
                    <a:lnTo>
                      <a:pt x="470" y="1882"/>
                    </a:lnTo>
                    <a:lnTo>
                      <a:pt x="701" y="1689"/>
                    </a:lnTo>
                    <a:lnTo>
                      <a:pt x="637" y="1472"/>
                    </a:lnTo>
                    <a:lnTo>
                      <a:pt x="848" y="1364"/>
                    </a:lnTo>
                    <a:lnTo>
                      <a:pt x="870" y="982"/>
                    </a:lnTo>
                    <a:lnTo>
                      <a:pt x="828" y="818"/>
                    </a:lnTo>
                    <a:lnTo>
                      <a:pt x="1019" y="737"/>
                    </a:lnTo>
                    <a:lnTo>
                      <a:pt x="784" y="490"/>
                    </a:lnTo>
                    <a:lnTo>
                      <a:pt x="1421" y="327"/>
                    </a:lnTo>
                    <a:lnTo>
                      <a:pt x="1188" y="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769880" y="2403360"/>
                <a:ext cx="219600" cy="58680"/>
              </a:xfrm>
              <a:custGeom>
                <a:avLst/>
                <a:gdLst/>
                <a:ahLst/>
                <a:rect l="l" t="t" r="r" b="b"/>
                <a:pathLst>
                  <a:path w="1782" h="492">
                    <a:moveTo>
                      <a:pt x="147" y="136"/>
                    </a:moveTo>
                    <a:lnTo>
                      <a:pt x="1782" y="0"/>
                    </a:lnTo>
                    <a:lnTo>
                      <a:pt x="1588" y="191"/>
                    </a:lnTo>
                    <a:lnTo>
                      <a:pt x="1654" y="465"/>
                    </a:lnTo>
                    <a:lnTo>
                      <a:pt x="147" y="492"/>
                    </a:lnTo>
                    <a:lnTo>
                      <a:pt x="0" y="191"/>
                    </a:lnTo>
                    <a:lnTo>
                      <a:pt x="147" y="136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solidFill>
                  <a:srgbClr val="0cc1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56920" y="2455560"/>
                <a:ext cx="213840" cy="62640"/>
              </a:xfrm>
              <a:custGeom>
                <a:avLst/>
                <a:gdLst/>
                <a:ahLst/>
                <a:rect l="l" t="t" r="r" b="b"/>
                <a:pathLst>
                  <a:path w="1740" h="521">
                    <a:moveTo>
                      <a:pt x="213" y="55"/>
                    </a:moveTo>
                    <a:lnTo>
                      <a:pt x="1740" y="0"/>
                    </a:lnTo>
                    <a:lnTo>
                      <a:pt x="1635" y="191"/>
                    </a:lnTo>
                    <a:lnTo>
                      <a:pt x="1720" y="521"/>
                    </a:lnTo>
                    <a:lnTo>
                      <a:pt x="108" y="410"/>
                    </a:lnTo>
                    <a:lnTo>
                      <a:pt x="0" y="164"/>
                    </a:lnTo>
                    <a:lnTo>
                      <a:pt x="213" y="55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717680" y="2642760"/>
                <a:ext cx="208800" cy="105840"/>
              </a:xfrm>
              <a:custGeom>
                <a:avLst/>
                <a:gdLst/>
                <a:ahLst/>
                <a:rect l="l" t="t" r="r" b="b"/>
                <a:pathLst>
                  <a:path w="1699" h="873">
                    <a:moveTo>
                      <a:pt x="255" y="0"/>
                    </a:moveTo>
                    <a:lnTo>
                      <a:pt x="1699" y="274"/>
                    </a:lnTo>
                    <a:lnTo>
                      <a:pt x="1591" y="520"/>
                    </a:lnTo>
                    <a:lnTo>
                      <a:pt x="1613" y="820"/>
                    </a:lnTo>
                    <a:lnTo>
                      <a:pt x="1297" y="873"/>
                    </a:lnTo>
                    <a:lnTo>
                      <a:pt x="152" y="546"/>
                    </a:lnTo>
                    <a:lnTo>
                      <a:pt x="0" y="355"/>
                    </a:lnTo>
                    <a:lnTo>
                      <a:pt x="130" y="138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solidFill>
                  <a:srgbClr val="00e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88880" y="2854080"/>
                <a:ext cx="384480" cy="124200"/>
              </a:xfrm>
              <a:custGeom>
                <a:avLst/>
                <a:gdLst/>
                <a:ahLst/>
                <a:rect l="l" t="t" r="r" b="b"/>
                <a:pathLst>
                  <a:path w="3117" h="1034">
                    <a:moveTo>
                      <a:pt x="189" y="0"/>
                    </a:moveTo>
                    <a:lnTo>
                      <a:pt x="1651" y="409"/>
                    </a:lnTo>
                    <a:lnTo>
                      <a:pt x="3117" y="218"/>
                    </a:lnTo>
                    <a:lnTo>
                      <a:pt x="1801" y="598"/>
                    </a:lnTo>
                    <a:lnTo>
                      <a:pt x="1759" y="764"/>
                    </a:lnTo>
                    <a:lnTo>
                      <a:pt x="1843" y="875"/>
                    </a:lnTo>
                    <a:lnTo>
                      <a:pt x="2036" y="898"/>
                    </a:lnTo>
                    <a:lnTo>
                      <a:pt x="2056" y="983"/>
                    </a:lnTo>
                    <a:lnTo>
                      <a:pt x="1738" y="1034"/>
                    </a:lnTo>
                    <a:lnTo>
                      <a:pt x="85" y="490"/>
                    </a:lnTo>
                    <a:lnTo>
                      <a:pt x="0" y="165"/>
                    </a:lnTo>
                    <a:lnTo>
                      <a:pt x="147" y="53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solidFill>
                  <a:srgbClr val="0cc1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93920" y="2840400"/>
                <a:ext cx="271800" cy="72360"/>
              </a:xfrm>
              <a:custGeom>
                <a:avLst/>
                <a:gdLst/>
                <a:ahLst/>
                <a:rect l="l" t="t" r="r" b="b"/>
                <a:pathLst>
                  <a:path w="2204" h="599">
                    <a:moveTo>
                      <a:pt x="86" y="0"/>
                    </a:moveTo>
                    <a:lnTo>
                      <a:pt x="1506" y="463"/>
                    </a:lnTo>
                    <a:lnTo>
                      <a:pt x="2204" y="436"/>
                    </a:lnTo>
                    <a:lnTo>
                      <a:pt x="1464" y="599"/>
                    </a:lnTo>
                    <a:lnTo>
                      <a:pt x="86" y="162"/>
                    </a:lnTo>
                    <a:lnTo>
                      <a:pt x="0" y="5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628760" y="2531880"/>
                <a:ext cx="329040" cy="75240"/>
              </a:xfrm>
              <a:custGeom>
                <a:avLst/>
                <a:gdLst/>
                <a:ahLst/>
                <a:rect l="l" t="t" r="r" b="b"/>
                <a:pathLst>
                  <a:path w="2672" h="627">
                    <a:moveTo>
                      <a:pt x="933" y="0"/>
                    </a:moveTo>
                    <a:lnTo>
                      <a:pt x="2480" y="218"/>
                    </a:lnTo>
                    <a:lnTo>
                      <a:pt x="2672" y="271"/>
                    </a:lnTo>
                    <a:lnTo>
                      <a:pt x="2372" y="355"/>
                    </a:lnTo>
                    <a:lnTo>
                      <a:pt x="1525" y="464"/>
                    </a:lnTo>
                    <a:lnTo>
                      <a:pt x="848" y="627"/>
                    </a:lnTo>
                    <a:lnTo>
                      <a:pt x="0" y="328"/>
                    </a:lnTo>
                    <a:lnTo>
                      <a:pt x="401" y="82"/>
                    </a:lnTo>
                    <a:lnTo>
                      <a:pt x="9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46120" y="2718720"/>
                <a:ext cx="311400" cy="118440"/>
              </a:xfrm>
              <a:custGeom>
                <a:avLst/>
                <a:gdLst/>
                <a:ahLst/>
                <a:rect l="l" t="t" r="r" b="b"/>
                <a:pathLst>
                  <a:path w="2525" h="982">
                    <a:moveTo>
                      <a:pt x="0" y="0"/>
                    </a:moveTo>
                    <a:lnTo>
                      <a:pt x="1169" y="218"/>
                    </a:lnTo>
                    <a:lnTo>
                      <a:pt x="2336" y="136"/>
                    </a:lnTo>
                    <a:lnTo>
                      <a:pt x="2525" y="435"/>
                    </a:lnTo>
                    <a:lnTo>
                      <a:pt x="1655" y="629"/>
                    </a:lnTo>
                    <a:lnTo>
                      <a:pt x="828" y="818"/>
                    </a:lnTo>
                    <a:lnTo>
                      <a:pt x="471" y="982"/>
                    </a:lnTo>
                    <a:lnTo>
                      <a:pt x="107" y="2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86000" y="3017880"/>
                <a:ext cx="240480" cy="109080"/>
              </a:xfrm>
              <a:custGeom>
                <a:avLst/>
                <a:gdLst/>
                <a:ahLst/>
                <a:rect l="l" t="t" r="r" b="b"/>
                <a:pathLst>
                  <a:path w="1952" h="898">
                    <a:moveTo>
                      <a:pt x="44" y="0"/>
                    </a:moveTo>
                    <a:lnTo>
                      <a:pt x="1952" y="516"/>
                    </a:lnTo>
                    <a:lnTo>
                      <a:pt x="1017" y="898"/>
                    </a:lnTo>
                    <a:lnTo>
                      <a:pt x="0" y="8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647840" y="2899440"/>
                <a:ext cx="229320" cy="125280"/>
              </a:xfrm>
              <a:custGeom>
                <a:avLst/>
                <a:gdLst/>
                <a:ahLst/>
                <a:rect l="l" t="t" r="r" b="b"/>
                <a:pathLst>
                  <a:path w="1868" h="1039">
                    <a:moveTo>
                      <a:pt x="402" y="0"/>
                    </a:moveTo>
                    <a:lnTo>
                      <a:pt x="1868" y="465"/>
                    </a:lnTo>
                    <a:lnTo>
                      <a:pt x="911" y="1039"/>
                    </a:lnTo>
                    <a:lnTo>
                      <a:pt x="468" y="603"/>
                    </a:lnTo>
                    <a:lnTo>
                      <a:pt x="0" y="246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86000" y="3061440"/>
                <a:ext cx="415800" cy="143640"/>
              </a:xfrm>
              <a:custGeom>
                <a:avLst/>
                <a:gdLst/>
                <a:ahLst/>
                <a:rect l="l" t="t" r="r" b="b"/>
                <a:pathLst>
                  <a:path w="3373" h="1198">
                    <a:moveTo>
                      <a:pt x="84" y="0"/>
                    </a:moveTo>
                    <a:lnTo>
                      <a:pt x="0" y="191"/>
                    </a:lnTo>
                    <a:lnTo>
                      <a:pt x="44" y="625"/>
                    </a:lnTo>
                    <a:lnTo>
                      <a:pt x="1930" y="1198"/>
                    </a:lnTo>
                    <a:lnTo>
                      <a:pt x="2059" y="654"/>
                    </a:lnTo>
                    <a:lnTo>
                      <a:pt x="3373" y="0"/>
                    </a:lnTo>
                    <a:lnTo>
                      <a:pt x="1824" y="382"/>
                    </a:lnTo>
                    <a:lnTo>
                      <a:pt x="1528" y="382"/>
                    </a:lnTo>
                    <a:lnTo>
                      <a:pt x="957" y="516"/>
                    </a:lnTo>
                    <a:lnTo>
                      <a:pt x="572" y="191"/>
                    </a:lnTo>
                    <a:lnTo>
                      <a:pt x="297" y="26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066520" y="2640600"/>
                <a:ext cx="244440" cy="145440"/>
              </a:xfrm>
              <a:custGeom>
                <a:avLst/>
                <a:gdLst/>
                <a:ahLst/>
                <a:rect l="l" t="t" r="r" b="b"/>
                <a:pathLst>
                  <a:path w="1980" h="1205">
                    <a:moveTo>
                      <a:pt x="33" y="334"/>
                    </a:moveTo>
                    <a:lnTo>
                      <a:pt x="207" y="112"/>
                    </a:lnTo>
                    <a:lnTo>
                      <a:pt x="365" y="22"/>
                    </a:lnTo>
                    <a:lnTo>
                      <a:pt x="589" y="0"/>
                    </a:lnTo>
                    <a:lnTo>
                      <a:pt x="1736" y="66"/>
                    </a:lnTo>
                    <a:lnTo>
                      <a:pt x="1980" y="490"/>
                    </a:lnTo>
                    <a:lnTo>
                      <a:pt x="1857" y="1006"/>
                    </a:lnTo>
                    <a:lnTo>
                      <a:pt x="1633" y="1184"/>
                    </a:lnTo>
                    <a:lnTo>
                      <a:pt x="1161" y="1205"/>
                    </a:lnTo>
                    <a:lnTo>
                      <a:pt x="783" y="804"/>
                    </a:lnTo>
                    <a:lnTo>
                      <a:pt x="468" y="1006"/>
                    </a:lnTo>
                    <a:lnTo>
                      <a:pt x="189" y="938"/>
                    </a:lnTo>
                    <a:lnTo>
                      <a:pt x="0" y="490"/>
                    </a:lnTo>
                    <a:lnTo>
                      <a:pt x="33" y="334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33840" y="2536560"/>
                <a:ext cx="349560" cy="443520"/>
              </a:xfrm>
              <a:custGeom>
                <a:avLst/>
                <a:gdLst/>
                <a:ahLst/>
                <a:rect l="l" t="t" r="r" b="b"/>
                <a:pathLst>
                  <a:path w="2846" h="3686">
                    <a:moveTo>
                      <a:pt x="104" y="291"/>
                    </a:moveTo>
                    <a:lnTo>
                      <a:pt x="574" y="67"/>
                    </a:lnTo>
                    <a:lnTo>
                      <a:pt x="918" y="0"/>
                    </a:lnTo>
                    <a:lnTo>
                      <a:pt x="1218" y="0"/>
                    </a:lnTo>
                    <a:lnTo>
                      <a:pt x="1372" y="177"/>
                    </a:lnTo>
                    <a:lnTo>
                      <a:pt x="1718" y="177"/>
                    </a:lnTo>
                    <a:lnTo>
                      <a:pt x="1928" y="267"/>
                    </a:lnTo>
                    <a:lnTo>
                      <a:pt x="2048" y="489"/>
                    </a:lnTo>
                    <a:lnTo>
                      <a:pt x="2345" y="1226"/>
                    </a:lnTo>
                    <a:lnTo>
                      <a:pt x="2587" y="1942"/>
                    </a:lnTo>
                    <a:lnTo>
                      <a:pt x="2813" y="2412"/>
                    </a:lnTo>
                    <a:lnTo>
                      <a:pt x="2710" y="2610"/>
                    </a:lnTo>
                    <a:lnTo>
                      <a:pt x="2846" y="2903"/>
                    </a:lnTo>
                    <a:lnTo>
                      <a:pt x="2846" y="3012"/>
                    </a:lnTo>
                    <a:lnTo>
                      <a:pt x="2554" y="3170"/>
                    </a:lnTo>
                    <a:lnTo>
                      <a:pt x="2604" y="3329"/>
                    </a:lnTo>
                    <a:lnTo>
                      <a:pt x="2483" y="3419"/>
                    </a:lnTo>
                    <a:lnTo>
                      <a:pt x="2204" y="3509"/>
                    </a:lnTo>
                    <a:lnTo>
                      <a:pt x="1995" y="3617"/>
                    </a:lnTo>
                    <a:lnTo>
                      <a:pt x="1616" y="3686"/>
                    </a:lnTo>
                    <a:lnTo>
                      <a:pt x="1110" y="3260"/>
                    </a:lnTo>
                    <a:lnTo>
                      <a:pt x="1110" y="1942"/>
                    </a:lnTo>
                    <a:lnTo>
                      <a:pt x="1284" y="1698"/>
                    </a:lnTo>
                    <a:lnTo>
                      <a:pt x="1319" y="1429"/>
                    </a:lnTo>
                    <a:lnTo>
                      <a:pt x="1248" y="1205"/>
                    </a:lnTo>
                    <a:lnTo>
                      <a:pt x="1110" y="983"/>
                    </a:lnTo>
                    <a:lnTo>
                      <a:pt x="1006" y="915"/>
                    </a:lnTo>
                    <a:lnTo>
                      <a:pt x="139" y="937"/>
                    </a:lnTo>
                    <a:lnTo>
                      <a:pt x="0" y="871"/>
                    </a:lnTo>
                    <a:lnTo>
                      <a:pt x="86" y="669"/>
                    </a:lnTo>
                    <a:lnTo>
                      <a:pt x="51" y="513"/>
                    </a:lnTo>
                    <a:lnTo>
                      <a:pt x="139" y="378"/>
                    </a:lnTo>
                    <a:lnTo>
                      <a:pt x="104" y="29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solidFill>
                  <a:srgbClr val="7023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150400" y="2581920"/>
                <a:ext cx="122040" cy="108000"/>
              </a:xfrm>
              <a:custGeom>
                <a:avLst/>
                <a:gdLst/>
                <a:ahLst/>
                <a:rect l="l" t="t" r="r" b="b"/>
                <a:pathLst>
                  <a:path w="991" h="894">
                    <a:moveTo>
                      <a:pt x="0" y="537"/>
                    </a:moveTo>
                    <a:lnTo>
                      <a:pt x="207" y="359"/>
                    </a:lnTo>
                    <a:lnTo>
                      <a:pt x="450" y="157"/>
                    </a:lnTo>
                    <a:lnTo>
                      <a:pt x="779" y="23"/>
                    </a:lnTo>
                    <a:lnTo>
                      <a:pt x="938" y="0"/>
                    </a:lnTo>
                    <a:lnTo>
                      <a:pt x="991" y="92"/>
                    </a:lnTo>
                    <a:lnTo>
                      <a:pt x="938" y="334"/>
                    </a:lnTo>
                    <a:lnTo>
                      <a:pt x="971" y="581"/>
                    </a:lnTo>
                    <a:lnTo>
                      <a:pt x="797" y="515"/>
                    </a:lnTo>
                    <a:lnTo>
                      <a:pt x="556" y="581"/>
                    </a:lnTo>
                    <a:lnTo>
                      <a:pt x="382" y="693"/>
                    </a:lnTo>
                    <a:lnTo>
                      <a:pt x="295" y="894"/>
                    </a:lnTo>
                    <a:lnTo>
                      <a:pt x="173" y="894"/>
                    </a:lnTo>
                    <a:lnTo>
                      <a:pt x="138" y="761"/>
                    </a:lnTo>
                    <a:lnTo>
                      <a:pt x="70" y="627"/>
                    </a:lnTo>
                    <a:lnTo>
                      <a:pt x="0" y="537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927560" y="2708280"/>
                <a:ext cx="359640" cy="519840"/>
              </a:xfrm>
              <a:custGeom>
                <a:avLst/>
                <a:gdLst/>
                <a:ahLst/>
                <a:rect l="l" t="t" r="r" b="b"/>
                <a:pathLst>
                  <a:path w="2918" h="4310">
                    <a:moveTo>
                      <a:pt x="281" y="3036"/>
                    </a:moveTo>
                    <a:lnTo>
                      <a:pt x="559" y="3416"/>
                    </a:lnTo>
                    <a:lnTo>
                      <a:pt x="0" y="4020"/>
                    </a:lnTo>
                    <a:lnTo>
                      <a:pt x="71" y="4310"/>
                    </a:lnTo>
                    <a:lnTo>
                      <a:pt x="732" y="4289"/>
                    </a:lnTo>
                    <a:lnTo>
                      <a:pt x="1391" y="3796"/>
                    </a:lnTo>
                    <a:lnTo>
                      <a:pt x="2415" y="1607"/>
                    </a:lnTo>
                    <a:lnTo>
                      <a:pt x="2901" y="1161"/>
                    </a:lnTo>
                    <a:lnTo>
                      <a:pt x="2918" y="850"/>
                    </a:lnTo>
                    <a:lnTo>
                      <a:pt x="2835" y="601"/>
                    </a:lnTo>
                    <a:lnTo>
                      <a:pt x="2487" y="647"/>
                    </a:lnTo>
                    <a:lnTo>
                      <a:pt x="2244" y="538"/>
                    </a:lnTo>
                    <a:lnTo>
                      <a:pt x="2138" y="334"/>
                    </a:lnTo>
                    <a:lnTo>
                      <a:pt x="2051" y="22"/>
                    </a:lnTo>
                    <a:lnTo>
                      <a:pt x="2000" y="0"/>
                    </a:lnTo>
                    <a:lnTo>
                      <a:pt x="1791" y="269"/>
                    </a:lnTo>
                    <a:lnTo>
                      <a:pt x="1600" y="357"/>
                    </a:lnTo>
                    <a:lnTo>
                      <a:pt x="1321" y="380"/>
                    </a:lnTo>
                    <a:lnTo>
                      <a:pt x="1235" y="691"/>
                    </a:lnTo>
                    <a:lnTo>
                      <a:pt x="1253" y="1047"/>
                    </a:lnTo>
                    <a:lnTo>
                      <a:pt x="1321" y="1520"/>
                    </a:lnTo>
                    <a:lnTo>
                      <a:pt x="1286" y="1741"/>
                    </a:lnTo>
                    <a:lnTo>
                      <a:pt x="1373" y="1921"/>
                    </a:lnTo>
                    <a:lnTo>
                      <a:pt x="1565" y="1965"/>
                    </a:lnTo>
                    <a:lnTo>
                      <a:pt x="1514" y="2971"/>
                    </a:lnTo>
                    <a:lnTo>
                      <a:pt x="991" y="3149"/>
                    </a:lnTo>
                    <a:lnTo>
                      <a:pt x="661" y="3080"/>
                    </a:lnTo>
                    <a:lnTo>
                      <a:pt x="332" y="2946"/>
                    </a:lnTo>
                    <a:lnTo>
                      <a:pt x="281" y="3036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75520" y="2921400"/>
                <a:ext cx="267840" cy="408960"/>
              </a:xfrm>
              <a:custGeom>
                <a:avLst/>
                <a:gdLst/>
                <a:ahLst/>
                <a:rect l="l" t="t" r="r" b="b"/>
                <a:pathLst>
                  <a:path w="2174" h="3394">
                    <a:moveTo>
                      <a:pt x="191" y="182"/>
                    </a:moveTo>
                    <a:lnTo>
                      <a:pt x="242" y="270"/>
                    </a:lnTo>
                    <a:lnTo>
                      <a:pt x="159" y="424"/>
                    </a:lnTo>
                    <a:lnTo>
                      <a:pt x="242" y="514"/>
                    </a:lnTo>
                    <a:lnTo>
                      <a:pt x="139" y="627"/>
                    </a:lnTo>
                    <a:lnTo>
                      <a:pt x="208" y="940"/>
                    </a:lnTo>
                    <a:lnTo>
                      <a:pt x="208" y="1093"/>
                    </a:lnTo>
                    <a:lnTo>
                      <a:pt x="0" y="1272"/>
                    </a:lnTo>
                    <a:lnTo>
                      <a:pt x="226" y="2032"/>
                    </a:lnTo>
                    <a:lnTo>
                      <a:pt x="261" y="3194"/>
                    </a:lnTo>
                    <a:lnTo>
                      <a:pt x="1424" y="3394"/>
                    </a:lnTo>
                    <a:lnTo>
                      <a:pt x="1406" y="3037"/>
                    </a:lnTo>
                    <a:lnTo>
                      <a:pt x="1323" y="2571"/>
                    </a:lnTo>
                    <a:lnTo>
                      <a:pt x="1180" y="1965"/>
                    </a:lnTo>
                    <a:lnTo>
                      <a:pt x="1165" y="1699"/>
                    </a:lnTo>
                    <a:lnTo>
                      <a:pt x="1668" y="1073"/>
                    </a:lnTo>
                    <a:lnTo>
                      <a:pt x="1842" y="983"/>
                    </a:lnTo>
                    <a:lnTo>
                      <a:pt x="1947" y="959"/>
                    </a:lnTo>
                    <a:lnTo>
                      <a:pt x="2086" y="805"/>
                    </a:lnTo>
                    <a:lnTo>
                      <a:pt x="2154" y="761"/>
                    </a:lnTo>
                    <a:lnTo>
                      <a:pt x="2174" y="403"/>
                    </a:lnTo>
                    <a:lnTo>
                      <a:pt x="2086" y="136"/>
                    </a:lnTo>
                    <a:lnTo>
                      <a:pt x="1999" y="201"/>
                    </a:lnTo>
                    <a:lnTo>
                      <a:pt x="1635" y="0"/>
                    </a:lnTo>
                    <a:lnTo>
                      <a:pt x="991" y="136"/>
                    </a:lnTo>
                    <a:lnTo>
                      <a:pt x="627" y="581"/>
                    </a:lnTo>
                    <a:lnTo>
                      <a:pt x="415" y="379"/>
                    </a:lnTo>
                    <a:lnTo>
                      <a:pt x="574" y="111"/>
                    </a:lnTo>
                    <a:lnTo>
                      <a:pt x="314" y="182"/>
                    </a:lnTo>
                    <a:lnTo>
                      <a:pt x="191" y="18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051760" y="3071880"/>
                <a:ext cx="67680" cy="88560"/>
              </a:xfrm>
              <a:custGeom>
                <a:avLst/>
                <a:gdLst/>
                <a:ahLst/>
                <a:rect l="l" t="t" r="r" b="b"/>
                <a:pathLst>
                  <a:path w="556" h="738">
                    <a:moveTo>
                      <a:pt x="0" y="90"/>
                    </a:moveTo>
                    <a:lnTo>
                      <a:pt x="226" y="0"/>
                    </a:lnTo>
                    <a:lnTo>
                      <a:pt x="540" y="156"/>
                    </a:lnTo>
                    <a:lnTo>
                      <a:pt x="556" y="378"/>
                    </a:lnTo>
                    <a:lnTo>
                      <a:pt x="505" y="580"/>
                    </a:lnTo>
                    <a:lnTo>
                      <a:pt x="209" y="738"/>
                    </a:lnTo>
                    <a:lnTo>
                      <a:pt x="191" y="626"/>
                    </a:lnTo>
                    <a:lnTo>
                      <a:pt x="191" y="448"/>
                    </a:lnTo>
                    <a:lnTo>
                      <a:pt x="123" y="18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solidFill>
                  <a:srgbClr val="0cc1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05040" y="2964960"/>
                <a:ext cx="55800" cy="77040"/>
              </a:xfrm>
              <a:custGeom>
                <a:avLst/>
                <a:gdLst/>
                <a:ahLst/>
                <a:rect l="l" t="t" r="r" b="b"/>
                <a:pathLst>
                  <a:path w="455" h="646">
                    <a:moveTo>
                      <a:pt x="0" y="646"/>
                    </a:moveTo>
                    <a:lnTo>
                      <a:pt x="194" y="0"/>
                    </a:lnTo>
                    <a:lnTo>
                      <a:pt x="455" y="134"/>
                    </a:lnTo>
                    <a:lnTo>
                      <a:pt x="314" y="512"/>
                    </a:lnTo>
                    <a:lnTo>
                      <a:pt x="0" y="646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solidFill>
                  <a:srgbClr val="0cc1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82640" y="3358440"/>
                <a:ext cx="203040" cy="278640"/>
              </a:xfrm>
              <a:custGeom>
                <a:avLst/>
                <a:gdLst/>
                <a:ahLst/>
                <a:rect l="l" t="t" r="r" b="b"/>
                <a:pathLst>
                  <a:path w="1651" h="2313">
                    <a:moveTo>
                      <a:pt x="0" y="0"/>
                    </a:moveTo>
                    <a:lnTo>
                      <a:pt x="72" y="622"/>
                    </a:lnTo>
                    <a:lnTo>
                      <a:pt x="205" y="763"/>
                    </a:lnTo>
                    <a:lnTo>
                      <a:pt x="1224" y="1551"/>
                    </a:lnTo>
                    <a:lnTo>
                      <a:pt x="1317" y="1740"/>
                    </a:lnTo>
                    <a:lnTo>
                      <a:pt x="1057" y="2147"/>
                    </a:lnTo>
                    <a:lnTo>
                      <a:pt x="908" y="2287"/>
                    </a:lnTo>
                    <a:lnTo>
                      <a:pt x="1020" y="2313"/>
                    </a:lnTo>
                    <a:lnTo>
                      <a:pt x="1374" y="2216"/>
                    </a:lnTo>
                    <a:lnTo>
                      <a:pt x="1651" y="1882"/>
                    </a:lnTo>
                    <a:lnTo>
                      <a:pt x="1446" y="1551"/>
                    </a:lnTo>
                    <a:lnTo>
                      <a:pt x="1187" y="1048"/>
                    </a:lnTo>
                    <a:lnTo>
                      <a:pt x="925" y="691"/>
                    </a:lnTo>
                    <a:lnTo>
                      <a:pt x="778" y="550"/>
                    </a:lnTo>
                    <a:lnTo>
                      <a:pt x="574" y="477"/>
                    </a:lnTo>
                    <a:lnTo>
                      <a:pt x="556" y="191"/>
                    </a:lnTo>
                    <a:lnTo>
                      <a:pt x="277" y="1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55400" y="3260160"/>
                <a:ext cx="176040" cy="316440"/>
              </a:xfrm>
              <a:custGeom>
                <a:avLst/>
                <a:gdLst/>
                <a:ahLst/>
                <a:rect l="l" t="t" r="r" b="b"/>
                <a:pathLst>
                  <a:path w="1429" h="2624">
                    <a:moveTo>
                      <a:pt x="1076" y="0"/>
                    </a:moveTo>
                    <a:lnTo>
                      <a:pt x="465" y="1023"/>
                    </a:lnTo>
                    <a:lnTo>
                      <a:pt x="187" y="1572"/>
                    </a:lnTo>
                    <a:lnTo>
                      <a:pt x="0" y="2026"/>
                    </a:lnTo>
                    <a:lnTo>
                      <a:pt x="56" y="2624"/>
                    </a:lnTo>
                    <a:lnTo>
                      <a:pt x="297" y="2597"/>
                    </a:lnTo>
                    <a:lnTo>
                      <a:pt x="263" y="2334"/>
                    </a:lnTo>
                    <a:lnTo>
                      <a:pt x="297" y="2026"/>
                    </a:lnTo>
                    <a:lnTo>
                      <a:pt x="408" y="1714"/>
                    </a:lnTo>
                    <a:lnTo>
                      <a:pt x="669" y="1359"/>
                    </a:lnTo>
                    <a:lnTo>
                      <a:pt x="1185" y="713"/>
                    </a:lnTo>
                    <a:lnTo>
                      <a:pt x="1429" y="166"/>
                    </a:lnTo>
                    <a:lnTo>
                      <a:pt x="1282" y="23"/>
                    </a:lnTo>
                    <a:lnTo>
                      <a:pt x="1076" y="0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765920" y="3200400"/>
                <a:ext cx="334800" cy="189000"/>
              </a:xfrm>
              <a:custGeom>
                <a:avLst/>
                <a:gdLst/>
                <a:ahLst/>
                <a:rect l="l" t="t" r="r" b="b"/>
                <a:pathLst>
                  <a:path w="2722" h="1573">
                    <a:moveTo>
                      <a:pt x="0" y="359"/>
                    </a:moveTo>
                    <a:lnTo>
                      <a:pt x="831" y="23"/>
                    </a:lnTo>
                    <a:lnTo>
                      <a:pt x="1092" y="23"/>
                    </a:lnTo>
                    <a:lnTo>
                      <a:pt x="1260" y="214"/>
                    </a:lnTo>
                    <a:lnTo>
                      <a:pt x="1760" y="311"/>
                    </a:lnTo>
                    <a:lnTo>
                      <a:pt x="2558" y="0"/>
                    </a:lnTo>
                    <a:lnTo>
                      <a:pt x="2722" y="1360"/>
                    </a:lnTo>
                    <a:lnTo>
                      <a:pt x="2371" y="1573"/>
                    </a:lnTo>
                    <a:lnTo>
                      <a:pt x="1703" y="1336"/>
                    </a:lnTo>
                    <a:lnTo>
                      <a:pt x="1165" y="1002"/>
                    </a:lnTo>
                    <a:lnTo>
                      <a:pt x="629" y="787"/>
                    </a:lnTo>
                    <a:lnTo>
                      <a:pt x="183" y="596"/>
                    </a:lnTo>
                    <a:lnTo>
                      <a:pt x="73" y="453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0cc10c"/>
              </a:solidFill>
              <a:ln w="0">
                <a:solidFill>
                  <a:srgbClr val="0cc1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082360" y="2653200"/>
                <a:ext cx="61920" cy="81000"/>
              </a:xfrm>
              <a:custGeom>
                <a:avLst/>
                <a:gdLst/>
                <a:ahLst/>
                <a:rect l="l" t="t" r="r" b="b"/>
                <a:pathLst>
                  <a:path w="503" h="668">
                    <a:moveTo>
                      <a:pt x="281" y="0"/>
                    </a:moveTo>
                    <a:lnTo>
                      <a:pt x="94" y="120"/>
                    </a:lnTo>
                    <a:lnTo>
                      <a:pt x="0" y="290"/>
                    </a:lnTo>
                    <a:lnTo>
                      <a:pt x="0" y="503"/>
                    </a:lnTo>
                    <a:lnTo>
                      <a:pt x="131" y="668"/>
                    </a:lnTo>
                    <a:lnTo>
                      <a:pt x="503" y="97"/>
                    </a:lnTo>
                    <a:lnTo>
                      <a:pt x="111" y="454"/>
                    </a:lnTo>
                    <a:lnTo>
                      <a:pt x="428" y="26"/>
                    </a:lnTo>
                    <a:lnTo>
                      <a:pt x="111" y="263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192520" y="2658960"/>
                <a:ext cx="88560" cy="95040"/>
              </a:xfrm>
              <a:custGeom>
                <a:avLst/>
                <a:gdLst/>
                <a:ahLst/>
                <a:rect l="l" t="t" r="r" b="b"/>
                <a:pathLst>
                  <a:path w="722" h="789">
                    <a:moveTo>
                      <a:pt x="259" y="24"/>
                    </a:moveTo>
                    <a:lnTo>
                      <a:pt x="111" y="146"/>
                    </a:lnTo>
                    <a:lnTo>
                      <a:pt x="0" y="358"/>
                    </a:lnTo>
                    <a:lnTo>
                      <a:pt x="19" y="526"/>
                    </a:lnTo>
                    <a:lnTo>
                      <a:pt x="92" y="692"/>
                    </a:lnTo>
                    <a:lnTo>
                      <a:pt x="204" y="789"/>
                    </a:lnTo>
                    <a:lnTo>
                      <a:pt x="687" y="526"/>
                    </a:lnTo>
                    <a:lnTo>
                      <a:pt x="703" y="383"/>
                    </a:lnTo>
                    <a:lnTo>
                      <a:pt x="222" y="646"/>
                    </a:lnTo>
                    <a:lnTo>
                      <a:pt x="184" y="597"/>
                    </a:lnTo>
                    <a:lnTo>
                      <a:pt x="722" y="215"/>
                    </a:lnTo>
                    <a:lnTo>
                      <a:pt x="628" y="146"/>
                    </a:lnTo>
                    <a:lnTo>
                      <a:pt x="184" y="431"/>
                    </a:lnTo>
                    <a:lnTo>
                      <a:pt x="204" y="337"/>
                    </a:lnTo>
                    <a:lnTo>
                      <a:pt x="498" y="49"/>
                    </a:lnTo>
                    <a:lnTo>
                      <a:pt x="408" y="0"/>
                    </a:lnTo>
                    <a:lnTo>
                      <a:pt x="259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112960" y="2808360"/>
                <a:ext cx="88560" cy="37440"/>
              </a:xfrm>
              <a:custGeom>
                <a:avLst/>
                <a:gdLst/>
                <a:ahLst/>
                <a:rect l="l" t="t" r="r" b="b"/>
                <a:pathLst>
                  <a:path w="723" h="310">
                    <a:moveTo>
                      <a:pt x="38" y="0"/>
                    </a:moveTo>
                    <a:lnTo>
                      <a:pt x="332" y="24"/>
                    </a:lnTo>
                    <a:lnTo>
                      <a:pt x="557" y="119"/>
                    </a:lnTo>
                    <a:lnTo>
                      <a:pt x="723" y="239"/>
                    </a:lnTo>
                    <a:lnTo>
                      <a:pt x="518" y="310"/>
                    </a:lnTo>
                    <a:lnTo>
                      <a:pt x="223" y="310"/>
                    </a:lnTo>
                    <a:lnTo>
                      <a:pt x="0" y="16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49160" y="2214360"/>
                <a:ext cx="181440" cy="64440"/>
              </a:xfrm>
              <a:custGeom>
                <a:avLst/>
                <a:gdLst/>
                <a:ahLst/>
                <a:rect l="l" t="t" r="r" b="b"/>
                <a:pathLst>
                  <a:path w="1472" h="529">
                    <a:moveTo>
                      <a:pt x="0" y="88"/>
                    </a:moveTo>
                    <a:lnTo>
                      <a:pt x="618" y="88"/>
                    </a:lnTo>
                    <a:lnTo>
                      <a:pt x="1472" y="0"/>
                    </a:lnTo>
                    <a:lnTo>
                      <a:pt x="446" y="310"/>
                    </a:lnTo>
                    <a:lnTo>
                      <a:pt x="35" y="529"/>
                    </a:lnTo>
                    <a:lnTo>
                      <a:pt x="0" y="22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838640" y="2294280"/>
                <a:ext cx="210960" cy="31680"/>
              </a:xfrm>
              <a:custGeom>
                <a:avLst/>
                <a:gdLst/>
                <a:ahLst/>
                <a:rect l="l" t="t" r="r" b="b"/>
                <a:pathLst>
                  <a:path w="1709" h="264">
                    <a:moveTo>
                      <a:pt x="0" y="88"/>
                    </a:moveTo>
                    <a:lnTo>
                      <a:pt x="1709" y="0"/>
                    </a:lnTo>
                    <a:lnTo>
                      <a:pt x="139" y="264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31360" y="2293560"/>
                <a:ext cx="312480" cy="237960"/>
              </a:xfrm>
              <a:custGeom>
                <a:avLst/>
                <a:gdLst/>
                <a:ahLst/>
                <a:rect l="l" t="t" r="r" b="b"/>
                <a:pathLst>
                  <a:path w="2532" h="1981">
                    <a:moveTo>
                      <a:pt x="2532" y="0"/>
                    </a:moveTo>
                    <a:lnTo>
                      <a:pt x="1778" y="75"/>
                    </a:lnTo>
                    <a:lnTo>
                      <a:pt x="1055" y="38"/>
                    </a:lnTo>
                    <a:lnTo>
                      <a:pt x="693" y="38"/>
                    </a:lnTo>
                    <a:lnTo>
                      <a:pt x="994" y="310"/>
                    </a:lnTo>
                    <a:lnTo>
                      <a:pt x="272" y="466"/>
                    </a:lnTo>
                    <a:lnTo>
                      <a:pt x="576" y="738"/>
                    </a:lnTo>
                    <a:lnTo>
                      <a:pt x="361" y="815"/>
                    </a:lnTo>
                    <a:lnTo>
                      <a:pt x="454" y="1048"/>
                    </a:lnTo>
                    <a:lnTo>
                      <a:pt x="212" y="1087"/>
                    </a:lnTo>
                    <a:lnTo>
                      <a:pt x="422" y="1360"/>
                    </a:lnTo>
                    <a:lnTo>
                      <a:pt x="152" y="1478"/>
                    </a:lnTo>
                    <a:lnTo>
                      <a:pt x="272" y="1711"/>
                    </a:lnTo>
                    <a:lnTo>
                      <a:pt x="0" y="1867"/>
                    </a:lnTo>
                    <a:lnTo>
                      <a:pt x="92" y="1981"/>
                    </a:lnTo>
                    <a:lnTo>
                      <a:pt x="92" y="1867"/>
                    </a:lnTo>
                    <a:lnTo>
                      <a:pt x="394" y="1748"/>
                    </a:lnTo>
                    <a:lnTo>
                      <a:pt x="242" y="1515"/>
                    </a:lnTo>
                    <a:lnTo>
                      <a:pt x="484" y="1397"/>
                    </a:lnTo>
                    <a:lnTo>
                      <a:pt x="332" y="1167"/>
                    </a:lnTo>
                    <a:lnTo>
                      <a:pt x="544" y="1087"/>
                    </a:lnTo>
                    <a:lnTo>
                      <a:pt x="484" y="815"/>
                    </a:lnTo>
                    <a:lnTo>
                      <a:pt x="2081" y="584"/>
                    </a:lnTo>
                    <a:lnTo>
                      <a:pt x="602" y="699"/>
                    </a:lnTo>
                    <a:lnTo>
                      <a:pt x="422" y="506"/>
                    </a:lnTo>
                    <a:lnTo>
                      <a:pt x="2291" y="234"/>
                    </a:lnTo>
                    <a:lnTo>
                      <a:pt x="1117" y="310"/>
                    </a:lnTo>
                    <a:lnTo>
                      <a:pt x="906" y="75"/>
                    </a:lnTo>
                    <a:lnTo>
                      <a:pt x="1387" y="154"/>
                    </a:lnTo>
                    <a:lnTo>
                      <a:pt x="2051" y="75"/>
                    </a:lnTo>
                    <a:lnTo>
                      <a:pt x="25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20120" y="2531880"/>
                <a:ext cx="327240" cy="127080"/>
              </a:xfrm>
              <a:custGeom>
                <a:avLst/>
                <a:gdLst/>
                <a:ahLst/>
                <a:rect l="l" t="t" r="r" b="b"/>
                <a:pathLst>
                  <a:path w="2652" h="1052">
                    <a:moveTo>
                      <a:pt x="812" y="0"/>
                    </a:moveTo>
                    <a:lnTo>
                      <a:pt x="362" y="119"/>
                    </a:lnTo>
                    <a:lnTo>
                      <a:pt x="0" y="312"/>
                    </a:lnTo>
                    <a:lnTo>
                      <a:pt x="902" y="661"/>
                    </a:lnTo>
                    <a:lnTo>
                      <a:pt x="1206" y="584"/>
                    </a:lnTo>
                    <a:lnTo>
                      <a:pt x="1324" y="624"/>
                    </a:lnTo>
                    <a:lnTo>
                      <a:pt x="1748" y="624"/>
                    </a:lnTo>
                    <a:lnTo>
                      <a:pt x="1386" y="741"/>
                    </a:lnTo>
                    <a:lnTo>
                      <a:pt x="1478" y="896"/>
                    </a:lnTo>
                    <a:lnTo>
                      <a:pt x="2112" y="859"/>
                    </a:lnTo>
                    <a:lnTo>
                      <a:pt x="1748" y="935"/>
                    </a:lnTo>
                    <a:lnTo>
                      <a:pt x="1896" y="1052"/>
                    </a:lnTo>
                    <a:lnTo>
                      <a:pt x="2441" y="817"/>
                    </a:lnTo>
                    <a:lnTo>
                      <a:pt x="2410" y="661"/>
                    </a:lnTo>
                    <a:lnTo>
                      <a:pt x="2652" y="545"/>
                    </a:lnTo>
                    <a:lnTo>
                      <a:pt x="2472" y="507"/>
                    </a:lnTo>
                    <a:lnTo>
                      <a:pt x="2652" y="389"/>
                    </a:lnTo>
                    <a:lnTo>
                      <a:pt x="2562" y="312"/>
                    </a:lnTo>
                    <a:lnTo>
                      <a:pt x="1748" y="389"/>
                    </a:lnTo>
                    <a:lnTo>
                      <a:pt x="1144" y="545"/>
                    </a:lnTo>
                    <a:lnTo>
                      <a:pt x="962" y="584"/>
                    </a:lnTo>
                    <a:lnTo>
                      <a:pt x="90" y="312"/>
                    </a:lnTo>
                    <a:lnTo>
                      <a:pt x="512" y="119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54040" y="2536560"/>
                <a:ext cx="182160" cy="28800"/>
              </a:xfrm>
              <a:custGeom>
                <a:avLst/>
                <a:gdLst/>
                <a:ahLst/>
                <a:rect l="l" t="t" r="r" b="b"/>
                <a:pathLst>
                  <a:path w="1478" h="235">
                    <a:moveTo>
                      <a:pt x="0" y="0"/>
                    </a:moveTo>
                    <a:lnTo>
                      <a:pt x="1478" y="156"/>
                    </a:lnTo>
                    <a:lnTo>
                      <a:pt x="1357" y="2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809120" y="2400480"/>
                <a:ext cx="171360" cy="23760"/>
              </a:xfrm>
              <a:custGeom>
                <a:avLst/>
                <a:gdLst/>
                <a:ahLst/>
                <a:rect l="l" t="t" r="r" b="b"/>
                <a:pathLst>
                  <a:path w="1386" h="193">
                    <a:moveTo>
                      <a:pt x="0" y="193"/>
                    </a:moveTo>
                    <a:lnTo>
                      <a:pt x="1293" y="77"/>
                    </a:lnTo>
                    <a:lnTo>
                      <a:pt x="1386" y="0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798680" y="2452680"/>
                <a:ext cx="170280" cy="8640"/>
              </a:xfrm>
              <a:custGeom>
                <a:avLst/>
                <a:gdLst/>
                <a:ahLst/>
                <a:rect l="l" t="t" r="r" b="b"/>
                <a:pathLst>
                  <a:path w="1383" h="77">
                    <a:moveTo>
                      <a:pt x="0" y="77"/>
                    </a:moveTo>
                    <a:lnTo>
                      <a:pt x="1326" y="77"/>
                    </a:lnTo>
                    <a:lnTo>
                      <a:pt x="1383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91480" y="2503800"/>
                <a:ext cx="166320" cy="14400"/>
              </a:xfrm>
              <a:custGeom>
                <a:avLst/>
                <a:gdLst/>
                <a:ahLst/>
                <a:rect l="l" t="t" r="r" b="b"/>
                <a:pathLst>
                  <a:path w="1358" h="119">
                    <a:moveTo>
                      <a:pt x="0" y="0"/>
                    </a:moveTo>
                    <a:lnTo>
                      <a:pt x="1294" y="119"/>
                    </a:lnTo>
                    <a:lnTo>
                      <a:pt x="13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80240" y="2611800"/>
                <a:ext cx="233280" cy="299880"/>
              </a:xfrm>
              <a:custGeom>
                <a:avLst/>
                <a:gdLst/>
                <a:ahLst/>
                <a:rect l="l" t="t" r="r" b="b"/>
                <a:pathLst>
                  <a:path w="1899" h="2490">
                    <a:moveTo>
                      <a:pt x="482" y="80"/>
                    </a:moveTo>
                    <a:lnTo>
                      <a:pt x="422" y="235"/>
                    </a:lnTo>
                    <a:lnTo>
                      <a:pt x="482" y="313"/>
                    </a:lnTo>
                    <a:lnTo>
                      <a:pt x="272" y="661"/>
                    </a:lnTo>
                    <a:lnTo>
                      <a:pt x="422" y="857"/>
                    </a:lnTo>
                    <a:lnTo>
                      <a:pt x="272" y="1050"/>
                    </a:lnTo>
                    <a:lnTo>
                      <a:pt x="242" y="1168"/>
                    </a:lnTo>
                    <a:lnTo>
                      <a:pt x="302" y="1283"/>
                    </a:lnTo>
                    <a:lnTo>
                      <a:pt x="150" y="1401"/>
                    </a:lnTo>
                    <a:lnTo>
                      <a:pt x="272" y="1557"/>
                    </a:lnTo>
                    <a:lnTo>
                      <a:pt x="180" y="1674"/>
                    </a:lnTo>
                    <a:lnTo>
                      <a:pt x="90" y="1518"/>
                    </a:lnTo>
                    <a:lnTo>
                      <a:pt x="180" y="1869"/>
                    </a:lnTo>
                    <a:lnTo>
                      <a:pt x="32" y="1909"/>
                    </a:lnTo>
                    <a:lnTo>
                      <a:pt x="180" y="2062"/>
                    </a:lnTo>
                    <a:lnTo>
                      <a:pt x="0" y="2179"/>
                    </a:lnTo>
                    <a:lnTo>
                      <a:pt x="180" y="2412"/>
                    </a:lnTo>
                    <a:lnTo>
                      <a:pt x="150" y="2179"/>
                    </a:lnTo>
                    <a:lnTo>
                      <a:pt x="302" y="2101"/>
                    </a:lnTo>
                    <a:lnTo>
                      <a:pt x="1598" y="2490"/>
                    </a:lnTo>
                    <a:lnTo>
                      <a:pt x="272" y="2023"/>
                    </a:lnTo>
                    <a:lnTo>
                      <a:pt x="150" y="1909"/>
                    </a:lnTo>
                    <a:lnTo>
                      <a:pt x="1539" y="2295"/>
                    </a:lnTo>
                    <a:lnTo>
                      <a:pt x="302" y="1827"/>
                    </a:lnTo>
                    <a:lnTo>
                      <a:pt x="1632" y="2101"/>
                    </a:lnTo>
                    <a:lnTo>
                      <a:pt x="1657" y="2023"/>
                    </a:lnTo>
                    <a:lnTo>
                      <a:pt x="1598" y="1946"/>
                    </a:lnTo>
                    <a:lnTo>
                      <a:pt x="1508" y="1909"/>
                    </a:lnTo>
                    <a:lnTo>
                      <a:pt x="1657" y="1634"/>
                    </a:lnTo>
                    <a:lnTo>
                      <a:pt x="1358" y="1711"/>
                    </a:lnTo>
                    <a:lnTo>
                      <a:pt x="1024" y="1827"/>
                    </a:lnTo>
                    <a:lnTo>
                      <a:pt x="906" y="1478"/>
                    </a:lnTo>
                    <a:lnTo>
                      <a:pt x="783" y="1283"/>
                    </a:lnTo>
                    <a:lnTo>
                      <a:pt x="332" y="1168"/>
                    </a:lnTo>
                    <a:lnTo>
                      <a:pt x="332" y="1089"/>
                    </a:lnTo>
                    <a:lnTo>
                      <a:pt x="394" y="973"/>
                    </a:lnTo>
                    <a:lnTo>
                      <a:pt x="482" y="857"/>
                    </a:lnTo>
                    <a:lnTo>
                      <a:pt x="1688" y="1246"/>
                    </a:lnTo>
                    <a:lnTo>
                      <a:pt x="1747" y="1089"/>
                    </a:lnTo>
                    <a:lnTo>
                      <a:pt x="422" y="817"/>
                    </a:lnTo>
                    <a:lnTo>
                      <a:pt x="364" y="700"/>
                    </a:lnTo>
                    <a:lnTo>
                      <a:pt x="394" y="587"/>
                    </a:lnTo>
                    <a:lnTo>
                      <a:pt x="482" y="465"/>
                    </a:lnTo>
                    <a:lnTo>
                      <a:pt x="574" y="350"/>
                    </a:lnTo>
                    <a:lnTo>
                      <a:pt x="1899" y="548"/>
                    </a:lnTo>
                    <a:lnTo>
                      <a:pt x="1899" y="507"/>
                    </a:lnTo>
                    <a:lnTo>
                      <a:pt x="514" y="235"/>
                    </a:lnTo>
                    <a:lnTo>
                      <a:pt x="514" y="156"/>
                    </a:lnTo>
                    <a:lnTo>
                      <a:pt x="634" y="0"/>
                    </a:lnTo>
                    <a:lnTo>
                      <a:pt x="4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54040" y="2729520"/>
                <a:ext cx="21600" cy="27720"/>
              </a:xfrm>
              <a:custGeom>
                <a:avLst/>
                <a:gdLst/>
                <a:ahLst/>
                <a:rect l="l" t="t" r="r" b="b"/>
                <a:pathLst>
                  <a:path w="179" h="232">
                    <a:moveTo>
                      <a:pt x="0" y="0"/>
                    </a:moveTo>
                    <a:lnTo>
                      <a:pt x="179" y="232"/>
                    </a:lnTo>
                    <a:lnTo>
                      <a:pt x="6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960" y="2898360"/>
                <a:ext cx="248040" cy="163800"/>
              </a:xfrm>
              <a:custGeom>
                <a:avLst/>
                <a:gdLst/>
                <a:ahLst/>
                <a:rect l="l" t="t" r="r" b="b"/>
                <a:pathLst>
                  <a:path w="2017" h="1362">
                    <a:moveTo>
                      <a:pt x="754" y="79"/>
                    </a:moveTo>
                    <a:lnTo>
                      <a:pt x="2017" y="468"/>
                    </a:lnTo>
                    <a:lnTo>
                      <a:pt x="1899" y="664"/>
                    </a:lnTo>
                    <a:lnTo>
                      <a:pt x="1927" y="740"/>
                    </a:lnTo>
                    <a:lnTo>
                      <a:pt x="1776" y="817"/>
                    </a:lnTo>
                    <a:lnTo>
                      <a:pt x="1927" y="973"/>
                    </a:lnTo>
                    <a:lnTo>
                      <a:pt x="1747" y="1052"/>
                    </a:lnTo>
                    <a:lnTo>
                      <a:pt x="1837" y="1129"/>
                    </a:lnTo>
                    <a:lnTo>
                      <a:pt x="1688" y="1206"/>
                    </a:lnTo>
                    <a:lnTo>
                      <a:pt x="1747" y="1362"/>
                    </a:lnTo>
                    <a:lnTo>
                      <a:pt x="1266" y="1206"/>
                    </a:lnTo>
                    <a:lnTo>
                      <a:pt x="1176" y="973"/>
                    </a:lnTo>
                    <a:lnTo>
                      <a:pt x="994" y="1052"/>
                    </a:lnTo>
                    <a:lnTo>
                      <a:pt x="510" y="544"/>
                    </a:lnTo>
                    <a:lnTo>
                      <a:pt x="121" y="314"/>
                    </a:lnTo>
                    <a:lnTo>
                      <a:pt x="0" y="233"/>
                    </a:lnTo>
                    <a:lnTo>
                      <a:pt x="540" y="0"/>
                    </a:lnTo>
                    <a:lnTo>
                      <a:pt x="121" y="233"/>
                    </a:lnTo>
                    <a:lnTo>
                      <a:pt x="540" y="468"/>
                    </a:lnTo>
                    <a:lnTo>
                      <a:pt x="1024" y="1012"/>
                    </a:lnTo>
                    <a:lnTo>
                      <a:pt x="1899" y="507"/>
                    </a:lnTo>
                    <a:lnTo>
                      <a:pt x="75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80240" y="2972520"/>
                <a:ext cx="248400" cy="178200"/>
              </a:xfrm>
              <a:custGeom>
                <a:avLst/>
                <a:gdLst/>
                <a:ahLst/>
                <a:rect l="l" t="t" r="r" b="b"/>
                <a:pathLst>
                  <a:path w="2020" h="1479">
                    <a:moveTo>
                      <a:pt x="62" y="0"/>
                    </a:moveTo>
                    <a:lnTo>
                      <a:pt x="0" y="117"/>
                    </a:lnTo>
                    <a:lnTo>
                      <a:pt x="32" y="194"/>
                    </a:lnTo>
                    <a:lnTo>
                      <a:pt x="62" y="310"/>
                    </a:lnTo>
                    <a:lnTo>
                      <a:pt x="90" y="350"/>
                    </a:lnTo>
                    <a:lnTo>
                      <a:pt x="0" y="468"/>
                    </a:lnTo>
                    <a:lnTo>
                      <a:pt x="122" y="583"/>
                    </a:lnTo>
                    <a:lnTo>
                      <a:pt x="62" y="698"/>
                    </a:lnTo>
                    <a:lnTo>
                      <a:pt x="62" y="857"/>
                    </a:lnTo>
                    <a:lnTo>
                      <a:pt x="364" y="857"/>
                    </a:lnTo>
                    <a:lnTo>
                      <a:pt x="694" y="1011"/>
                    </a:lnTo>
                    <a:lnTo>
                      <a:pt x="934" y="1244"/>
                    </a:lnTo>
                    <a:lnTo>
                      <a:pt x="1086" y="1402"/>
                    </a:lnTo>
                    <a:lnTo>
                      <a:pt x="1238" y="1320"/>
                    </a:lnTo>
                    <a:lnTo>
                      <a:pt x="1387" y="1479"/>
                    </a:lnTo>
                    <a:lnTo>
                      <a:pt x="1809" y="1244"/>
                    </a:lnTo>
                    <a:lnTo>
                      <a:pt x="1657" y="1127"/>
                    </a:lnTo>
                    <a:lnTo>
                      <a:pt x="1930" y="1050"/>
                    </a:lnTo>
                    <a:lnTo>
                      <a:pt x="1717" y="1050"/>
                    </a:lnTo>
                    <a:lnTo>
                      <a:pt x="2020" y="892"/>
                    </a:lnTo>
                    <a:lnTo>
                      <a:pt x="1024" y="1168"/>
                    </a:lnTo>
                    <a:lnTo>
                      <a:pt x="90" y="468"/>
                    </a:lnTo>
                    <a:lnTo>
                      <a:pt x="844" y="583"/>
                    </a:lnTo>
                    <a:lnTo>
                      <a:pt x="180" y="350"/>
                    </a:lnTo>
                    <a:lnTo>
                      <a:pt x="90" y="117"/>
                    </a:lnTo>
                    <a:lnTo>
                      <a:pt x="122" y="4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83120" y="3062160"/>
                <a:ext cx="468000" cy="351000"/>
              </a:xfrm>
              <a:custGeom>
                <a:avLst/>
                <a:gdLst/>
                <a:ahLst/>
                <a:rect l="l" t="t" r="r" b="b"/>
                <a:pathLst>
                  <a:path w="3799" h="2915">
                    <a:moveTo>
                      <a:pt x="0" y="0"/>
                    </a:moveTo>
                    <a:lnTo>
                      <a:pt x="0" y="623"/>
                    </a:lnTo>
                    <a:lnTo>
                      <a:pt x="210" y="700"/>
                    </a:lnTo>
                    <a:lnTo>
                      <a:pt x="118" y="933"/>
                    </a:lnTo>
                    <a:lnTo>
                      <a:pt x="422" y="814"/>
                    </a:lnTo>
                    <a:lnTo>
                      <a:pt x="390" y="933"/>
                    </a:lnTo>
                    <a:lnTo>
                      <a:pt x="662" y="855"/>
                    </a:lnTo>
                    <a:lnTo>
                      <a:pt x="1507" y="1088"/>
                    </a:lnTo>
                    <a:lnTo>
                      <a:pt x="1265" y="1205"/>
                    </a:lnTo>
                    <a:lnTo>
                      <a:pt x="1418" y="1295"/>
                    </a:lnTo>
                    <a:lnTo>
                      <a:pt x="1621" y="1194"/>
                    </a:lnTo>
                    <a:lnTo>
                      <a:pt x="1660" y="1383"/>
                    </a:lnTo>
                    <a:lnTo>
                      <a:pt x="1849" y="1330"/>
                    </a:lnTo>
                    <a:lnTo>
                      <a:pt x="1929" y="1574"/>
                    </a:lnTo>
                    <a:lnTo>
                      <a:pt x="2105" y="1468"/>
                    </a:lnTo>
                    <a:lnTo>
                      <a:pt x="2199" y="1677"/>
                    </a:lnTo>
                    <a:lnTo>
                      <a:pt x="2320" y="1607"/>
                    </a:lnTo>
                    <a:lnTo>
                      <a:pt x="2320" y="1936"/>
                    </a:lnTo>
                    <a:lnTo>
                      <a:pt x="2522" y="1712"/>
                    </a:lnTo>
                    <a:lnTo>
                      <a:pt x="2621" y="1827"/>
                    </a:lnTo>
                    <a:lnTo>
                      <a:pt x="2522" y="2249"/>
                    </a:lnTo>
                    <a:lnTo>
                      <a:pt x="2829" y="1730"/>
                    </a:lnTo>
                    <a:lnTo>
                      <a:pt x="3253" y="1124"/>
                    </a:lnTo>
                    <a:lnTo>
                      <a:pt x="2682" y="2283"/>
                    </a:lnTo>
                    <a:lnTo>
                      <a:pt x="2725" y="2437"/>
                    </a:lnTo>
                    <a:lnTo>
                      <a:pt x="3283" y="1361"/>
                    </a:lnTo>
                    <a:lnTo>
                      <a:pt x="2884" y="2334"/>
                    </a:lnTo>
                    <a:lnTo>
                      <a:pt x="2979" y="2523"/>
                    </a:lnTo>
                    <a:lnTo>
                      <a:pt x="3253" y="1791"/>
                    </a:lnTo>
                    <a:lnTo>
                      <a:pt x="3073" y="2567"/>
                    </a:lnTo>
                    <a:lnTo>
                      <a:pt x="2681" y="2486"/>
                    </a:lnTo>
                    <a:lnTo>
                      <a:pt x="2260" y="2334"/>
                    </a:lnTo>
                    <a:lnTo>
                      <a:pt x="2078" y="2175"/>
                    </a:lnTo>
                    <a:lnTo>
                      <a:pt x="1904" y="1987"/>
                    </a:lnTo>
                    <a:lnTo>
                      <a:pt x="1625" y="1827"/>
                    </a:lnTo>
                    <a:lnTo>
                      <a:pt x="1503" y="1952"/>
                    </a:lnTo>
                    <a:lnTo>
                      <a:pt x="1445" y="1749"/>
                    </a:lnTo>
                    <a:lnTo>
                      <a:pt x="1367" y="1885"/>
                    </a:lnTo>
                    <a:lnTo>
                      <a:pt x="1259" y="1677"/>
                    </a:lnTo>
                    <a:lnTo>
                      <a:pt x="1114" y="1673"/>
                    </a:lnTo>
                    <a:lnTo>
                      <a:pt x="1054" y="1555"/>
                    </a:lnTo>
                    <a:lnTo>
                      <a:pt x="874" y="1594"/>
                    </a:lnTo>
                    <a:lnTo>
                      <a:pt x="678" y="1521"/>
                    </a:lnTo>
                    <a:lnTo>
                      <a:pt x="775" y="1798"/>
                    </a:lnTo>
                    <a:lnTo>
                      <a:pt x="883" y="1659"/>
                    </a:lnTo>
                    <a:lnTo>
                      <a:pt x="1056" y="1695"/>
                    </a:lnTo>
                    <a:lnTo>
                      <a:pt x="1114" y="1827"/>
                    </a:lnTo>
                    <a:lnTo>
                      <a:pt x="1054" y="1906"/>
                    </a:lnTo>
                    <a:lnTo>
                      <a:pt x="1175" y="1943"/>
                    </a:lnTo>
                    <a:lnTo>
                      <a:pt x="1114" y="2101"/>
                    </a:lnTo>
                    <a:lnTo>
                      <a:pt x="1054" y="2255"/>
                    </a:lnTo>
                    <a:lnTo>
                      <a:pt x="1083" y="2295"/>
                    </a:lnTo>
                    <a:lnTo>
                      <a:pt x="1236" y="2060"/>
                    </a:lnTo>
                    <a:lnTo>
                      <a:pt x="1296" y="1984"/>
                    </a:lnTo>
                    <a:lnTo>
                      <a:pt x="1476" y="2138"/>
                    </a:lnTo>
                    <a:lnTo>
                      <a:pt x="1600" y="2138"/>
                    </a:lnTo>
                    <a:lnTo>
                      <a:pt x="1600" y="2217"/>
                    </a:lnTo>
                    <a:lnTo>
                      <a:pt x="1715" y="2255"/>
                    </a:lnTo>
                    <a:lnTo>
                      <a:pt x="1898" y="2295"/>
                    </a:lnTo>
                    <a:lnTo>
                      <a:pt x="1988" y="2410"/>
                    </a:lnTo>
                    <a:lnTo>
                      <a:pt x="2109" y="2371"/>
                    </a:lnTo>
                    <a:lnTo>
                      <a:pt x="2140" y="2486"/>
                    </a:lnTo>
                    <a:lnTo>
                      <a:pt x="2260" y="2486"/>
                    </a:lnTo>
                    <a:lnTo>
                      <a:pt x="2410" y="2606"/>
                    </a:lnTo>
                    <a:lnTo>
                      <a:pt x="2471" y="2527"/>
                    </a:lnTo>
                    <a:lnTo>
                      <a:pt x="2592" y="2567"/>
                    </a:lnTo>
                    <a:lnTo>
                      <a:pt x="2863" y="2683"/>
                    </a:lnTo>
                    <a:lnTo>
                      <a:pt x="2983" y="2799"/>
                    </a:lnTo>
                    <a:lnTo>
                      <a:pt x="3043" y="2915"/>
                    </a:lnTo>
                    <a:lnTo>
                      <a:pt x="3105" y="2762"/>
                    </a:lnTo>
                    <a:lnTo>
                      <a:pt x="3313" y="2762"/>
                    </a:lnTo>
                    <a:lnTo>
                      <a:pt x="3555" y="2837"/>
                    </a:lnTo>
                    <a:lnTo>
                      <a:pt x="3675" y="2876"/>
                    </a:lnTo>
                    <a:lnTo>
                      <a:pt x="3645" y="2643"/>
                    </a:lnTo>
                    <a:lnTo>
                      <a:pt x="3645" y="2448"/>
                    </a:lnTo>
                    <a:lnTo>
                      <a:pt x="3707" y="2255"/>
                    </a:lnTo>
                    <a:lnTo>
                      <a:pt x="3737" y="2101"/>
                    </a:lnTo>
                    <a:lnTo>
                      <a:pt x="3799" y="1906"/>
                    </a:lnTo>
                    <a:lnTo>
                      <a:pt x="3583" y="1906"/>
                    </a:lnTo>
                    <a:lnTo>
                      <a:pt x="3495" y="1477"/>
                    </a:lnTo>
                    <a:lnTo>
                      <a:pt x="3465" y="1166"/>
                    </a:lnTo>
                    <a:lnTo>
                      <a:pt x="3495" y="855"/>
                    </a:lnTo>
                    <a:lnTo>
                      <a:pt x="3527" y="581"/>
                    </a:lnTo>
                    <a:lnTo>
                      <a:pt x="3313" y="700"/>
                    </a:lnTo>
                    <a:lnTo>
                      <a:pt x="3283" y="700"/>
                    </a:lnTo>
                    <a:lnTo>
                      <a:pt x="3166" y="740"/>
                    </a:lnTo>
                    <a:lnTo>
                      <a:pt x="3073" y="894"/>
                    </a:lnTo>
                    <a:lnTo>
                      <a:pt x="2922" y="1012"/>
                    </a:lnTo>
                    <a:lnTo>
                      <a:pt x="2713" y="1012"/>
                    </a:lnTo>
                    <a:lnTo>
                      <a:pt x="2559" y="1051"/>
                    </a:lnTo>
                    <a:lnTo>
                      <a:pt x="2471" y="1051"/>
                    </a:lnTo>
                    <a:lnTo>
                      <a:pt x="2351" y="1124"/>
                    </a:lnTo>
                    <a:lnTo>
                      <a:pt x="2289" y="1205"/>
                    </a:lnTo>
                    <a:lnTo>
                      <a:pt x="2168" y="1321"/>
                    </a:lnTo>
                    <a:lnTo>
                      <a:pt x="2109" y="1282"/>
                    </a:lnTo>
                    <a:lnTo>
                      <a:pt x="2199" y="1088"/>
                    </a:lnTo>
                    <a:lnTo>
                      <a:pt x="2017" y="1124"/>
                    </a:lnTo>
                    <a:lnTo>
                      <a:pt x="2017" y="1088"/>
                    </a:lnTo>
                    <a:lnTo>
                      <a:pt x="2289" y="972"/>
                    </a:lnTo>
                    <a:lnTo>
                      <a:pt x="2441" y="740"/>
                    </a:lnTo>
                    <a:lnTo>
                      <a:pt x="2592" y="544"/>
                    </a:lnTo>
                    <a:lnTo>
                      <a:pt x="2533" y="388"/>
                    </a:lnTo>
                    <a:lnTo>
                      <a:pt x="2410" y="233"/>
                    </a:lnTo>
                    <a:lnTo>
                      <a:pt x="2260" y="79"/>
                    </a:lnTo>
                    <a:lnTo>
                      <a:pt x="2232" y="153"/>
                    </a:lnTo>
                    <a:lnTo>
                      <a:pt x="2379" y="311"/>
                    </a:lnTo>
                    <a:lnTo>
                      <a:pt x="2379" y="348"/>
                    </a:lnTo>
                    <a:lnTo>
                      <a:pt x="1898" y="544"/>
                    </a:lnTo>
                    <a:lnTo>
                      <a:pt x="1838" y="1124"/>
                    </a:lnTo>
                    <a:lnTo>
                      <a:pt x="844" y="779"/>
                    </a:lnTo>
                    <a:lnTo>
                      <a:pt x="90" y="581"/>
                    </a:lnTo>
                    <a:lnTo>
                      <a:pt x="58" y="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768800" y="3211920"/>
                <a:ext cx="73800" cy="27720"/>
              </a:xfrm>
              <a:custGeom>
                <a:avLst/>
                <a:gdLst/>
                <a:ahLst/>
                <a:rect l="l" t="t" r="r" b="b"/>
                <a:pathLst>
                  <a:path w="602" h="232">
                    <a:moveTo>
                      <a:pt x="0" y="232"/>
                    </a:moveTo>
                    <a:lnTo>
                      <a:pt x="360" y="116"/>
                    </a:lnTo>
                    <a:lnTo>
                      <a:pt x="602" y="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813440" y="3216600"/>
                <a:ext cx="39960" cy="27720"/>
              </a:xfrm>
              <a:custGeom>
                <a:avLst/>
                <a:gdLst/>
                <a:ahLst/>
                <a:rect l="l" t="t" r="r" b="b"/>
                <a:pathLst>
                  <a:path w="330" h="232">
                    <a:moveTo>
                      <a:pt x="0" y="232"/>
                    </a:moveTo>
                    <a:lnTo>
                      <a:pt x="330" y="79"/>
                    </a:lnTo>
                    <a:lnTo>
                      <a:pt x="330" y="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842960" y="3231000"/>
                <a:ext cx="43920" cy="36360"/>
              </a:xfrm>
              <a:custGeom>
                <a:avLst/>
                <a:gdLst/>
                <a:ahLst/>
                <a:rect l="l" t="t" r="r" b="b"/>
                <a:pathLst>
                  <a:path w="360" h="309">
                    <a:moveTo>
                      <a:pt x="360" y="0"/>
                    </a:moveTo>
                    <a:lnTo>
                      <a:pt x="88" y="309"/>
                    </a:lnTo>
                    <a:lnTo>
                      <a:pt x="0" y="272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884360" y="3249720"/>
                <a:ext cx="44280" cy="32760"/>
              </a:xfrm>
              <a:custGeom>
                <a:avLst/>
                <a:gdLst/>
                <a:ahLst/>
                <a:rect l="l" t="t" r="r" b="b"/>
                <a:pathLst>
                  <a:path w="363" h="272">
                    <a:moveTo>
                      <a:pt x="363" y="0"/>
                    </a:moveTo>
                    <a:lnTo>
                      <a:pt x="60" y="272"/>
                    </a:lnTo>
                    <a:lnTo>
                      <a:pt x="0" y="23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28640" y="327852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211" h="269">
                    <a:moveTo>
                      <a:pt x="211" y="0"/>
                    </a:moveTo>
                    <a:lnTo>
                      <a:pt x="29" y="269"/>
                    </a:lnTo>
                    <a:lnTo>
                      <a:pt x="0" y="152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144280" y="3043080"/>
                <a:ext cx="147960" cy="304560"/>
              </a:xfrm>
              <a:custGeom>
                <a:avLst/>
                <a:gdLst/>
                <a:ahLst/>
                <a:rect l="l" t="t" r="r" b="b"/>
                <a:pathLst>
                  <a:path w="1202" h="2527">
                    <a:moveTo>
                      <a:pt x="28" y="2331"/>
                    </a:moveTo>
                    <a:lnTo>
                      <a:pt x="362" y="2451"/>
                    </a:lnTo>
                    <a:lnTo>
                      <a:pt x="542" y="2527"/>
                    </a:lnTo>
                    <a:lnTo>
                      <a:pt x="782" y="2527"/>
                    </a:lnTo>
                    <a:lnTo>
                      <a:pt x="934" y="2527"/>
                    </a:lnTo>
                    <a:lnTo>
                      <a:pt x="904" y="2140"/>
                    </a:lnTo>
                    <a:lnTo>
                      <a:pt x="602" y="779"/>
                    </a:lnTo>
                    <a:lnTo>
                      <a:pt x="1202" y="0"/>
                    </a:lnTo>
                    <a:lnTo>
                      <a:pt x="392" y="428"/>
                    </a:lnTo>
                    <a:lnTo>
                      <a:pt x="508" y="667"/>
                    </a:lnTo>
                    <a:lnTo>
                      <a:pt x="194" y="553"/>
                    </a:lnTo>
                    <a:lnTo>
                      <a:pt x="499" y="757"/>
                    </a:lnTo>
                    <a:lnTo>
                      <a:pt x="97" y="654"/>
                    </a:lnTo>
                    <a:lnTo>
                      <a:pt x="499" y="829"/>
                    </a:lnTo>
                    <a:lnTo>
                      <a:pt x="86" y="769"/>
                    </a:lnTo>
                    <a:lnTo>
                      <a:pt x="508" y="931"/>
                    </a:lnTo>
                    <a:lnTo>
                      <a:pt x="724" y="1522"/>
                    </a:lnTo>
                    <a:lnTo>
                      <a:pt x="869" y="2373"/>
                    </a:lnTo>
                    <a:lnTo>
                      <a:pt x="607" y="2158"/>
                    </a:lnTo>
                    <a:lnTo>
                      <a:pt x="240" y="2062"/>
                    </a:lnTo>
                    <a:lnTo>
                      <a:pt x="0" y="2062"/>
                    </a:lnTo>
                    <a:lnTo>
                      <a:pt x="28" y="2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132400" y="3128040"/>
                <a:ext cx="85680" cy="159120"/>
              </a:xfrm>
              <a:custGeom>
                <a:avLst/>
                <a:gdLst/>
                <a:ahLst/>
                <a:rect l="l" t="t" r="r" b="b"/>
                <a:pathLst>
                  <a:path w="694" h="1320">
                    <a:moveTo>
                      <a:pt x="30" y="0"/>
                    </a:moveTo>
                    <a:lnTo>
                      <a:pt x="0" y="468"/>
                    </a:lnTo>
                    <a:lnTo>
                      <a:pt x="62" y="1247"/>
                    </a:lnTo>
                    <a:lnTo>
                      <a:pt x="362" y="1247"/>
                    </a:lnTo>
                    <a:lnTo>
                      <a:pt x="694" y="1320"/>
                    </a:lnTo>
                    <a:lnTo>
                      <a:pt x="454" y="1205"/>
                    </a:lnTo>
                    <a:lnTo>
                      <a:pt x="92" y="1166"/>
                    </a:lnTo>
                    <a:lnTo>
                      <a:pt x="62" y="58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54680" y="3254400"/>
                <a:ext cx="181080" cy="351720"/>
              </a:xfrm>
              <a:custGeom>
                <a:avLst/>
                <a:gdLst/>
                <a:ahLst/>
                <a:rect l="l" t="t" r="r" b="b"/>
                <a:pathLst>
                  <a:path w="1469" h="2917">
                    <a:moveTo>
                      <a:pt x="1107" y="0"/>
                    </a:moveTo>
                    <a:lnTo>
                      <a:pt x="1017" y="155"/>
                    </a:lnTo>
                    <a:lnTo>
                      <a:pt x="565" y="854"/>
                    </a:lnTo>
                    <a:lnTo>
                      <a:pt x="201" y="1515"/>
                    </a:lnTo>
                    <a:lnTo>
                      <a:pt x="83" y="1867"/>
                    </a:lnTo>
                    <a:lnTo>
                      <a:pt x="0" y="2035"/>
                    </a:lnTo>
                    <a:lnTo>
                      <a:pt x="21" y="2488"/>
                    </a:lnTo>
                    <a:lnTo>
                      <a:pt x="21" y="2760"/>
                    </a:lnTo>
                    <a:lnTo>
                      <a:pt x="107" y="2850"/>
                    </a:lnTo>
                    <a:lnTo>
                      <a:pt x="263" y="2917"/>
                    </a:lnTo>
                    <a:lnTo>
                      <a:pt x="427" y="2745"/>
                    </a:lnTo>
                    <a:lnTo>
                      <a:pt x="323" y="2411"/>
                    </a:lnTo>
                    <a:lnTo>
                      <a:pt x="333" y="2000"/>
                    </a:lnTo>
                    <a:lnTo>
                      <a:pt x="415" y="1897"/>
                    </a:lnTo>
                    <a:lnTo>
                      <a:pt x="482" y="1691"/>
                    </a:lnTo>
                    <a:lnTo>
                      <a:pt x="754" y="1379"/>
                    </a:lnTo>
                    <a:lnTo>
                      <a:pt x="1074" y="1051"/>
                    </a:lnTo>
                    <a:lnTo>
                      <a:pt x="1225" y="854"/>
                    </a:lnTo>
                    <a:lnTo>
                      <a:pt x="1347" y="661"/>
                    </a:lnTo>
                    <a:lnTo>
                      <a:pt x="1439" y="466"/>
                    </a:lnTo>
                    <a:lnTo>
                      <a:pt x="1469" y="349"/>
                    </a:lnTo>
                    <a:lnTo>
                      <a:pt x="1439" y="349"/>
                    </a:lnTo>
                    <a:lnTo>
                      <a:pt x="1116" y="445"/>
                    </a:lnTo>
                    <a:lnTo>
                      <a:pt x="1250" y="551"/>
                    </a:lnTo>
                    <a:lnTo>
                      <a:pt x="1019" y="948"/>
                    </a:lnTo>
                    <a:lnTo>
                      <a:pt x="470" y="1620"/>
                    </a:lnTo>
                    <a:lnTo>
                      <a:pt x="293" y="2018"/>
                    </a:lnTo>
                    <a:lnTo>
                      <a:pt x="281" y="2297"/>
                    </a:lnTo>
                    <a:lnTo>
                      <a:pt x="281" y="2588"/>
                    </a:lnTo>
                    <a:lnTo>
                      <a:pt x="118" y="2606"/>
                    </a:lnTo>
                    <a:lnTo>
                      <a:pt x="23" y="2055"/>
                    </a:lnTo>
                    <a:lnTo>
                      <a:pt x="143" y="1825"/>
                    </a:lnTo>
                    <a:lnTo>
                      <a:pt x="263" y="1556"/>
                    </a:lnTo>
                    <a:lnTo>
                      <a:pt x="623" y="854"/>
                    </a:lnTo>
                    <a:lnTo>
                      <a:pt x="1017" y="270"/>
                    </a:lnTo>
                    <a:lnTo>
                      <a:pt x="1135" y="79"/>
                    </a:lnTo>
                    <a:lnTo>
                      <a:pt x="1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980840" y="3361320"/>
                <a:ext cx="218520" cy="295920"/>
              </a:xfrm>
              <a:custGeom>
                <a:avLst/>
                <a:gdLst/>
                <a:ahLst/>
                <a:rect l="l" t="t" r="r" b="b"/>
                <a:pathLst>
                  <a:path w="1777" h="2452">
                    <a:moveTo>
                      <a:pt x="0" y="0"/>
                    </a:moveTo>
                    <a:lnTo>
                      <a:pt x="31" y="351"/>
                    </a:lnTo>
                    <a:lnTo>
                      <a:pt x="61" y="623"/>
                    </a:lnTo>
                    <a:lnTo>
                      <a:pt x="483" y="975"/>
                    </a:lnTo>
                    <a:lnTo>
                      <a:pt x="1202" y="1560"/>
                    </a:lnTo>
                    <a:lnTo>
                      <a:pt x="1297" y="1712"/>
                    </a:lnTo>
                    <a:lnTo>
                      <a:pt x="1235" y="1868"/>
                    </a:lnTo>
                    <a:lnTo>
                      <a:pt x="995" y="2143"/>
                    </a:lnTo>
                    <a:lnTo>
                      <a:pt x="933" y="2219"/>
                    </a:lnTo>
                    <a:lnTo>
                      <a:pt x="695" y="2336"/>
                    </a:lnTo>
                    <a:lnTo>
                      <a:pt x="663" y="2413"/>
                    </a:lnTo>
                    <a:lnTo>
                      <a:pt x="815" y="2452"/>
                    </a:lnTo>
                    <a:lnTo>
                      <a:pt x="1297" y="2336"/>
                    </a:lnTo>
                    <a:lnTo>
                      <a:pt x="1507" y="2219"/>
                    </a:lnTo>
                    <a:lnTo>
                      <a:pt x="1536" y="2295"/>
                    </a:lnTo>
                    <a:lnTo>
                      <a:pt x="1597" y="2295"/>
                    </a:lnTo>
                    <a:lnTo>
                      <a:pt x="1689" y="2103"/>
                    </a:lnTo>
                    <a:lnTo>
                      <a:pt x="1777" y="2025"/>
                    </a:lnTo>
                    <a:lnTo>
                      <a:pt x="1777" y="1945"/>
                    </a:lnTo>
                    <a:lnTo>
                      <a:pt x="1689" y="1793"/>
                    </a:lnTo>
                    <a:lnTo>
                      <a:pt x="1523" y="1576"/>
                    </a:lnTo>
                    <a:lnTo>
                      <a:pt x="1297" y="1090"/>
                    </a:lnTo>
                    <a:lnTo>
                      <a:pt x="1085" y="781"/>
                    </a:lnTo>
                    <a:lnTo>
                      <a:pt x="933" y="586"/>
                    </a:lnTo>
                    <a:lnTo>
                      <a:pt x="815" y="507"/>
                    </a:lnTo>
                    <a:lnTo>
                      <a:pt x="633" y="470"/>
                    </a:lnTo>
                    <a:lnTo>
                      <a:pt x="663" y="157"/>
                    </a:lnTo>
                    <a:lnTo>
                      <a:pt x="453" y="120"/>
                    </a:lnTo>
                    <a:lnTo>
                      <a:pt x="573" y="429"/>
                    </a:lnTo>
                    <a:lnTo>
                      <a:pt x="512" y="470"/>
                    </a:lnTo>
                    <a:lnTo>
                      <a:pt x="852" y="625"/>
                    </a:lnTo>
                    <a:lnTo>
                      <a:pt x="1011" y="799"/>
                    </a:lnTo>
                    <a:lnTo>
                      <a:pt x="1320" y="1267"/>
                    </a:lnTo>
                    <a:lnTo>
                      <a:pt x="1484" y="1594"/>
                    </a:lnTo>
                    <a:lnTo>
                      <a:pt x="1657" y="1831"/>
                    </a:lnTo>
                    <a:lnTo>
                      <a:pt x="1417" y="2062"/>
                    </a:lnTo>
                    <a:lnTo>
                      <a:pt x="1235" y="2219"/>
                    </a:lnTo>
                    <a:lnTo>
                      <a:pt x="1079" y="2268"/>
                    </a:lnTo>
                    <a:lnTo>
                      <a:pt x="974" y="2233"/>
                    </a:lnTo>
                    <a:lnTo>
                      <a:pt x="1207" y="2025"/>
                    </a:lnTo>
                    <a:lnTo>
                      <a:pt x="1320" y="1802"/>
                    </a:lnTo>
                    <a:lnTo>
                      <a:pt x="1350" y="1732"/>
                    </a:lnTo>
                    <a:lnTo>
                      <a:pt x="1320" y="1647"/>
                    </a:lnTo>
                    <a:lnTo>
                      <a:pt x="1255" y="1526"/>
                    </a:lnTo>
                    <a:lnTo>
                      <a:pt x="852" y="1179"/>
                    </a:lnTo>
                    <a:lnTo>
                      <a:pt x="569" y="954"/>
                    </a:lnTo>
                    <a:lnTo>
                      <a:pt x="380" y="799"/>
                    </a:lnTo>
                    <a:lnTo>
                      <a:pt x="303" y="586"/>
                    </a:lnTo>
                    <a:lnTo>
                      <a:pt x="123" y="586"/>
                    </a:lnTo>
                    <a:lnTo>
                      <a:pt x="61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758000" y="3470400"/>
                <a:ext cx="308160" cy="135720"/>
              </a:xfrm>
              <a:custGeom>
                <a:avLst/>
                <a:gdLst/>
                <a:ahLst/>
                <a:rect l="l" t="t" r="r" b="b"/>
                <a:pathLst>
                  <a:path w="2503" h="1127">
                    <a:moveTo>
                      <a:pt x="0" y="77"/>
                    </a:moveTo>
                    <a:lnTo>
                      <a:pt x="182" y="312"/>
                    </a:lnTo>
                    <a:lnTo>
                      <a:pt x="242" y="425"/>
                    </a:lnTo>
                    <a:lnTo>
                      <a:pt x="30" y="505"/>
                    </a:lnTo>
                    <a:lnTo>
                      <a:pt x="694" y="895"/>
                    </a:lnTo>
                    <a:lnTo>
                      <a:pt x="814" y="895"/>
                    </a:lnTo>
                    <a:lnTo>
                      <a:pt x="782" y="814"/>
                    </a:lnTo>
                    <a:lnTo>
                      <a:pt x="1175" y="1012"/>
                    </a:lnTo>
                    <a:lnTo>
                      <a:pt x="1113" y="1047"/>
                    </a:lnTo>
                    <a:lnTo>
                      <a:pt x="1144" y="1127"/>
                    </a:lnTo>
                    <a:lnTo>
                      <a:pt x="1839" y="1012"/>
                    </a:lnTo>
                    <a:lnTo>
                      <a:pt x="2261" y="895"/>
                    </a:lnTo>
                    <a:lnTo>
                      <a:pt x="2503" y="738"/>
                    </a:lnTo>
                    <a:lnTo>
                      <a:pt x="2111" y="581"/>
                    </a:lnTo>
                    <a:lnTo>
                      <a:pt x="1658" y="386"/>
                    </a:lnTo>
                    <a:lnTo>
                      <a:pt x="1358" y="155"/>
                    </a:lnTo>
                    <a:lnTo>
                      <a:pt x="1203" y="0"/>
                    </a:lnTo>
                    <a:lnTo>
                      <a:pt x="634" y="77"/>
                    </a:lnTo>
                    <a:lnTo>
                      <a:pt x="210" y="77"/>
                    </a:lnTo>
                    <a:lnTo>
                      <a:pt x="92" y="77"/>
                    </a:lnTo>
                    <a:lnTo>
                      <a:pt x="724" y="155"/>
                    </a:lnTo>
                    <a:lnTo>
                      <a:pt x="1113" y="77"/>
                    </a:lnTo>
                    <a:lnTo>
                      <a:pt x="1415" y="312"/>
                    </a:lnTo>
                    <a:lnTo>
                      <a:pt x="1839" y="544"/>
                    </a:lnTo>
                    <a:lnTo>
                      <a:pt x="2320" y="775"/>
                    </a:lnTo>
                    <a:lnTo>
                      <a:pt x="1808" y="933"/>
                    </a:lnTo>
                    <a:lnTo>
                      <a:pt x="1296" y="970"/>
                    </a:lnTo>
                    <a:lnTo>
                      <a:pt x="782" y="698"/>
                    </a:lnTo>
                    <a:lnTo>
                      <a:pt x="332" y="425"/>
                    </a:lnTo>
                    <a:lnTo>
                      <a:pt x="210" y="192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240040" y="3526200"/>
                <a:ext cx="312480" cy="117360"/>
              </a:xfrm>
              <a:custGeom>
                <a:avLst/>
                <a:gdLst/>
                <a:ahLst/>
                <a:rect l="l" t="t" r="r" b="b"/>
                <a:pathLst>
                  <a:path w="2534" h="972">
                    <a:moveTo>
                      <a:pt x="60" y="546"/>
                    </a:moveTo>
                    <a:lnTo>
                      <a:pt x="603" y="309"/>
                    </a:lnTo>
                    <a:lnTo>
                      <a:pt x="936" y="39"/>
                    </a:lnTo>
                    <a:lnTo>
                      <a:pt x="994" y="0"/>
                    </a:lnTo>
                    <a:lnTo>
                      <a:pt x="1510" y="115"/>
                    </a:lnTo>
                    <a:lnTo>
                      <a:pt x="2143" y="194"/>
                    </a:lnTo>
                    <a:lnTo>
                      <a:pt x="2534" y="194"/>
                    </a:lnTo>
                    <a:lnTo>
                      <a:pt x="2321" y="348"/>
                    </a:lnTo>
                    <a:lnTo>
                      <a:pt x="2169" y="467"/>
                    </a:lnTo>
                    <a:lnTo>
                      <a:pt x="2352" y="546"/>
                    </a:lnTo>
                    <a:lnTo>
                      <a:pt x="1719" y="779"/>
                    </a:lnTo>
                    <a:lnTo>
                      <a:pt x="1328" y="893"/>
                    </a:lnTo>
                    <a:lnTo>
                      <a:pt x="1328" y="931"/>
                    </a:lnTo>
                    <a:lnTo>
                      <a:pt x="1148" y="972"/>
                    </a:lnTo>
                    <a:lnTo>
                      <a:pt x="1086" y="931"/>
                    </a:lnTo>
                    <a:lnTo>
                      <a:pt x="0" y="661"/>
                    </a:lnTo>
                    <a:lnTo>
                      <a:pt x="181" y="620"/>
                    </a:lnTo>
                    <a:lnTo>
                      <a:pt x="90" y="504"/>
                    </a:lnTo>
                    <a:lnTo>
                      <a:pt x="394" y="661"/>
                    </a:lnTo>
                    <a:lnTo>
                      <a:pt x="844" y="779"/>
                    </a:lnTo>
                    <a:lnTo>
                      <a:pt x="1207" y="816"/>
                    </a:lnTo>
                    <a:lnTo>
                      <a:pt x="1598" y="698"/>
                    </a:lnTo>
                    <a:lnTo>
                      <a:pt x="1987" y="504"/>
                    </a:lnTo>
                    <a:lnTo>
                      <a:pt x="2231" y="348"/>
                    </a:lnTo>
                    <a:lnTo>
                      <a:pt x="2352" y="272"/>
                    </a:lnTo>
                    <a:lnTo>
                      <a:pt x="1780" y="232"/>
                    </a:lnTo>
                    <a:lnTo>
                      <a:pt x="1266" y="115"/>
                    </a:lnTo>
                    <a:lnTo>
                      <a:pt x="994" y="78"/>
                    </a:lnTo>
                    <a:lnTo>
                      <a:pt x="693" y="272"/>
                    </a:lnTo>
                    <a:lnTo>
                      <a:pt x="330" y="467"/>
                    </a:lnTo>
                    <a:lnTo>
                      <a:pt x="60" y="5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058960" y="2293560"/>
                <a:ext cx="140760" cy="337320"/>
              </a:xfrm>
              <a:custGeom>
                <a:avLst/>
                <a:gdLst/>
                <a:ahLst/>
                <a:rect l="l" t="t" r="r" b="b"/>
                <a:pathLst>
                  <a:path w="1144" h="2798">
                    <a:moveTo>
                      <a:pt x="556" y="543"/>
                    </a:moveTo>
                    <a:lnTo>
                      <a:pt x="210" y="288"/>
                    </a:lnTo>
                    <a:lnTo>
                      <a:pt x="0" y="0"/>
                    </a:lnTo>
                    <a:lnTo>
                      <a:pt x="240" y="271"/>
                    </a:lnTo>
                    <a:lnTo>
                      <a:pt x="574" y="506"/>
                    </a:lnTo>
                    <a:lnTo>
                      <a:pt x="996" y="738"/>
                    </a:lnTo>
                    <a:lnTo>
                      <a:pt x="1144" y="815"/>
                    </a:lnTo>
                    <a:lnTo>
                      <a:pt x="996" y="971"/>
                    </a:lnTo>
                    <a:lnTo>
                      <a:pt x="1144" y="1087"/>
                    </a:lnTo>
                    <a:lnTo>
                      <a:pt x="996" y="1246"/>
                    </a:lnTo>
                    <a:lnTo>
                      <a:pt x="1056" y="1397"/>
                    </a:lnTo>
                    <a:lnTo>
                      <a:pt x="903" y="1515"/>
                    </a:lnTo>
                    <a:lnTo>
                      <a:pt x="964" y="1711"/>
                    </a:lnTo>
                    <a:lnTo>
                      <a:pt x="784" y="1828"/>
                    </a:lnTo>
                    <a:lnTo>
                      <a:pt x="844" y="2061"/>
                    </a:lnTo>
                    <a:lnTo>
                      <a:pt x="694" y="2216"/>
                    </a:lnTo>
                    <a:lnTo>
                      <a:pt x="756" y="2370"/>
                    </a:lnTo>
                    <a:lnTo>
                      <a:pt x="664" y="2488"/>
                    </a:lnTo>
                    <a:lnTo>
                      <a:pt x="756" y="2681"/>
                    </a:lnTo>
                    <a:lnTo>
                      <a:pt x="632" y="2798"/>
                    </a:lnTo>
                    <a:lnTo>
                      <a:pt x="664" y="2681"/>
                    </a:lnTo>
                    <a:lnTo>
                      <a:pt x="632" y="2488"/>
                    </a:lnTo>
                    <a:lnTo>
                      <a:pt x="694" y="2409"/>
                    </a:lnTo>
                    <a:lnTo>
                      <a:pt x="632" y="2176"/>
                    </a:lnTo>
                    <a:lnTo>
                      <a:pt x="784" y="2100"/>
                    </a:lnTo>
                    <a:lnTo>
                      <a:pt x="722" y="1828"/>
                    </a:lnTo>
                    <a:lnTo>
                      <a:pt x="934" y="1748"/>
                    </a:lnTo>
                    <a:lnTo>
                      <a:pt x="844" y="1515"/>
                    </a:lnTo>
                    <a:lnTo>
                      <a:pt x="1056" y="1360"/>
                    </a:lnTo>
                    <a:lnTo>
                      <a:pt x="903" y="1204"/>
                    </a:lnTo>
                    <a:lnTo>
                      <a:pt x="1056" y="1126"/>
                    </a:lnTo>
                    <a:lnTo>
                      <a:pt x="874" y="971"/>
                    </a:lnTo>
                    <a:lnTo>
                      <a:pt x="1056" y="778"/>
                    </a:lnTo>
                    <a:lnTo>
                      <a:pt x="556" y="5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891200" y="2729520"/>
                <a:ext cx="175320" cy="83520"/>
              </a:xfrm>
              <a:custGeom>
                <a:avLst/>
                <a:gdLst/>
                <a:ahLst/>
                <a:rect l="l" t="t" r="r" b="b"/>
                <a:pathLst>
                  <a:path w="1420" h="701">
                    <a:moveTo>
                      <a:pt x="61" y="156"/>
                    </a:moveTo>
                    <a:lnTo>
                      <a:pt x="1118" y="0"/>
                    </a:lnTo>
                    <a:lnTo>
                      <a:pt x="1420" y="389"/>
                    </a:lnTo>
                    <a:lnTo>
                      <a:pt x="1358" y="428"/>
                    </a:lnTo>
                    <a:lnTo>
                      <a:pt x="815" y="505"/>
                    </a:lnTo>
                    <a:lnTo>
                      <a:pt x="483" y="545"/>
                    </a:lnTo>
                    <a:lnTo>
                      <a:pt x="0" y="701"/>
                    </a:lnTo>
                    <a:lnTo>
                      <a:pt x="0" y="621"/>
                    </a:lnTo>
                    <a:lnTo>
                      <a:pt x="547" y="505"/>
                    </a:lnTo>
                    <a:lnTo>
                      <a:pt x="1298" y="389"/>
                    </a:lnTo>
                    <a:lnTo>
                      <a:pt x="1178" y="156"/>
                    </a:lnTo>
                    <a:lnTo>
                      <a:pt x="61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913520" y="2700720"/>
                <a:ext cx="118440" cy="9360"/>
              </a:xfrm>
              <a:custGeom>
                <a:avLst/>
                <a:gdLst/>
                <a:ahLst/>
                <a:rect l="l" t="t" r="r" b="b"/>
                <a:pathLst>
                  <a:path w="965" h="77">
                    <a:moveTo>
                      <a:pt x="0" y="0"/>
                    </a:moveTo>
                    <a:lnTo>
                      <a:pt x="965" y="40"/>
                    </a:lnTo>
                    <a:lnTo>
                      <a:pt x="0" y="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58960" y="2639880"/>
                <a:ext cx="241200" cy="155160"/>
              </a:xfrm>
              <a:custGeom>
                <a:avLst/>
                <a:gdLst/>
                <a:ahLst/>
                <a:rect l="l" t="t" r="r" b="b"/>
                <a:pathLst>
                  <a:path w="1960" h="1283">
                    <a:moveTo>
                      <a:pt x="150" y="196"/>
                    </a:moveTo>
                    <a:lnTo>
                      <a:pt x="330" y="39"/>
                    </a:lnTo>
                    <a:lnTo>
                      <a:pt x="512" y="0"/>
                    </a:lnTo>
                    <a:lnTo>
                      <a:pt x="632" y="0"/>
                    </a:lnTo>
                    <a:lnTo>
                      <a:pt x="815" y="78"/>
                    </a:lnTo>
                    <a:lnTo>
                      <a:pt x="934" y="196"/>
                    </a:lnTo>
                    <a:lnTo>
                      <a:pt x="964" y="352"/>
                    </a:lnTo>
                    <a:lnTo>
                      <a:pt x="964" y="426"/>
                    </a:lnTo>
                    <a:lnTo>
                      <a:pt x="1056" y="272"/>
                    </a:lnTo>
                    <a:lnTo>
                      <a:pt x="1173" y="115"/>
                    </a:lnTo>
                    <a:lnTo>
                      <a:pt x="1418" y="39"/>
                    </a:lnTo>
                    <a:lnTo>
                      <a:pt x="1628" y="39"/>
                    </a:lnTo>
                    <a:lnTo>
                      <a:pt x="1806" y="156"/>
                    </a:lnTo>
                    <a:lnTo>
                      <a:pt x="1896" y="313"/>
                    </a:lnTo>
                    <a:lnTo>
                      <a:pt x="1960" y="465"/>
                    </a:lnTo>
                    <a:lnTo>
                      <a:pt x="1960" y="698"/>
                    </a:lnTo>
                    <a:lnTo>
                      <a:pt x="1930" y="854"/>
                    </a:lnTo>
                    <a:lnTo>
                      <a:pt x="1837" y="970"/>
                    </a:lnTo>
                    <a:lnTo>
                      <a:pt x="1750" y="1089"/>
                    </a:lnTo>
                    <a:lnTo>
                      <a:pt x="1806" y="1205"/>
                    </a:lnTo>
                    <a:lnTo>
                      <a:pt x="1628" y="1283"/>
                    </a:lnTo>
                    <a:lnTo>
                      <a:pt x="1418" y="1283"/>
                    </a:lnTo>
                    <a:lnTo>
                      <a:pt x="1266" y="1205"/>
                    </a:lnTo>
                    <a:lnTo>
                      <a:pt x="1144" y="1127"/>
                    </a:lnTo>
                    <a:lnTo>
                      <a:pt x="1086" y="1011"/>
                    </a:lnTo>
                    <a:lnTo>
                      <a:pt x="1056" y="894"/>
                    </a:lnTo>
                    <a:lnTo>
                      <a:pt x="1024" y="698"/>
                    </a:lnTo>
                    <a:lnTo>
                      <a:pt x="1116" y="933"/>
                    </a:lnTo>
                    <a:lnTo>
                      <a:pt x="1266" y="1089"/>
                    </a:lnTo>
                    <a:lnTo>
                      <a:pt x="1448" y="1127"/>
                    </a:lnTo>
                    <a:lnTo>
                      <a:pt x="1598" y="1089"/>
                    </a:lnTo>
                    <a:lnTo>
                      <a:pt x="1718" y="1048"/>
                    </a:lnTo>
                    <a:lnTo>
                      <a:pt x="1837" y="933"/>
                    </a:lnTo>
                    <a:lnTo>
                      <a:pt x="1896" y="778"/>
                    </a:lnTo>
                    <a:lnTo>
                      <a:pt x="1930" y="582"/>
                    </a:lnTo>
                    <a:lnTo>
                      <a:pt x="1896" y="389"/>
                    </a:lnTo>
                    <a:lnTo>
                      <a:pt x="1806" y="272"/>
                    </a:lnTo>
                    <a:lnTo>
                      <a:pt x="1690" y="156"/>
                    </a:lnTo>
                    <a:lnTo>
                      <a:pt x="1566" y="78"/>
                    </a:lnTo>
                    <a:lnTo>
                      <a:pt x="1386" y="78"/>
                    </a:lnTo>
                    <a:lnTo>
                      <a:pt x="1204" y="156"/>
                    </a:lnTo>
                    <a:lnTo>
                      <a:pt x="1116" y="272"/>
                    </a:lnTo>
                    <a:lnTo>
                      <a:pt x="1056" y="389"/>
                    </a:lnTo>
                    <a:lnTo>
                      <a:pt x="996" y="426"/>
                    </a:lnTo>
                    <a:lnTo>
                      <a:pt x="844" y="426"/>
                    </a:lnTo>
                    <a:lnTo>
                      <a:pt x="815" y="272"/>
                    </a:lnTo>
                    <a:lnTo>
                      <a:pt x="756" y="156"/>
                    </a:lnTo>
                    <a:lnTo>
                      <a:pt x="632" y="39"/>
                    </a:lnTo>
                    <a:lnTo>
                      <a:pt x="484" y="39"/>
                    </a:lnTo>
                    <a:lnTo>
                      <a:pt x="300" y="115"/>
                    </a:lnTo>
                    <a:lnTo>
                      <a:pt x="182" y="272"/>
                    </a:lnTo>
                    <a:lnTo>
                      <a:pt x="123" y="426"/>
                    </a:lnTo>
                    <a:lnTo>
                      <a:pt x="0" y="426"/>
                    </a:lnTo>
                    <a:lnTo>
                      <a:pt x="0" y="313"/>
                    </a:lnTo>
                    <a:lnTo>
                      <a:pt x="90" y="313"/>
                    </a:lnTo>
                    <a:lnTo>
                      <a:pt x="15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77320" y="2706480"/>
                <a:ext cx="275040" cy="285480"/>
              </a:xfrm>
              <a:custGeom>
                <a:avLst/>
                <a:gdLst/>
                <a:ahLst/>
                <a:rect l="l" t="t" r="r" b="b"/>
                <a:pathLst>
                  <a:path w="2232" h="2371">
                    <a:moveTo>
                      <a:pt x="150" y="270"/>
                    </a:moveTo>
                    <a:lnTo>
                      <a:pt x="362" y="309"/>
                    </a:lnTo>
                    <a:lnTo>
                      <a:pt x="544" y="270"/>
                    </a:lnTo>
                    <a:lnTo>
                      <a:pt x="634" y="193"/>
                    </a:lnTo>
                    <a:lnTo>
                      <a:pt x="724" y="116"/>
                    </a:lnTo>
                    <a:lnTo>
                      <a:pt x="814" y="0"/>
                    </a:lnTo>
                    <a:lnTo>
                      <a:pt x="685" y="219"/>
                    </a:lnTo>
                    <a:lnTo>
                      <a:pt x="544" y="349"/>
                    </a:lnTo>
                    <a:lnTo>
                      <a:pt x="383" y="430"/>
                    </a:lnTo>
                    <a:lnTo>
                      <a:pt x="383" y="496"/>
                    </a:lnTo>
                    <a:lnTo>
                      <a:pt x="443" y="540"/>
                    </a:lnTo>
                    <a:lnTo>
                      <a:pt x="572" y="544"/>
                    </a:lnTo>
                    <a:lnTo>
                      <a:pt x="701" y="529"/>
                    </a:lnTo>
                    <a:lnTo>
                      <a:pt x="777" y="553"/>
                    </a:lnTo>
                    <a:lnTo>
                      <a:pt x="846" y="621"/>
                    </a:lnTo>
                    <a:lnTo>
                      <a:pt x="753" y="698"/>
                    </a:lnTo>
                    <a:lnTo>
                      <a:pt x="634" y="698"/>
                    </a:lnTo>
                    <a:lnTo>
                      <a:pt x="606" y="738"/>
                    </a:lnTo>
                    <a:lnTo>
                      <a:pt x="544" y="738"/>
                    </a:lnTo>
                    <a:lnTo>
                      <a:pt x="482" y="660"/>
                    </a:lnTo>
                    <a:lnTo>
                      <a:pt x="443" y="573"/>
                    </a:lnTo>
                    <a:lnTo>
                      <a:pt x="334" y="544"/>
                    </a:lnTo>
                    <a:lnTo>
                      <a:pt x="240" y="544"/>
                    </a:lnTo>
                    <a:lnTo>
                      <a:pt x="212" y="466"/>
                    </a:lnTo>
                    <a:lnTo>
                      <a:pt x="212" y="425"/>
                    </a:lnTo>
                    <a:lnTo>
                      <a:pt x="120" y="466"/>
                    </a:lnTo>
                    <a:lnTo>
                      <a:pt x="60" y="738"/>
                    </a:lnTo>
                    <a:lnTo>
                      <a:pt x="32" y="1047"/>
                    </a:lnTo>
                    <a:lnTo>
                      <a:pt x="60" y="1243"/>
                    </a:lnTo>
                    <a:lnTo>
                      <a:pt x="90" y="1399"/>
                    </a:lnTo>
                    <a:lnTo>
                      <a:pt x="120" y="1515"/>
                    </a:lnTo>
                    <a:lnTo>
                      <a:pt x="92" y="1687"/>
                    </a:lnTo>
                    <a:lnTo>
                      <a:pt x="134" y="1862"/>
                    </a:lnTo>
                    <a:lnTo>
                      <a:pt x="228" y="1906"/>
                    </a:lnTo>
                    <a:lnTo>
                      <a:pt x="482" y="1906"/>
                    </a:lnTo>
                    <a:lnTo>
                      <a:pt x="665" y="1825"/>
                    </a:lnTo>
                    <a:lnTo>
                      <a:pt x="966" y="1671"/>
                    </a:lnTo>
                    <a:lnTo>
                      <a:pt x="1256" y="1500"/>
                    </a:lnTo>
                    <a:lnTo>
                      <a:pt x="1416" y="1362"/>
                    </a:lnTo>
                    <a:lnTo>
                      <a:pt x="1568" y="1203"/>
                    </a:lnTo>
                    <a:lnTo>
                      <a:pt x="1634" y="1081"/>
                    </a:lnTo>
                    <a:lnTo>
                      <a:pt x="1649" y="959"/>
                    </a:lnTo>
                    <a:lnTo>
                      <a:pt x="1660" y="803"/>
                    </a:lnTo>
                    <a:lnTo>
                      <a:pt x="1649" y="639"/>
                    </a:lnTo>
                    <a:lnTo>
                      <a:pt x="1702" y="803"/>
                    </a:lnTo>
                    <a:lnTo>
                      <a:pt x="1720" y="1010"/>
                    </a:lnTo>
                    <a:lnTo>
                      <a:pt x="1746" y="1243"/>
                    </a:lnTo>
                    <a:lnTo>
                      <a:pt x="1780" y="1475"/>
                    </a:lnTo>
                    <a:lnTo>
                      <a:pt x="1810" y="1671"/>
                    </a:lnTo>
                    <a:lnTo>
                      <a:pt x="1870" y="1825"/>
                    </a:lnTo>
                    <a:lnTo>
                      <a:pt x="1960" y="1943"/>
                    </a:lnTo>
                    <a:lnTo>
                      <a:pt x="2080" y="1906"/>
                    </a:lnTo>
                    <a:lnTo>
                      <a:pt x="2111" y="2022"/>
                    </a:lnTo>
                    <a:lnTo>
                      <a:pt x="2204" y="2174"/>
                    </a:lnTo>
                    <a:lnTo>
                      <a:pt x="2232" y="2293"/>
                    </a:lnTo>
                    <a:lnTo>
                      <a:pt x="2140" y="2371"/>
                    </a:lnTo>
                    <a:lnTo>
                      <a:pt x="2111" y="2174"/>
                    </a:lnTo>
                    <a:lnTo>
                      <a:pt x="2050" y="2060"/>
                    </a:lnTo>
                    <a:lnTo>
                      <a:pt x="1870" y="2060"/>
                    </a:lnTo>
                    <a:lnTo>
                      <a:pt x="1687" y="2136"/>
                    </a:lnTo>
                    <a:lnTo>
                      <a:pt x="1507" y="2215"/>
                    </a:lnTo>
                    <a:lnTo>
                      <a:pt x="1326" y="2332"/>
                    </a:lnTo>
                    <a:lnTo>
                      <a:pt x="1358" y="2256"/>
                    </a:lnTo>
                    <a:lnTo>
                      <a:pt x="1568" y="2099"/>
                    </a:lnTo>
                    <a:lnTo>
                      <a:pt x="1746" y="2022"/>
                    </a:lnTo>
                    <a:lnTo>
                      <a:pt x="1870" y="1980"/>
                    </a:lnTo>
                    <a:lnTo>
                      <a:pt x="1870" y="1943"/>
                    </a:lnTo>
                    <a:lnTo>
                      <a:pt x="1687" y="1980"/>
                    </a:lnTo>
                    <a:lnTo>
                      <a:pt x="1507" y="2022"/>
                    </a:lnTo>
                    <a:lnTo>
                      <a:pt x="1326" y="2099"/>
                    </a:lnTo>
                    <a:lnTo>
                      <a:pt x="1533" y="1941"/>
                    </a:lnTo>
                    <a:lnTo>
                      <a:pt x="1298" y="2022"/>
                    </a:lnTo>
                    <a:lnTo>
                      <a:pt x="1430" y="1895"/>
                    </a:lnTo>
                    <a:lnTo>
                      <a:pt x="1178" y="1980"/>
                    </a:lnTo>
                    <a:lnTo>
                      <a:pt x="1326" y="1862"/>
                    </a:lnTo>
                    <a:lnTo>
                      <a:pt x="1054" y="1980"/>
                    </a:lnTo>
                    <a:lnTo>
                      <a:pt x="1188" y="1842"/>
                    </a:lnTo>
                    <a:lnTo>
                      <a:pt x="994" y="1980"/>
                    </a:lnTo>
                    <a:lnTo>
                      <a:pt x="874" y="2099"/>
                    </a:lnTo>
                    <a:lnTo>
                      <a:pt x="724" y="2256"/>
                    </a:lnTo>
                    <a:lnTo>
                      <a:pt x="874" y="2022"/>
                    </a:lnTo>
                    <a:lnTo>
                      <a:pt x="906" y="1943"/>
                    </a:lnTo>
                    <a:lnTo>
                      <a:pt x="814" y="1906"/>
                    </a:lnTo>
                    <a:lnTo>
                      <a:pt x="724" y="1906"/>
                    </a:lnTo>
                    <a:lnTo>
                      <a:pt x="665" y="1943"/>
                    </a:lnTo>
                    <a:lnTo>
                      <a:pt x="606" y="1943"/>
                    </a:lnTo>
                    <a:lnTo>
                      <a:pt x="470" y="2136"/>
                    </a:lnTo>
                    <a:lnTo>
                      <a:pt x="606" y="2256"/>
                    </a:lnTo>
                    <a:lnTo>
                      <a:pt x="390" y="2174"/>
                    </a:lnTo>
                    <a:lnTo>
                      <a:pt x="514" y="1943"/>
                    </a:lnTo>
                    <a:lnTo>
                      <a:pt x="334" y="1980"/>
                    </a:lnTo>
                    <a:lnTo>
                      <a:pt x="212" y="1980"/>
                    </a:lnTo>
                    <a:lnTo>
                      <a:pt x="145" y="1961"/>
                    </a:lnTo>
                    <a:lnTo>
                      <a:pt x="90" y="1906"/>
                    </a:lnTo>
                    <a:lnTo>
                      <a:pt x="60" y="1825"/>
                    </a:lnTo>
                    <a:lnTo>
                      <a:pt x="60" y="1710"/>
                    </a:lnTo>
                    <a:lnTo>
                      <a:pt x="90" y="1592"/>
                    </a:lnTo>
                    <a:lnTo>
                      <a:pt x="90" y="1515"/>
                    </a:lnTo>
                    <a:lnTo>
                      <a:pt x="32" y="1166"/>
                    </a:lnTo>
                    <a:lnTo>
                      <a:pt x="0" y="854"/>
                    </a:lnTo>
                    <a:lnTo>
                      <a:pt x="32" y="544"/>
                    </a:lnTo>
                    <a:lnTo>
                      <a:pt x="90" y="349"/>
                    </a:lnTo>
                    <a:lnTo>
                      <a:pt x="150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144280" y="2579040"/>
                <a:ext cx="122040" cy="65520"/>
              </a:xfrm>
              <a:custGeom>
                <a:avLst/>
                <a:gdLst/>
                <a:ahLst/>
                <a:rect l="l" t="t" r="r" b="b"/>
                <a:pathLst>
                  <a:path w="996" h="546">
                    <a:moveTo>
                      <a:pt x="121" y="507"/>
                    </a:moveTo>
                    <a:lnTo>
                      <a:pt x="330" y="352"/>
                    </a:lnTo>
                    <a:lnTo>
                      <a:pt x="510" y="195"/>
                    </a:lnTo>
                    <a:lnTo>
                      <a:pt x="634" y="156"/>
                    </a:lnTo>
                    <a:lnTo>
                      <a:pt x="814" y="79"/>
                    </a:lnTo>
                    <a:lnTo>
                      <a:pt x="934" y="39"/>
                    </a:lnTo>
                    <a:lnTo>
                      <a:pt x="996" y="0"/>
                    </a:lnTo>
                    <a:lnTo>
                      <a:pt x="782" y="0"/>
                    </a:lnTo>
                    <a:lnTo>
                      <a:pt x="602" y="39"/>
                    </a:lnTo>
                    <a:lnTo>
                      <a:pt x="422" y="118"/>
                    </a:lnTo>
                    <a:lnTo>
                      <a:pt x="270" y="195"/>
                    </a:lnTo>
                    <a:lnTo>
                      <a:pt x="150" y="272"/>
                    </a:lnTo>
                    <a:lnTo>
                      <a:pt x="62" y="389"/>
                    </a:lnTo>
                    <a:lnTo>
                      <a:pt x="0" y="470"/>
                    </a:lnTo>
                    <a:lnTo>
                      <a:pt x="209" y="311"/>
                    </a:lnTo>
                    <a:lnTo>
                      <a:pt x="392" y="195"/>
                    </a:lnTo>
                    <a:lnTo>
                      <a:pt x="510" y="118"/>
                    </a:lnTo>
                    <a:lnTo>
                      <a:pt x="692" y="79"/>
                    </a:lnTo>
                    <a:lnTo>
                      <a:pt x="422" y="235"/>
                    </a:lnTo>
                    <a:lnTo>
                      <a:pt x="302" y="352"/>
                    </a:lnTo>
                    <a:lnTo>
                      <a:pt x="180" y="428"/>
                    </a:lnTo>
                    <a:lnTo>
                      <a:pt x="62" y="546"/>
                    </a:lnTo>
                    <a:lnTo>
                      <a:pt x="121" y="5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147520" y="2531880"/>
                <a:ext cx="345600" cy="445320"/>
              </a:xfrm>
              <a:custGeom>
                <a:avLst/>
                <a:gdLst/>
                <a:ahLst/>
                <a:rect l="l" t="t" r="r" b="b"/>
                <a:pathLst>
                  <a:path w="2805" h="3697">
                    <a:moveTo>
                      <a:pt x="0" y="350"/>
                    </a:moveTo>
                    <a:lnTo>
                      <a:pt x="274" y="156"/>
                    </a:lnTo>
                    <a:lnTo>
                      <a:pt x="482" y="80"/>
                    </a:lnTo>
                    <a:lnTo>
                      <a:pt x="726" y="39"/>
                    </a:lnTo>
                    <a:lnTo>
                      <a:pt x="996" y="0"/>
                    </a:lnTo>
                    <a:lnTo>
                      <a:pt x="1174" y="39"/>
                    </a:lnTo>
                    <a:lnTo>
                      <a:pt x="1266" y="80"/>
                    </a:lnTo>
                    <a:lnTo>
                      <a:pt x="1328" y="156"/>
                    </a:lnTo>
                    <a:lnTo>
                      <a:pt x="1598" y="156"/>
                    </a:lnTo>
                    <a:lnTo>
                      <a:pt x="1781" y="235"/>
                    </a:lnTo>
                    <a:lnTo>
                      <a:pt x="1930" y="428"/>
                    </a:lnTo>
                    <a:lnTo>
                      <a:pt x="2049" y="661"/>
                    </a:lnTo>
                    <a:lnTo>
                      <a:pt x="2231" y="1168"/>
                    </a:lnTo>
                    <a:lnTo>
                      <a:pt x="2352" y="1518"/>
                    </a:lnTo>
                    <a:lnTo>
                      <a:pt x="2414" y="1790"/>
                    </a:lnTo>
                    <a:lnTo>
                      <a:pt x="2501" y="2062"/>
                    </a:lnTo>
                    <a:lnTo>
                      <a:pt x="2653" y="2335"/>
                    </a:lnTo>
                    <a:lnTo>
                      <a:pt x="2741" y="2451"/>
                    </a:lnTo>
                    <a:lnTo>
                      <a:pt x="2805" y="2530"/>
                    </a:lnTo>
                    <a:lnTo>
                      <a:pt x="2741" y="2607"/>
                    </a:lnTo>
                    <a:lnTo>
                      <a:pt x="2625" y="2684"/>
                    </a:lnTo>
                    <a:lnTo>
                      <a:pt x="2715" y="2879"/>
                    </a:lnTo>
                    <a:lnTo>
                      <a:pt x="2774" y="2956"/>
                    </a:lnTo>
                    <a:lnTo>
                      <a:pt x="2805" y="2995"/>
                    </a:lnTo>
                    <a:lnTo>
                      <a:pt x="2741" y="3073"/>
                    </a:lnTo>
                    <a:lnTo>
                      <a:pt x="2625" y="3112"/>
                    </a:lnTo>
                    <a:lnTo>
                      <a:pt x="2473" y="3188"/>
                    </a:lnTo>
                    <a:lnTo>
                      <a:pt x="2501" y="3305"/>
                    </a:lnTo>
                    <a:lnTo>
                      <a:pt x="2534" y="3384"/>
                    </a:lnTo>
                    <a:lnTo>
                      <a:pt x="2442" y="3463"/>
                    </a:lnTo>
                    <a:lnTo>
                      <a:pt x="2324" y="3501"/>
                    </a:lnTo>
                    <a:lnTo>
                      <a:pt x="2141" y="3577"/>
                    </a:lnTo>
                    <a:lnTo>
                      <a:pt x="2020" y="3656"/>
                    </a:lnTo>
                    <a:lnTo>
                      <a:pt x="1930" y="3697"/>
                    </a:lnTo>
                    <a:lnTo>
                      <a:pt x="1840" y="3697"/>
                    </a:lnTo>
                    <a:lnTo>
                      <a:pt x="1717" y="3697"/>
                    </a:lnTo>
                    <a:lnTo>
                      <a:pt x="1598" y="3697"/>
                    </a:lnTo>
                    <a:lnTo>
                      <a:pt x="1902" y="3577"/>
                    </a:lnTo>
                    <a:lnTo>
                      <a:pt x="2049" y="3501"/>
                    </a:lnTo>
                    <a:lnTo>
                      <a:pt x="2231" y="3463"/>
                    </a:lnTo>
                    <a:lnTo>
                      <a:pt x="2352" y="3421"/>
                    </a:lnTo>
                    <a:lnTo>
                      <a:pt x="2414" y="3384"/>
                    </a:lnTo>
                    <a:lnTo>
                      <a:pt x="2442" y="3305"/>
                    </a:lnTo>
                    <a:lnTo>
                      <a:pt x="2414" y="3227"/>
                    </a:lnTo>
                    <a:lnTo>
                      <a:pt x="2381" y="3188"/>
                    </a:lnTo>
                    <a:lnTo>
                      <a:pt x="2625" y="3073"/>
                    </a:lnTo>
                    <a:lnTo>
                      <a:pt x="2681" y="2995"/>
                    </a:lnTo>
                    <a:lnTo>
                      <a:pt x="2681" y="2956"/>
                    </a:lnTo>
                    <a:lnTo>
                      <a:pt x="2625" y="2879"/>
                    </a:lnTo>
                    <a:lnTo>
                      <a:pt x="2442" y="2644"/>
                    </a:lnTo>
                    <a:lnTo>
                      <a:pt x="2231" y="2062"/>
                    </a:lnTo>
                    <a:lnTo>
                      <a:pt x="2049" y="1478"/>
                    </a:lnTo>
                    <a:lnTo>
                      <a:pt x="2381" y="2295"/>
                    </a:lnTo>
                    <a:lnTo>
                      <a:pt x="2501" y="2570"/>
                    </a:lnTo>
                    <a:lnTo>
                      <a:pt x="2594" y="2530"/>
                    </a:lnTo>
                    <a:lnTo>
                      <a:pt x="2414" y="2062"/>
                    </a:lnTo>
                    <a:lnTo>
                      <a:pt x="2231" y="1478"/>
                    </a:lnTo>
                    <a:lnTo>
                      <a:pt x="2111" y="1011"/>
                    </a:lnTo>
                    <a:lnTo>
                      <a:pt x="1961" y="584"/>
                    </a:lnTo>
                    <a:lnTo>
                      <a:pt x="1748" y="274"/>
                    </a:lnTo>
                    <a:lnTo>
                      <a:pt x="1539" y="235"/>
                    </a:lnTo>
                    <a:lnTo>
                      <a:pt x="1298" y="235"/>
                    </a:lnTo>
                    <a:lnTo>
                      <a:pt x="1148" y="274"/>
                    </a:lnTo>
                    <a:lnTo>
                      <a:pt x="1058" y="312"/>
                    </a:lnTo>
                    <a:lnTo>
                      <a:pt x="876" y="428"/>
                    </a:lnTo>
                    <a:lnTo>
                      <a:pt x="968" y="312"/>
                    </a:lnTo>
                    <a:lnTo>
                      <a:pt x="844" y="235"/>
                    </a:lnTo>
                    <a:lnTo>
                      <a:pt x="606" y="235"/>
                    </a:lnTo>
                    <a:lnTo>
                      <a:pt x="274" y="350"/>
                    </a:lnTo>
                    <a:lnTo>
                      <a:pt x="786" y="195"/>
                    </a:lnTo>
                    <a:lnTo>
                      <a:pt x="906" y="235"/>
                    </a:lnTo>
                    <a:lnTo>
                      <a:pt x="996" y="235"/>
                    </a:lnTo>
                    <a:lnTo>
                      <a:pt x="906" y="119"/>
                    </a:lnTo>
                    <a:lnTo>
                      <a:pt x="1115" y="195"/>
                    </a:lnTo>
                    <a:lnTo>
                      <a:pt x="1084" y="119"/>
                    </a:lnTo>
                    <a:lnTo>
                      <a:pt x="906" y="80"/>
                    </a:lnTo>
                    <a:lnTo>
                      <a:pt x="664" y="80"/>
                    </a:lnTo>
                    <a:lnTo>
                      <a:pt x="394" y="156"/>
                    </a:lnTo>
                    <a:lnTo>
                      <a:pt x="93" y="274"/>
                    </a:lnTo>
                    <a:lnTo>
                      <a:pt x="122" y="389"/>
                    </a:lnTo>
                    <a:lnTo>
                      <a:pt x="34" y="468"/>
                    </a:lnTo>
                    <a:lnTo>
                      <a:pt x="242" y="428"/>
                    </a:lnTo>
                    <a:lnTo>
                      <a:pt x="0" y="624"/>
                    </a:lnTo>
                    <a:lnTo>
                      <a:pt x="0" y="3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262720" y="2583720"/>
                <a:ext cx="11520" cy="65520"/>
              </a:xfrm>
              <a:custGeom>
                <a:avLst/>
                <a:gdLst/>
                <a:ahLst/>
                <a:rect l="l" t="t" r="r" b="b"/>
                <a:pathLst>
                  <a:path w="93" h="546">
                    <a:moveTo>
                      <a:pt x="0" y="0"/>
                    </a:moveTo>
                    <a:lnTo>
                      <a:pt x="0" y="350"/>
                    </a:lnTo>
                    <a:lnTo>
                      <a:pt x="61" y="546"/>
                    </a:lnTo>
                    <a:lnTo>
                      <a:pt x="61" y="272"/>
                    </a:lnTo>
                    <a:lnTo>
                      <a:pt x="93" y="79"/>
                    </a:lnTo>
                    <a:lnTo>
                      <a:pt x="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92240" y="2747880"/>
                <a:ext cx="63000" cy="206280"/>
              </a:xfrm>
              <a:custGeom>
                <a:avLst/>
                <a:gdLst/>
                <a:ahLst/>
                <a:rect l="l" t="t" r="r" b="b"/>
                <a:pathLst>
                  <a:path w="516" h="1711">
                    <a:moveTo>
                      <a:pt x="64" y="154"/>
                    </a:moveTo>
                    <a:lnTo>
                      <a:pt x="154" y="505"/>
                    </a:lnTo>
                    <a:lnTo>
                      <a:pt x="304" y="817"/>
                    </a:lnTo>
                    <a:lnTo>
                      <a:pt x="394" y="1126"/>
                    </a:lnTo>
                    <a:lnTo>
                      <a:pt x="458" y="1437"/>
                    </a:lnTo>
                    <a:lnTo>
                      <a:pt x="516" y="1711"/>
                    </a:lnTo>
                    <a:lnTo>
                      <a:pt x="394" y="1243"/>
                    </a:lnTo>
                    <a:lnTo>
                      <a:pt x="334" y="1013"/>
                    </a:lnTo>
                    <a:lnTo>
                      <a:pt x="214" y="780"/>
                    </a:lnTo>
                    <a:lnTo>
                      <a:pt x="92" y="545"/>
                    </a:lnTo>
                    <a:lnTo>
                      <a:pt x="34" y="311"/>
                    </a:lnTo>
                    <a:lnTo>
                      <a:pt x="0" y="154"/>
                    </a:lnTo>
                    <a:lnTo>
                      <a:pt x="34" y="0"/>
                    </a:lnTo>
                    <a:lnTo>
                      <a:pt x="64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307000" y="2846160"/>
                <a:ext cx="22320" cy="79920"/>
              </a:xfrm>
              <a:custGeom>
                <a:avLst/>
                <a:gdLst/>
                <a:ahLst/>
                <a:rect l="l" t="t" r="r" b="b"/>
                <a:pathLst>
                  <a:path w="180" h="659">
                    <a:moveTo>
                      <a:pt x="0" y="0"/>
                    </a:moveTo>
                    <a:lnTo>
                      <a:pt x="180" y="659"/>
                    </a:lnTo>
                    <a:lnTo>
                      <a:pt x="120" y="6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403840" y="2803680"/>
                <a:ext cx="48240" cy="98280"/>
              </a:xfrm>
              <a:custGeom>
                <a:avLst/>
                <a:gdLst/>
                <a:ahLst/>
                <a:rect l="l" t="t" r="r" b="b"/>
                <a:pathLst>
                  <a:path w="391" h="818">
                    <a:moveTo>
                      <a:pt x="270" y="818"/>
                    </a:moveTo>
                    <a:lnTo>
                      <a:pt x="0" y="0"/>
                    </a:lnTo>
                    <a:lnTo>
                      <a:pt x="391" y="818"/>
                    </a:lnTo>
                    <a:lnTo>
                      <a:pt x="270" y="8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066520" y="2939760"/>
                <a:ext cx="195840" cy="135720"/>
              </a:xfrm>
              <a:custGeom>
                <a:avLst/>
                <a:gdLst/>
                <a:ahLst/>
                <a:rect l="l" t="t" r="r" b="b"/>
                <a:pathLst>
                  <a:path w="1595" h="1129">
                    <a:moveTo>
                      <a:pt x="632" y="740"/>
                    </a:moveTo>
                    <a:lnTo>
                      <a:pt x="841" y="545"/>
                    </a:lnTo>
                    <a:lnTo>
                      <a:pt x="1054" y="428"/>
                    </a:lnTo>
                    <a:lnTo>
                      <a:pt x="1234" y="313"/>
                    </a:lnTo>
                    <a:lnTo>
                      <a:pt x="1142" y="117"/>
                    </a:lnTo>
                    <a:lnTo>
                      <a:pt x="1414" y="193"/>
                    </a:lnTo>
                    <a:lnTo>
                      <a:pt x="1595" y="79"/>
                    </a:lnTo>
                    <a:lnTo>
                      <a:pt x="1356" y="272"/>
                    </a:lnTo>
                    <a:lnTo>
                      <a:pt x="1266" y="193"/>
                    </a:lnTo>
                    <a:lnTo>
                      <a:pt x="1266" y="350"/>
                    </a:lnTo>
                    <a:lnTo>
                      <a:pt x="1266" y="428"/>
                    </a:lnTo>
                    <a:lnTo>
                      <a:pt x="1414" y="466"/>
                    </a:lnTo>
                    <a:lnTo>
                      <a:pt x="1356" y="507"/>
                    </a:lnTo>
                    <a:lnTo>
                      <a:pt x="1204" y="507"/>
                    </a:lnTo>
                    <a:lnTo>
                      <a:pt x="1082" y="582"/>
                    </a:lnTo>
                    <a:lnTo>
                      <a:pt x="962" y="661"/>
                    </a:lnTo>
                    <a:lnTo>
                      <a:pt x="841" y="740"/>
                    </a:lnTo>
                    <a:lnTo>
                      <a:pt x="722" y="778"/>
                    </a:lnTo>
                    <a:lnTo>
                      <a:pt x="632" y="817"/>
                    </a:lnTo>
                    <a:lnTo>
                      <a:pt x="478" y="933"/>
                    </a:lnTo>
                    <a:lnTo>
                      <a:pt x="360" y="933"/>
                    </a:lnTo>
                    <a:lnTo>
                      <a:pt x="238" y="1011"/>
                    </a:lnTo>
                    <a:lnTo>
                      <a:pt x="120" y="1090"/>
                    </a:lnTo>
                    <a:lnTo>
                      <a:pt x="28" y="1129"/>
                    </a:lnTo>
                    <a:lnTo>
                      <a:pt x="0" y="1090"/>
                    </a:lnTo>
                    <a:lnTo>
                      <a:pt x="178" y="1011"/>
                    </a:lnTo>
                    <a:lnTo>
                      <a:pt x="238" y="933"/>
                    </a:lnTo>
                    <a:lnTo>
                      <a:pt x="178" y="855"/>
                    </a:lnTo>
                    <a:lnTo>
                      <a:pt x="238" y="778"/>
                    </a:lnTo>
                    <a:lnTo>
                      <a:pt x="178" y="740"/>
                    </a:lnTo>
                    <a:lnTo>
                      <a:pt x="268" y="661"/>
                    </a:lnTo>
                    <a:lnTo>
                      <a:pt x="208" y="545"/>
                    </a:lnTo>
                    <a:lnTo>
                      <a:pt x="178" y="507"/>
                    </a:lnTo>
                    <a:lnTo>
                      <a:pt x="268" y="350"/>
                    </a:lnTo>
                    <a:lnTo>
                      <a:pt x="178" y="272"/>
                    </a:lnTo>
                    <a:lnTo>
                      <a:pt x="300" y="117"/>
                    </a:lnTo>
                    <a:lnTo>
                      <a:pt x="238" y="0"/>
                    </a:lnTo>
                    <a:lnTo>
                      <a:pt x="360" y="79"/>
                    </a:lnTo>
                    <a:lnTo>
                      <a:pt x="268" y="231"/>
                    </a:lnTo>
                    <a:lnTo>
                      <a:pt x="328" y="350"/>
                    </a:lnTo>
                    <a:lnTo>
                      <a:pt x="268" y="428"/>
                    </a:lnTo>
                    <a:lnTo>
                      <a:pt x="328" y="701"/>
                    </a:lnTo>
                    <a:lnTo>
                      <a:pt x="450" y="313"/>
                    </a:lnTo>
                    <a:lnTo>
                      <a:pt x="360" y="817"/>
                    </a:lnTo>
                    <a:lnTo>
                      <a:pt x="570" y="701"/>
                    </a:lnTo>
                    <a:lnTo>
                      <a:pt x="753" y="350"/>
                    </a:lnTo>
                    <a:lnTo>
                      <a:pt x="632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984800" y="3071880"/>
                <a:ext cx="103320" cy="65520"/>
              </a:xfrm>
              <a:custGeom>
                <a:avLst/>
                <a:gdLst/>
                <a:ahLst/>
                <a:rect l="l" t="t" r="r" b="b"/>
                <a:pathLst>
                  <a:path w="842" h="544">
                    <a:moveTo>
                      <a:pt x="0" y="0"/>
                    </a:moveTo>
                    <a:lnTo>
                      <a:pt x="151" y="114"/>
                    </a:lnTo>
                    <a:lnTo>
                      <a:pt x="332" y="154"/>
                    </a:lnTo>
                    <a:lnTo>
                      <a:pt x="481" y="154"/>
                    </a:lnTo>
                    <a:lnTo>
                      <a:pt x="632" y="193"/>
                    </a:lnTo>
                    <a:lnTo>
                      <a:pt x="692" y="309"/>
                    </a:lnTo>
                    <a:lnTo>
                      <a:pt x="725" y="426"/>
                    </a:lnTo>
                    <a:lnTo>
                      <a:pt x="725" y="544"/>
                    </a:lnTo>
                    <a:lnTo>
                      <a:pt x="842" y="544"/>
                    </a:lnTo>
                    <a:lnTo>
                      <a:pt x="784" y="350"/>
                    </a:lnTo>
                    <a:lnTo>
                      <a:pt x="692" y="193"/>
                    </a:lnTo>
                    <a:lnTo>
                      <a:pt x="571" y="74"/>
                    </a:lnTo>
                    <a:lnTo>
                      <a:pt x="452" y="74"/>
                    </a:lnTo>
                    <a:lnTo>
                      <a:pt x="272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092440" y="3075840"/>
                <a:ext cx="37080" cy="51840"/>
              </a:xfrm>
              <a:custGeom>
                <a:avLst/>
                <a:gdLst/>
                <a:ahLst/>
                <a:rect l="l" t="t" r="r" b="b"/>
                <a:pathLst>
                  <a:path w="304" h="426">
                    <a:moveTo>
                      <a:pt x="0" y="0"/>
                    </a:moveTo>
                    <a:lnTo>
                      <a:pt x="214" y="75"/>
                    </a:lnTo>
                    <a:lnTo>
                      <a:pt x="270" y="154"/>
                    </a:lnTo>
                    <a:lnTo>
                      <a:pt x="304" y="270"/>
                    </a:lnTo>
                    <a:lnTo>
                      <a:pt x="270" y="387"/>
                    </a:lnTo>
                    <a:lnTo>
                      <a:pt x="152" y="426"/>
                    </a:lnTo>
                    <a:lnTo>
                      <a:pt x="120" y="193"/>
                    </a:lnTo>
                    <a:lnTo>
                      <a:pt x="60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81440" y="2972520"/>
                <a:ext cx="48240" cy="61560"/>
              </a:xfrm>
              <a:custGeom>
                <a:avLst/>
                <a:gdLst/>
                <a:ahLst/>
                <a:rect l="l" t="t" r="r" b="b"/>
                <a:pathLst>
                  <a:path w="394" h="506">
                    <a:moveTo>
                      <a:pt x="214" y="0"/>
                    </a:moveTo>
                    <a:lnTo>
                      <a:pt x="363" y="78"/>
                    </a:lnTo>
                    <a:lnTo>
                      <a:pt x="394" y="194"/>
                    </a:lnTo>
                    <a:lnTo>
                      <a:pt x="363" y="350"/>
                    </a:lnTo>
                    <a:lnTo>
                      <a:pt x="304" y="468"/>
                    </a:lnTo>
                    <a:lnTo>
                      <a:pt x="154" y="506"/>
                    </a:lnTo>
                    <a:lnTo>
                      <a:pt x="304" y="273"/>
                    </a:lnTo>
                    <a:lnTo>
                      <a:pt x="273" y="117"/>
                    </a:lnTo>
                    <a:lnTo>
                      <a:pt x="182" y="78"/>
                    </a:lnTo>
                    <a:lnTo>
                      <a:pt x="0" y="78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140680" y="3094920"/>
                <a:ext cx="43920" cy="23040"/>
              </a:xfrm>
              <a:custGeom>
                <a:avLst/>
                <a:gdLst/>
                <a:ahLst/>
                <a:rect l="l" t="t" r="r" b="b"/>
                <a:pathLst>
                  <a:path w="360" h="196">
                    <a:moveTo>
                      <a:pt x="30" y="196"/>
                    </a:moveTo>
                    <a:lnTo>
                      <a:pt x="360" y="0"/>
                    </a:lnTo>
                    <a:lnTo>
                      <a:pt x="0" y="157"/>
                    </a:lnTo>
                    <a:lnTo>
                      <a:pt x="3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95160" y="2954160"/>
                <a:ext cx="192960" cy="102960"/>
              </a:xfrm>
              <a:custGeom>
                <a:avLst/>
                <a:gdLst/>
                <a:ahLst/>
                <a:rect l="l" t="t" r="r" b="b"/>
                <a:pathLst>
                  <a:path w="1568" h="853">
                    <a:moveTo>
                      <a:pt x="123" y="816"/>
                    </a:moveTo>
                    <a:lnTo>
                      <a:pt x="0" y="700"/>
                    </a:lnTo>
                    <a:lnTo>
                      <a:pt x="31" y="505"/>
                    </a:lnTo>
                    <a:lnTo>
                      <a:pt x="90" y="349"/>
                    </a:lnTo>
                    <a:lnTo>
                      <a:pt x="214" y="272"/>
                    </a:lnTo>
                    <a:lnTo>
                      <a:pt x="1568" y="0"/>
                    </a:lnTo>
                    <a:lnTo>
                      <a:pt x="152" y="349"/>
                    </a:lnTo>
                    <a:lnTo>
                      <a:pt x="1478" y="155"/>
                    </a:lnTo>
                    <a:lnTo>
                      <a:pt x="90" y="465"/>
                    </a:lnTo>
                    <a:lnTo>
                      <a:pt x="1478" y="349"/>
                    </a:lnTo>
                    <a:lnTo>
                      <a:pt x="90" y="623"/>
                    </a:lnTo>
                    <a:lnTo>
                      <a:pt x="1510" y="505"/>
                    </a:lnTo>
                    <a:lnTo>
                      <a:pt x="152" y="738"/>
                    </a:lnTo>
                    <a:lnTo>
                      <a:pt x="1510" y="661"/>
                    </a:lnTo>
                    <a:lnTo>
                      <a:pt x="183" y="853"/>
                    </a:lnTo>
                    <a:lnTo>
                      <a:pt x="123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98760" y="2893320"/>
                <a:ext cx="189000" cy="70200"/>
              </a:xfrm>
              <a:custGeom>
                <a:avLst/>
                <a:gdLst/>
                <a:ahLst/>
                <a:rect l="l" t="t" r="r" b="b"/>
                <a:pathLst>
                  <a:path w="1537" h="582">
                    <a:moveTo>
                      <a:pt x="121" y="582"/>
                    </a:moveTo>
                    <a:lnTo>
                      <a:pt x="0" y="426"/>
                    </a:lnTo>
                    <a:lnTo>
                      <a:pt x="31" y="310"/>
                    </a:lnTo>
                    <a:lnTo>
                      <a:pt x="271" y="193"/>
                    </a:lnTo>
                    <a:lnTo>
                      <a:pt x="1420" y="0"/>
                    </a:lnTo>
                    <a:lnTo>
                      <a:pt x="214" y="310"/>
                    </a:lnTo>
                    <a:lnTo>
                      <a:pt x="121" y="389"/>
                    </a:lnTo>
                    <a:lnTo>
                      <a:pt x="214" y="545"/>
                    </a:lnTo>
                    <a:lnTo>
                      <a:pt x="1537" y="389"/>
                    </a:lnTo>
                    <a:lnTo>
                      <a:pt x="271" y="582"/>
                    </a:lnTo>
                    <a:lnTo>
                      <a:pt x="121" y="5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84360" y="2865600"/>
                <a:ext cx="192960" cy="46080"/>
              </a:xfrm>
              <a:custGeom>
                <a:avLst/>
                <a:gdLst/>
                <a:ahLst/>
                <a:rect l="l" t="t" r="r" b="b"/>
                <a:pathLst>
                  <a:path w="1568" h="389">
                    <a:moveTo>
                      <a:pt x="0" y="389"/>
                    </a:moveTo>
                    <a:lnTo>
                      <a:pt x="1541" y="117"/>
                    </a:lnTo>
                    <a:lnTo>
                      <a:pt x="1568" y="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80400" y="283752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1593" h="465">
                    <a:moveTo>
                      <a:pt x="0" y="465"/>
                    </a:moveTo>
                    <a:lnTo>
                      <a:pt x="1593" y="114"/>
                    </a:lnTo>
                    <a:lnTo>
                      <a:pt x="1566" y="0"/>
                    </a:lnTo>
                    <a:lnTo>
                      <a:pt x="0" y="4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895160" y="2785680"/>
                <a:ext cx="167400" cy="75240"/>
              </a:xfrm>
              <a:custGeom>
                <a:avLst/>
                <a:gdLst/>
                <a:ahLst/>
                <a:rect l="l" t="t" r="r" b="b"/>
                <a:pathLst>
                  <a:path w="1358" h="622">
                    <a:moveTo>
                      <a:pt x="62" y="622"/>
                    </a:moveTo>
                    <a:lnTo>
                      <a:pt x="0" y="469"/>
                    </a:lnTo>
                    <a:lnTo>
                      <a:pt x="123" y="234"/>
                    </a:lnTo>
                    <a:lnTo>
                      <a:pt x="1358" y="0"/>
                    </a:lnTo>
                    <a:lnTo>
                      <a:pt x="1358" y="117"/>
                    </a:lnTo>
                    <a:lnTo>
                      <a:pt x="214" y="350"/>
                    </a:lnTo>
                    <a:lnTo>
                      <a:pt x="90" y="429"/>
                    </a:lnTo>
                    <a:lnTo>
                      <a:pt x="123" y="583"/>
                    </a:lnTo>
                    <a:lnTo>
                      <a:pt x="62" y="6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939440" y="2602080"/>
                <a:ext cx="163440" cy="70200"/>
              </a:xfrm>
              <a:custGeom>
                <a:avLst/>
                <a:gdLst/>
                <a:ahLst/>
                <a:rect l="l" t="t" r="r" b="b"/>
                <a:pathLst>
                  <a:path w="1327" h="584">
                    <a:moveTo>
                      <a:pt x="0" y="542"/>
                    </a:moveTo>
                    <a:lnTo>
                      <a:pt x="0" y="390"/>
                    </a:lnTo>
                    <a:lnTo>
                      <a:pt x="31" y="275"/>
                    </a:lnTo>
                    <a:lnTo>
                      <a:pt x="90" y="77"/>
                    </a:lnTo>
                    <a:lnTo>
                      <a:pt x="154" y="0"/>
                    </a:lnTo>
                    <a:lnTo>
                      <a:pt x="1327" y="194"/>
                    </a:lnTo>
                    <a:lnTo>
                      <a:pt x="1265" y="233"/>
                    </a:lnTo>
                    <a:lnTo>
                      <a:pt x="211" y="116"/>
                    </a:lnTo>
                    <a:lnTo>
                      <a:pt x="154" y="194"/>
                    </a:lnTo>
                    <a:lnTo>
                      <a:pt x="1147" y="351"/>
                    </a:lnTo>
                    <a:lnTo>
                      <a:pt x="154" y="275"/>
                    </a:lnTo>
                    <a:lnTo>
                      <a:pt x="62" y="390"/>
                    </a:lnTo>
                    <a:lnTo>
                      <a:pt x="1027" y="468"/>
                    </a:lnTo>
                    <a:lnTo>
                      <a:pt x="62" y="468"/>
                    </a:lnTo>
                    <a:lnTo>
                      <a:pt x="90" y="584"/>
                    </a:lnTo>
                    <a:lnTo>
                      <a:pt x="0" y="5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8160" y="2546280"/>
                <a:ext cx="166320" cy="51840"/>
              </a:xfrm>
              <a:custGeom>
                <a:avLst/>
                <a:gdLst/>
                <a:ahLst/>
                <a:rect l="l" t="t" r="r" b="b"/>
                <a:pathLst>
                  <a:path w="1351" h="426">
                    <a:moveTo>
                      <a:pt x="85" y="0"/>
                    </a:moveTo>
                    <a:lnTo>
                      <a:pt x="1351" y="426"/>
                    </a:lnTo>
                    <a:lnTo>
                      <a:pt x="0" y="116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968960" y="2499840"/>
                <a:ext cx="160560" cy="74160"/>
              </a:xfrm>
              <a:custGeom>
                <a:avLst/>
                <a:gdLst/>
                <a:ahLst/>
                <a:rect l="l" t="t" r="r" b="b"/>
                <a:pathLst>
                  <a:path w="1300" h="620">
                    <a:moveTo>
                      <a:pt x="0" y="196"/>
                    </a:moveTo>
                    <a:lnTo>
                      <a:pt x="1300" y="620"/>
                    </a:lnTo>
                    <a:lnTo>
                      <a:pt x="1300" y="505"/>
                    </a:lnTo>
                    <a:lnTo>
                      <a:pt x="62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80840" y="2447640"/>
                <a:ext cx="170280" cy="88560"/>
              </a:xfrm>
              <a:custGeom>
                <a:avLst/>
                <a:gdLst/>
                <a:ahLst/>
                <a:rect l="l" t="t" r="r" b="b"/>
                <a:pathLst>
                  <a:path w="1389" h="740">
                    <a:moveTo>
                      <a:pt x="31" y="117"/>
                    </a:moveTo>
                    <a:lnTo>
                      <a:pt x="1389" y="740"/>
                    </a:lnTo>
                    <a:lnTo>
                      <a:pt x="0" y="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84800" y="2400480"/>
                <a:ext cx="166320" cy="89640"/>
              </a:xfrm>
              <a:custGeom>
                <a:avLst/>
                <a:gdLst/>
                <a:ahLst/>
                <a:rect l="l" t="t" r="r" b="b"/>
                <a:pathLst>
                  <a:path w="1358" h="736">
                    <a:moveTo>
                      <a:pt x="1358" y="736"/>
                    </a:moveTo>
                    <a:lnTo>
                      <a:pt x="59" y="0"/>
                    </a:lnTo>
                    <a:lnTo>
                      <a:pt x="0" y="114"/>
                    </a:lnTo>
                    <a:lnTo>
                      <a:pt x="1358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995600" y="2359080"/>
                <a:ext cx="163440" cy="93600"/>
              </a:xfrm>
              <a:custGeom>
                <a:avLst/>
                <a:gdLst/>
                <a:ahLst/>
                <a:rect l="l" t="t" r="r" b="b"/>
                <a:pathLst>
                  <a:path w="1325" h="775">
                    <a:moveTo>
                      <a:pt x="1325" y="775"/>
                    </a:moveTo>
                    <a:lnTo>
                      <a:pt x="59" y="0"/>
                    </a:lnTo>
                    <a:lnTo>
                      <a:pt x="0" y="77"/>
                    </a:lnTo>
                    <a:lnTo>
                      <a:pt x="1325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098200" y="2795040"/>
                <a:ext cx="112320" cy="48960"/>
              </a:xfrm>
              <a:custGeom>
                <a:avLst/>
                <a:gdLst/>
                <a:ahLst/>
                <a:rect l="l" t="t" r="r" b="b"/>
                <a:pathLst>
                  <a:path w="910" h="412">
                    <a:moveTo>
                      <a:pt x="129" y="164"/>
                    </a:moveTo>
                    <a:lnTo>
                      <a:pt x="364" y="164"/>
                    </a:lnTo>
                    <a:lnTo>
                      <a:pt x="646" y="246"/>
                    </a:lnTo>
                    <a:lnTo>
                      <a:pt x="910" y="412"/>
                    </a:lnTo>
                    <a:lnTo>
                      <a:pt x="708" y="184"/>
                    </a:lnTo>
                    <a:lnTo>
                      <a:pt x="558" y="103"/>
                    </a:lnTo>
                    <a:lnTo>
                      <a:pt x="429" y="113"/>
                    </a:lnTo>
                    <a:lnTo>
                      <a:pt x="263" y="62"/>
                    </a:lnTo>
                    <a:lnTo>
                      <a:pt x="150" y="76"/>
                    </a:lnTo>
                    <a:lnTo>
                      <a:pt x="116" y="140"/>
                    </a:lnTo>
                    <a:lnTo>
                      <a:pt x="94" y="0"/>
                    </a:lnTo>
                    <a:lnTo>
                      <a:pt x="0" y="246"/>
                    </a:lnTo>
                    <a:lnTo>
                      <a:pt x="120" y="263"/>
                    </a:lnTo>
                    <a:lnTo>
                      <a:pt x="129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07920" y="2826720"/>
                <a:ext cx="103320" cy="23760"/>
              </a:xfrm>
              <a:custGeom>
                <a:avLst/>
                <a:gdLst/>
                <a:ahLst/>
                <a:rect l="l" t="t" r="r" b="b"/>
                <a:pathLst>
                  <a:path w="844" h="195">
                    <a:moveTo>
                      <a:pt x="46" y="0"/>
                    </a:moveTo>
                    <a:lnTo>
                      <a:pt x="260" y="81"/>
                    </a:lnTo>
                    <a:lnTo>
                      <a:pt x="686" y="124"/>
                    </a:lnTo>
                    <a:lnTo>
                      <a:pt x="666" y="70"/>
                    </a:lnTo>
                    <a:lnTo>
                      <a:pt x="844" y="142"/>
                    </a:lnTo>
                    <a:lnTo>
                      <a:pt x="680" y="175"/>
                    </a:lnTo>
                    <a:lnTo>
                      <a:pt x="463" y="195"/>
                    </a:lnTo>
                    <a:lnTo>
                      <a:pt x="212" y="184"/>
                    </a:lnTo>
                    <a:lnTo>
                      <a:pt x="82" y="142"/>
                    </a:lnTo>
                    <a:lnTo>
                      <a:pt x="95" y="114"/>
                    </a:lnTo>
                    <a:lnTo>
                      <a:pt x="238" y="158"/>
                    </a:lnTo>
                    <a:lnTo>
                      <a:pt x="267" y="108"/>
                    </a:lnTo>
                    <a:lnTo>
                      <a:pt x="131" y="55"/>
                    </a:lnTo>
                    <a:lnTo>
                      <a:pt x="60" y="70"/>
                    </a:lnTo>
                    <a:lnTo>
                      <a:pt x="60" y="99"/>
                    </a:lnTo>
                    <a:lnTo>
                      <a:pt x="42" y="99"/>
                    </a:lnTo>
                    <a:lnTo>
                      <a:pt x="0" y="2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207640" y="2797920"/>
                <a:ext cx="10440" cy="59400"/>
              </a:xfrm>
              <a:custGeom>
                <a:avLst/>
                <a:gdLst/>
                <a:ahLst/>
                <a:rect l="l" t="t" r="r" b="b"/>
                <a:pathLst>
                  <a:path w="88" h="499">
                    <a:moveTo>
                      <a:pt x="20" y="138"/>
                    </a:moveTo>
                    <a:lnTo>
                      <a:pt x="39" y="499"/>
                    </a:lnTo>
                    <a:lnTo>
                      <a:pt x="88" y="368"/>
                    </a:lnTo>
                    <a:lnTo>
                      <a:pt x="0" y="0"/>
                    </a:lnTo>
                    <a:lnTo>
                      <a:pt x="2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944480" y="2209680"/>
                <a:ext cx="475200" cy="290160"/>
              </a:xfrm>
              <a:custGeom>
                <a:avLst/>
                <a:gdLst/>
                <a:ahLst/>
                <a:rect l="l" t="t" r="r" b="b"/>
                <a:pathLst>
                  <a:path w="3858" h="2410">
                    <a:moveTo>
                      <a:pt x="150" y="776"/>
                    </a:moveTo>
                    <a:lnTo>
                      <a:pt x="60" y="502"/>
                    </a:lnTo>
                    <a:lnTo>
                      <a:pt x="0" y="311"/>
                    </a:lnTo>
                    <a:lnTo>
                      <a:pt x="30" y="76"/>
                    </a:lnTo>
                    <a:lnTo>
                      <a:pt x="570" y="115"/>
                    </a:lnTo>
                    <a:lnTo>
                      <a:pt x="1052" y="115"/>
                    </a:lnTo>
                    <a:lnTo>
                      <a:pt x="1326" y="37"/>
                    </a:lnTo>
                    <a:lnTo>
                      <a:pt x="1566" y="0"/>
                    </a:lnTo>
                    <a:lnTo>
                      <a:pt x="1597" y="311"/>
                    </a:lnTo>
                    <a:lnTo>
                      <a:pt x="1685" y="659"/>
                    </a:lnTo>
                    <a:lnTo>
                      <a:pt x="1900" y="1050"/>
                    </a:lnTo>
                    <a:lnTo>
                      <a:pt x="1988" y="1125"/>
                    </a:lnTo>
                    <a:lnTo>
                      <a:pt x="1988" y="853"/>
                    </a:lnTo>
                    <a:lnTo>
                      <a:pt x="2047" y="699"/>
                    </a:lnTo>
                    <a:lnTo>
                      <a:pt x="2469" y="737"/>
                    </a:lnTo>
                    <a:lnTo>
                      <a:pt x="2953" y="620"/>
                    </a:lnTo>
                    <a:lnTo>
                      <a:pt x="3343" y="502"/>
                    </a:lnTo>
                    <a:lnTo>
                      <a:pt x="3493" y="464"/>
                    </a:lnTo>
                    <a:lnTo>
                      <a:pt x="3285" y="853"/>
                    </a:lnTo>
                    <a:lnTo>
                      <a:pt x="3225" y="1283"/>
                    </a:lnTo>
                    <a:lnTo>
                      <a:pt x="3285" y="1672"/>
                    </a:lnTo>
                    <a:lnTo>
                      <a:pt x="3405" y="1981"/>
                    </a:lnTo>
                    <a:lnTo>
                      <a:pt x="3527" y="2138"/>
                    </a:lnTo>
                    <a:lnTo>
                      <a:pt x="3858" y="2214"/>
                    </a:lnTo>
                    <a:lnTo>
                      <a:pt x="3615" y="2331"/>
                    </a:lnTo>
                    <a:lnTo>
                      <a:pt x="3285" y="2410"/>
                    </a:lnTo>
                    <a:lnTo>
                      <a:pt x="2983" y="2331"/>
                    </a:lnTo>
                    <a:lnTo>
                      <a:pt x="2592" y="2214"/>
                    </a:lnTo>
                    <a:lnTo>
                      <a:pt x="2260" y="2021"/>
                    </a:lnTo>
                    <a:lnTo>
                      <a:pt x="2047" y="1905"/>
                    </a:lnTo>
                    <a:lnTo>
                      <a:pt x="2017" y="1786"/>
                    </a:lnTo>
                    <a:lnTo>
                      <a:pt x="2317" y="1981"/>
                    </a:lnTo>
                    <a:lnTo>
                      <a:pt x="2834" y="2253"/>
                    </a:lnTo>
                    <a:lnTo>
                      <a:pt x="3285" y="2331"/>
                    </a:lnTo>
                    <a:lnTo>
                      <a:pt x="3493" y="2293"/>
                    </a:lnTo>
                    <a:lnTo>
                      <a:pt x="3343" y="2098"/>
                    </a:lnTo>
                    <a:lnTo>
                      <a:pt x="3166" y="1672"/>
                    </a:lnTo>
                    <a:lnTo>
                      <a:pt x="3133" y="1320"/>
                    </a:lnTo>
                    <a:lnTo>
                      <a:pt x="3195" y="1009"/>
                    </a:lnTo>
                    <a:lnTo>
                      <a:pt x="3343" y="583"/>
                    </a:lnTo>
                    <a:lnTo>
                      <a:pt x="2983" y="699"/>
                    </a:lnTo>
                    <a:lnTo>
                      <a:pt x="2410" y="776"/>
                    </a:lnTo>
                    <a:lnTo>
                      <a:pt x="2078" y="776"/>
                    </a:lnTo>
                    <a:lnTo>
                      <a:pt x="2017" y="1166"/>
                    </a:lnTo>
                    <a:lnTo>
                      <a:pt x="2291" y="1397"/>
                    </a:lnTo>
                    <a:lnTo>
                      <a:pt x="2559" y="1514"/>
                    </a:lnTo>
                    <a:lnTo>
                      <a:pt x="2739" y="1553"/>
                    </a:lnTo>
                    <a:lnTo>
                      <a:pt x="2441" y="1672"/>
                    </a:lnTo>
                    <a:lnTo>
                      <a:pt x="2017" y="1709"/>
                    </a:lnTo>
                    <a:lnTo>
                      <a:pt x="2469" y="1592"/>
                    </a:lnTo>
                    <a:lnTo>
                      <a:pt x="2230" y="1435"/>
                    </a:lnTo>
                    <a:lnTo>
                      <a:pt x="1960" y="1204"/>
                    </a:lnTo>
                    <a:lnTo>
                      <a:pt x="1808" y="931"/>
                    </a:lnTo>
                    <a:lnTo>
                      <a:pt x="1628" y="659"/>
                    </a:lnTo>
                    <a:lnTo>
                      <a:pt x="1538" y="311"/>
                    </a:lnTo>
                    <a:lnTo>
                      <a:pt x="1476" y="37"/>
                    </a:lnTo>
                    <a:lnTo>
                      <a:pt x="1204" y="115"/>
                    </a:lnTo>
                    <a:lnTo>
                      <a:pt x="810" y="191"/>
                    </a:lnTo>
                    <a:lnTo>
                      <a:pt x="422" y="152"/>
                    </a:lnTo>
                    <a:lnTo>
                      <a:pt x="118" y="152"/>
                    </a:lnTo>
                    <a:lnTo>
                      <a:pt x="60" y="269"/>
                    </a:lnTo>
                    <a:lnTo>
                      <a:pt x="90" y="350"/>
                    </a:lnTo>
                    <a:lnTo>
                      <a:pt x="150" y="7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441280" y="2518920"/>
                <a:ext cx="245160" cy="182160"/>
              </a:xfrm>
              <a:custGeom>
                <a:avLst/>
                <a:gdLst/>
                <a:ahLst/>
                <a:rect l="l" t="t" r="r" b="b"/>
                <a:pathLst>
                  <a:path w="1991" h="1517">
                    <a:moveTo>
                      <a:pt x="0" y="816"/>
                    </a:moveTo>
                    <a:lnTo>
                      <a:pt x="393" y="623"/>
                    </a:lnTo>
                    <a:lnTo>
                      <a:pt x="664" y="427"/>
                    </a:lnTo>
                    <a:lnTo>
                      <a:pt x="787" y="233"/>
                    </a:lnTo>
                    <a:lnTo>
                      <a:pt x="844" y="81"/>
                    </a:lnTo>
                    <a:lnTo>
                      <a:pt x="875" y="0"/>
                    </a:lnTo>
                    <a:lnTo>
                      <a:pt x="1207" y="274"/>
                    </a:lnTo>
                    <a:lnTo>
                      <a:pt x="1569" y="390"/>
                    </a:lnTo>
                    <a:lnTo>
                      <a:pt x="1811" y="427"/>
                    </a:lnTo>
                    <a:lnTo>
                      <a:pt x="1991" y="427"/>
                    </a:lnTo>
                    <a:lnTo>
                      <a:pt x="1721" y="740"/>
                    </a:lnTo>
                    <a:lnTo>
                      <a:pt x="1419" y="1051"/>
                    </a:lnTo>
                    <a:lnTo>
                      <a:pt x="1117" y="1284"/>
                    </a:lnTo>
                    <a:lnTo>
                      <a:pt x="875" y="1438"/>
                    </a:lnTo>
                    <a:lnTo>
                      <a:pt x="725" y="1517"/>
                    </a:lnTo>
                    <a:lnTo>
                      <a:pt x="515" y="1401"/>
                    </a:lnTo>
                    <a:lnTo>
                      <a:pt x="332" y="1207"/>
                    </a:lnTo>
                    <a:lnTo>
                      <a:pt x="183" y="1012"/>
                    </a:lnTo>
                    <a:lnTo>
                      <a:pt x="123" y="896"/>
                    </a:lnTo>
                    <a:lnTo>
                      <a:pt x="483" y="1207"/>
                    </a:lnTo>
                    <a:lnTo>
                      <a:pt x="697" y="1361"/>
                    </a:lnTo>
                    <a:lnTo>
                      <a:pt x="787" y="1401"/>
                    </a:lnTo>
                    <a:lnTo>
                      <a:pt x="1027" y="1244"/>
                    </a:lnTo>
                    <a:lnTo>
                      <a:pt x="1419" y="972"/>
                    </a:lnTo>
                    <a:lnTo>
                      <a:pt x="1838" y="507"/>
                    </a:lnTo>
                    <a:lnTo>
                      <a:pt x="1538" y="427"/>
                    </a:lnTo>
                    <a:lnTo>
                      <a:pt x="1117" y="274"/>
                    </a:lnTo>
                    <a:lnTo>
                      <a:pt x="905" y="81"/>
                    </a:lnTo>
                    <a:lnTo>
                      <a:pt x="757" y="427"/>
                    </a:lnTo>
                    <a:lnTo>
                      <a:pt x="483" y="623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064720" y="269964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99" h="441">
                    <a:moveTo>
                      <a:pt x="70" y="9"/>
                    </a:moveTo>
                    <a:lnTo>
                      <a:pt x="105" y="165"/>
                    </a:lnTo>
                    <a:lnTo>
                      <a:pt x="171" y="286"/>
                    </a:lnTo>
                    <a:lnTo>
                      <a:pt x="199" y="319"/>
                    </a:lnTo>
                    <a:lnTo>
                      <a:pt x="120" y="441"/>
                    </a:lnTo>
                    <a:lnTo>
                      <a:pt x="35" y="263"/>
                    </a:lnTo>
                    <a:lnTo>
                      <a:pt x="0" y="88"/>
                    </a:lnTo>
                    <a:lnTo>
                      <a:pt x="0" y="0"/>
                    </a:lnTo>
                    <a:lnTo>
                      <a:pt x="7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"/>
          <p:cNvGrpSpPr/>
          <p:nvPr/>
        </p:nvGrpSpPr>
        <p:grpSpPr>
          <a:xfrm>
            <a:off x="5562720" y="2133720"/>
            <a:ext cx="2286000" cy="2028240"/>
            <a:chOff x="5562720" y="2133720"/>
            <a:chExt cx="2286000" cy="2028240"/>
          </a:xfrm>
        </p:grpSpPr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5562720" y="2133720"/>
              <a:ext cx="2286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781680" y="2666880"/>
              <a:ext cx="457200" cy="533520"/>
            </a:xfrm>
            <a:prstGeom prst="left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18600" y="358128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erifika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666880" y="2133720"/>
            <a:ext cx="2743200" cy="2028240"/>
            <a:chOff x="2666880" y="2133720"/>
            <a:chExt cx="2743200" cy="2028240"/>
          </a:xfrm>
        </p:grpSpPr>
        <p:pic>
          <p:nvPicPr>
            <p:cNvPr id="601" name="" descr=""/>
            <p:cNvPicPr/>
            <p:nvPr/>
          </p:nvPicPr>
          <p:blipFill>
            <a:blip r:embed="rId2"/>
            <a:stretch/>
          </p:blipFill>
          <p:spPr>
            <a:xfrm>
              <a:off x="2666880" y="2133720"/>
              <a:ext cx="228600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952880" y="2666880"/>
              <a:ext cx="457200" cy="533520"/>
            </a:xfrm>
            <a:prstGeom prst="left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73600" y="3581280"/>
              <a:ext cx="156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ngelompok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09480" y="1905120"/>
            <a:ext cx="1981080" cy="2180880"/>
            <a:chOff x="609480" y="1905120"/>
            <a:chExt cx="1981080" cy="2180880"/>
          </a:xfrm>
        </p:grpSpPr>
        <p:grpSp>
          <p:nvGrpSpPr>
            <p:cNvPr id="605" name=""/>
            <p:cNvGrpSpPr/>
            <p:nvPr/>
          </p:nvGrpSpPr>
          <p:grpSpPr>
            <a:xfrm>
              <a:off x="609480" y="2590920"/>
              <a:ext cx="1143000" cy="609480"/>
              <a:chOff x="609480" y="2590920"/>
              <a:chExt cx="1143000" cy="609480"/>
            </a:xfrm>
          </p:grpSpPr>
          <p:sp>
            <p:nvSpPr>
              <p:cNvPr id="606" name=""/>
              <p:cNvSpPr/>
              <p:nvPr/>
            </p:nvSpPr>
            <p:spPr>
              <a:xfrm>
                <a:off x="609480" y="2590920"/>
                <a:ext cx="11430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7" name=""/>
              <p:cNvGraphicFramePr/>
              <p:nvPr/>
            </p:nvGraphicFramePr>
            <p:xfrm>
              <a:off x="656280" y="2654640"/>
              <a:ext cx="1040400" cy="4748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60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56280" y="2654640"/>
                        <a:ext cx="1040400" cy="4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09" name=""/>
            <p:cNvGrpSpPr/>
            <p:nvPr/>
          </p:nvGrpSpPr>
          <p:grpSpPr>
            <a:xfrm>
              <a:off x="609480" y="1905120"/>
              <a:ext cx="1143000" cy="609480"/>
              <a:chOff x="609480" y="1905120"/>
              <a:chExt cx="1143000" cy="609480"/>
            </a:xfrm>
          </p:grpSpPr>
          <p:sp>
            <p:nvSpPr>
              <p:cNvPr id="610" name=""/>
              <p:cNvSpPr/>
              <p:nvPr/>
            </p:nvSpPr>
            <p:spPr>
              <a:xfrm>
                <a:off x="609480" y="1905120"/>
                <a:ext cx="11430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656280" y="1968840"/>
              <a:ext cx="1040400" cy="47484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56280" y="1968840"/>
                        <a:ext cx="1040400" cy="4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13" name=""/>
            <p:cNvGrpSpPr/>
            <p:nvPr/>
          </p:nvGrpSpPr>
          <p:grpSpPr>
            <a:xfrm>
              <a:off x="609480" y="3276720"/>
              <a:ext cx="1143000" cy="609480"/>
              <a:chOff x="609480" y="3276720"/>
              <a:chExt cx="1143000" cy="609480"/>
            </a:xfrm>
          </p:grpSpPr>
          <p:sp>
            <p:nvSpPr>
              <p:cNvPr id="614" name=""/>
              <p:cNvSpPr/>
              <p:nvPr/>
            </p:nvSpPr>
            <p:spPr>
              <a:xfrm>
                <a:off x="609480" y="3276720"/>
                <a:ext cx="11430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5" name=""/>
              <p:cNvGraphicFramePr/>
              <p:nvPr/>
            </p:nvGraphicFramePr>
            <p:xfrm>
              <a:off x="656280" y="3340440"/>
              <a:ext cx="1040400" cy="47484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61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56280" y="3340440"/>
                        <a:ext cx="1040400" cy="4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17" name=""/>
            <p:cNvSpPr/>
            <p:nvPr/>
          </p:nvSpPr>
          <p:spPr>
            <a:xfrm flipH="1" flipV="1">
              <a:off x="1828440" y="2210040"/>
              <a:ext cx="7621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1904760" y="2895480"/>
              <a:ext cx="685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904760" y="2971800"/>
              <a:ext cx="6858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9320" y="3505320"/>
              <a:ext cx="73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bel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2666880" y="4267080"/>
            <a:ext cx="1828800" cy="2257200"/>
            <a:chOff x="2666880" y="4267080"/>
            <a:chExt cx="1828800" cy="2257200"/>
          </a:xfrm>
        </p:grpSpPr>
        <p:pic>
          <p:nvPicPr>
            <p:cNvPr id="622" name="" descr=""/>
            <p:cNvPicPr/>
            <p:nvPr/>
          </p:nvPicPr>
          <p:blipFill>
            <a:blip r:embed="rId9"/>
            <a:stretch/>
          </p:blipFill>
          <p:spPr>
            <a:xfrm>
              <a:off x="2666880" y="46483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 flipH="1" rot="5400000">
              <a:off x="3313800" y="4228920"/>
              <a:ext cx="457200" cy="533160"/>
            </a:xfrm>
            <a:prstGeom prst="left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86120" y="5943600"/>
              <a:ext cx="160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ek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Konsisten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antar t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495680" y="4560840"/>
            <a:ext cx="3267000" cy="2146320"/>
            <a:chOff x="4495680" y="4560840"/>
            <a:chExt cx="3267000" cy="2146320"/>
          </a:xfrm>
        </p:grpSpPr>
        <p:sp>
          <p:nvSpPr>
            <p:cNvPr id="626" name=""/>
            <p:cNvSpPr/>
            <p:nvPr/>
          </p:nvSpPr>
          <p:spPr>
            <a:xfrm flipH="1">
              <a:off x="4495680" y="4952880"/>
              <a:ext cx="457200" cy="533520"/>
            </a:xfrm>
            <a:prstGeom prst="left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45320" y="5943600"/>
              <a:ext cx="2817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nalisa Masing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T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n-US" sz="1400" spc="-1" strike="noStrike">
                  <a:solidFill>
                    <a:srgbClr val="cc0000"/>
                  </a:solidFill>
                  <a:latin typeface="Times New Roman"/>
                </a:rPr>
                <a:t>Performa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: lihat </a:t>
              </a:r>
              <a:r>
                <a:rPr b="1" i="1" lang="en-US" sz="1400" spc="-1" strike="noStrike">
                  <a:solidFill>
                    <a:srgbClr val="cc0000"/>
                  </a:solidFill>
                  <a:latin typeface="Times New Roman"/>
                </a:rPr>
                <a:t>tr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n-US" sz="1400" spc="-1" strike="noStrike">
                  <a:solidFill>
                    <a:srgbClr val="cc0000"/>
                  </a:solidFill>
                  <a:latin typeface="Times New Roman"/>
                </a:rPr>
                <a:t>Profile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: bandingkan dng stand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10"/>
            <a:stretch/>
          </p:blipFill>
          <p:spPr>
            <a:xfrm>
              <a:off x="5105520" y="4560840"/>
              <a:ext cx="1904760" cy="13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7162920" y="4343400"/>
            <a:ext cx="1752480" cy="2311560"/>
            <a:chOff x="7162920" y="4343400"/>
            <a:chExt cx="1752480" cy="2311560"/>
          </a:xfrm>
        </p:grpSpPr>
        <p:grpSp>
          <p:nvGrpSpPr>
            <p:cNvPr id="630" name=""/>
            <p:cNvGrpSpPr/>
            <p:nvPr/>
          </p:nvGrpSpPr>
          <p:grpSpPr>
            <a:xfrm>
              <a:off x="7848720" y="5562720"/>
              <a:ext cx="1066680" cy="1092240"/>
              <a:chOff x="7848720" y="5562720"/>
              <a:chExt cx="1066680" cy="1092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848720" y="5562720"/>
                <a:ext cx="1066680" cy="609480"/>
                <a:chOff x="7848720" y="5562720"/>
                <a:chExt cx="1066680" cy="60948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7848720" y="5562720"/>
                  <a:ext cx="106668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633" name=""/>
                <p:cNvGraphicFramePr/>
                <p:nvPr/>
              </p:nvGraphicFramePr>
              <p:xfrm>
                <a:off x="7892640" y="5626440"/>
                <a:ext cx="970920" cy="474840"/>
              </p:xfrm>
              <a:graphic>
                <a:graphicData uri="http://schemas.openxmlformats.org/presentationml/2006/ole">
                  <p:oleObj progId="Excel.Sheet.12" r:id="rId11" spid="">
                    <p:embed/>
                    <p:pic>
                      <p:nvPicPr>
                        <p:cNvPr id="634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7892640" y="5626440"/>
                          <a:ext cx="970920" cy="474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635" name=""/>
              <p:cNvSpPr/>
              <p:nvPr/>
            </p:nvSpPr>
            <p:spPr>
              <a:xfrm>
                <a:off x="7983720" y="6195960"/>
                <a:ext cx="79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esimpulan :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……………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……………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7848720" y="4343400"/>
              <a:ext cx="1019160" cy="1092600"/>
              <a:chOff x="7848720" y="4343400"/>
              <a:chExt cx="1019160" cy="109260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7848720" y="4343400"/>
                <a:ext cx="1019160" cy="590760"/>
                <a:chOff x="7848720" y="4343400"/>
                <a:chExt cx="1019160" cy="5907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7848720" y="4343400"/>
                  <a:ext cx="1019160" cy="590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9" name=""/>
                <p:cNvGrpSpPr/>
                <p:nvPr/>
              </p:nvGrpSpPr>
              <p:grpSpPr>
                <a:xfrm>
                  <a:off x="7911000" y="4404960"/>
                  <a:ext cx="846000" cy="453240"/>
                  <a:chOff x="7911000" y="4404960"/>
                  <a:chExt cx="846000" cy="45324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7911000" y="4851360"/>
                    <a:ext cx="846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2" h="3">
                        <a:moveTo>
                          <a:pt x="0" y="3"/>
                        </a:moveTo>
                        <a:lnTo>
                          <a:pt x="73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911000" y="4727880"/>
                    <a:ext cx="84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7911000" y="4473720"/>
                    <a:ext cx="84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7911000" y="4639320"/>
                    <a:ext cx="8366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26" h="426">
                        <a:moveTo>
                          <a:pt x="0" y="426"/>
                        </a:moveTo>
                        <a:cubicBezTo>
                          <a:pt x="281" y="373"/>
                          <a:pt x="1065" y="175"/>
                          <a:pt x="1686" y="108"/>
                        </a:cubicBezTo>
                        <a:cubicBezTo>
                          <a:pt x="2430" y="0"/>
                          <a:pt x="3301" y="42"/>
                          <a:pt x="3726" y="2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7911000" y="4550040"/>
                    <a:ext cx="82836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0" h="902">
                        <a:moveTo>
                          <a:pt x="0" y="902"/>
                        </a:moveTo>
                        <a:cubicBezTo>
                          <a:pt x="309" y="777"/>
                          <a:pt x="1239" y="300"/>
                          <a:pt x="1854" y="152"/>
                        </a:cubicBezTo>
                        <a:cubicBezTo>
                          <a:pt x="2470" y="0"/>
                          <a:pt x="3308" y="43"/>
                          <a:pt x="3690" y="1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7911000" y="4459680"/>
                    <a:ext cx="831960" cy="2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8" h="1379">
                        <a:moveTo>
                          <a:pt x="0" y="1379"/>
                        </a:moveTo>
                        <a:cubicBezTo>
                          <a:pt x="121" y="1310"/>
                          <a:pt x="408" y="1199"/>
                          <a:pt x="726" y="965"/>
                        </a:cubicBezTo>
                        <a:cubicBezTo>
                          <a:pt x="1044" y="731"/>
                          <a:pt x="1643" y="298"/>
                          <a:pt x="2118" y="149"/>
                        </a:cubicBezTo>
                        <a:cubicBezTo>
                          <a:pt x="2593" y="0"/>
                          <a:pt x="3377" y="34"/>
                          <a:pt x="3708" y="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7911000" y="4404960"/>
                    <a:ext cx="720" cy="45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400">
                        <a:moveTo>
                          <a:pt x="0" y="0"/>
                        </a:moveTo>
                        <a:lnTo>
                          <a:pt x="3" y="240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7923600" y="4977000"/>
                <a:ext cx="79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esimpulan :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……………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……………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 flipV="1">
              <a:off x="7162920" y="47242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62920" y="5257800"/>
              <a:ext cx="5331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228600" y="4495680"/>
            <a:ext cx="2438280" cy="1828800"/>
            <a:chOff x="228600" y="4495680"/>
            <a:chExt cx="2438280" cy="1828800"/>
          </a:xfrm>
        </p:grpSpPr>
        <p:sp>
          <p:nvSpPr>
            <p:cNvPr id="651" name=""/>
            <p:cNvSpPr/>
            <p:nvPr/>
          </p:nvSpPr>
          <p:spPr>
            <a:xfrm>
              <a:off x="228600" y="4495680"/>
              <a:ext cx="2133720" cy="18288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84040" y="4633920"/>
              <a:ext cx="2027880" cy="15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tal Lulusan pada 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Tabel 2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sinya sama deng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tal Lulusan pada 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Tabel 4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sinya sama deng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tal Lulusan pada 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Tabel 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62320" y="5105520"/>
              <a:ext cx="304560" cy="685800"/>
            </a:xfrm>
            <a:prstGeom prst="leftArrow">
              <a:avLst>
                <a:gd name="adj1" fmla="val 38889"/>
                <a:gd name="adj2" fmla="val 5781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600200" y="271080"/>
            <a:ext cx="723888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ngelompok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Staf Akademik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Bk BT"/>
              </a:rPr>
              <a:t>Status Kepegawa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f Tetap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 yg dipekerjakan sebagai pegawai tetap dan mendapatkan gaji tetap/bulanan dari institu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f Tidak Tetap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 yg dipekerjakan hanya apabila ada kebutuhan dan mendapatkan honor yg besarannya bergantung pada tugas yg diberik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Bk BT"/>
              </a:rPr>
              <a:t>Waktu yang di alokasi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f Penuh Waktu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ull ti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 yg memberikan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luruh waktu kerjany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da Jurusan/Departemen ts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f Paruh Waktu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art tim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 yg memberikan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bagian waktu kerjany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da Jurusan/Departemen tsb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oh : Rektor, Ketua Lembaga, Ketua UPT, d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6" name=""/>
          <p:cNvGraphicFramePr/>
          <p:nvPr/>
        </p:nvGraphicFramePr>
        <p:xfrm>
          <a:off x="3446640" y="917640"/>
          <a:ext cx="5545080" cy="47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6640" y="917640"/>
                    <a:ext cx="55450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8" name=""/>
          <p:cNvGrpSpPr/>
          <p:nvPr/>
        </p:nvGrpSpPr>
        <p:grpSpPr>
          <a:xfrm>
            <a:off x="190440" y="1924200"/>
            <a:ext cx="4221000" cy="3867840"/>
            <a:chOff x="190440" y="1924200"/>
            <a:chExt cx="4221000" cy="3867840"/>
          </a:xfrm>
        </p:grpSpPr>
        <p:grpSp>
          <p:nvGrpSpPr>
            <p:cNvPr id="659" name=""/>
            <p:cNvGrpSpPr/>
            <p:nvPr/>
          </p:nvGrpSpPr>
          <p:grpSpPr>
            <a:xfrm>
              <a:off x="495000" y="2228760"/>
              <a:ext cx="3916440" cy="3563280"/>
              <a:chOff x="495000" y="2228760"/>
              <a:chExt cx="3916440" cy="3563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95000" y="2228760"/>
                <a:ext cx="2724120" cy="345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61" name=""/>
              <p:cNvGraphicFramePr/>
              <p:nvPr/>
            </p:nvGraphicFramePr>
            <p:xfrm>
              <a:off x="496440" y="2234880"/>
              <a:ext cx="3915000" cy="355716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6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6440" y="2234880"/>
                        <a:ext cx="3915000" cy="355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63" name=""/>
            <p:cNvGrpSpPr/>
            <p:nvPr/>
          </p:nvGrpSpPr>
          <p:grpSpPr>
            <a:xfrm>
              <a:off x="342720" y="2076120"/>
              <a:ext cx="3916440" cy="3563280"/>
              <a:chOff x="342720" y="2076120"/>
              <a:chExt cx="3916440" cy="3563280"/>
            </a:xfrm>
          </p:grpSpPr>
          <p:sp>
            <p:nvSpPr>
              <p:cNvPr id="664" name=""/>
              <p:cNvSpPr/>
              <p:nvPr/>
            </p:nvSpPr>
            <p:spPr>
              <a:xfrm>
                <a:off x="342720" y="2076120"/>
                <a:ext cx="2724120" cy="345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65" name=""/>
              <p:cNvGraphicFramePr/>
              <p:nvPr/>
            </p:nvGraphicFramePr>
            <p:xfrm>
              <a:off x="344160" y="2082240"/>
              <a:ext cx="3915000" cy="3557160"/>
            </p:xfrm>
            <a:graphic>
              <a:graphicData uri="http://schemas.openxmlformats.org/presentationml/2006/ole">
                <p:oleObj progId="Word.Document.12" r:id="rId5" spid="">
                  <p:embed/>
                  <p:pic>
                    <p:nvPicPr>
                      <p:cNvPr id="66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44160" y="2082240"/>
                        <a:ext cx="3915000" cy="355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67" name=""/>
            <p:cNvGrpSpPr/>
            <p:nvPr/>
          </p:nvGrpSpPr>
          <p:grpSpPr>
            <a:xfrm>
              <a:off x="190440" y="1924200"/>
              <a:ext cx="3916440" cy="3563280"/>
              <a:chOff x="190440" y="1924200"/>
              <a:chExt cx="3916440" cy="3563280"/>
            </a:xfrm>
          </p:grpSpPr>
          <p:sp>
            <p:nvSpPr>
              <p:cNvPr id="668" name=""/>
              <p:cNvSpPr/>
              <p:nvPr/>
            </p:nvSpPr>
            <p:spPr>
              <a:xfrm>
                <a:off x="190440" y="1924200"/>
                <a:ext cx="2724120" cy="345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69" name=""/>
              <p:cNvGraphicFramePr/>
              <p:nvPr/>
            </p:nvGraphicFramePr>
            <p:xfrm>
              <a:off x="191880" y="1930320"/>
              <a:ext cx="3915000" cy="355716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67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91880" y="1930320"/>
                        <a:ext cx="3915000" cy="355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71" name=""/>
          <p:cNvSpPr/>
          <p:nvPr/>
        </p:nvSpPr>
        <p:spPr>
          <a:xfrm>
            <a:off x="2733840" y="1531800"/>
            <a:ext cx="3981240" cy="1192320"/>
          </a:xfrm>
          <a:custGeom>
            <a:avLst/>
            <a:gdLst/>
            <a:ahLst/>
            <a:rect l="l" t="t" r="r" b="b"/>
            <a:pathLst>
              <a:path w="2508" h="751">
                <a:moveTo>
                  <a:pt x="0" y="751"/>
                </a:moveTo>
                <a:cubicBezTo>
                  <a:pt x="198" y="535"/>
                  <a:pt x="626" y="242"/>
                  <a:pt x="1044" y="121"/>
                </a:cubicBezTo>
                <a:cubicBezTo>
                  <a:pt x="1462" y="0"/>
                  <a:pt x="2136" y="25"/>
                  <a:pt x="2508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52560" y="2219400"/>
            <a:ext cx="4000680" cy="981000"/>
          </a:xfrm>
          <a:custGeom>
            <a:avLst/>
            <a:gdLst/>
            <a:ahLst/>
            <a:rect l="l" t="t" r="r" b="b"/>
            <a:pathLst>
              <a:path w="2520" h="618">
                <a:moveTo>
                  <a:pt x="0" y="618"/>
                </a:moveTo>
                <a:cubicBezTo>
                  <a:pt x="192" y="438"/>
                  <a:pt x="258" y="282"/>
                  <a:pt x="876" y="342"/>
                </a:cubicBezTo>
                <a:cubicBezTo>
                  <a:pt x="1494" y="402"/>
                  <a:pt x="1980" y="174"/>
                  <a:pt x="25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43200" y="3124080"/>
            <a:ext cx="4019400" cy="648000"/>
          </a:xfrm>
          <a:custGeom>
            <a:avLst/>
            <a:gdLst/>
            <a:ahLst/>
            <a:rect l="l" t="t" r="r" b="b"/>
            <a:pathLst>
              <a:path w="2532" h="408">
                <a:moveTo>
                  <a:pt x="0" y="408"/>
                </a:moveTo>
                <a:cubicBezTo>
                  <a:pt x="360" y="150"/>
                  <a:pt x="2190" y="372"/>
                  <a:pt x="25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71640" y="3971880"/>
            <a:ext cx="4019760" cy="808200"/>
          </a:xfrm>
          <a:custGeom>
            <a:avLst/>
            <a:gdLst/>
            <a:ahLst/>
            <a:rect l="l" t="t" r="r" b="b"/>
            <a:pathLst>
              <a:path w="2532" h="509">
                <a:moveTo>
                  <a:pt x="0" y="264"/>
                </a:moveTo>
                <a:cubicBezTo>
                  <a:pt x="348" y="450"/>
                  <a:pt x="1103" y="509"/>
                  <a:pt x="1524" y="462"/>
                </a:cubicBezTo>
                <a:cubicBezTo>
                  <a:pt x="1945" y="415"/>
                  <a:pt x="2316" y="174"/>
                  <a:pt x="25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657600" y="5486400"/>
            <a:ext cx="3114720" cy="685800"/>
            <a:chOff x="3657600" y="5486400"/>
            <a:chExt cx="3114720" cy="685800"/>
          </a:xfrm>
        </p:grpSpPr>
        <p:grpSp>
          <p:nvGrpSpPr>
            <p:cNvPr id="676" name=""/>
            <p:cNvGrpSpPr/>
            <p:nvPr/>
          </p:nvGrpSpPr>
          <p:grpSpPr>
            <a:xfrm>
              <a:off x="3657600" y="5657760"/>
              <a:ext cx="1761840" cy="514440"/>
              <a:chOff x="3657600" y="5657760"/>
              <a:chExt cx="1761840" cy="514440"/>
            </a:xfrm>
          </p:grpSpPr>
          <p:sp>
            <p:nvSpPr>
              <p:cNvPr id="677" name=""/>
              <p:cNvSpPr/>
              <p:nvPr/>
            </p:nvSpPr>
            <p:spPr>
              <a:xfrm>
                <a:off x="3657600" y="5657760"/>
                <a:ext cx="1761840" cy="51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82800" y="5675040"/>
                <a:ext cx="1698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Jumlah Staf x Sks Sta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(28 x 12) + (4 x 7) = 36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5381640" y="5486400"/>
              <a:ext cx="1390680" cy="533520"/>
            </a:xfrm>
            <a:custGeom>
              <a:avLst/>
              <a:gdLst/>
              <a:ahLst/>
              <a:rect l="l" t="t" r="r" b="b"/>
              <a:pathLst>
                <a:path w="876" h="336">
                  <a:moveTo>
                    <a:pt x="0" y="324"/>
                  </a:moveTo>
                  <a:cubicBezTo>
                    <a:pt x="438" y="336"/>
                    <a:pt x="756" y="132"/>
                    <a:pt x="87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2116800" y="6124680"/>
            <a:ext cx="1769400" cy="428760"/>
            <a:chOff x="2116800" y="6124680"/>
            <a:chExt cx="1769400" cy="428760"/>
          </a:xfrm>
        </p:grpSpPr>
        <p:sp>
          <p:nvSpPr>
            <p:cNvPr id="681" name=""/>
            <p:cNvSpPr/>
            <p:nvPr/>
          </p:nvSpPr>
          <p:spPr>
            <a:xfrm>
              <a:off x="2116800" y="6276960"/>
              <a:ext cx="128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28 </a:t>
              </a:r>
              <a:r>
                <a:rPr b="1" i="1" lang="en-US" sz="1200" spc="-1" strike="noStrike">
                  <a:solidFill>
                    <a:srgbClr val="cc0000"/>
                  </a:solidFill>
                  <a:latin typeface="Times New Roman"/>
                </a:rPr>
                <a:t>Full-time 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62400" y="6124680"/>
              <a:ext cx="523800" cy="323640"/>
            </a:xfrm>
            <a:custGeom>
              <a:avLst/>
              <a:gdLst/>
              <a:ahLst/>
              <a:rect l="l" t="t" r="r" b="b"/>
              <a:pathLst>
                <a:path w="330" h="204">
                  <a:moveTo>
                    <a:pt x="0" y="204"/>
                  </a:moveTo>
                  <a:cubicBezTo>
                    <a:pt x="174" y="204"/>
                    <a:pt x="294" y="156"/>
                    <a:pt x="33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581000" y="6086520"/>
            <a:ext cx="1725840" cy="446400"/>
            <a:chOff x="4581000" y="6086520"/>
            <a:chExt cx="1725840" cy="446400"/>
          </a:xfrm>
        </p:grpSpPr>
        <p:sp>
          <p:nvSpPr>
            <p:cNvPr id="684" name=""/>
            <p:cNvSpPr/>
            <p:nvPr/>
          </p:nvSpPr>
          <p:spPr>
            <a:xfrm>
              <a:off x="5101920" y="6256440"/>
              <a:ext cx="12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4 </a:t>
              </a:r>
              <a:r>
                <a:rPr b="1" i="1" lang="en-US" sz="1200" spc="-1" strike="noStrike">
                  <a:solidFill>
                    <a:srgbClr val="cc0000"/>
                  </a:solidFill>
                  <a:latin typeface="Times New Roman"/>
                </a:rPr>
                <a:t>Part-time 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580640" y="6086520"/>
              <a:ext cx="523800" cy="324000"/>
            </a:xfrm>
            <a:custGeom>
              <a:avLst/>
              <a:gdLst/>
              <a:ahLst/>
              <a:rect l="l" t="t" r="r" b="b"/>
              <a:pathLst>
                <a:path w="330" h="204">
                  <a:moveTo>
                    <a:pt x="0" y="204"/>
                  </a:moveTo>
                  <a:cubicBezTo>
                    <a:pt x="174" y="204"/>
                    <a:pt x="294" y="156"/>
                    <a:pt x="33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230560" y="22860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Bk BT"/>
              </a:rPr>
              <a:t>Sks Staf Akademik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enguiat Bk BT"/>
              </a:rPr>
              <a:t>Institu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13080" y="5729400"/>
            <a:ext cx="20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tuan dapat dipili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ks St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Jam/ming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rId9" action="ppaction://hlinksldjump"/>
          </p:cNvPr>
          <p:cNvSpPr/>
          <p:nvPr/>
        </p:nvSpPr>
        <p:spPr>
          <a:xfrm>
            <a:off x="8690040" y="6431040"/>
            <a:ext cx="252360" cy="226800"/>
          </a:xfrm>
          <a:custGeom>
            <a:avLst/>
            <a:gdLst>
              <a:gd name="textAreaLeft" fmla="*/ 14400 w 252360"/>
              <a:gd name="textAreaRight" fmla="*/ 237960 w 252360"/>
              <a:gd name="textAreaTop" fmla="*/ 14400 h 226800"/>
              <a:gd name="textAreaBottom" fmla="*/ 212400 h 226800"/>
            </a:gdLst>
            <a:ahLst/>
            <a:rect l="textAreaLeft" t="textAreaTop" r="textAreaRight" b="textAreaBottom"/>
            <a:pathLst>
              <a:path w="24030" h="21600">
                <a:moveTo>
                  <a:pt x="0" y="0"/>
                </a:moveTo>
                <a:lnTo>
                  <a:pt x="24030" y="0"/>
                </a:lnTo>
                <a:lnTo>
                  <a:pt x="24030" y="21600"/>
                </a:lnTo>
                <a:lnTo>
                  <a:pt x="0" y="21600"/>
                </a:lnTo>
                <a:close/>
              </a:path>
              <a:path fill="lightenLess" w="24030" h="21600">
                <a:moveTo>
                  <a:pt x="0" y="0"/>
                </a:moveTo>
                <a:lnTo>
                  <a:pt x="24030" y="0"/>
                </a:lnTo>
                <a:lnTo>
                  <a:pt x="22630" y="1400"/>
                </a:lnTo>
                <a:lnTo>
                  <a:pt x="1400" y="1400"/>
                </a:lnTo>
                <a:close/>
              </a:path>
              <a:path fill="darken" w="24030" h="21600">
                <a:moveTo>
                  <a:pt x="24030" y="0"/>
                </a:moveTo>
                <a:lnTo>
                  <a:pt x="24030" y="21600"/>
                </a:lnTo>
                <a:lnTo>
                  <a:pt x="22630" y="20200"/>
                </a:lnTo>
                <a:lnTo>
                  <a:pt x="22630" y="1400"/>
                </a:lnTo>
                <a:close/>
              </a:path>
              <a:path fill="darkenLess" w="24030" h="21600">
                <a:moveTo>
                  <a:pt x="24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0" y="20200"/>
                </a:lnTo>
                <a:close/>
              </a:path>
              <a:path fill="lighten" w="24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0" h="21600">
                <a:moveTo>
                  <a:pt x="5009" y="3794"/>
                </a:moveTo>
                <a:lnTo>
                  <a:pt x="19022" y="10800"/>
                </a:lnTo>
                <a:lnTo>
                  <a:pt x="5009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Cara Pengisian Tabel </a:t>
            </a:r>
            <a:r>
              <a:rPr b="0" i="1" lang="en-US" sz="4400" spc="-1" strike="noStrike">
                <a:solidFill>
                  <a:srgbClr val="ff0000"/>
                </a:solidFill>
                <a:latin typeface="Benguiat Bk BT"/>
              </a:rPr>
              <a:t>Workload Academic Staff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mpulkan semua staf akademik pada suatu ruan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ikan form isian untuk workload academic staff pada semua staf untuk diisi pada waktu itu j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mpulkan form isian dan di rekapitul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umkan hasil rekapitulasi pada semua st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au hasil rekap tidak sesuai dengan kenyataan yang ada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lang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gi dari tahap ke 2 sampai hasilnya sesuai dengan kenyataan yang 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Root-Cause Analysi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280" y="1600200"/>
            <a:ext cx="4978440" cy="3225960"/>
            <a:chOff x="152280" y="1600200"/>
            <a:chExt cx="4978440" cy="3225960"/>
          </a:xfrm>
        </p:grpSpPr>
        <p:grpSp>
          <p:nvGrpSpPr>
            <p:cNvPr id="693" name=""/>
            <p:cNvGrpSpPr/>
            <p:nvPr/>
          </p:nvGrpSpPr>
          <p:grpSpPr>
            <a:xfrm>
              <a:off x="1143000" y="1905120"/>
              <a:ext cx="3987720" cy="2921040"/>
              <a:chOff x="1143000" y="1905120"/>
              <a:chExt cx="3987720" cy="2921040"/>
            </a:xfrm>
          </p:grpSpPr>
          <p:sp>
            <p:nvSpPr>
              <p:cNvPr id="694" name=""/>
              <p:cNvSpPr/>
              <p:nvPr/>
            </p:nvSpPr>
            <p:spPr>
              <a:xfrm>
                <a:off x="3690720" y="2794320"/>
                <a:ext cx="990720" cy="9903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692440" y="2862360"/>
                <a:ext cx="99036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41720" y="1955880"/>
                <a:ext cx="990360" cy="99072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136600" y="2024280"/>
                <a:ext cx="990720" cy="990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57280" y="3684960"/>
                <a:ext cx="990720" cy="99036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92000" y="2938680"/>
                <a:ext cx="990720" cy="9907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140000" y="1905120"/>
                <a:ext cx="99072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260360" y="3835800"/>
                <a:ext cx="990720" cy="99036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143000" y="2109960"/>
                <a:ext cx="99036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252520" y="3759480"/>
                <a:ext cx="990720" cy="990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914400" y="1600200"/>
              <a:ext cx="3987720" cy="2921040"/>
              <a:chOff x="914400" y="1600200"/>
              <a:chExt cx="3987720" cy="2921040"/>
            </a:xfrm>
          </p:grpSpPr>
          <p:sp>
            <p:nvSpPr>
              <p:cNvPr id="705" name=""/>
              <p:cNvSpPr/>
              <p:nvPr/>
            </p:nvSpPr>
            <p:spPr>
              <a:xfrm>
                <a:off x="3462120" y="2489400"/>
                <a:ext cx="990720" cy="9903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463840" y="2557440"/>
                <a:ext cx="99036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3120" y="1650960"/>
                <a:ext cx="990360" cy="99072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908000" y="1719360"/>
                <a:ext cx="990720" cy="990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028680" y="3380040"/>
                <a:ext cx="990720" cy="99036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463400" y="2633760"/>
                <a:ext cx="990720" cy="9907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11400" y="1600200"/>
                <a:ext cx="99072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31760" y="3530880"/>
                <a:ext cx="990720" cy="99036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914400" y="1805040"/>
                <a:ext cx="99036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023920" y="3454560"/>
                <a:ext cx="990720" cy="990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152280" y="1600200"/>
              <a:ext cx="3987720" cy="2921040"/>
              <a:chOff x="152280" y="1600200"/>
              <a:chExt cx="3987720" cy="2921040"/>
            </a:xfrm>
          </p:grpSpPr>
          <p:sp>
            <p:nvSpPr>
              <p:cNvPr id="716" name=""/>
              <p:cNvSpPr/>
              <p:nvPr/>
            </p:nvSpPr>
            <p:spPr>
              <a:xfrm>
                <a:off x="2700000" y="2489400"/>
                <a:ext cx="990720" cy="9903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701720" y="2557440"/>
                <a:ext cx="99036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151000" y="1650960"/>
                <a:ext cx="990360" cy="99072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145880" y="1719360"/>
                <a:ext cx="990720" cy="990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66560" y="3380040"/>
                <a:ext cx="990720" cy="99036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1280" y="2633760"/>
                <a:ext cx="990720" cy="99072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49280" y="1600200"/>
                <a:ext cx="99072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69640" y="3530880"/>
                <a:ext cx="990720" cy="990360"/>
              </a:xfrm>
              <a:prstGeom prst="ellipse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2280" y="1805040"/>
                <a:ext cx="990360" cy="99072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261800" y="3454560"/>
                <a:ext cx="990720" cy="990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457200" y="1752480"/>
              <a:ext cx="4033800" cy="2920680"/>
              <a:chOff x="457200" y="1752480"/>
              <a:chExt cx="4033800" cy="2920680"/>
            </a:xfrm>
          </p:grpSpPr>
          <p:grpSp>
            <p:nvGrpSpPr>
              <p:cNvPr id="727" name=""/>
              <p:cNvGrpSpPr/>
              <p:nvPr/>
            </p:nvGrpSpPr>
            <p:grpSpPr>
              <a:xfrm>
                <a:off x="3005280" y="2641320"/>
                <a:ext cx="990360" cy="990720"/>
                <a:chOff x="3005280" y="2641320"/>
                <a:chExt cx="990360" cy="9907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3005280" y="2641320"/>
                  <a:ext cx="990360" cy="99072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111840" y="2877840"/>
                  <a:ext cx="7750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NEM</a:t>
                  </a: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nda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2006640" y="2709720"/>
                <a:ext cx="990720" cy="990360"/>
                <a:chOff x="2006640" y="2709720"/>
                <a:chExt cx="990720" cy="99036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2006640" y="2709720"/>
                  <a:ext cx="990720" cy="990360"/>
                </a:xfrm>
                <a:prstGeom prst="ellipse">
                  <a:avLst/>
                </a:prstGeom>
                <a:solidFill>
                  <a:srgbClr val="e1e1b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115000" y="2839680"/>
                  <a:ext cx="77508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krip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Tempa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akt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455920" y="1803240"/>
                <a:ext cx="990720" cy="990360"/>
                <a:chOff x="2455920" y="1803240"/>
                <a:chExt cx="990720" cy="99036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455920" y="1803240"/>
                  <a:ext cx="990720" cy="990360"/>
                </a:xfrm>
                <a:prstGeom prst="ellipse">
                  <a:avLst/>
                </a:prstGeom>
                <a:solidFill>
                  <a:srgbClr val="b3ced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477880" y="2039760"/>
                  <a:ext cx="950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PK Baik/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Tingg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1421640" y="1871280"/>
                <a:ext cx="1049400" cy="990720"/>
                <a:chOff x="1421640" y="1871280"/>
                <a:chExt cx="1049400" cy="990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1450800" y="1871280"/>
                  <a:ext cx="990720" cy="990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421640" y="2107800"/>
                  <a:ext cx="1049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sa Stud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m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489760" y="3531960"/>
                <a:ext cx="1155960" cy="990720"/>
                <a:chOff x="2489760" y="3531960"/>
                <a:chExt cx="1155960" cy="990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2571840" y="3531960"/>
                  <a:ext cx="990720" cy="990720"/>
                </a:xfrm>
                <a:prstGeom prst="ellipse">
                  <a:avLst/>
                </a:prstGeom>
                <a:solidFill>
                  <a:srgbClr val="b3ced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489760" y="3768480"/>
                  <a:ext cx="11559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hs Ingg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hs Renda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982080" y="2785680"/>
                <a:ext cx="1015200" cy="990720"/>
                <a:chOff x="982080" y="2785680"/>
                <a:chExt cx="1015200" cy="9907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1006560" y="2785680"/>
                  <a:ext cx="990720" cy="99072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982080" y="2916000"/>
                  <a:ext cx="10051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Kehadir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ose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nda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3454560" y="1752480"/>
                <a:ext cx="1036440" cy="990360"/>
                <a:chOff x="3454560" y="1752480"/>
                <a:chExt cx="1036440" cy="9903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3454560" y="1752480"/>
                  <a:ext cx="990720" cy="990360"/>
                </a:xfrm>
                <a:prstGeom prst="ellipse">
                  <a:avLst/>
                </a:prstGeom>
                <a:solidFill>
                  <a:srgbClr val="e1e1b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455280" y="1882440"/>
                  <a:ext cx="10357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Keketat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ersaing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nda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4560" y="3682800"/>
                <a:ext cx="990720" cy="990360"/>
                <a:chOff x="574560" y="3682800"/>
                <a:chExt cx="990720" cy="9903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4560" y="3682800"/>
                  <a:ext cx="990720" cy="990360"/>
                </a:xfrm>
                <a:prstGeom prst="ellipse">
                  <a:avLst/>
                </a:prstGeom>
                <a:solidFill>
                  <a:srgbClr val="b3ced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82560" y="3812760"/>
                  <a:ext cx="7765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akt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Tungg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Tingg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457200" y="1956960"/>
                <a:ext cx="990720" cy="990720"/>
                <a:chOff x="457200" y="1956960"/>
                <a:chExt cx="990720" cy="9907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457200" y="1956960"/>
                  <a:ext cx="990720" cy="990720"/>
                </a:xfrm>
                <a:prstGeom prst="ellipse">
                  <a:avLst/>
                </a:prstGeom>
                <a:solidFill>
                  <a:srgbClr val="e1e1b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14160" y="2087280"/>
                  <a:ext cx="67896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eb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ose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Tingg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1567080" y="3606480"/>
                <a:ext cx="990360" cy="990720"/>
                <a:chOff x="1567080" y="3606480"/>
                <a:chExt cx="990360" cy="9907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567080" y="3606480"/>
                  <a:ext cx="990360" cy="990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719360" y="3736800"/>
                  <a:ext cx="6865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ua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ose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u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7" name=""/>
          <p:cNvGrpSpPr/>
          <p:nvPr/>
        </p:nvGrpSpPr>
        <p:grpSpPr>
          <a:xfrm>
            <a:off x="5791320" y="1828800"/>
            <a:ext cx="1447200" cy="1447560"/>
            <a:chOff x="5791320" y="1828800"/>
            <a:chExt cx="1447200" cy="1447560"/>
          </a:xfrm>
        </p:grpSpPr>
        <p:sp>
          <p:nvSpPr>
            <p:cNvPr id="758" name=""/>
            <p:cNvSpPr/>
            <p:nvPr/>
          </p:nvSpPr>
          <p:spPr>
            <a:xfrm>
              <a:off x="6516000" y="1828800"/>
              <a:ext cx="722520" cy="75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91640" y="2523600"/>
              <a:ext cx="722520" cy="7527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91320" y="1893600"/>
              <a:ext cx="722160" cy="75312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5257800" y="3733920"/>
            <a:ext cx="1676160" cy="1447200"/>
            <a:chOff x="5257800" y="3733920"/>
            <a:chExt cx="1676160" cy="1447200"/>
          </a:xfrm>
        </p:grpSpPr>
        <p:sp>
          <p:nvSpPr>
            <p:cNvPr id="762" name=""/>
            <p:cNvSpPr/>
            <p:nvPr/>
          </p:nvSpPr>
          <p:spPr>
            <a:xfrm>
              <a:off x="6250320" y="3733920"/>
              <a:ext cx="683640" cy="7329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60920" y="3784320"/>
              <a:ext cx="683640" cy="73296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51160" y="4393080"/>
              <a:ext cx="683640" cy="732960"/>
            </a:xfrm>
            <a:prstGeom prst="ellipse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57800" y="4448160"/>
              <a:ext cx="683640" cy="7329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743200" y="5105520"/>
            <a:ext cx="2286000" cy="1447200"/>
            <a:chOff x="2743200" y="5105520"/>
            <a:chExt cx="2286000" cy="1447200"/>
          </a:xfrm>
        </p:grpSpPr>
        <p:sp>
          <p:nvSpPr>
            <p:cNvPr id="767" name=""/>
            <p:cNvSpPr/>
            <p:nvPr/>
          </p:nvSpPr>
          <p:spPr>
            <a:xfrm>
              <a:off x="4271760" y="5721120"/>
              <a:ext cx="757440" cy="7264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07480" y="5770080"/>
              <a:ext cx="758520" cy="72684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51640" y="5105520"/>
              <a:ext cx="757440" cy="726480"/>
            </a:xfrm>
            <a:prstGeom prst="ellipse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83040" y="5155920"/>
              <a:ext cx="757440" cy="726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43200" y="5826240"/>
              <a:ext cx="757440" cy="7264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7773480" y="5410080"/>
            <a:ext cx="10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salah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salah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salah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34120" y="2362320"/>
            <a:ext cx="380880" cy="380880"/>
          </a:xfrm>
          <a:prstGeom prst="rightArrow">
            <a:avLst>
              <a:gd name="adj1" fmla="val 59167"/>
              <a:gd name="adj2" fmla="val 49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5400000">
            <a:off x="3657600" y="4800600"/>
            <a:ext cx="380880" cy="380880"/>
          </a:xfrm>
          <a:prstGeom prst="rightArrow">
            <a:avLst>
              <a:gd name="adj1" fmla="val 59167"/>
              <a:gd name="adj2" fmla="val 49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1927800">
            <a:off x="4876560" y="3886200"/>
            <a:ext cx="380880" cy="380880"/>
          </a:xfrm>
          <a:prstGeom prst="rightArrow">
            <a:avLst>
              <a:gd name="adj1" fmla="val 59167"/>
              <a:gd name="adj2" fmla="val 49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858000" y="2742480"/>
            <a:ext cx="990720" cy="3048120"/>
          </a:xfrm>
          <a:custGeom>
            <a:avLst/>
            <a:gdLst/>
            <a:ahLst/>
            <a:rect l="l" t="t" r="r" b="b"/>
            <a:pathLst>
              <a:path w="305" h="971">
                <a:moveTo>
                  <a:pt x="0" y="58"/>
                </a:moveTo>
                <a:cubicBezTo>
                  <a:pt x="46" y="70"/>
                  <a:pt x="253" y="0"/>
                  <a:pt x="271" y="127"/>
                </a:cubicBezTo>
                <a:cubicBezTo>
                  <a:pt x="305" y="275"/>
                  <a:pt x="103" y="673"/>
                  <a:pt x="106" y="822"/>
                </a:cubicBezTo>
                <a:cubicBezTo>
                  <a:pt x="108" y="970"/>
                  <a:pt x="234" y="952"/>
                  <a:pt x="276" y="9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05520" y="609588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65640" y="5175360"/>
            <a:ext cx="2683080" cy="712800"/>
          </a:xfrm>
          <a:custGeom>
            <a:avLst/>
            <a:gdLst/>
            <a:ahLst/>
            <a:rect l="l" t="t" r="r" b="b"/>
            <a:pathLst>
              <a:path w="1690" h="449">
                <a:moveTo>
                  <a:pt x="1690" y="435"/>
                </a:moveTo>
                <a:cubicBezTo>
                  <a:pt x="1442" y="425"/>
                  <a:pt x="462" y="449"/>
                  <a:pt x="203" y="377"/>
                </a:cubicBezTo>
                <a:cubicBezTo>
                  <a:pt x="36" y="283"/>
                  <a:pt x="0" y="73"/>
                  <a:pt x="13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57200" y="5257800"/>
            <a:ext cx="1552320" cy="971640"/>
            <a:chOff x="457200" y="5257800"/>
            <a:chExt cx="1552320" cy="971640"/>
          </a:xfrm>
        </p:grpSpPr>
        <p:grpSp>
          <p:nvGrpSpPr>
            <p:cNvPr id="780" name=""/>
            <p:cNvGrpSpPr/>
            <p:nvPr/>
          </p:nvGrpSpPr>
          <p:grpSpPr>
            <a:xfrm>
              <a:off x="609480" y="5410440"/>
              <a:ext cx="1400040" cy="819000"/>
              <a:chOff x="609480" y="5410440"/>
              <a:chExt cx="1400040" cy="819000"/>
            </a:xfrm>
          </p:grpSpPr>
          <p:sp>
            <p:nvSpPr>
              <p:cNvPr id="781" name=""/>
              <p:cNvSpPr/>
              <p:nvPr/>
            </p:nvSpPr>
            <p:spPr>
              <a:xfrm>
                <a:off x="609480" y="5410440"/>
                <a:ext cx="1400040" cy="81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2" name=""/>
              <p:cNvGrpSpPr/>
              <p:nvPr/>
            </p:nvGrpSpPr>
            <p:grpSpPr>
              <a:xfrm>
                <a:off x="695160" y="5496120"/>
                <a:ext cx="1162080" cy="628560"/>
                <a:chOff x="695160" y="5496120"/>
                <a:chExt cx="1162080" cy="6285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695160" y="6115320"/>
                  <a:ext cx="1162080" cy="4680"/>
                </a:xfrm>
                <a:custGeom>
                  <a:avLst/>
                  <a:gdLst/>
                  <a:ahLst/>
                  <a:rect l="l" t="t" r="r" b="b"/>
                  <a:pathLst>
                    <a:path w="732" h="3">
                      <a:moveTo>
                        <a:pt x="0" y="3"/>
                      </a:moveTo>
                      <a:lnTo>
                        <a:pt x="7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95160" y="594396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95160" y="559152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95160" y="5821560"/>
                  <a:ext cx="1149120" cy="111240"/>
                </a:xfrm>
                <a:custGeom>
                  <a:avLst/>
                  <a:gdLst/>
                  <a:ahLst/>
                  <a:rect l="l" t="t" r="r" b="b"/>
                  <a:pathLst>
                    <a:path w="3726" h="426">
                      <a:moveTo>
                        <a:pt x="0" y="426"/>
                      </a:moveTo>
                      <a:cubicBezTo>
                        <a:pt x="281" y="373"/>
                        <a:pt x="1065" y="175"/>
                        <a:pt x="1686" y="108"/>
                      </a:cubicBezTo>
                      <a:cubicBezTo>
                        <a:pt x="2430" y="0"/>
                        <a:pt x="3301" y="42"/>
                        <a:pt x="3726" y="24"/>
                      </a:cubicBezTo>
                    </a:path>
                  </a:pathLst>
                </a:custGeom>
                <a:noFill/>
                <a:ln w="93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95160" y="5697720"/>
                  <a:ext cx="1137960" cy="235080"/>
                </a:xfrm>
                <a:custGeom>
                  <a:avLst/>
                  <a:gdLst/>
                  <a:ahLst/>
                  <a:rect l="l" t="t" r="r" b="b"/>
                  <a:pathLst>
                    <a:path w="3690" h="902">
                      <a:moveTo>
                        <a:pt x="0" y="902"/>
                      </a:moveTo>
                      <a:cubicBezTo>
                        <a:pt x="309" y="777"/>
                        <a:pt x="1239" y="300"/>
                        <a:pt x="1854" y="152"/>
                      </a:cubicBezTo>
                      <a:cubicBezTo>
                        <a:pt x="2470" y="0"/>
                        <a:pt x="3308" y="43"/>
                        <a:pt x="3690" y="14"/>
                      </a:cubicBezTo>
                    </a:path>
                  </a:pathLst>
                </a:custGeom>
                <a:noFill/>
                <a:ln w="9360">
                  <a:solidFill>
                    <a:srgbClr val="33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95160" y="5572440"/>
                  <a:ext cx="1143000" cy="360360"/>
                </a:xfrm>
                <a:custGeom>
                  <a:avLst/>
                  <a:gdLst/>
                  <a:ahLst/>
                  <a:rect l="l" t="t" r="r" b="b"/>
                  <a:pathLst>
                    <a:path w="3708" h="1379">
                      <a:moveTo>
                        <a:pt x="0" y="1379"/>
                      </a:moveTo>
                      <a:cubicBezTo>
                        <a:pt x="121" y="1310"/>
                        <a:pt x="408" y="1199"/>
                        <a:pt x="726" y="965"/>
                      </a:cubicBezTo>
                      <a:cubicBezTo>
                        <a:pt x="1044" y="731"/>
                        <a:pt x="1643" y="298"/>
                        <a:pt x="2118" y="149"/>
                      </a:cubicBezTo>
                      <a:cubicBezTo>
                        <a:pt x="2593" y="0"/>
                        <a:pt x="3377" y="34"/>
                        <a:pt x="370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95160" y="5496120"/>
                  <a:ext cx="1440" cy="628560"/>
                </a:xfrm>
                <a:custGeom>
                  <a:avLst/>
                  <a:gdLst/>
                  <a:ahLst/>
                  <a:rect l="l" t="t" r="r" b="b"/>
                  <a:pathLst>
                    <a:path w="3" h="2400">
                      <a:moveTo>
                        <a:pt x="0" y="0"/>
                      </a:moveTo>
                      <a:lnTo>
                        <a:pt x="3" y="240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0" name=""/>
            <p:cNvGrpSpPr/>
            <p:nvPr/>
          </p:nvGrpSpPr>
          <p:grpSpPr>
            <a:xfrm>
              <a:off x="533160" y="5334120"/>
              <a:ext cx="1400040" cy="819000"/>
              <a:chOff x="533160" y="5334120"/>
              <a:chExt cx="1400040" cy="819000"/>
            </a:xfrm>
          </p:grpSpPr>
          <p:sp>
            <p:nvSpPr>
              <p:cNvPr id="791" name=""/>
              <p:cNvSpPr/>
              <p:nvPr/>
            </p:nvSpPr>
            <p:spPr>
              <a:xfrm>
                <a:off x="533160" y="5334120"/>
                <a:ext cx="1400040" cy="81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618840" y="5419800"/>
                <a:ext cx="1162080" cy="628560"/>
                <a:chOff x="618840" y="5419800"/>
                <a:chExt cx="1162080" cy="628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8840" y="6039000"/>
                  <a:ext cx="1162080" cy="4680"/>
                </a:xfrm>
                <a:custGeom>
                  <a:avLst/>
                  <a:gdLst/>
                  <a:ahLst/>
                  <a:rect l="l" t="t" r="r" b="b"/>
                  <a:pathLst>
                    <a:path w="732" h="3">
                      <a:moveTo>
                        <a:pt x="0" y="3"/>
                      </a:moveTo>
                      <a:lnTo>
                        <a:pt x="7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18840" y="586764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18840" y="551520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18840" y="5745240"/>
                  <a:ext cx="1149120" cy="111240"/>
                </a:xfrm>
                <a:custGeom>
                  <a:avLst/>
                  <a:gdLst/>
                  <a:ahLst/>
                  <a:rect l="l" t="t" r="r" b="b"/>
                  <a:pathLst>
                    <a:path w="3726" h="426">
                      <a:moveTo>
                        <a:pt x="0" y="426"/>
                      </a:moveTo>
                      <a:cubicBezTo>
                        <a:pt x="281" y="373"/>
                        <a:pt x="1065" y="175"/>
                        <a:pt x="1686" y="108"/>
                      </a:cubicBezTo>
                      <a:cubicBezTo>
                        <a:pt x="2430" y="0"/>
                        <a:pt x="3301" y="42"/>
                        <a:pt x="3726" y="24"/>
                      </a:cubicBezTo>
                    </a:path>
                  </a:pathLst>
                </a:custGeom>
                <a:noFill/>
                <a:ln w="93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18840" y="5621400"/>
                  <a:ext cx="1137960" cy="235080"/>
                </a:xfrm>
                <a:custGeom>
                  <a:avLst/>
                  <a:gdLst/>
                  <a:ahLst/>
                  <a:rect l="l" t="t" r="r" b="b"/>
                  <a:pathLst>
                    <a:path w="3690" h="902">
                      <a:moveTo>
                        <a:pt x="0" y="902"/>
                      </a:moveTo>
                      <a:cubicBezTo>
                        <a:pt x="309" y="777"/>
                        <a:pt x="1239" y="300"/>
                        <a:pt x="1854" y="152"/>
                      </a:cubicBezTo>
                      <a:cubicBezTo>
                        <a:pt x="2470" y="0"/>
                        <a:pt x="3308" y="43"/>
                        <a:pt x="3690" y="14"/>
                      </a:cubicBezTo>
                    </a:path>
                  </a:pathLst>
                </a:custGeom>
                <a:noFill/>
                <a:ln w="9360">
                  <a:solidFill>
                    <a:srgbClr val="33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18840" y="5496120"/>
                  <a:ext cx="1143000" cy="360360"/>
                </a:xfrm>
                <a:custGeom>
                  <a:avLst/>
                  <a:gdLst/>
                  <a:ahLst/>
                  <a:rect l="l" t="t" r="r" b="b"/>
                  <a:pathLst>
                    <a:path w="3708" h="1379">
                      <a:moveTo>
                        <a:pt x="0" y="1379"/>
                      </a:moveTo>
                      <a:cubicBezTo>
                        <a:pt x="121" y="1310"/>
                        <a:pt x="408" y="1199"/>
                        <a:pt x="726" y="965"/>
                      </a:cubicBezTo>
                      <a:cubicBezTo>
                        <a:pt x="1044" y="731"/>
                        <a:pt x="1643" y="298"/>
                        <a:pt x="2118" y="149"/>
                      </a:cubicBezTo>
                      <a:cubicBezTo>
                        <a:pt x="2593" y="0"/>
                        <a:pt x="3377" y="34"/>
                        <a:pt x="370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18840" y="5419800"/>
                  <a:ext cx="1440" cy="628560"/>
                </a:xfrm>
                <a:custGeom>
                  <a:avLst/>
                  <a:gdLst/>
                  <a:ahLst/>
                  <a:rect l="l" t="t" r="r" b="b"/>
                  <a:pathLst>
                    <a:path w="3" h="2400">
                      <a:moveTo>
                        <a:pt x="0" y="0"/>
                      </a:moveTo>
                      <a:lnTo>
                        <a:pt x="3" y="240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" name=""/>
            <p:cNvGrpSpPr/>
            <p:nvPr/>
          </p:nvGrpSpPr>
          <p:grpSpPr>
            <a:xfrm>
              <a:off x="457200" y="5257800"/>
              <a:ext cx="1400040" cy="819360"/>
              <a:chOff x="457200" y="5257800"/>
              <a:chExt cx="1400040" cy="819360"/>
            </a:xfrm>
          </p:grpSpPr>
          <p:sp>
            <p:nvSpPr>
              <p:cNvPr id="801" name=""/>
              <p:cNvSpPr/>
              <p:nvPr/>
            </p:nvSpPr>
            <p:spPr>
              <a:xfrm>
                <a:off x="457200" y="5257800"/>
                <a:ext cx="1400040" cy="81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2" name=""/>
              <p:cNvGraphicFramePr/>
              <p:nvPr/>
            </p:nvGraphicFramePr>
            <p:xfrm>
              <a:off x="514800" y="5343480"/>
              <a:ext cx="1274400" cy="6382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0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4800" y="5343480"/>
                        <a:ext cx="1274400" cy="63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804" name=""/>
          <p:cNvSpPr/>
          <p:nvPr/>
        </p:nvSpPr>
        <p:spPr>
          <a:xfrm flipV="1" rot="16200000">
            <a:off x="914400" y="4800600"/>
            <a:ext cx="380880" cy="380880"/>
          </a:xfrm>
          <a:prstGeom prst="rightArrow">
            <a:avLst>
              <a:gd name="adj1" fmla="val 59167"/>
              <a:gd name="adj2" fmla="val 49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Root-Cause Analysi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52280" y="2362320"/>
            <a:ext cx="1400040" cy="3065400"/>
            <a:chOff x="152280" y="2362320"/>
            <a:chExt cx="1400040" cy="3065400"/>
          </a:xfrm>
        </p:grpSpPr>
        <p:grpSp>
          <p:nvGrpSpPr>
            <p:cNvPr id="807" name=""/>
            <p:cNvGrpSpPr/>
            <p:nvPr/>
          </p:nvGrpSpPr>
          <p:grpSpPr>
            <a:xfrm>
              <a:off x="152280" y="2362320"/>
              <a:ext cx="1400040" cy="1465200"/>
              <a:chOff x="152280" y="2362320"/>
              <a:chExt cx="1400040" cy="14652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52280" y="2362320"/>
                <a:ext cx="1400040" cy="819000"/>
                <a:chOff x="152280" y="2362320"/>
                <a:chExt cx="1400040" cy="8190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52280" y="2362320"/>
                  <a:ext cx="140004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10" name=""/>
                <p:cNvGraphicFramePr/>
                <p:nvPr/>
              </p:nvGraphicFramePr>
              <p:xfrm>
                <a:off x="209880" y="2447640"/>
                <a:ext cx="1274400" cy="63792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81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09880" y="2447640"/>
                          <a:ext cx="1274400" cy="63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12" name=""/>
              <p:cNvSpPr/>
              <p:nvPr/>
            </p:nvSpPr>
            <p:spPr>
              <a:xfrm>
                <a:off x="382320" y="3276720"/>
                <a:ext cx="941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esimpulan :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52280" y="3962520"/>
              <a:ext cx="1400040" cy="1465200"/>
              <a:chOff x="152280" y="3962520"/>
              <a:chExt cx="1400040" cy="146520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152280" y="3962520"/>
                <a:ext cx="1400040" cy="819000"/>
                <a:chOff x="152280" y="3962520"/>
                <a:chExt cx="1400040" cy="81900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152280" y="3962520"/>
                  <a:ext cx="140004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37960" y="4048200"/>
                  <a:ext cx="1162080" cy="628560"/>
                  <a:chOff x="237960" y="4048200"/>
                  <a:chExt cx="1162080" cy="6285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237960" y="4667400"/>
                    <a:ext cx="1162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2" h="3">
                        <a:moveTo>
                          <a:pt x="0" y="3"/>
                        </a:moveTo>
                        <a:lnTo>
                          <a:pt x="73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37960" y="4496040"/>
                    <a:ext cx="115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37960" y="4143600"/>
                    <a:ext cx="115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37960" y="4373640"/>
                    <a:ext cx="11491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26" h="426">
                        <a:moveTo>
                          <a:pt x="0" y="426"/>
                        </a:moveTo>
                        <a:cubicBezTo>
                          <a:pt x="281" y="373"/>
                          <a:pt x="1065" y="175"/>
                          <a:pt x="1686" y="108"/>
                        </a:cubicBezTo>
                        <a:cubicBezTo>
                          <a:pt x="2430" y="0"/>
                          <a:pt x="3301" y="42"/>
                          <a:pt x="3726" y="2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37960" y="4249800"/>
                    <a:ext cx="11379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90" h="902">
                        <a:moveTo>
                          <a:pt x="0" y="902"/>
                        </a:moveTo>
                        <a:cubicBezTo>
                          <a:pt x="309" y="777"/>
                          <a:pt x="1239" y="300"/>
                          <a:pt x="1854" y="152"/>
                        </a:cubicBezTo>
                        <a:cubicBezTo>
                          <a:pt x="2470" y="0"/>
                          <a:pt x="3308" y="43"/>
                          <a:pt x="3690" y="1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37960" y="4124520"/>
                    <a:ext cx="114300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8" h="1379">
                        <a:moveTo>
                          <a:pt x="0" y="1379"/>
                        </a:moveTo>
                        <a:cubicBezTo>
                          <a:pt x="121" y="1310"/>
                          <a:pt x="408" y="1199"/>
                          <a:pt x="726" y="965"/>
                        </a:cubicBezTo>
                        <a:cubicBezTo>
                          <a:pt x="1044" y="731"/>
                          <a:pt x="1643" y="298"/>
                          <a:pt x="2118" y="149"/>
                        </a:cubicBezTo>
                        <a:cubicBezTo>
                          <a:pt x="2593" y="0"/>
                          <a:pt x="3377" y="34"/>
                          <a:pt x="3708" y="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37960" y="4048200"/>
                    <a:ext cx="14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400">
                        <a:moveTo>
                          <a:pt x="0" y="0"/>
                        </a:moveTo>
                        <a:lnTo>
                          <a:pt x="3" y="240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4" name=""/>
              <p:cNvSpPr/>
              <p:nvPr/>
            </p:nvSpPr>
            <p:spPr>
              <a:xfrm>
                <a:off x="382320" y="4876920"/>
                <a:ext cx="941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esimpulan :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5" name=""/>
          <p:cNvGrpSpPr/>
          <p:nvPr/>
        </p:nvGrpSpPr>
        <p:grpSpPr>
          <a:xfrm>
            <a:off x="2133720" y="4572000"/>
            <a:ext cx="1295280" cy="2057400"/>
            <a:chOff x="2133720" y="4572000"/>
            <a:chExt cx="1295280" cy="2057400"/>
          </a:xfrm>
        </p:grpSpPr>
        <p:grpSp>
          <p:nvGrpSpPr>
            <p:cNvPr id="826" name=""/>
            <p:cNvGrpSpPr/>
            <p:nvPr/>
          </p:nvGrpSpPr>
          <p:grpSpPr>
            <a:xfrm>
              <a:off x="2133720" y="5105520"/>
              <a:ext cx="1295280" cy="1523880"/>
              <a:chOff x="2133720" y="5105520"/>
              <a:chExt cx="1295280" cy="1523880"/>
            </a:xfrm>
          </p:grpSpPr>
          <p:sp>
            <p:nvSpPr>
              <p:cNvPr id="827" name=""/>
              <p:cNvSpPr/>
              <p:nvPr/>
            </p:nvSpPr>
            <p:spPr>
              <a:xfrm>
                <a:off x="2133720" y="5105520"/>
                <a:ext cx="1295280" cy="1523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146320" y="5119920"/>
                <a:ext cx="1226160" cy="13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bl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…………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…………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………d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H="1" rot="5400000">
              <a:off x="2552760" y="4533840"/>
              <a:ext cx="457200" cy="533520"/>
            </a:xfrm>
            <a:prstGeom prst="left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1447920" y="2590920"/>
            <a:ext cx="2671920" cy="1952280"/>
            <a:chOff x="1447920" y="2590920"/>
            <a:chExt cx="2671920" cy="1952280"/>
          </a:xfrm>
        </p:grpSpPr>
        <p:sp>
          <p:nvSpPr>
            <p:cNvPr id="831" name=""/>
            <p:cNvSpPr/>
            <p:nvPr/>
          </p:nvSpPr>
          <p:spPr>
            <a:xfrm>
              <a:off x="1906200" y="3809880"/>
              <a:ext cx="221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alisa Lintas T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 Kesimpulan yg berkait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hubungkan (di-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1447920" y="3200400"/>
              <a:ext cx="457200" cy="533520"/>
            </a:xfrm>
            <a:prstGeom prst="left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3" name="" descr=""/>
            <p:cNvPicPr/>
            <p:nvPr/>
          </p:nvPicPr>
          <p:blipFill>
            <a:blip r:embed="rId3"/>
            <a:stretch/>
          </p:blipFill>
          <p:spPr>
            <a:xfrm>
              <a:off x="1981080" y="2590920"/>
              <a:ext cx="1828800" cy="13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4" name=""/>
          <p:cNvSpPr/>
          <p:nvPr/>
        </p:nvSpPr>
        <p:spPr>
          <a:xfrm>
            <a:off x="4448160" y="213372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Tabel 2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PK ba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Tabel 4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Lama studi panj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Tabel 5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kripsi tepat wa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4552920" y="2971800"/>
            <a:ext cx="3068640" cy="565920"/>
            <a:chOff x="4552920" y="2971800"/>
            <a:chExt cx="3068640" cy="565920"/>
          </a:xfrm>
        </p:grpSpPr>
        <p:sp>
          <p:nvSpPr>
            <p:cNvPr id="836" name=""/>
            <p:cNvSpPr/>
            <p:nvPr/>
          </p:nvSpPr>
          <p:spPr>
            <a:xfrm>
              <a:off x="4552920" y="3200400"/>
              <a:ext cx="30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ngulangan Mata Kuliah,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ting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80160" y="2971800"/>
              <a:ext cx="30456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458240" y="3581280"/>
            <a:ext cx="3256200" cy="489960"/>
            <a:chOff x="4458240" y="3581280"/>
            <a:chExt cx="3256200" cy="489960"/>
          </a:xfrm>
        </p:grpSpPr>
        <p:sp>
          <p:nvSpPr>
            <p:cNvPr id="839" name=""/>
            <p:cNvSpPr/>
            <p:nvPr/>
          </p:nvSpPr>
          <p:spPr>
            <a:xfrm>
              <a:off x="4458240" y="3733920"/>
              <a:ext cx="32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raturan Akademik :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nilai terba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80160" y="3581280"/>
              <a:ext cx="30456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620120" y="2209680"/>
            <a:ext cx="1053720" cy="609840"/>
            <a:chOff x="7620120" y="2209680"/>
            <a:chExt cx="1053720" cy="609840"/>
          </a:xfrm>
        </p:grpSpPr>
        <p:sp>
          <p:nvSpPr>
            <p:cNvPr id="842" name=""/>
            <p:cNvSpPr/>
            <p:nvPr/>
          </p:nvSpPr>
          <p:spPr>
            <a:xfrm>
              <a:off x="7620120" y="2209680"/>
              <a:ext cx="304560" cy="60984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918560" y="231444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cc"/>
                  </a:solidFill>
                  <a:latin typeface="Times New Roman"/>
                </a:rPr>
                <a:t>Geja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696080" y="3530520"/>
            <a:ext cx="1200240" cy="733320"/>
            <a:chOff x="7696080" y="3530520"/>
            <a:chExt cx="1200240" cy="733320"/>
          </a:xfrm>
        </p:grpSpPr>
        <p:sp>
          <p:nvSpPr>
            <p:cNvPr id="845" name=""/>
            <p:cNvSpPr/>
            <p:nvPr/>
          </p:nvSpPr>
          <p:spPr>
            <a:xfrm>
              <a:off x="7991640" y="3530520"/>
              <a:ext cx="90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cc"/>
                  </a:solidFill>
                  <a:latin typeface="Times New Roman"/>
                </a:rPr>
                <a:t>Ak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cc"/>
                  </a:solidFill>
                  <a:latin typeface="Times New Roman"/>
                </a:rPr>
                <a:t>Permasa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cc"/>
                  </a:solidFill>
                  <a:latin typeface="Times New Roman"/>
                </a:rPr>
                <a:t>la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96080" y="38862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667640" y="3200400"/>
            <a:ext cx="1285560" cy="337320"/>
            <a:chOff x="7667640" y="3200400"/>
            <a:chExt cx="1285560" cy="337320"/>
          </a:xfrm>
        </p:grpSpPr>
        <p:sp>
          <p:nvSpPr>
            <p:cNvPr id="848" name=""/>
            <p:cNvSpPr/>
            <p:nvPr/>
          </p:nvSpPr>
          <p:spPr>
            <a:xfrm>
              <a:off x="7926480" y="32004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cc"/>
                  </a:solidFill>
                  <a:latin typeface="Times New Roman"/>
                </a:rPr>
                <a:t>Penyeb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67640" y="3400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 rot="130200">
            <a:off x="4191120" y="3044520"/>
            <a:ext cx="3581280" cy="685800"/>
          </a:xfrm>
          <a:custGeom>
            <a:avLst/>
            <a:gdLst/>
            <a:ahLst/>
            <a:rect l="l" t="t" r="r" b="b"/>
            <a:pathLst>
              <a:path w="1834" h="366">
                <a:moveTo>
                  <a:pt x="52" y="204"/>
                </a:moveTo>
                <a:cubicBezTo>
                  <a:pt x="183" y="137"/>
                  <a:pt x="430" y="48"/>
                  <a:pt x="772" y="24"/>
                </a:cubicBezTo>
                <a:cubicBezTo>
                  <a:pt x="1114" y="0"/>
                  <a:pt x="1516" y="48"/>
                  <a:pt x="1675" y="89"/>
                </a:cubicBezTo>
                <a:cubicBezTo>
                  <a:pt x="1834" y="130"/>
                  <a:pt x="1719" y="246"/>
                  <a:pt x="1478" y="284"/>
                </a:cubicBezTo>
                <a:cubicBezTo>
                  <a:pt x="1237" y="322"/>
                  <a:pt x="657" y="366"/>
                  <a:pt x="328" y="330"/>
                </a:cubicBezTo>
                <a:cubicBezTo>
                  <a:pt x="0" y="294"/>
                  <a:pt x="134" y="253"/>
                  <a:pt x="131" y="227"/>
                </a:cubicBezTo>
                <a:cubicBezTo>
                  <a:pt x="129" y="198"/>
                  <a:pt x="278" y="166"/>
                  <a:pt x="316" y="156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350240" y="4395960"/>
            <a:ext cx="3205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Benguiat Bk BT"/>
              </a:rPr>
              <a:t>Akibatnya</a:t>
            </a:r>
            <a:r>
              <a:rPr b="0" lang="en-US" sz="1800" spc="-1" strike="noStrike">
                <a:solidFill>
                  <a:srgbClr val="cc0000"/>
                </a:solidFill>
                <a:latin typeface="Benguiat Bk BT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ban dosen meningk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ban praktikum meningk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pasitas ruangan kurang memad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943440" y="3648240"/>
            <a:ext cx="723960" cy="771480"/>
          </a:xfrm>
          <a:custGeom>
            <a:avLst/>
            <a:gdLst/>
            <a:ahLst/>
            <a:rect l="l" t="t" r="r" b="b"/>
            <a:pathLst>
              <a:path w="456" h="486">
                <a:moveTo>
                  <a:pt x="456" y="0"/>
                </a:moveTo>
                <a:cubicBezTo>
                  <a:pt x="0" y="126"/>
                  <a:pt x="288" y="486"/>
                  <a:pt x="288" y="48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357440" y="5638680"/>
            <a:ext cx="3711960" cy="764280"/>
            <a:chOff x="4357440" y="5638680"/>
            <a:chExt cx="3711960" cy="764280"/>
          </a:xfrm>
        </p:grpSpPr>
        <p:sp>
          <p:nvSpPr>
            <p:cNvPr id="854" name=""/>
            <p:cNvSpPr/>
            <p:nvPr/>
          </p:nvSpPr>
          <p:spPr>
            <a:xfrm>
              <a:off x="4357440" y="5791320"/>
              <a:ext cx="3711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cc0000"/>
                  </a:solidFill>
                  <a:uFillTx/>
                  <a:latin typeface="Benguiat Bk BT"/>
                </a:rPr>
                <a:t>Solusi</a:t>
              </a:r>
              <a:r>
                <a:rPr b="0" lang="en-US" sz="1800" spc="-1" strike="noStrike">
                  <a:solidFill>
                    <a:srgbClr val="cc0000"/>
                  </a:solidFill>
                  <a:latin typeface="Benguiat Bk BT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bah peraturan akademik </a:t>
              </a:r>
              <a:r>
                <a:rPr b="0" lang="en-US" sz="16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cc0000"/>
                  </a:solidFill>
                  <a:latin typeface="Times New Roman"/>
                </a:rPr>
                <a:t>nilai terakh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67280" y="563868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172040" y="1714680"/>
            <a:ext cx="1118520" cy="4819320"/>
            <a:chOff x="4172040" y="1714680"/>
            <a:chExt cx="1118520" cy="4819320"/>
          </a:xfrm>
        </p:grpSpPr>
        <p:sp>
          <p:nvSpPr>
            <p:cNvPr id="857" name=""/>
            <p:cNvSpPr/>
            <p:nvPr/>
          </p:nvSpPr>
          <p:spPr>
            <a:xfrm>
              <a:off x="4172040" y="1886040"/>
              <a:ext cx="0" cy="4647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53400" y="1714680"/>
              <a:ext cx="103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oh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-12240" y="1676520"/>
            <a:ext cx="3870000" cy="3841560"/>
            <a:chOff x="-12240" y="1676520"/>
            <a:chExt cx="3870000" cy="3841560"/>
          </a:xfrm>
        </p:grpSpPr>
        <p:sp>
          <p:nvSpPr>
            <p:cNvPr id="860" name=""/>
            <p:cNvSpPr/>
            <p:nvPr/>
          </p:nvSpPr>
          <p:spPr>
            <a:xfrm>
              <a:off x="2139480" y="1676520"/>
              <a:ext cx="171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sil Interpreta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=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</a:rPr>
                <a:t>geja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30200">
              <a:off x="0" y="3200400"/>
              <a:ext cx="1676520" cy="685800"/>
            </a:xfrm>
            <a:custGeom>
              <a:avLst/>
              <a:gdLst/>
              <a:ahLst/>
              <a:rect l="l" t="t" r="r" b="b"/>
              <a:pathLst>
                <a:path w="1834" h="366">
                  <a:moveTo>
                    <a:pt x="52" y="204"/>
                  </a:moveTo>
                  <a:cubicBezTo>
                    <a:pt x="183" y="137"/>
                    <a:pt x="430" y="48"/>
                    <a:pt x="772" y="24"/>
                  </a:cubicBezTo>
                  <a:cubicBezTo>
                    <a:pt x="1114" y="0"/>
                    <a:pt x="1516" y="48"/>
                    <a:pt x="1675" y="89"/>
                  </a:cubicBezTo>
                  <a:cubicBezTo>
                    <a:pt x="1834" y="130"/>
                    <a:pt x="1719" y="246"/>
                    <a:pt x="1478" y="284"/>
                  </a:cubicBezTo>
                  <a:cubicBezTo>
                    <a:pt x="1237" y="322"/>
                    <a:pt x="657" y="366"/>
                    <a:pt x="328" y="330"/>
                  </a:cubicBezTo>
                  <a:cubicBezTo>
                    <a:pt x="0" y="294"/>
                    <a:pt x="134" y="253"/>
                    <a:pt x="131" y="227"/>
                  </a:cubicBezTo>
                  <a:cubicBezTo>
                    <a:pt x="129" y="198"/>
                    <a:pt x="278" y="166"/>
                    <a:pt x="316" y="1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30200">
              <a:off x="0" y="4800600"/>
              <a:ext cx="1676520" cy="685800"/>
            </a:xfrm>
            <a:custGeom>
              <a:avLst/>
              <a:gdLst/>
              <a:ahLst/>
              <a:rect l="l" t="t" r="r" b="b"/>
              <a:pathLst>
                <a:path w="1834" h="366">
                  <a:moveTo>
                    <a:pt x="52" y="204"/>
                  </a:moveTo>
                  <a:cubicBezTo>
                    <a:pt x="183" y="137"/>
                    <a:pt x="430" y="48"/>
                    <a:pt x="772" y="24"/>
                  </a:cubicBezTo>
                  <a:cubicBezTo>
                    <a:pt x="1114" y="0"/>
                    <a:pt x="1516" y="48"/>
                    <a:pt x="1675" y="89"/>
                  </a:cubicBezTo>
                  <a:cubicBezTo>
                    <a:pt x="1834" y="130"/>
                    <a:pt x="1719" y="246"/>
                    <a:pt x="1478" y="284"/>
                  </a:cubicBezTo>
                  <a:cubicBezTo>
                    <a:pt x="1237" y="322"/>
                    <a:pt x="657" y="366"/>
                    <a:pt x="328" y="330"/>
                  </a:cubicBezTo>
                  <a:cubicBezTo>
                    <a:pt x="0" y="294"/>
                    <a:pt x="134" y="253"/>
                    <a:pt x="131" y="227"/>
                  </a:cubicBezTo>
                  <a:cubicBezTo>
                    <a:pt x="129" y="198"/>
                    <a:pt x="278" y="166"/>
                    <a:pt x="316" y="1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90720" y="2057400"/>
              <a:ext cx="1143000" cy="1066680"/>
            </a:xfrm>
            <a:custGeom>
              <a:avLst/>
              <a:gdLst/>
              <a:ahLst/>
              <a:rect l="l" t="t" r="r" b="b"/>
              <a:pathLst>
                <a:path w="720" h="672">
                  <a:moveTo>
                    <a:pt x="720" y="0"/>
                  </a:moveTo>
                  <a:cubicBezTo>
                    <a:pt x="540" y="40"/>
                    <a:pt x="360" y="80"/>
                    <a:pt x="240" y="192"/>
                  </a:cubicBezTo>
                  <a:cubicBezTo>
                    <a:pt x="120" y="304"/>
                    <a:pt x="60" y="488"/>
                    <a:pt x="0" y="6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66680" y="2057400"/>
              <a:ext cx="1067040" cy="2743200"/>
            </a:xfrm>
            <a:custGeom>
              <a:avLst/>
              <a:gdLst/>
              <a:ahLst/>
              <a:rect l="l" t="t" r="r" b="b"/>
              <a:pathLst>
                <a:path w="672" h="1728">
                  <a:moveTo>
                    <a:pt x="672" y="0"/>
                  </a:moveTo>
                  <a:cubicBezTo>
                    <a:pt x="464" y="192"/>
                    <a:pt x="256" y="384"/>
                    <a:pt x="144" y="672"/>
                  </a:cubicBezTo>
                  <a:cubicBezTo>
                    <a:pt x="32" y="960"/>
                    <a:pt x="16" y="1344"/>
                    <a:pt x="0" y="172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Root-Cause Analysi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1828800"/>
            <a:ext cx="32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Tabel 2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PK ba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Tabel 4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Lama studi panj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Tabel 5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kripsi tepat wa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4120" y="243828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Benguiat Bk BT"/>
              </a:rPr>
              <a:t>Data Baru yang dibutuh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537120" y="2743200"/>
            <a:ext cx="2939040" cy="1737360"/>
            <a:chOff x="537120" y="2743200"/>
            <a:chExt cx="2939040" cy="1737360"/>
          </a:xfrm>
        </p:grpSpPr>
        <p:sp>
          <p:nvSpPr>
            <p:cNvPr id="869" name=""/>
            <p:cNvSpPr/>
            <p:nvPr/>
          </p:nvSpPr>
          <p:spPr>
            <a:xfrm>
              <a:off x="537120" y="2895480"/>
              <a:ext cx="293904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cc0000"/>
                  </a:solidFill>
                  <a:uFillTx/>
                  <a:latin typeface="Benguiat Bk BT"/>
                </a:rPr>
                <a:t>Alternatif Masalah</a:t>
              </a:r>
              <a:r>
                <a:rPr b="0" lang="en-US" sz="1800" spc="-1" strike="noStrike">
                  <a:solidFill>
                    <a:srgbClr val="cc0000"/>
                  </a:solidFill>
                  <a:latin typeface="Benguiat Bk BT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ngkat Pengulangan MK ting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lit mencari topik skrip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aktikum ant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alitas Mhs baru tidak ba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0200" y="274320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514600" y="5334120"/>
            <a:ext cx="3733920" cy="1066680"/>
          </a:xfrm>
          <a:custGeom>
            <a:avLst/>
            <a:gdLst/>
            <a:ahLst/>
            <a:rect l="l" t="t" r="r" b="b"/>
            <a:pathLst>
              <a:path w="2352" h="672">
                <a:moveTo>
                  <a:pt x="0" y="672"/>
                </a:moveTo>
                <a:lnTo>
                  <a:pt x="2352" y="672"/>
                </a:lnTo>
                <a:lnTo>
                  <a:pt x="2352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429000" y="2819520"/>
            <a:ext cx="5177520" cy="580680"/>
            <a:chOff x="3429000" y="2819520"/>
            <a:chExt cx="5177520" cy="580680"/>
          </a:xfrm>
        </p:grpSpPr>
        <p:sp>
          <p:nvSpPr>
            <p:cNvPr id="873" name=""/>
            <p:cNvSpPr/>
            <p:nvPr/>
          </p:nvSpPr>
          <p:spPr>
            <a:xfrm>
              <a:off x="5339520" y="2819520"/>
              <a:ext cx="326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ahasiswa yg mengulang,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termasuk frekuensi pengulangann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29000" y="3048120"/>
              <a:ext cx="1828800" cy="3045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192"/>
                  </a:moveTo>
                  <a:cubicBezTo>
                    <a:pt x="196" y="180"/>
                    <a:pt x="392" y="168"/>
                    <a:pt x="480" y="144"/>
                  </a:cubicBezTo>
                  <a:cubicBezTo>
                    <a:pt x="568" y="120"/>
                    <a:pt x="416" y="72"/>
                    <a:pt x="528" y="48"/>
                  </a:cubicBezTo>
                  <a:cubicBezTo>
                    <a:pt x="640" y="24"/>
                    <a:pt x="896" y="12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971800" y="3505320"/>
            <a:ext cx="5572440" cy="580680"/>
            <a:chOff x="2971800" y="3505320"/>
            <a:chExt cx="5572440" cy="580680"/>
          </a:xfrm>
        </p:grpSpPr>
        <p:sp>
          <p:nvSpPr>
            <p:cNvPr id="876" name=""/>
            <p:cNvSpPr/>
            <p:nvPr/>
          </p:nvSpPr>
          <p:spPr>
            <a:xfrm>
              <a:off x="5341680" y="3505320"/>
              <a:ext cx="320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Lama Mahasiswa mengajuka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proposal penelit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1800" y="3530520"/>
              <a:ext cx="2286000" cy="38124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0" y="32"/>
                  </a:moveTo>
                  <a:cubicBezTo>
                    <a:pt x="304" y="16"/>
                    <a:pt x="608" y="0"/>
                    <a:pt x="720" y="32"/>
                  </a:cubicBezTo>
                  <a:cubicBezTo>
                    <a:pt x="832" y="64"/>
                    <a:pt x="552" y="208"/>
                    <a:pt x="672" y="224"/>
                  </a:cubicBezTo>
                  <a:cubicBezTo>
                    <a:pt x="792" y="240"/>
                    <a:pt x="1116" y="184"/>
                    <a:pt x="1440" y="1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981080" y="3733920"/>
            <a:ext cx="6493320" cy="1295280"/>
            <a:chOff x="1981080" y="3733920"/>
            <a:chExt cx="6493320" cy="1295280"/>
          </a:xfrm>
        </p:grpSpPr>
        <p:sp>
          <p:nvSpPr>
            <p:cNvPr id="879" name=""/>
            <p:cNvSpPr/>
            <p:nvPr/>
          </p:nvSpPr>
          <p:spPr>
            <a:xfrm>
              <a:off x="5340240" y="4205160"/>
              <a:ext cx="313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kapasitas laborator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peralatan untuk praktikum y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tidak ters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733920"/>
              <a:ext cx="3276720" cy="787320"/>
            </a:xfrm>
            <a:custGeom>
              <a:avLst/>
              <a:gdLst/>
              <a:ahLst/>
              <a:rect l="l" t="t" r="r" b="b"/>
              <a:pathLst>
                <a:path w="1968" h="456">
                  <a:moveTo>
                    <a:pt x="0" y="56"/>
                  </a:moveTo>
                  <a:cubicBezTo>
                    <a:pt x="304" y="28"/>
                    <a:pt x="608" y="0"/>
                    <a:pt x="816" y="56"/>
                  </a:cubicBezTo>
                  <a:cubicBezTo>
                    <a:pt x="1024" y="112"/>
                    <a:pt x="1056" y="328"/>
                    <a:pt x="1248" y="392"/>
                  </a:cubicBezTo>
                  <a:cubicBezTo>
                    <a:pt x="1440" y="456"/>
                    <a:pt x="1704" y="448"/>
                    <a:pt x="1968" y="4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763560" y="4343400"/>
            <a:ext cx="1805760" cy="2333160"/>
            <a:chOff x="763560" y="4343400"/>
            <a:chExt cx="1805760" cy="2333160"/>
          </a:xfrm>
        </p:grpSpPr>
        <p:grpSp>
          <p:nvGrpSpPr>
            <p:cNvPr id="882" name=""/>
            <p:cNvGrpSpPr/>
            <p:nvPr/>
          </p:nvGrpSpPr>
          <p:grpSpPr>
            <a:xfrm>
              <a:off x="763560" y="4343400"/>
              <a:ext cx="1663560" cy="2333160"/>
              <a:chOff x="763560" y="4343400"/>
              <a:chExt cx="1663560" cy="233316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763560" y="4648320"/>
                <a:ext cx="1663560" cy="2028240"/>
                <a:chOff x="763560" y="4648320"/>
                <a:chExt cx="1663560" cy="202824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763560" y="6095880"/>
                  <a:ext cx="16635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ari D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endukung Bar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5" name=""/>
                <p:cNvGrpSpPr/>
                <p:nvPr/>
              </p:nvGrpSpPr>
              <p:grpSpPr>
                <a:xfrm>
                  <a:off x="819360" y="4648320"/>
                  <a:ext cx="1066320" cy="1447200"/>
                  <a:chOff x="819360" y="4648320"/>
                  <a:chExt cx="1066320" cy="144720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 flipH="1">
                    <a:off x="974520" y="5968440"/>
                    <a:ext cx="2739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23" h="834">
                        <a:moveTo>
                          <a:pt x="0" y="530"/>
                        </a:moveTo>
                        <a:lnTo>
                          <a:pt x="890" y="0"/>
                        </a:lnTo>
                        <a:lnTo>
                          <a:pt x="1469" y="132"/>
                        </a:lnTo>
                        <a:lnTo>
                          <a:pt x="2223" y="178"/>
                        </a:lnTo>
                        <a:lnTo>
                          <a:pt x="1780" y="484"/>
                        </a:lnTo>
                        <a:lnTo>
                          <a:pt x="1061" y="834"/>
                        </a:lnTo>
                        <a:lnTo>
                          <a:pt x="408" y="703"/>
                        </a:lnTo>
                        <a:lnTo>
                          <a:pt x="0" y="5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>
                    <a:off x="1451160" y="5915520"/>
                    <a:ext cx="29052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8" h="969">
                        <a:moveTo>
                          <a:pt x="0" y="0"/>
                        </a:moveTo>
                        <a:lnTo>
                          <a:pt x="786" y="0"/>
                        </a:lnTo>
                        <a:lnTo>
                          <a:pt x="1059" y="0"/>
                        </a:lnTo>
                        <a:lnTo>
                          <a:pt x="1709" y="395"/>
                        </a:lnTo>
                        <a:lnTo>
                          <a:pt x="2358" y="658"/>
                        </a:lnTo>
                        <a:lnTo>
                          <a:pt x="1676" y="969"/>
                        </a:lnTo>
                        <a:lnTo>
                          <a:pt x="1162" y="969"/>
                        </a:lnTo>
                        <a:lnTo>
                          <a:pt x="240" y="439"/>
                        </a:lnTo>
                        <a:lnTo>
                          <a:pt x="101" y="2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ea00"/>
                  </a:solidFill>
                  <a:ln w="0">
                    <a:solidFill>
                      <a:srgbClr val="ffea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>
                    <a:off x="829080" y="4967640"/>
                    <a:ext cx="2296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6" h="1335">
                        <a:moveTo>
                          <a:pt x="0" y="710"/>
                        </a:moveTo>
                        <a:lnTo>
                          <a:pt x="679" y="381"/>
                        </a:lnTo>
                        <a:lnTo>
                          <a:pt x="828" y="189"/>
                        </a:lnTo>
                        <a:lnTo>
                          <a:pt x="870" y="0"/>
                        </a:lnTo>
                        <a:lnTo>
                          <a:pt x="1294" y="297"/>
                        </a:lnTo>
                        <a:lnTo>
                          <a:pt x="1866" y="409"/>
                        </a:lnTo>
                        <a:lnTo>
                          <a:pt x="1273" y="1037"/>
                        </a:lnTo>
                        <a:lnTo>
                          <a:pt x="701" y="1335"/>
                        </a:lnTo>
                        <a:lnTo>
                          <a:pt x="316" y="1090"/>
                        </a:lnTo>
                        <a:lnTo>
                          <a:pt x="0" y="710"/>
                        </a:lnTo>
                        <a:close/>
                      </a:path>
                    </a:pathLst>
                  </a:custGeom>
                  <a:solidFill>
                    <a:srgbClr val="ffc98e"/>
                  </a:solidFill>
                  <a:ln w="0">
                    <a:solidFill>
                      <a:srgbClr val="ffc98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H="1">
                    <a:off x="1126800" y="4709880"/>
                    <a:ext cx="582480" cy="865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31" h="7172">
                        <a:moveTo>
                          <a:pt x="2144" y="193"/>
                        </a:moveTo>
                        <a:lnTo>
                          <a:pt x="2905" y="193"/>
                        </a:lnTo>
                        <a:lnTo>
                          <a:pt x="3202" y="654"/>
                        </a:lnTo>
                        <a:lnTo>
                          <a:pt x="3288" y="220"/>
                        </a:lnTo>
                        <a:lnTo>
                          <a:pt x="3753" y="220"/>
                        </a:lnTo>
                        <a:lnTo>
                          <a:pt x="4263" y="167"/>
                        </a:lnTo>
                        <a:lnTo>
                          <a:pt x="4646" y="0"/>
                        </a:lnTo>
                        <a:lnTo>
                          <a:pt x="4433" y="465"/>
                        </a:lnTo>
                        <a:lnTo>
                          <a:pt x="4413" y="1011"/>
                        </a:lnTo>
                        <a:lnTo>
                          <a:pt x="4516" y="1502"/>
                        </a:lnTo>
                        <a:lnTo>
                          <a:pt x="4731" y="1746"/>
                        </a:lnTo>
                        <a:lnTo>
                          <a:pt x="4560" y="1801"/>
                        </a:lnTo>
                        <a:lnTo>
                          <a:pt x="4263" y="1801"/>
                        </a:lnTo>
                        <a:lnTo>
                          <a:pt x="3776" y="1612"/>
                        </a:lnTo>
                        <a:lnTo>
                          <a:pt x="3161" y="1311"/>
                        </a:lnTo>
                        <a:lnTo>
                          <a:pt x="3099" y="1395"/>
                        </a:lnTo>
                        <a:lnTo>
                          <a:pt x="3140" y="1557"/>
                        </a:lnTo>
                        <a:lnTo>
                          <a:pt x="2969" y="1693"/>
                        </a:lnTo>
                        <a:lnTo>
                          <a:pt x="3077" y="1856"/>
                        </a:lnTo>
                        <a:lnTo>
                          <a:pt x="2886" y="2050"/>
                        </a:lnTo>
                        <a:lnTo>
                          <a:pt x="2947" y="2209"/>
                        </a:lnTo>
                        <a:lnTo>
                          <a:pt x="2801" y="2347"/>
                        </a:lnTo>
                        <a:lnTo>
                          <a:pt x="2886" y="2647"/>
                        </a:lnTo>
                        <a:lnTo>
                          <a:pt x="2653" y="6766"/>
                        </a:lnTo>
                        <a:lnTo>
                          <a:pt x="807" y="7172"/>
                        </a:lnTo>
                        <a:lnTo>
                          <a:pt x="0" y="6766"/>
                        </a:lnTo>
                        <a:lnTo>
                          <a:pt x="1125" y="329"/>
                        </a:lnTo>
                        <a:lnTo>
                          <a:pt x="2144" y="193"/>
                        </a:lnTo>
                        <a:close/>
                      </a:path>
                    </a:pathLst>
                  </a:custGeom>
                  <a:solidFill>
                    <a:srgbClr val="515151"/>
                  </a:solidFill>
                  <a:ln w="0">
                    <a:solidFill>
                      <a:srgbClr val="51515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flipH="1">
                    <a:off x="1398960" y="4732920"/>
                    <a:ext cx="422640" cy="80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36" h="6654">
                        <a:moveTo>
                          <a:pt x="1188" y="27"/>
                        </a:moveTo>
                        <a:lnTo>
                          <a:pt x="1909" y="55"/>
                        </a:lnTo>
                        <a:lnTo>
                          <a:pt x="3010" y="0"/>
                        </a:lnTo>
                        <a:lnTo>
                          <a:pt x="3415" y="548"/>
                        </a:lnTo>
                        <a:lnTo>
                          <a:pt x="2652" y="218"/>
                        </a:lnTo>
                        <a:lnTo>
                          <a:pt x="3055" y="765"/>
                        </a:lnTo>
                        <a:lnTo>
                          <a:pt x="2588" y="548"/>
                        </a:lnTo>
                        <a:lnTo>
                          <a:pt x="2502" y="737"/>
                        </a:lnTo>
                        <a:lnTo>
                          <a:pt x="2588" y="927"/>
                        </a:lnTo>
                        <a:lnTo>
                          <a:pt x="2399" y="1090"/>
                        </a:lnTo>
                        <a:lnTo>
                          <a:pt x="2439" y="1336"/>
                        </a:lnTo>
                        <a:lnTo>
                          <a:pt x="2375" y="1500"/>
                        </a:lnTo>
                        <a:lnTo>
                          <a:pt x="2439" y="1772"/>
                        </a:lnTo>
                        <a:lnTo>
                          <a:pt x="2228" y="1963"/>
                        </a:lnTo>
                        <a:lnTo>
                          <a:pt x="2248" y="2154"/>
                        </a:lnTo>
                        <a:lnTo>
                          <a:pt x="2120" y="2427"/>
                        </a:lnTo>
                        <a:lnTo>
                          <a:pt x="2162" y="2537"/>
                        </a:lnTo>
                        <a:lnTo>
                          <a:pt x="2080" y="2781"/>
                        </a:lnTo>
                        <a:lnTo>
                          <a:pt x="2100" y="3084"/>
                        </a:lnTo>
                        <a:lnTo>
                          <a:pt x="2674" y="3136"/>
                        </a:lnTo>
                        <a:lnTo>
                          <a:pt x="2059" y="3191"/>
                        </a:lnTo>
                        <a:lnTo>
                          <a:pt x="1951" y="3380"/>
                        </a:lnTo>
                        <a:lnTo>
                          <a:pt x="1973" y="3628"/>
                        </a:lnTo>
                        <a:lnTo>
                          <a:pt x="2036" y="3709"/>
                        </a:lnTo>
                        <a:lnTo>
                          <a:pt x="3096" y="4089"/>
                        </a:lnTo>
                        <a:lnTo>
                          <a:pt x="1909" y="4336"/>
                        </a:lnTo>
                        <a:lnTo>
                          <a:pt x="1760" y="4472"/>
                        </a:lnTo>
                        <a:lnTo>
                          <a:pt x="1782" y="4608"/>
                        </a:lnTo>
                        <a:lnTo>
                          <a:pt x="1865" y="4746"/>
                        </a:lnTo>
                        <a:lnTo>
                          <a:pt x="3203" y="4417"/>
                        </a:lnTo>
                        <a:lnTo>
                          <a:pt x="3203" y="4500"/>
                        </a:lnTo>
                        <a:lnTo>
                          <a:pt x="1610" y="4963"/>
                        </a:lnTo>
                        <a:lnTo>
                          <a:pt x="2015" y="5073"/>
                        </a:lnTo>
                        <a:lnTo>
                          <a:pt x="3309" y="4937"/>
                        </a:lnTo>
                        <a:lnTo>
                          <a:pt x="2059" y="5375"/>
                        </a:lnTo>
                        <a:lnTo>
                          <a:pt x="2036" y="5511"/>
                        </a:lnTo>
                        <a:lnTo>
                          <a:pt x="3350" y="5345"/>
                        </a:lnTo>
                        <a:lnTo>
                          <a:pt x="3350" y="5453"/>
                        </a:lnTo>
                        <a:lnTo>
                          <a:pt x="2036" y="5780"/>
                        </a:lnTo>
                        <a:lnTo>
                          <a:pt x="1865" y="6055"/>
                        </a:lnTo>
                        <a:lnTo>
                          <a:pt x="1973" y="6218"/>
                        </a:lnTo>
                        <a:lnTo>
                          <a:pt x="2248" y="6244"/>
                        </a:lnTo>
                        <a:lnTo>
                          <a:pt x="3436" y="6136"/>
                        </a:lnTo>
                        <a:lnTo>
                          <a:pt x="1909" y="6654"/>
                        </a:lnTo>
                        <a:lnTo>
                          <a:pt x="215" y="6055"/>
                        </a:lnTo>
                        <a:lnTo>
                          <a:pt x="0" y="5836"/>
                        </a:lnTo>
                        <a:lnTo>
                          <a:pt x="65" y="5534"/>
                        </a:lnTo>
                        <a:lnTo>
                          <a:pt x="148" y="5126"/>
                        </a:lnTo>
                        <a:lnTo>
                          <a:pt x="171" y="4801"/>
                        </a:lnTo>
                        <a:lnTo>
                          <a:pt x="340" y="4255"/>
                        </a:lnTo>
                        <a:lnTo>
                          <a:pt x="298" y="3817"/>
                        </a:lnTo>
                        <a:lnTo>
                          <a:pt x="274" y="3709"/>
                        </a:lnTo>
                        <a:lnTo>
                          <a:pt x="470" y="3409"/>
                        </a:lnTo>
                        <a:lnTo>
                          <a:pt x="445" y="2807"/>
                        </a:lnTo>
                        <a:lnTo>
                          <a:pt x="722" y="2401"/>
                        </a:lnTo>
                        <a:lnTo>
                          <a:pt x="470" y="1882"/>
                        </a:lnTo>
                        <a:lnTo>
                          <a:pt x="701" y="1689"/>
                        </a:lnTo>
                        <a:lnTo>
                          <a:pt x="637" y="1472"/>
                        </a:lnTo>
                        <a:lnTo>
                          <a:pt x="848" y="1364"/>
                        </a:lnTo>
                        <a:lnTo>
                          <a:pt x="870" y="982"/>
                        </a:lnTo>
                        <a:lnTo>
                          <a:pt x="828" y="818"/>
                        </a:lnTo>
                        <a:lnTo>
                          <a:pt x="1019" y="737"/>
                        </a:lnTo>
                        <a:lnTo>
                          <a:pt x="784" y="490"/>
                        </a:lnTo>
                        <a:lnTo>
                          <a:pt x="1421" y="327"/>
                        </a:lnTo>
                        <a:lnTo>
                          <a:pt x="1188" y="27"/>
                        </a:lnTo>
                        <a:close/>
                      </a:path>
                    </a:pathLst>
                  </a:custGeom>
                  <a:solidFill>
                    <a:srgbClr val="b5b5b5"/>
                  </a:solidFill>
                  <a:ln w="0">
                    <a:solidFill>
                      <a:srgbClr val="b5b5b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>
                    <a:off x="1516320" y="4842000"/>
                    <a:ext cx="2196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492">
                        <a:moveTo>
                          <a:pt x="147" y="136"/>
                        </a:moveTo>
                        <a:lnTo>
                          <a:pt x="1782" y="0"/>
                        </a:lnTo>
                        <a:lnTo>
                          <a:pt x="1588" y="191"/>
                        </a:lnTo>
                        <a:lnTo>
                          <a:pt x="1654" y="465"/>
                        </a:lnTo>
                        <a:lnTo>
                          <a:pt x="147" y="492"/>
                        </a:lnTo>
                        <a:lnTo>
                          <a:pt x="0" y="191"/>
                        </a:lnTo>
                        <a:lnTo>
                          <a:pt x="147" y="136"/>
                        </a:lnTo>
                        <a:close/>
                      </a:path>
                    </a:pathLst>
                  </a:custGeom>
                  <a:solidFill>
                    <a:srgbClr val="0cc10c"/>
                  </a:solidFill>
                  <a:ln w="0">
                    <a:solidFill>
                      <a:srgbClr val="0cc10c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>
                    <a:off x="1535040" y="4893840"/>
                    <a:ext cx="2138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40" h="521">
                        <a:moveTo>
                          <a:pt x="213" y="55"/>
                        </a:moveTo>
                        <a:lnTo>
                          <a:pt x="1740" y="0"/>
                        </a:lnTo>
                        <a:lnTo>
                          <a:pt x="1635" y="191"/>
                        </a:lnTo>
                        <a:lnTo>
                          <a:pt x="1720" y="521"/>
                        </a:lnTo>
                        <a:lnTo>
                          <a:pt x="108" y="410"/>
                        </a:lnTo>
                        <a:lnTo>
                          <a:pt x="0" y="164"/>
                        </a:lnTo>
                        <a:lnTo>
                          <a:pt x="213" y="55"/>
                        </a:lnTo>
                        <a:close/>
                      </a:path>
                    </a:pathLst>
                  </a:custGeom>
                  <a:solidFill>
                    <a:srgbClr val="ffc98e"/>
                  </a:solidFill>
                  <a:ln w="0">
                    <a:solidFill>
                      <a:srgbClr val="ffc98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H="1">
                    <a:off x="1579320" y="5081040"/>
                    <a:ext cx="2088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99" h="873">
                        <a:moveTo>
                          <a:pt x="255" y="0"/>
                        </a:moveTo>
                        <a:lnTo>
                          <a:pt x="1699" y="274"/>
                        </a:lnTo>
                        <a:lnTo>
                          <a:pt x="1591" y="520"/>
                        </a:lnTo>
                        <a:lnTo>
                          <a:pt x="1613" y="820"/>
                        </a:lnTo>
                        <a:lnTo>
                          <a:pt x="1297" y="873"/>
                        </a:lnTo>
                        <a:lnTo>
                          <a:pt x="152" y="546"/>
                        </a:lnTo>
                        <a:lnTo>
                          <a:pt x="0" y="355"/>
                        </a:lnTo>
                        <a:lnTo>
                          <a:pt x="130" y="138"/>
                        </a:lnTo>
                        <a:lnTo>
                          <a:pt x="255" y="0"/>
                        </a:lnTo>
                        <a:close/>
                      </a:path>
                    </a:pathLst>
                  </a:custGeom>
                  <a:solidFill>
                    <a:srgbClr val="00eaff"/>
                  </a:solidFill>
                  <a:ln w="0">
                    <a:solidFill>
                      <a:srgbClr val="00ea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H="1">
                    <a:off x="1432440" y="5292360"/>
                    <a:ext cx="38448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7" h="1034">
                        <a:moveTo>
                          <a:pt x="189" y="0"/>
                        </a:moveTo>
                        <a:lnTo>
                          <a:pt x="1651" y="409"/>
                        </a:lnTo>
                        <a:lnTo>
                          <a:pt x="3117" y="218"/>
                        </a:lnTo>
                        <a:lnTo>
                          <a:pt x="1801" y="598"/>
                        </a:lnTo>
                        <a:lnTo>
                          <a:pt x="1759" y="764"/>
                        </a:lnTo>
                        <a:lnTo>
                          <a:pt x="1843" y="875"/>
                        </a:lnTo>
                        <a:lnTo>
                          <a:pt x="2036" y="898"/>
                        </a:lnTo>
                        <a:lnTo>
                          <a:pt x="2056" y="983"/>
                        </a:lnTo>
                        <a:lnTo>
                          <a:pt x="1738" y="1034"/>
                        </a:lnTo>
                        <a:lnTo>
                          <a:pt x="85" y="490"/>
                        </a:lnTo>
                        <a:lnTo>
                          <a:pt x="0" y="165"/>
                        </a:lnTo>
                        <a:lnTo>
                          <a:pt x="147" y="53"/>
                        </a:lnTo>
                        <a:lnTo>
                          <a:pt x="189" y="0"/>
                        </a:lnTo>
                        <a:close/>
                      </a:path>
                    </a:pathLst>
                  </a:custGeom>
                  <a:solidFill>
                    <a:srgbClr val="0cc10c"/>
                  </a:solidFill>
                  <a:ln w="0">
                    <a:solidFill>
                      <a:srgbClr val="0cc10c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H="1">
                    <a:off x="1539720" y="5279040"/>
                    <a:ext cx="27180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04" h="599">
                        <a:moveTo>
                          <a:pt x="86" y="0"/>
                        </a:moveTo>
                        <a:lnTo>
                          <a:pt x="1506" y="463"/>
                        </a:lnTo>
                        <a:lnTo>
                          <a:pt x="2204" y="436"/>
                        </a:lnTo>
                        <a:lnTo>
                          <a:pt x="1464" y="599"/>
                        </a:lnTo>
                        <a:lnTo>
                          <a:pt x="86" y="162"/>
                        </a:lnTo>
                        <a:lnTo>
                          <a:pt x="0" y="55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 flipH="1">
                    <a:off x="1548000" y="4970160"/>
                    <a:ext cx="3290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2" h="627">
                        <a:moveTo>
                          <a:pt x="933" y="0"/>
                        </a:moveTo>
                        <a:lnTo>
                          <a:pt x="2480" y="218"/>
                        </a:lnTo>
                        <a:lnTo>
                          <a:pt x="2672" y="271"/>
                        </a:lnTo>
                        <a:lnTo>
                          <a:pt x="2372" y="355"/>
                        </a:lnTo>
                        <a:lnTo>
                          <a:pt x="1525" y="464"/>
                        </a:lnTo>
                        <a:lnTo>
                          <a:pt x="848" y="627"/>
                        </a:lnTo>
                        <a:lnTo>
                          <a:pt x="0" y="328"/>
                        </a:lnTo>
                        <a:lnTo>
                          <a:pt x="401" y="82"/>
                        </a:lnTo>
                        <a:lnTo>
                          <a:pt x="93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>
                    <a:off x="1447920" y="5157360"/>
                    <a:ext cx="311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5" h="982">
                        <a:moveTo>
                          <a:pt x="0" y="0"/>
                        </a:moveTo>
                        <a:lnTo>
                          <a:pt x="1169" y="218"/>
                        </a:lnTo>
                        <a:lnTo>
                          <a:pt x="2336" y="136"/>
                        </a:lnTo>
                        <a:lnTo>
                          <a:pt x="2525" y="435"/>
                        </a:lnTo>
                        <a:lnTo>
                          <a:pt x="1655" y="629"/>
                        </a:lnTo>
                        <a:lnTo>
                          <a:pt x="828" y="818"/>
                        </a:lnTo>
                        <a:lnTo>
                          <a:pt x="471" y="982"/>
                        </a:lnTo>
                        <a:lnTo>
                          <a:pt x="107" y="2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H="1">
                    <a:off x="1579320" y="5456160"/>
                    <a:ext cx="24048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2" h="898">
                        <a:moveTo>
                          <a:pt x="44" y="0"/>
                        </a:moveTo>
                        <a:lnTo>
                          <a:pt x="1952" y="516"/>
                        </a:lnTo>
                        <a:lnTo>
                          <a:pt x="1017" y="898"/>
                        </a:lnTo>
                        <a:lnTo>
                          <a:pt x="0" y="82"/>
                        </a:lnTo>
                        <a:lnTo>
                          <a:pt x="4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H="1">
                    <a:off x="1628280" y="5337720"/>
                    <a:ext cx="2293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8" h="1039">
                        <a:moveTo>
                          <a:pt x="402" y="0"/>
                        </a:moveTo>
                        <a:lnTo>
                          <a:pt x="1868" y="465"/>
                        </a:lnTo>
                        <a:lnTo>
                          <a:pt x="911" y="1039"/>
                        </a:lnTo>
                        <a:lnTo>
                          <a:pt x="468" y="603"/>
                        </a:lnTo>
                        <a:lnTo>
                          <a:pt x="0" y="246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H="1">
                    <a:off x="1403640" y="5499720"/>
                    <a:ext cx="41580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73" h="1198">
                        <a:moveTo>
                          <a:pt x="84" y="0"/>
                        </a:moveTo>
                        <a:lnTo>
                          <a:pt x="0" y="191"/>
                        </a:lnTo>
                        <a:lnTo>
                          <a:pt x="44" y="625"/>
                        </a:lnTo>
                        <a:lnTo>
                          <a:pt x="1930" y="1198"/>
                        </a:lnTo>
                        <a:lnTo>
                          <a:pt x="2059" y="654"/>
                        </a:lnTo>
                        <a:lnTo>
                          <a:pt x="3373" y="0"/>
                        </a:lnTo>
                        <a:lnTo>
                          <a:pt x="1824" y="382"/>
                        </a:lnTo>
                        <a:lnTo>
                          <a:pt x="1528" y="382"/>
                        </a:lnTo>
                        <a:lnTo>
                          <a:pt x="957" y="516"/>
                        </a:lnTo>
                        <a:lnTo>
                          <a:pt x="572" y="191"/>
                        </a:lnTo>
                        <a:lnTo>
                          <a:pt x="297" y="26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solidFill>
                      <a:srgbClr val="ff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1194480" y="5079240"/>
                    <a:ext cx="24444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1205">
                        <a:moveTo>
                          <a:pt x="33" y="334"/>
                        </a:moveTo>
                        <a:lnTo>
                          <a:pt x="207" y="112"/>
                        </a:lnTo>
                        <a:lnTo>
                          <a:pt x="365" y="22"/>
                        </a:lnTo>
                        <a:lnTo>
                          <a:pt x="589" y="0"/>
                        </a:lnTo>
                        <a:lnTo>
                          <a:pt x="1736" y="66"/>
                        </a:lnTo>
                        <a:lnTo>
                          <a:pt x="1980" y="490"/>
                        </a:lnTo>
                        <a:lnTo>
                          <a:pt x="1857" y="1006"/>
                        </a:lnTo>
                        <a:lnTo>
                          <a:pt x="1633" y="1184"/>
                        </a:lnTo>
                        <a:lnTo>
                          <a:pt x="1161" y="1205"/>
                        </a:lnTo>
                        <a:lnTo>
                          <a:pt x="783" y="804"/>
                        </a:lnTo>
                        <a:lnTo>
                          <a:pt x="468" y="1006"/>
                        </a:lnTo>
                        <a:lnTo>
                          <a:pt x="189" y="938"/>
                        </a:lnTo>
                        <a:lnTo>
                          <a:pt x="0" y="490"/>
                        </a:lnTo>
                        <a:lnTo>
                          <a:pt x="33" y="334"/>
                        </a:lnTo>
                        <a:close/>
                      </a:path>
                    </a:pathLst>
                  </a:custGeom>
                  <a:solidFill>
                    <a:srgbClr val="ffea00"/>
                  </a:solidFill>
                  <a:ln w="0">
                    <a:solidFill>
                      <a:srgbClr val="ffea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1022040" y="4975200"/>
                    <a:ext cx="34956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6" h="3686">
                        <a:moveTo>
                          <a:pt x="104" y="291"/>
                        </a:moveTo>
                        <a:lnTo>
                          <a:pt x="574" y="67"/>
                        </a:lnTo>
                        <a:lnTo>
                          <a:pt x="918" y="0"/>
                        </a:lnTo>
                        <a:lnTo>
                          <a:pt x="1218" y="0"/>
                        </a:lnTo>
                        <a:lnTo>
                          <a:pt x="1372" y="177"/>
                        </a:lnTo>
                        <a:lnTo>
                          <a:pt x="1718" y="177"/>
                        </a:lnTo>
                        <a:lnTo>
                          <a:pt x="1928" y="267"/>
                        </a:lnTo>
                        <a:lnTo>
                          <a:pt x="2048" y="489"/>
                        </a:lnTo>
                        <a:lnTo>
                          <a:pt x="2345" y="1226"/>
                        </a:lnTo>
                        <a:lnTo>
                          <a:pt x="2587" y="1942"/>
                        </a:lnTo>
                        <a:lnTo>
                          <a:pt x="2813" y="2412"/>
                        </a:lnTo>
                        <a:lnTo>
                          <a:pt x="2710" y="2610"/>
                        </a:lnTo>
                        <a:lnTo>
                          <a:pt x="2846" y="2903"/>
                        </a:lnTo>
                        <a:lnTo>
                          <a:pt x="2846" y="3012"/>
                        </a:lnTo>
                        <a:lnTo>
                          <a:pt x="2554" y="3170"/>
                        </a:lnTo>
                        <a:lnTo>
                          <a:pt x="2604" y="3329"/>
                        </a:lnTo>
                        <a:lnTo>
                          <a:pt x="2483" y="3419"/>
                        </a:lnTo>
                        <a:lnTo>
                          <a:pt x="2204" y="3509"/>
                        </a:lnTo>
                        <a:lnTo>
                          <a:pt x="1995" y="3617"/>
                        </a:lnTo>
                        <a:lnTo>
                          <a:pt x="1616" y="3686"/>
                        </a:lnTo>
                        <a:lnTo>
                          <a:pt x="1110" y="3260"/>
                        </a:lnTo>
                        <a:lnTo>
                          <a:pt x="1110" y="1942"/>
                        </a:lnTo>
                        <a:lnTo>
                          <a:pt x="1284" y="1698"/>
                        </a:lnTo>
                        <a:lnTo>
                          <a:pt x="1319" y="1429"/>
                        </a:lnTo>
                        <a:lnTo>
                          <a:pt x="1248" y="1205"/>
                        </a:lnTo>
                        <a:lnTo>
                          <a:pt x="1110" y="983"/>
                        </a:lnTo>
                        <a:lnTo>
                          <a:pt x="1006" y="915"/>
                        </a:lnTo>
                        <a:lnTo>
                          <a:pt x="139" y="937"/>
                        </a:lnTo>
                        <a:lnTo>
                          <a:pt x="0" y="871"/>
                        </a:lnTo>
                        <a:lnTo>
                          <a:pt x="86" y="669"/>
                        </a:lnTo>
                        <a:lnTo>
                          <a:pt x="51" y="513"/>
                        </a:lnTo>
                        <a:lnTo>
                          <a:pt x="139" y="378"/>
                        </a:lnTo>
                        <a:lnTo>
                          <a:pt x="104" y="291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70230c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1233000" y="5020560"/>
                    <a:ext cx="122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91" h="894">
                        <a:moveTo>
                          <a:pt x="0" y="537"/>
                        </a:moveTo>
                        <a:lnTo>
                          <a:pt x="207" y="359"/>
                        </a:lnTo>
                        <a:lnTo>
                          <a:pt x="450" y="157"/>
                        </a:lnTo>
                        <a:lnTo>
                          <a:pt x="779" y="23"/>
                        </a:lnTo>
                        <a:lnTo>
                          <a:pt x="938" y="0"/>
                        </a:lnTo>
                        <a:lnTo>
                          <a:pt x="991" y="92"/>
                        </a:lnTo>
                        <a:lnTo>
                          <a:pt x="938" y="334"/>
                        </a:lnTo>
                        <a:lnTo>
                          <a:pt x="971" y="581"/>
                        </a:lnTo>
                        <a:lnTo>
                          <a:pt x="797" y="515"/>
                        </a:lnTo>
                        <a:lnTo>
                          <a:pt x="556" y="581"/>
                        </a:lnTo>
                        <a:lnTo>
                          <a:pt x="382" y="693"/>
                        </a:lnTo>
                        <a:lnTo>
                          <a:pt x="295" y="894"/>
                        </a:lnTo>
                        <a:lnTo>
                          <a:pt x="173" y="894"/>
                        </a:lnTo>
                        <a:lnTo>
                          <a:pt x="138" y="761"/>
                        </a:lnTo>
                        <a:lnTo>
                          <a:pt x="70" y="627"/>
                        </a:lnTo>
                        <a:lnTo>
                          <a:pt x="0" y="537"/>
                        </a:lnTo>
                        <a:close/>
                      </a:path>
                    </a:pathLst>
                  </a:custGeom>
                  <a:solidFill>
                    <a:srgbClr val="ffc98e"/>
                  </a:solidFill>
                  <a:ln w="0">
                    <a:solidFill>
                      <a:srgbClr val="ffc98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>
                    <a:off x="1218240" y="5146920"/>
                    <a:ext cx="359640" cy="51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8" h="4310">
                        <a:moveTo>
                          <a:pt x="281" y="3036"/>
                        </a:moveTo>
                        <a:lnTo>
                          <a:pt x="559" y="3416"/>
                        </a:lnTo>
                        <a:lnTo>
                          <a:pt x="0" y="4020"/>
                        </a:lnTo>
                        <a:lnTo>
                          <a:pt x="71" y="4310"/>
                        </a:lnTo>
                        <a:lnTo>
                          <a:pt x="732" y="4289"/>
                        </a:lnTo>
                        <a:lnTo>
                          <a:pt x="1391" y="3796"/>
                        </a:lnTo>
                        <a:lnTo>
                          <a:pt x="2415" y="1607"/>
                        </a:lnTo>
                        <a:lnTo>
                          <a:pt x="2901" y="1161"/>
                        </a:lnTo>
                        <a:lnTo>
                          <a:pt x="2918" y="850"/>
                        </a:lnTo>
                        <a:lnTo>
                          <a:pt x="2835" y="601"/>
                        </a:lnTo>
                        <a:lnTo>
                          <a:pt x="2487" y="647"/>
                        </a:lnTo>
                        <a:lnTo>
                          <a:pt x="2244" y="538"/>
                        </a:lnTo>
                        <a:lnTo>
                          <a:pt x="2138" y="334"/>
                        </a:lnTo>
                        <a:lnTo>
                          <a:pt x="2051" y="22"/>
                        </a:lnTo>
                        <a:lnTo>
                          <a:pt x="2000" y="0"/>
                        </a:lnTo>
                        <a:lnTo>
                          <a:pt x="1791" y="269"/>
                        </a:lnTo>
                        <a:lnTo>
                          <a:pt x="1600" y="357"/>
                        </a:lnTo>
                        <a:lnTo>
                          <a:pt x="1321" y="380"/>
                        </a:lnTo>
                        <a:lnTo>
                          <a:pt x="1235" y="691"/>
                        </a:lnTo>
                        <a:lnTo>
                          <a:pt x="1253" y="1047"/>
                        </a:lnTo>
                        <a:lnTo>
                          <a:pt x="1321" y="1520"/>
                        </a:lnTo>
                        <a:lnTo>
                          <a:pt x="1286" y="1741"/>
                        </a:lnTo>
                        <a:lnTo>
                          <a:pt x="1373" y="1921"/>
                        </a:lnTo>
                        <a:lnTo>
                          <a:pt x="1565" y="1965"/>
                        </a:lnTo>
                        <a:lnTo>
                          <a:pt x="1514" y="2971"/>
                        </a:lnTo>
                        <a:lnTo>
                          <a:pt x="991" y="3149"/>
                        </a:lnTo>
                        <a:lnTo>
                          <a:pt x="661" y="3080"/>
                        </a:lnTo>
                        <a:lnTo>
                          <a:pt x="332" y="2946"/>
                        </a:lnTo>
                        <a:lnTo>
                          <a:pt x="281" y="3036"/>
                        </a:lnTo>
                        <a:close/>
                      </a:path>
                    </a:pathLst>
                  </a:custGeom>
                  <a:solidFill>
                    <a:srgbClr val="ffc98e"/>
                  </a:solidFill>
                  <a:ln w="0">
                    <a:solidFill>
                      <a:srgbClr val="ffc98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flipH="1">
                    <a:off x="1162440" y="5359680"/>
                    <a:ext cx="26784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74" h="3394">
                        <a:moveTo>
                          <a:pt x="191" y="182"/>
                        </a:moveTo>
                        <a:lnTo>
                          <a:pt x="242" y="270"/>
                        </a:lnTo>
                        <a:lnTo>
                          <a:pt x="159" y="424"/>
                        </a:lnTo>
                        <a:lnTo>
                          <a:pt x="242" y="514"/>
                        </a:lnTo>
                        <a:lnTo>
                          <a:pt x="139" y="627"/>
                        </a:lnTo>
                        <a:lnTo>
                          <a:pt x="208" y="940"/>
                        </a:lnTo>
                        <a:lnTo>
                          <a:pt x="208" y="1093"/>
                        </a:lnTo>
                        <a:lnTo>
                          <a:pt x="0" y="1272"/>
                        </a:lnTo>
                        <a:lnTo>
                          <a:pt x="226" y="2032"/>
                        </a:lnTo>
                        <a:lnTo>
                          <a:pt x="261" y="3194"/>
                        </a:lnTo>
                        <a:lnTo>
                          <a:pt x="1424" y="3394"/>
                        </a:lnTo>
                        <a:lnTo>
                          <a:pt x="1406" y="3037"/>
                        </a:lnTo>
                        <a:lnTo>
                          <a:pt x="1323" y="2571"/>
                        </a:lnTo>
                        <a:lnTo>
                          <a:pt x="1180" y="1965"/>
                        </a:lnTo>
                        <a:lnTo>
                          <a:pt x="1165" y="1699"/>
                        </a:lnTo>
                        <a:lnTo>
                          <a:pt x="1668" y="1073"/>
                        </a:lnTo>
                        <a:lnTo>
                          <a:pt x="1842" y="983"/>
                        </a:lnTo>
                        <a:lnTo>
                          <a:pt x="1947" y="959"/>
                        </a:lnTo>
                        <a:lnTo>
                          <a:pt x="2086" y="805"/>
                        </a:lnTo>
                        <a:lnTo>
                          <a:pt x="2154" y="761"/>
                        </a:lnTo>
                        <a:lnTo>
                          <a:pt x="2174" y="403"/>
                        </a:lnTo>
                        <a:lnTo>
                          <a:pt x="2086" y="136"/>
                        </a:lnTo>
                        <a:lnTo>
                          <a:pt x="1999" y="201"/>
                        </a:lnTo>
                        <a:lnTo>
                          <a:pt x="1635" y="0"/>
                        </a:lnTo>
                        <a:lnTo>
                          <a:pt x="991" y="136"/>
                        </a:lnTo>
                        <a:lnTo>
                          <a:pt x="627" y="581"/>
                        </a:lnTo>
                        <a:lnTo>
                          <a:pt x="415" y="379"/>
                        </a:lnTo>
                        <a:lnTo>
                          <a:pt x="574" y="111"/>
                        </a:lnTo>
                        <a:lnTo>
                          <a:pt x="314" y="182"/>
                        </a:lnTo>
                        <a:lnTo>
                          <a:pt x="191" y="182"/>
                        </a:lnTo>
                        <a:close/>
                      </a:path>
                    </a:pathLst>
                  </a:custGeom>
                  <a:solidFill>
                    <a:srgbClr val="ffea00"/>
                  </a:solidFill>
                  <a:ln w="0">
                    <a:solidFill>
                      <a:srgbClr val="ffea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>
                    <a:off x="1386360" y="5510160"/>
                    <a:ext cx="676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738">
                        <a:moveTo>
                          <a:pt x="0" y="90"/>
                        </a:moveTo>
                        <a:lnTo>
                          <a:pt x="226" y="0"/>
                        </a:lnTo>
                        <a:lnTo>
                          <a:pt x="540" y="156"/>
                        </a:lnTo>
                        <a:lnTo>
                          <a:pt x="556" y="378"/>
                        </a:lnTo>
                        <a:lnTo>
                          <a:pt x="505" y="580"/>
                        </a:lnTo>
                        <a:lnTo>
                          <a:pt x="209" y="738"/>
                        </a:lnTo>
                        <a:lnTo>
                          <a:pt x="191" y="626"/>
                        </a:lnTo>
                        <a:lnTo>
                          <a:pt x="191" y="448"/>
                        </a:lnTo>
                        <a:lnTo>
                          <a:pt x="123" y="18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cc10c"/>
                  </a:solidFill>
                  <a:ln w="0">
                    <a:solidFill>
                      <a:srgbClr val="0cc10c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1344600" y="5403240"/>
                    <a:ext cx="55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646">
                        <a:moveTo>
                          <a:pt x="0" y="646"/>
                        </a:moveTo>
                        <a:lnTo>
                          <a:pt x="194" y="0"/>
                        </a:lnTo>
                        <a:lnTo>
                          <a:pt x="455" y="134"/>
                        </a:lnTo>
                        <a:lnTo>
                          <a:pt x="314" y="512"/>
                        </a:lnTo>
                        <a:lnTo>
                          <a:pt x="0" y="646"/>
                        </a:lnTo>
                        <a:close/>
                      </a:path>
                    </a:pathLst>
                  </a:custGeom>
                  <a:solidFill>
                    <a:srgbClr val="0cc10c"/>
                  </a:solidFill>
                  <a:ln w="0">
                    <a:solidFill>
                      <a:srgbClr val="0cc10c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1320120" y="5796720"/>
                    <a:ext cx="203040" cy="27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1" h="2313">
                        <a:moveTo>
                          <a:pt x="0" y="0"/>
                        </a:moveTo>
                        <a:lnTo>
                          <a:pt x="72" y="622"/>
                        </a:lnTo>
                        <a:lnTo>
                          <a:pt x="205" y="763"/>
                        </a:lnTo>
                        <a:lnTo>
                          <a:pt x="1224" y="1551"/>
                        </a:lnTo>
                        <a:lnTo>
                          <a:pt x="1317" y="1740"/>
                        </a:lnTo>
                        <a:lnTo>
                          <a:pt x="1057" y="2147"/>
                        </a:lnTo>
                        <a:lnTo>
                          <a:pt x="908" y="2287"/>
                        </a:lnTo>
                        <a:lnTo>
                          <a:pt x="1020" y="2313"/>
                        </a:lnTo>
                        <a:lnTo>
                          <a:pt x="1374" y="2216"/>
                        </a:lnTo>
                        <a:lnTo>
                          <a:pt x="1651" y="1882"/>
                        </a:lnTo>
                        <a:lnTo>
                          <a:pt x="1446" y="1551"/>
                        </a:lnTo>
                        <a:lnTo>
                          <a:pt x="1187" y="1048"/>
                        </a:lnTo>
                        <a:lnTo>
                          <a:pt x="925" y="691"/>
                        </a:lnTo>
                        <a:lnTo>
                          <a:pt x="778" y="550"/>
                        </a:lnTo>
                        <a:lnTo>
                          <a:pt x="574" y="477"/>
                        </a:lnTo>
                        <a:lnTo>
                          <a:pt x="556" y="191"/>
                        </a:lnTo>
                        <a:lnTo>
                          <a:pt x="277" y="1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c98e"/>
                  </a:solidFill>
                  <a:ln w="0">
                    <a:solidFill>
                      <a:srgbClr val="ffc98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>
                    <a:off x="1674000" y="5698440"/>
                    <a:ext cx="17604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9" h="2624">
                        <a:moveTo>
                          <a:pt x="1076" y="0"/>
                        </a:moveTo>
                        <a:lnTo>
                          <a:pt x="465" y="1023"/>
                        </a:lnTo>
                        <a:lnTo>
                          <a:pt x="187" y="1572"/>
                        </a:lnTo>
                        <a:lnTo>
                          <a:pt x="0" y="2026"/>
                        </a:lnTo>
                        <a:lnTo>
                          <a:pt x="56" y="2624"/>
                        </a:lnTo>
                        <a:lnTo>
                          <a:pt x="297" y="2597"/>
                        </a:lnTo>
                        <a:lnTo>
                          <a:pt x="263" y="2334"/>
                        </a:lnTo>
                        <a:lnTo>
                          <a:pt x="297" y="2026"/>
                        </a:lnTo>
                        <a:lnTo>
                          <a:pt x="408" y="1714"/>
                        </a:lnTo>
                        <a:lnTo>
                          <a:pt x="669" y="1359"/>
                        </a:lnTo>
                        <a:lnTo>
                          <a:pt x="1185" y="713"/>
                        </a:lnTo>
                        <a:lnTo>
                          <a:pt x="1429" y="166"/>
                        </a:lnTo>
                        <a:lnTo>
                          <a:pt x="1282" y="23"/>
                        </a:lnTo>
                        <a:lnTo>
                          <a:pt x="1076" y="0"/>
                        </a:lnTo>
                        <a:close/>
                      </a:path>
                    </a:pathLst>
                  </a:custGeom>
                  <a:solidFill>
                    <a:srgbClr val="ffc98e"/>
                  </a:solidFill>
                  <a:ln w="0">
                    <a:solidFill>
                      <a:srgbClr val="ffc98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>
                    <a:off x="1405080" y="563868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22" h="1573">
                        <a:moveTo>
                          <a:pt x="0" y="359"/>
                        </a:moveTo>
                        <a:lnTo>
                          <a:pt x="831" y="23"/>
                        </a:lnTo>
                        <a:lnTo>
                          <a:pt x="1092" y="23"/>
                        </a:lnTo>
                        <a:lnTo>
                          <a:pt x="1260" y="214"/>
                        </a:lnTo>
                        <a:lnTo>
                          <a:pt x="1760" y="311"/>
                        </a:lnTo>
                        <a:lnTo>
                          <a:pt x="2558" y="0"/>
                        </a:lnTo>
                        <a:lnTo>
                          <a:pt x="2722" y="1360"/>
                        </a:lnTo>
                        <a:lnTo>
                          <a:pt x="2371" y="1573"/>
                        </a:lnTo>
                        <a:lnTo>
                          <a:pt x="1703" y="1336"/>
                        </a:lnTo>
                        <a:lnTo>
                          <a:pt x="1165" y="1002"/>
                        </a:lnTo>
                        <a:lnTo>
                          <a:pt x="629" y="787"/>
                        </a:lnTo>
                        <a:lnTo>
                          <a:pt x="183" y="596"/>
                        </a:lnTo>
                        <a:lnTo>
                          <a:pt x="73" y="453"/>
                        </a:lnTo>
                        <a:lnTo>
                          <a:pt x="0" y="359"/>
                        </a:lnTo>
                        <a:close/>
                      </a:path>
                    </a:pathLst>
                  </a:custGeom>
                  <a:solidFill>
                    <a:srgbClr val="0cc10c"/>
                  </a:solidFill>
                  <a:ln w="0">
                    <a:solidFill>
                      <a:srgbClr val="0cc10c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1361520" y="509184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3" h="668">
                        <a:moveTo>
                          <a:pt x="281" y="0"/>
                        </a:moveTo>
                        <a:lnTo>
                          <a:pt x="94" y="120"/>
                        </a:lnTo>
                        <a:lnTo>
                          <a:pt x="0" y="290"/>
                        </a:lnTo>
                        <a:lnTo>
                          <a:pt x="0" y="503"/>
                        </a:lnTo>
                        <a:lnTo>
                          <a:pt x="131" y="668"/>
                        </a:lnTo>
                        <a:lnTo>
                          <a:pt x="503" y="97"/>
                        </a:lnTo>
                        <a:lnTo>
                          <a:pt x="111" y="454"/>
                        </a:lnTo>
                        <a:lnTo>
                          <a:pt x="428" y="26"/>
                        </a:lnTo>
                        <a:lnTo>
                          <a:pt x="111" y="263"/>
                        </a:lnTo>
                        <a:lnTo>
                          <a:pt x="2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1224720" y="5097600"/>
                    <a:ext cx="885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22" h="789">
                        <a:moveTo>
                          <a:pt x="259" y="24"/>
                        </a:moveTo>
                        <a:lnTo>
                          <a:pt x="111" y="146"/>
                        </a:lnTo>
                        <a:lnTo>
                          <a:pt x="0" y="358"/>
                        </a:lnTo>
                        <a:lnTo>
                          <a:pt x="19" y="526"/>
                        </a:lnTo>
                        <a:lnTo>
                          <a:pt x="92" y="692"/>
                        </a:lnTo>
                        <a:lnTo>
                          <a:pt x="204" y="789"/>
                        </a:lnTo>
                        <a:lnTo>
                          <a:pt x="687" y="526"/>
                        </a:lnTo>
                        <a:lnTo>
                          <a:pt x="703" y="383"/>
                        </a:lnTo>
                        <a:lnTo>
                          <a:pt x="222" y="646"/>
                        </a:lnTo>
                        <a:lnTo>
                          <a:pt x="184" y="597"/>
                        </a:lnTo>
                        <a:lnTo>
                          <a:pt x="722" y="215"/>
                        </a:lnTo>
                        <a:lnTo>
                          <a:pt x="628" y="146"/>
                        </a:lnTo>
                        <a:lnTo>
                          <a:pt x="184" y="431"/>
                        </a:lnTo>
                        <a:lnTo>
                          <a:pt x="204" y="337"/>
                        </a:lnTo>
                        <a:lnTo>
                          <a:pt x="498" y="49"/>
                        </a:lnTo>
                        <a:lnTo>
                          <a:pt x="408" y="0"/>
                        </a:lnTo>
                        <a:lnTo>
                          <a:pt x="259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1304280" y="5247000"/>
                    <a:ext cx="885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723" h="310">
                        <a:moveTo>
                          <a:pt x="38" y="0"/>
                        </a:moveTo>
                        <a:lnTo>
                          <a:pt x="332" y="24"/>
                        </a:lnTo>
                        <a:lnTo>
                          <a:pt x="557" y="119"/>
                        </a:lnTo>
                        <a:lnTo>
                          <a:pt x="723" y="239"/>
                        </a:lnTo>
                        <a:lnTo>
                          <a:pt x="518" y="310"/>
                        </a:lnTo>
                        <a:lnTo>
                          <a:pt x="223" y="310"/>
                        </a:lnTo>
                        <a:lnTo>
                          <a:pt x="0" y="167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1375200" y="4653000"/>
                    <a:ext cx="181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2" h="529">
                        <a:moveTo>
                          <a:pt x="0" y="88"/>
                        </a:moveTo>
                        <a:lnTo>
                          <a:pt x="618" y="88"/>
                        </a:lnTo>
                        <a:lnTo>
                          <a:pt x="1472" y="0"/>
                        </a:lnTo>
                        <a:lnTo>
                          <a:pt x="446" y="310"/>
                        </a:lnTo>
                        <a:lnTo>
                          <a:pt x="35" y="529"/>
                        </a:lnTo>
                        <a:lnTo>
                          <a:pt x="0" y="220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1456200" y="4732920"/>
                    <a:ext cx="210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09" h="264">
                        <a:moveTo>
                          <a:pt x="0" y="88"/>
                        </a:moveTo>
                        <a:lnTo>
                          <a:pt x="1709" y="0"/>
                        </a:lnTo>
                        <a:lnTo>
                          <a:pt x="139" y="264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1461960" y="4732200"/>
                    <a:ext cx="3124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32" h="1981">
                        <a:moveTo>
                          <a:pt x="2532" y="0"/>
                        </a:moveTo>
                        <a:lnTo>
                          <a:pt x="1778" y="75"/>
                        </a:lnTo>
                        <a:lnTo>
                          <a:pt x="1055" y="38"/>
                        </a:lnTo>
                        <a:lnTo>
                          <a:pt x="693" y="38"/>
                        </a:lnTo>
                        <a:lnTo>
                          <a:pt x="994" y="310"/>
                        </a:lnTo>
                        <a:lnTo>
                          <a:pt x="272" y="466"/>
                        </a:lnTo>
                        <a:lnTo>
                          <a:pt x="576" y="738"/>
                        </a:lnTo>
                        <a:lnTo>
                          <a:pt x="361" y="815"/>
                        </a:lnTo>
                        <a:lnTo>
                          <a:pt x="454" y="1048"/>
                        </a:lnTo>
                        <a:lnTo>
                          <a:pt x="212" y="1087"/>
                        </a:lnTo>
                        <a:lnTo>
                          <a:pt x="422" y="1360"/>
                        </a:lnTo>
                        <a:lnTo>
                          <a:pt x="152" y="1478"/>
                        </a:lnTo>
                        <a:lnTo>
                          <a:pt x="272" y="1711"/>
                        </a:lnTo>
                        <a:lnTo>
                          <a:pt x="0" y="1867"/>
                        </a:lnTo>
                        <a:lnTo>
                          <a:pt x="92" y="1981"/>
                        </a:lnTo>
                        <a:lnTo>
                          <a:pt x="92" y="1867"/>
                        </a:lnTo>
                        <a:lnTo>
                          <a:pt x="394" y="1748"/>
                        </a:lnTo>
                        <a:lnTo>
                          <a:pt x="242" y="1515"/>
                        </a:lnTo>
                        <a:lnTo>
                          <a:pt x="484" y="1397"/>
                        </a:lnTo>
                        <a:lnTo>
                          <a:pt x="332" y="1167"/>
                        </a:lnTo>
                        <a:lnTo>
                          <a:pt x="544" y="1087"/>
                        </a:lnTo>
                        <a:lnTo>
                          <a:pt x="484" y="815"/>
                        </a:lnTo>
                        <a:lnTo>
                          <a:pt x="2081" y="584"/>
                        </a:lnTo>
                        <a:lnTo>
                          <a:pt x="602" y="699"/>
                        </a:lnTo>
                        <a:lnTo>
                          <a:pt x="422" y="506"/>
                        </a:lnTo>
                        <a:lnTo>
                          <a:pt x="2291" y="234"/>
                        </a:lnTo>
                        <a:lnTo>
                          <a:pt x="1117" y="310"/>
                        </a:lnTo>
                        <a:lnTo>
                          <a:pt x="906" y="75"/>
                        </a:lnTo>
                        <a:lnTo>
                          <a:pt x="1387" y="154"/>
                        </a:lnTo>
                        <a:lnTo>
                          <a:pt x="2051" y="75"/>
                        </a:lnTo>
                        <a:lnTo>
                          <a:pt x="253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1558080" y="4970160"/>
                    <a:ext cx="3272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2" h="1052">
                        <a:moveTo>
                          <a:pt x="812" y="0"/>
                        </a:moveTo>
                        <a:lnTo>
                          <a:pt x="362" y="119"/>
                        </a:lnTo>
                        <a:lnTo>
                          <a:pt x="0" y="312"/>
                        </a:lnTo>
                        <a:lnTo>
                          <a:pt x="902" y="661"/>
                        </a:lnTo>
                        <a:lnTo>
                          <a:pt x="1206" y="584"/>
                        </a:lnTo>
                        <a:lnTo>
                          <a:pt x="1324" y="624"/>
                        </a:lnTo>
                        <a:lnTo>
                          <a:pt x="1748" y="624"/>
                        </a:lnTo>
                        <a:lnTo>
                          <a:pt x="1386" y="741"/>
                        </a:lnTo>
                        <a:lnTo>
                          <a:pt x="1478" y="896"/>
                        </a:lnTo>
                        <a:lnTo>
                          <a:pt x="2112" y="859"/>
                        </a:lnTo>
                        <a:lnTo>
                          <a:pt x="1748" y="935"/>
                        </a:lnTo>
                        <a:lnTo>
                          <a:pt x="1896" y="1052"/>
                        </a:lnTo>
                        <a:lnTo>
                          <a:pt x="2441" y="817"/>
                        </a:lnTo>
                        <a:lnTo>
                          <a:pt x="2410" y="661"/>
                        </a:lnTo>
                        <a:lnTo>
                          <a:pt x="2652" y="545"/>
                        </a:lnTo>
                        <a:lnTo>
                          <a:pt x="2472" y="507"/>
                        </a:lnTo>
                        <a:lnTo>
                          <a:pt x="2652" y="389"/>
                        </a:lnTo>
                        <a:lnTo>
                          <a:pt x="2562" y="312"/>
                        </a:lnTo>
                        <a:lnTo>
                          <a:pt x="1748" y="389"/>
                        </a:lnTo>
                        <a:lnTo>
                          <a:pt x="1144" y="545"/>
                        </a:lnTo>
                        <a:lnTo>
                          <a:pt x="962" y="584"/>
                        </a:lnTo>
                        <a:lnTo>
                          <a:pt x="90" y="312"/>
                        </a:lnTo>
                        <a:lnTo>
                          <a:pt x="512" y="119"/>
                        </a:lnTo>
                        <a:lnTo>
                          <a:pt x="8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1569600" y="4975200"/>
                    <a:ext cx="182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8" h="235">
                        <a:moveTo>
                          <a:pt x="0" y="0"/>
                        </a:moveTo>
                        <a:lnTo>
                          <a:pt x="1478" y="156"/>
                        </a:lnTo>
                        <a:lnTo>
                          <a:pt x="1357" y="2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>
                    <a:off x="1525320" y="4839120"/>
                    <a:ext cx="1713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6" h="193">
                        <a:moveTo>
                          <a:pt x="0" y="193"/>
                        </a:moveTo>
                        <a:lnTo>
                          <a:pt x="1293" y="77"/>
                        </a:lnTo>
                        <a:lnTo>
                          <a:pt x="1386" y="0"/>
                        </a:lnTo>
                        <a:lnTo>
                          <a:pt x="0" y="19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1536480" y="4890960"/>
                    <a:ext cx="1702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3" h="77">
                        <a:moveTo>
                          <a:pt x="0" y="77"/>
                        </a:moveTo>
                        <a:lnTo>
                          <a:pt x="1326" y="77"/>
                        </a:lnTo>
                        <a:lnTo>
                          <a:pt x="1383" y="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1548000" y="4942440"/>
                    <a:ext cx="166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8" h="119">
                        <a:moveTo>
                          <a:pt x="0" y="0"/>
                        </a:moveTo>
                        <a:lnTo>
                          <a:pt x="1294" y="119"/>
                        </a:lnTo>
                        <a:lnTo>
                          <a:pt x="135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1592280" y="5050440"/>
                    <a:ext cx="23328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9" h="2490">
                        <a:moveTo>
                          <a:pt x="482" y="80"/>
                        </a:moveTo>
                        <a:lnTo>
                          <a:pt x="422" y="235"/>
                        </a:lnTo>
                        <a:lnTo>
                          <a:pt x="482" y="313"/>
                        </a:lnTo>
                        <a:lnTo>
                          <a:pt x="272" y="661"/>
                        </a:lnTo>
                        <a:lnTo>
                          <a:pt x="422" y="857"/>
                        </a:lnTo>
                        <a:lnTo>
                          <a:pt x="272" y="1050"/>
                        </a:lnTo>
                        <a:lnTo>
                          <a:pt x="242" y="1168"/>
                        </a:lnTo>
                        <a:lnTo>
                          <a:pt x="302" y="1283"/>
                        </a:lnTo>
                        <a:lnTo>
                          <a:pt x="150" y="1401"/>
                        </a:lnTo>
                        <a:lnTo>
                          <a:pt x="272" y="1557"/>
                        </a:lnTo>
                        <a:lnTo>
                          <a:pt x="180" y="1674"/>
                        </a:lnTo>
                        <a:lnTo>
                          <a:pt x="90" y="1518"/>
                        </a:lnTo>
                        <a:lnTo>
                          <a:pt x="180" y="1869"/>
                        </a:lnTo>
                        <a:lnTo>
                          <a:pt x="32" y="1909"/>
                        </a:lnTo>
                        <a:lnTo>
                          <a:pt x="180" y="2062"/>
                        </a:lnTo>
                        <a:lnTo>
                          <a:pt x="0" y="2179"/>
                        </a:lnTo>
                        <a:lnTo>
                          <a:pt x="180" y="2412"/>
                        </a:lnTo>
                        <a:lnTo>
                          <a:pt x="150" y="2179"/>
                        </a:lnTo>
                        <a:lnTo>
                          <a:pt x="302" y="2101"/>
                        </a:lnTo>
                        <a:lnTo>
                          <a:pt x="1598" y="2490"/>
                        </a:lnTo>
                        <a:lnTo>
                          <a:pt x="272" y="2023"/>
                        </a:lnTo>
                        <a:lnTo>
                          <a:pt x="150" y="1909"/>
                        </a:lnTo>
                        <a:lnTo>
                          <a:pt x="1539" y="2295"/>
                        </a:lnTo>
                        <a:lnTo>
                          <a:pt x="302" y="1827"/>
                        </a:lnTo>
                        <a:lnTo>
                          <a:pt x="1632" y="2101"/>
                        </a:lnTo>
                        <a:lnTo>
                          <a:pt x="1657" y="2023"/>
                        </a:lnTo>
                        <a:lnTo>
                          <a:pt x="1598" y="1946"/>
                        </a:lnTo>
                        <a:lnTo>
                          <a:pt x="1508" y="1909"/>
                        </a:lnTo>
                        <a:lnTo>
                          <a:pt x="1657" y="1634"/>
                        </a:lnTo>
                        <a:lnTo>
                          <a:pt x="1358" y="1711"/>
                        </a:lnTo>
                        <a:lnTo>
                          <a:pt x="1024" y="1827"/>
                        </a:lnTo>
                        <a:lnTo>
                          <a:pt x="906" y="1478"/>
                        </a:lnTo>
                        <a:lnTo>
                          <a:pt x="783" y="1283"/>
                        </a:lnTo>
                        <a:lnTo>
                          <a:pt x="332" y="1168"/>
                        </a:lnTo>
                        <a:lnTo>
                          <a:pt x="332" y="1089"/>
                        </a:lnTo>
                        <a:lnTo>
                          <a:pt x="394" y="973"/>
                        </a:lnTo>
                        <a:lnTo>
                          <a:pt x="482" y="857"/>
                        </a:lnTo>
                        <a:lnTo>
                          <a:pt x="1688" y="1246"/>
                        </a:lnTo>
                        <a:lnTo>
                          <a:pt x="1747" y="1089"/>
                        </a:lnTo>
                        <a:lnTo>
                          <a:pt x="422" y="817"/>
                        </a:lnTo>
                        <a:lnTo>
                          <a:pt x="364" y="700"/>
                        </a:lnTo>
                        <a:lnTo>
                          <a:pt x="394" y="587"/>
                        </a:lnTo>
                        <a:lnTo>
                          <a:pt x="482" y="465"/>
                        </a:lnTo>
                        <a:lnTo>
                          <a:pt x="574" y="350"/>
                        </a:lnTo>
                        <a:lnTo>
                          <a:pt x="1899" y="548"/>
                        </a:lnTo>
                        <a:lnTo>
                          <a:pt x="1899" y="507"/>
                        </a:lnTo>
                        <a:lnTo>
                          <a:pt x="514" y="235"/>
                        </a:lnTo>
                        <a:lnTo>
                          <a:pt x="514" y="156"/>
                        </a:lnTo>
                        <a:lnTo>
                          <a:pt x="634" y="0"/>
                        </a:lnTo>
                        <a:lnTo>
                          <a:pt x="482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1730160" y="5168160"/>
                    <a:ext cx="216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232">
                        <a:moveTo>
                          <a:pt x="0" y="0"/>
                        </a:moveTo>
                        <a:lnTo>
                          <a:pt x="179" y="232"/>
                        </a:lnTo>
                        <a:lnTo>
                          <a:pt x="60" y="2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1621440" y="5337000"/>
                    <a:ext cx="24804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7" h="1362">
                        <a:moveTo>
                          <a:pt x="754" y="79"/>
                        </a:moveTo>
                        <a:lnTo>
                          <a:pt x="2017" y="468"/>
                        </a:lnTo>
                        <a:lnTo>
                          <a:pt x="1899" y="664"/>
                        </a:lnTo>
                        <a:lnTo>
                          <a:pt x="1927" y="740"/>
                        </a:lnTo>
                        <a:lnTo>
                          <a:pt x="1776" y="817"/>
                        </a:lnTo>
                        <a:lnTo>
                          <a:pt x="1927" y="973"/>
                        </a:lnTo>
                        <a:lnTo>
                          <a:pt x="1747" y="1052"/>
                        </a:lnTo>
                        <a:lnTo>
                          <a:pt x="1837" y="1129"/>
                        </a:lnTo>
                        <a:lnTo>
                          <a:pt x="1688" y="1206"/>
                        </a:lnTo>
                        <a:lnTo>
                          <a:pt x="1747" y="1362"/>
                        </a:lnTo>
                        <a:lnTo>
                          <a:pt x="1266" y="1206"/>
                        </a:lnTo>
                        <a:lnTo>
                          <a:pt x="1176" y="973"/>
                        </a:lnTo>
                        <a:lnTo>
                          <a:pt x="994" y="1052"/>
                        </a:lnTo>
                        <a:lnTo>
                          <a:pt x="510" y="544"/>
                        </a:lnTo>
                        <a:lnTo>
                          <a:pt x="121" y="314"/>
                        </a:lnTo>
                        <a:lnTo>
                          <a:pt x="0" y="233"/>
                        </a:lnTo>
                        <a:lnTo>
                          <a:pt x="540" y="0"/>
                        </a:lnTo>
                        <a:lnTo>
                          <a:pt x="121" y="233"/>
                        </a:lnTo>
                        <a:lnTo>
                          <a:pt x="540" y="468"/>
                        </a:lnTo>
                        <a:lnTo>
                          <a:pt x="1024" y="1012"/>
                        </a:lnTo>
                        <a:lnTo>
                          <a:pt x="1899" y="507"/>
                        </a:lnTo>
                        <a:lnTo>
                          <a:pt x="754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1577160" y="5411160"/>
                    <a:ext cx="24840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1479">
                        <a:moveTo>
                          <a:pt x="62" y="0"/>
                        </a:moveTo>
                        <a:lnTo>
                          <a:pt x="0" y="117"/>
                        </a:lnTo>
                        <a:lnTo>
                          <a:pt x="32" y="194"/>
                        </a:lnTo>
                        <a:lnTo>
                          <a:pt x="62" y="310"/>
                        </a:lnTo>
                        <a:lnTo>
                          <a:pt x="90" y="350"/>
                        </a:lnTo>
                        <a:lnTo>
                          <a:pt x="0" y="468"/>
                        </a:lnTo>
                        <a:lnTo>
                          <a:pt x="122" y="583"/>
                        </a:lnTo>
                        <a:lnTo>
                          <a:pt x="62" y="698"/>
                        </a:lnTo>
                        <a:lnTo>
                          <a:pt x="62" y="857"/>
                        </a:lnTo>
                        <a:lnTo>
                          <a:pt x="364" y="857"/>
                        </a:lnTo>
                        <a:lnTo>
                          <a:pt x="694" y="1011"/>
                        </a:lnTo>
                        <a:lnTo>
                          <a:pt x="934" y="1244"/>
                        </a:lnTo>
                        <a:lnTo>
                          <a:pt x="1086" y="1402"/>
                        </a:lnTo>
                        <a:lnTo>
                          <a:pt x="1238" y="1320"/>
                        </a:lnTo>
                        <a:lnTo>
                          <a:pt x="1387" y="1479"/>
                        </a:lnTo>
                        <a:lnTo>
                          <a:pt x="1809" y="1244"/>
                        </a:lnTo>
                        <a:lnTo>
                          <a:pt x="1657" y="1127"/>
                        </a:lnTo>
                        <a:lnTo>
                          <a:pt x="1930" y="1050"/>
                        </a:lnTo>
                        <a:lnTo>
                          <a:pt x="1717" y="1050"/>
                        </a:lnTo>
                        <a:lnTo>
                          <a:pt x="2020" y="892"/>
                        </a:lnTo>
                        <a:lnTo>
                          <a:pt x="1024" y="1168"/>
                        </a:lnTo>
                        <a:lnTo>
                          <a:pt x="90" y="468"/>
                        </a:lnTo>
                        <a:lnTo>
                          <a:pt x="844" y="583"/>
                        </a:lnTo>
                        <a:lnTo>
                          <a:pt x="180" y="350"/>
                        </a:lnTo>
                        <a:lnTo>
                          <a:pt x="90" y="117"/>
                        </a:lnTo>
                        <a:lnTo>
                          <a:pt x="122" y="41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H="1">
                    <a:off x="1354680" y="5500800"/>
                    <a:ext cx="46800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9" h="2915">
                        <a:moveTo>
                          <a:pt x="0" y="0"/>
                        </a:moveTo>
                        <a:lnTo>
                          <a:pt x="0" y="623"/>
                        </a:lnTo>
                        <a:lnTo>
                          <a:pt x="210" y="700"/>
                        </a:lnTo>
                        <a:lnTo>
                          <a:pt x="118" y="933"/>
                        </a:lnTo>
                        <a:lnTo>
                          <a:pt x="422" y="814"/>
                        </a:lnTo>
                        <a:lnTo>
                          <a:pt x="390" y="933"/>
                        </a:lnTo>
                        <a:lnTo>
                          <a:pt x="662" y="855"/>
                        </a:lnTo>
                        <a:lnTo>
                          <a:pt x="1507" y="1088"/>
                        </a:lnTo>
                        <a:lnTo>
                          <a:pt x="1265" y="1205"/>
                        </a:lnTo>
                        <a:lnTo>
                          <a:pt x="1418" y="1295"/>
                        </a:lnTo>
                        <a:lnTo>
                          <a:pt x="1621" y="1194"/>
                        </a:lnTo>
                        <a:lnTo>
                          <a:pt x="1660" y="1383"/>
                        </a:lnTo>
                        <a:lnTo>
                          <a:pt x="1849" y="1330"/>
                        </a:lnTo>
                        <a:lnTo>
                          <a:pt x="1929" y="1574"/>
                        </a:lnTo>
                        <a:lnTo>
                          <a:pt x="2105" y="1468"/>
                        </a:lnTo>
                        <a:lnTo>
                          <a:pt x="2199" y="1677"/>
                        </a:lnTo>
                        <a:lnTo>
                          <a:pt x="2320" y="1607"/>
                        </a:lnTo>
                        <a:lnTo>
                          <a:pt x="2320" y="1936"/>
                        </a:lnTo>
                        <a:lnTo>
                          <a:pt x="2522" y="1712"/>
                        </a:lnTo>
                        <a:lnTo>
                          <a:pt x="2621" y="1827"/>
                        </a:lnTo>
                        <a:lnTo>
                          <a:pt x="2522" y="2249"/>
                        </a:lnTo>
                        <a:lnTo>
                          <a:pt x="2829" y="1730"/>
                        </a:lnTo>
                        <a:lnTo>
                          <a:pt x="3253" y="1124"/>
                        </a:lnTo>
                        <a:lnTo>
                          <a:pt x="2682" y="2283"/>
                        </a:lnTo>
                        <a:lnTo>
                          <a:pt x="2725" y="2437"/>
                        </a:lnTo>
                        <a:lnTo>
                          <a:pt x="3283" y="1361"/>
                        </a:lnTo>
                        <a:lnTo>
                          <a:pt x="2884" y="2334"/>
                        </a:lnTo>
                        <a:lnTo>
                          <a:pt x="2979" y="2523"/>
                        </a:lnTo>
                        <a:lnTo>
                          <a:pt x="3253" y="1791"/>
                        </a:lnTo>
                        <a:lnTo>
                          <a:pt x="3073" y="2567"/>
                        </a:lnTo>
                        <a:lnTo>
                          <a:pt x="2681" y="2486"/>
                        </a:lnTo>
                        <a:lnTo>
                          <a:pt x="2260" y="2334"/>
                        </a:lnTo>
                        <a:lnTo>
                          <a:pt x="2078" y="2175"/>
                        </a:lnTo>
                        <a:lnTo>
                          <a:pt x="1904" y="1987"/>
                        </a:lnTo>
                        <a:lnTo>
                          <a:pt x="1625" y="1827"/>
                        </a:lnTo>
                        <a:lnTo>
                          <a:pt x="1503" y="1952"/>
                        </a:lnTo>
                        <a:lnTo>
                          <a:pt x="1445" y="1749"/>
                        </a:lnTo>
                        <a:lnTo>
                          <a:pt x="1367" y="1885"/>
                        </a:lnTo>
                        <a:lnTo>
                          <a:pt x="1259" y="1677"/>
                        </a:lnTo>
                        <a:lnTo>
                          <a:pt x="1114" y="1673"/>
                        </a:lnTo>
                        <a:lnTo>
                          <a:pt x="1054" y="1555"/>
                        </a:lnTo>
                        <a:lnTo>
                          <a:pt x="874" y="1594"/>
                        </a:lnTo>
                        <a:lnTo>
                          <a:pt x="678" y="1521"/>
                        </a:lnTo>
                        <a:lnTo>
                          <a:pt x="775" y="1798"/>
                        </a:lnTo>
                        <a:lnTo>
                          <a:pt x="883" y="1659"/>
                        </a:lnTo>
                        <a:lnTo>
                          <a:pt x="1056" y="1695"/>
                        </a:lnTo>
                        <a:lnTo>
                          <a:pt x="1114" y="1827"/>
                        </a:lnTo>
                        <a:lnTo>
                          <a:pt x="1054" y="1906"/>
                        </a:lnTo>
                        <a:lnTo>
                          <a:pt x="1175" y="1943"/>
                        </a:lnTo>
                        <a:lnTo>
                          <a:pt x="1114" y="2101"/>
                        </a:lnTo>
                        <a:lnTo>
                          <a:pt x="1054" y="2255"/>
                        </a:lnTo>
                        <a:lnTo>
                          <a:pt x="1083" y="2295"/>
                        </a:lnTo>
                        <a:lnTo>
                          <a:pt x="1236" y="2060"/>
                        </a:lnTo>
                        <a:lnTo>
                          <a:pt x="1296" y="1984"/>
                        </a:lnTo>
                        <a:lnTo>
                          <a:pt x="1476" y="2138"/>
                        </a:lnTo>
                        <a:lnTo>
                          <a:pt x="1600" y="2138"/>
                        </a:lnTo>
                        <a:lnTo>
                          <a:pt x="1600" y="2217"/>
                        </a:lnTo>
                        <a:lnTo>
                          <a:pt x="1715" y="2255"/>
                        </a:lnTo>
                        <a:lnTo>
                          <a:pt x="1898" y="2295"/>
                        </a:lnTo>
                        <a:lnTo>
                          <a:pt x="1988" y="2410"/>
                        </a:lnTo>
                        <a:lnTo>
                          <a:pt x="2109" y="2371"/>
                        </a:lnTo>
                        <a:lnTo>
                          <a:pt x="2140" y="2486"/>
                        </a:lnTo>
                        <a:lnTo>
                          <a:pt x="2260" y="2486"/>
                        </a:lnTo>
                        <a:lnTo>
                          <a:pt x="2410" y="2606"/>
                        </a:lnTo>
                        <a:lnTo>
                          <a:pt x="2471" y="2527"/>
                        </a:lnTo>
                        <a:lnTo>
                          <a:pt x="2592" y="2567"/>
                        </a:lnTo>
                        <a:lnTo>
                          <a:pt x="2863" y="2683"/>
                        </a:lnTo>
                        <a:lnTo>
                          <a:pt x="2983" y="2799"/>
                        </a:lnTo>
                        <a:lnTo>
                          <a:pt x="3043" y="2915"/>
                        </a:lnTo>
                        <a:lnTo>
                          <a:pt x="3105" y="2762"/>
                        </a:lnTo>
                        <a:lnTo>
                          <a:pt x="3313" y="2762"/>
                        </a:lnTo>
                        <a:lnTo>
                          <a:pt x="3555" y="2837"/>
                        </a:lnTo>
                        <a:lnTo>
                          <a:pt x="3675" y="2876"/>
                        </a:lnTo>
                        <a:lnTo>
                          <a:pt x="3645" y="2643"/>
                        </a:lnTo>
                        <a:lnTo>
                          <a:pt x="3645" y="2448"/>
                        </a:lnTo>
                        <a:lnTo>
                          <a:pt x="3707" y="2255"/>
                        </a:lnTo>
                        <a:lnTo>
                          <a:pt x="3737" y="2101"/>
                        </a:lnTo>
                        <a:lnTo>
                          <a:pt x="3799" y="1906"/>
                        </a:lnTo>
                        <a:lnTo>
                          <a:pt x="3583" y="1906"/>
                        </a:lnTo>
                        <a:lnTo>
                          <a:pt x="3495" y="1477"/>
                        </a:lnTo>
                        <a:lnTo>
                          <a:pt x="3465" y="1166"/>
                        </a:lnTo>
                        <a:lnTo>
                          <a:pt x="3495" y="855"/>
                        </a:lnTo>
                        <a:lnTo>
                          <a:pt x="3527" y="581"/>
                        </a:lnTo>
                        <a:lnTo>
                          <a:pt x="3313" y="700"/>
                        </a:lnTo>
                        <a:lnTo>
                          <a:pt x="3283" y="700"/>
                        </a:lnTo>
                        <a:lnTo>
                          <a:pt x="3166" y="740"/>
                        </a:lnTo>
                        <a:lnTo>
                          <a:pt x="3073" y="894"/>
                        </a:lnTo>
                        <a:lnTo>
                          <a:pt x="2922" y="1012"/>
                        </a:lnTo>
                        <a:lnTo>
                          <a:pt x="2713" y="1012"/>
                        </a:lnTo>
                        <a:lnTo>
                          <a:pt x="2559" y="1051"/>
                        </a:lnTo>
                        <a:lnTo>
                          <a:pt x="2471" y="1051"/>
                        </a:lnTo>
                        <a:lnTo>
                          <a:pt x="2351" y="1124"/>
                        </a:lnTo>
                        <a:lnTo>
                          <a:pt x="2289" y="1205"/>
                        </a:lnTo>
                        <a:lnTo>
                          <a:pt x="2168" y="1321"/>
                        </a:lnTo>
                        <a:lnTo>
                          <a:pt x="2109" y="1282"/>
                        </a:lnTo>
                        <a:lnTo>
                          <a:pt x="2199" y="1088"/>
                        </a:lnTo>
                        <a:lnTo>
                          <a:pt x="2017" y="1124"/>
                        </a:lnTo>
                        <a:lnTo>
                          <a:pt x="2017" y="1088"/>
                        </a:lnTo>
                        <a:lnTo>
                          <a:pt x="2289" y="972"/>
                        </a:lnTo>
                        <a:lnTo>
                          <a:pt x="2441" y="740"/>
                        </a:lnTo>
                        <a:lnTo>
                          <a:pt x="2592" y="544"/>
                        </a:lnTo>
                        <a:lnTo>
                          <a:pt x="2533" y="388"/>
                        </a:lnTo>
                        <a:lnTo>
                          <a:pt x="2410" y="233"/>
                        </a:lnTo>
                        <a:lnTo>
                          <a:pt x="2260" y="79"/>
                        </a:lnTo>
                        <a:lnTo>
                          <a:pt x="2232" y="153"/>
                        </a:lnTo>
                        <a:lnTo>
                          <a:pt x="2379" y="311"/>
                        </a:lnTo>
                        <a:lnTo>
                          <a:pt x="2379" y="348"/>
                        </a:lnTo>
                        <a:lnTo>
                          <a:pt x="1898" y="544"/>
                        </a:lnTo>
                        <a:lnTo>
                          <a:pt x="1838" y="1124"/>
                        </a:lnTo>
                        <a:lnTo>
                          <a:pt x="844" y="779"/>
                        </a:lnTo>
                        <a:lnTo>
                          <a:pt x="90" y="581"/>
                        </a:lnTo>
                        <a:lnTo>
                          <a:pt x="58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>
                    <a:off x="1662840" y="5650200"/>
                    <a:ext cx="738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232">
                        <a:moveTo>
                          <a:pt x="0" y="232"/>
                        </a:moveTo>
                        <a:lnTo>
                          <a:pt x="360" y="116"/>
                        </a:lnTo>
                        <a:lnTo>
                          <a:pt x="602" y="0"/>
                        </a:lnTo>
                        <a:lnTo>
                          <a:pt x="0" y="2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>
                    <a:off x="1652040" y="5655240"/>
                    <a:ext cx="399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232">
                        <a:moveTo>
                          <a:pt x="0" y="232"/>
                        </a:moveTo>
                        <a:lnTo>
                          <a:pt x="330" y="79"/>
                        </a:lnTo>
                        <a:lnTo>
                          <a:pt x="330" y="0"/>
                        </a:lnTo>
                        <a:lnTo>
                          <a:pt x="0" y="2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1618920" y="5669640"/>
                    <a:ext cx="439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309">
                        <a:moveTo>
                          <a:pt x="360" y="0"/>
                        </a:moveTo>
                        <a:lnTo>
                          <a:pt x="88" y="309"/>
                        </a:lnTo>
                        <a:lnTo>
                          <a:pt x="0" y="272"/>
                        </a:lnTo>
                        <a:lnTo>
                          <a:pt x="3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>
                    <a:off x="1576800" y="5688000"/>
                    <a:ext cx="44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363" y="0"/>
                        </a:moveTo>
                        <a:lnTo>
                          <a:pt x="60" y="272"/>
                        </a:lnTo>
                        <a:lnTo>
                          <a:pt x="0" y="236"/>
                        </a:lnTo>
                        <a:lnTo>
                          <a:pt x="36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>
                    <a:off x="1551960" y="5716800"/>
                    <a:ext cx="25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69">
                        <a:moveTo>
                          <a:pt x="211" y="0"/>
                        </a:moveTo>
                        <a:lnTo>
                          <a:pt x="29" y="269"/>
                        </a:lnTo>
                        <a:lnTo>
                          <a:pt x="0" y="152"/>
                        </a:lnTo>
                        <a:lnTo>
                          <a:pt x="2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1213200" y="5481360"/>
                    <a:ext cx="14796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2" h="2527">
                        <a:moveTo>
                          <a:pt x="28" y="2331"/>
                        </a:moveTo>
                        <a:lnTo>
                          <a:pt x="362" y="2451"/>
                        </a:lnTo>
                        <a:lnTo>
                          <a:pt x="542" y="2527"/>
                        </a:lnTo>
                        <a:lnTo>
                          <a:pt x="782" y="2527"/>
                        </a:lnTo>
                        <a:lnTo>
                          <a:pt x="934" y="2527"/>
                        </a:lnTo>
                        <a:lnTo>
                          <a:pt x="904" y="2140"/>
                        </a:lnTo>
                        <a:lnTo>
                          <a:pt x="602" y="779"/>
                        </a:lnTo>
                        <a:lnTo>
                          <a:pt x="1202" y="0"/>
                        </a:lnTo>
                        <a:lnTo>
                          <a:pt x="392" y="428"/>
                        </a:lnTo>
                        <a:lnTo>
                          <a:pt x="508" y="667"/>
                        </a:lnTo>
                        <a:lnTo>
                          <a:pt x="194" y="553"/>
                        </a:lnTo>
                        <a:lnTo>
                          <a:pt x="499" y="757"/>
                        </a:lnTo>
                        <a:lnTo>
                          <a:pt x="97" y="654"/>
                        </a:lnTo>
                        <a:lnTo>
                          <a:pt x="499" y="829"/>
                        </a:lnTo>
                        <a:lnTo>
                          <a:pt x="86" y="769"/>
                        </a:lnTo>
                        <a:lnTo>
                          <a:pt x="508" y="931"/>
                        </a:lnTo>
                        <a:lnTo>
                          <a:pt x="724" y="1522"/>
                        </a:lnTo>
                        <a:lnTo>
                          <a:pt x="869" y="2373"/>
                        </a:lnTo>
                        <a:lnTo>
                          <a:pt x="607" y="2158"/>
                        </a:lnTo>
                        <a:lnTo>
                          <a:pt x="240" y="2062"/>
                        </a:lnTo>
                        <a:lnTo>
                          <a:pt x="0" y="2062"/>
                        </a:lnTo>
                        <a:lnTo>
                          <a:pt x="28" y="2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H="1">
                    <a:off x="1287720" y="5566320"/>
                    <a:ext cx="8568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94" h="1320">
                        <a:moveTo>
                          <a:pt x="30" y="0"/>
                        </a:moveTo>
                        <a:lnTo>
                          <a:pt x="0" y="468"/>
                        </a:lnTo>
                        <a:lnTo>
                          <a:pt x="62" y="1247"/>
                        </a:lnTo>
                        <a:lnTo>
                          <a:pt x="362" y="1247"/>
                        </a:lnTo>
                        <a:lnTo>
                          <a:pt x="694" y="1320"/>
                        </a:lnTo>
                        <a:lnTo>
                          <a:pt x="454" y="1205"/>
                        </a:lnTo>
                        <a:lnTo>
                          <a:pt x="92" y="1166"/>
                        </a:lnTo>
                        <a:lnTo>
                          <a:pt x="62" y="58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>
                    <a:off x="1669680" y="5692680"/>
                    <a:ext cx="18108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9" h="2917">
                        <a:moveTo>
                          <a:pt x="1107" y="0"/>
                        </a:moveTo>
                        <a:lnTo>
                          <a:pt x="1017" y="155"/>
                        </a:lnTo>
                        <a:lnTo>
                          <a:pt x="565" y="854"/>
                        </a:lnTo>
                        <a:lnTo>
                          <a:pt x="201" y="1515"/>
                        </a:lnTo>
                        <a:lnTo>
                          <a:pt x="83" y="1867"/>
                        </a:lnTo>
                        <a:lnTo>
                          <a:pt x="0" y="2035"/>
                        </a:lnTo>
                        <a:lnTo>
                          <a:pt x="21" y="2488"/>
                        </a:lnTo>
                        <a:lnTo>
                          <a:pt x="21" y="2760"/>
                        </a:lnTo>
                        <a:lnTo>
                          <a:pt x="107" y="2850"/>
                        </a:lnTo>
                        <a:lnTo>
                          <a:pt x="263" y="2917"/>
                        </a:lnTo>
                        <a:lnTo>
                          <a:pt x="427" y="2745"/>
                        </a:lnTo>
                        <a:lnTo>
                          <a:pt x="323" y="2411"/>
                        </a:lnTo>
                        <a:lnTo>
                          <a:pt x="333" y="2000"/>
                        </a:lnTo>
                        <a:lnTo>
                          <a:pt x="415" y="1897"/>
                        </a:lnTo>
                        <a:lnTo>
                          <a:pt x="482" y="1691"/>
                        </a:lnTo>
                        <a:lnTo>
                          <a:pt x="754" y="1379"/>
                        </a:lnTo>
                        <a:lnTo>
                          <a:pt x="1074" y="1051"/>
                        </a:lnTo>
                        <a:lnTo>
                          <a:pt x="1225" y="854"/>
                        </a:lnTo>
                        <a:lnTo>
                          <a:pt x="1347" y="661"/>
                        </a:lnTo>
                        <a:lnTo>
                          <a:pt x="1439" y="466"/>
                        </a:lnTo>
                        <a:lnTo>
                          <a:pt x="1469" y="349"/>
                        </a:lnTo>
                        <a:lnTo>
                          <a:pt x="1439" y="349"/>
                        </a:lnTo>
                        <a:lnTo>
                          <a:pt x="1116" y="445"/>
                        </a:lnTo>
                        <a:lnTo>
                          <a:pt x="1250" y="551"/>
                        </a:lnTo>
                        <a:lnTo>
                          <a:pt x="1019" y="948"/>
                        </a:lnTo>
                        <a:lnTo>
                          <a:pt x="470" y="1620"/>
                        </a:lnTo>
                        <a:lnTo>
                          <a:pt x="293" y="2018"/>
                        </a:lnTo>
                        <a:lnTo>
                          <a:pt x="281" y="2297"/>
                        </a:lnTo>
                        <a:lnTo>
                          <a:pt x="281" y="2588"/>
                        </a:lnTo>
                        <a:lnTo>
                          <a:pt x="118" y="2606"/>
                        </a:lnTo>
                        <a:lnTo>
                          <a:pt x="23" y="2055"/>
                        </a:lnTo>
                        <a:lnTo>
                          <a:pt x="143" y="1825"/>
                        </a:lnTo>
                        <a:lnTo>
                          <a:pt x="263" y="1556"/>
                        </a:lnTo>
                        <a:lnTo>
                          <a:pt x="623" y="854"/>
                        </a:lnTo>
                        <a:lnTo>
                          <a:pt x="1017" y="270"/>
                        </a:lnTo>
                        <a:lnTo>
                          <a:pt x="1135" y="79"/>
                        </a:lnTo>
                        <a:lnTo>
                          <a:pt x="1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H="1">
                    <a:off x="1306080" y="5799600"/>
                    <a:ext cx="21852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77" h="2452">
                        <a:moveTo>
                          <a:pt x="0" y="0"/>
                        </a:moveTo>
                        <a:lnTo>
                          <a:pt x="31" y="351"/>
                        </a:lnTo>
                        <a:lnTo>
                          <a:pt x="61" y="623"/>
                        </a:lnTo>
                        <a:lnTo>
                          <a:pt x="483" y="975"/>
                        </a:lnTo>
                        <a:lnTo>
                          <a:pt x="1202" y="1560"/>
                        </a:lnTo>
                        <a:lnTo>
                          <a:pt x="1297" y="1712"/>
                        </a:lnTo>
                        <a:lnTo>
                          <a:pt x="1235" y="1868"/>
                        </a:lnTo>
                        <a:lnTo>
                          <a:pt x="995" y="2143"/>
                        </a:lnTo>
                        <a:lnTo>
                          <a:pt x="933" y="2219"/>
                        </a:lnTo>
                        <a:lnTo>
                          <a:pt x="695" y="2336"/>
                        </a:lnTo>
                        <a:lnTo>
                          <a:pt x="663" y="2413"/>
                        </a:lnTo>
                        <a:lnTo>
                          <a:pt x="815" y="2452"/>
                        </a:lnTo>
                        <a:lnTo>
                          <a:pt x="1297" y="2336"/>
                        </a:lnTo>
                        <a:lnTo>
                          <a:pt x="1507" y="2219"/>
                        </a:lnTo>
                        <a:lnTo>
                          <a:pt x="1536" y="2295"/>
                        </a:lnTo>
                        <a:lnTo>
                          <a:pt x="1597" y="2295"/>
                        </a:lnTo>
                        <a:lnTo>
                          <a:pt x="1689" y="2103"/>
                        </a:lnTo>
                        <a:lnTo>
                          <a:pt x="1777" y="2025"/>
                        </a:lnTo>
                        <a:lnTo>
                          <a:pt x="1777" y="1945"/>
                        </a:lnTo>
                        <a:lnTo>
                          <a:pt x="1689" y="1793"/>
                        </a:lnTo>
                        <a:lnTo>
                          <a:pt x="1523" y="1576"/>
                        </a:lnTo>
                        <a:lnTo>
                          <a:pt x="1297" y="1090"/>
                        </a:lnTo>
                        <a:lnTo>
                          <a:pt x="1085" y="781"/>
                        </a:lnTo>
                        <a:lnTo>
                          <a:pt x="933" y="586"/>
                        </a:lnTo>
                        <a:lnTo>
                          <a:pt x="815" y="507"/>
                        </a:lnTo>
                        <a:lnTo>
                          <a:pt x="633" y="470"/>
                        </a:lnTo>
                        <a:lnTo>
                          <a:pt x="663" y="157"/>
                        </a:lnTo>
                        <a:lnTo>
                          <a:pt x="453" y="120"/>
                        </a:lnTo>
                        <a:lnTo>
                          <a:pt x="573" y="429"/>
                        </a:lnTo>
                        <a:lnTo>
                          <a:pt x="512" y="470"/>
                        </a:lnTo>
                        <a:lnTo>
                          <a:pt x="852" y="625"/>
                        </a:lnTo>
                        <a:lnTo>
                          <a:pt x="1011" y="799"/>
                        </a:lnTo>
                        <a:lnTo>
                          <a:pt x="1320" y="1267"/>
                        </a:lnTo>
                        <a:lnTo>
                          <a:pt x="1484" y="1594"/>
                        </a:lnTo>
                        <a:lnTo>
                          <a:pt x="1657" y="1831"/>
                        </a:lnTo>
                        <a:lnTo>
                          <a:pt x="1417" y="2062"/>
                        </a:lnTo>
                        <a:lnTo>
                          <a:pt x="1235" y="2219"/>
                        </a:lnTo>
                        <a:lnTo>
                          <a:pt x="1079" y="2268"/>
                        </a:lnTo>
                        <a:lnTo>
                          <a:pt x="974" y="2233"/>
                        </a:lnTo>
                        <a:lnTo>
                          <a:pt x="1207" y="2025"/>
                        </a:lnTo>
                        <a:lnTo>
                          <a:pt x="1320" y="1802"/>
                        </a:lnTo>
                        <a:lnTo>
                          <a:pt x="1350" y="1732"/>
                        </a:lnTo>
                        <a:lnTo>
                          <a:pt x="1320" y="1647"/>
                        </a:lnTo>
                        <a:lnTo>
                          <a:pt x="1255" y="1526"/>
                        </a:lnTo>
                        <a:lnTo>
                          <a:pt x="852" y="1179"/>
                        </a:lnTo>
                        <a:lnTo>
                          <a:pt x="569" y="954"/>
                        </a:lnTo>
                        <a:lnTo>
                          <a:pt x="380" y="799"/>
                        </a:lnTo>
                        <a:lnTo>
                          <a:pt x="303" y="586"/>
                        </a:lnTo>
                        <a:lnTo>
                          <a:pt x="123" y="586"/>
                        </a:lnTo>
                        <a:lnTo>
                          <a:pt x="61" y="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H="1">
                    <a:off x="1439640" y="5908680"/>
                    <a:ext cx="30816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03" h="1127">
                        <a:moveTo>
                          <a:pt x="0" y="77"/>
                        </a:moveTo>
                        <a:lnTo>
                          <a:pt x="182" y="312"/>
                        </a:lnTo>
                        <a:lnTo>
                          <a:pt x="242" y="425"/>
                        </a:lnTo>
                        <a:lnTo>
                          <a:pt x="30" y="505"/>
                        </a:lnTo>
                        <a:lnTo>
                          <a:pt x="694" y="895"/>
                        </a:lnTo>
                        <a:lnTo>
                          <a:pt x="814" y="895"/>
                        </a:lnTo>
                        <a:lnTo>
                          <a:pt x="782" y="814"/>
                        </a:lnTo>
                        <a:lnTo>
                          <a:pt x="1175" y="1012"/>
                        </a:lnTo>
                        <a:lnTo>
                          <a:pt x="1113" y="1047"/>
                        </a:lnTo>
                        <a:lnTo>
                          <a:pt x="1144" y="1127"/>
                        </a:lnTo>
                        <a:lnTo>
                          <a:pt x="1839" y="1012"/>
                        </a:lnTo>
                        <a:lnTo>
                          <a:pt x="2261" y="895"/>
                        </a:lnTo>
                        <a:lnTo>
                          <a:pt x="2503" y="738"/>
                        </a:lnTo>
                        <a:lnTo>
                          <a:pt x="2111" y="581"/>
                        </a:lnTo>
                        <a:lnTo>
                          <a:pt x="1658" y="386"/>
                        </a:lnTo>
                        <a:lnTo>
                          <a:pt x="1358" y="155"/>
                        </a:lnTo>
                        <a:lnTo>
                          <a:pt x="1203" y="0"/>
                        </a:lnTo>
                        <a:lnTo>
                          <a:pt x="634" y="77"/>
                        </a:lnTo>
                        <a:lnTo>
                          <a:pt x="210" y="77"/>
                        </a:lnTo>
                        <a:lnTo>
                          <a:pt x="92" y="77"/>
                        </a:lnTo>
                        <a:lnTo>
                          <a:pt x="724" y="155"/>
                        </a:lnTo>
                        <a:lnTo>
                          <a:pt x="1113" y="77"/>
                        </a:lnTo>
                        <a:lnTo>
                          <a:pt x="1415" y="312"/>
                        </a:lnTo>
                        <a:lnTo>
                          <a:pt x="1839" y="544"/>
                        </a:lnTo>
                        <a:lnTo>
                          <a:pt x="2320" y="775"/>
                        </a:lnTo>
                        <a:lnTo>
                          <a:pt x="1808" y="933"/>
                        </a:lnTo>
                        <a:lnTo>
                          <a:pt x="1296" y="970"/>
                        </a:lnTo>
                        <a:lnTo>
                          <a:pt x="782" y="698"/>
                        </a:lnTo>
                        <a:lnTo>
                          <a:pt x="332" y="425"/>
                        </a:lnTo>
                        <a:lnTo>
                          <a:pt x="210" y="192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flipH="1">
                    <a:off x="953280" y="5964480"/>
                    <a:ext cx="3124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34" h="972">
                        <a:moveTo>
                          <a:pt x="60" y="546"/>
                        </a:moveTo>
                        <a:lnTo>
                          <a:pt x="603" y="309"/>
                        </a:lnTo>
                        <a:lnTo>
                          <a:pt x="936" y="39"/>
                        </a:lnTo>
                        <a:lnTo>
                          <a:pt x="994" y="0"/>
                        </a:lnTo>
                        <a:lnTo>
                          <a:pt x="1510" y="115"/>
                        </a:lnTo>
                        <a:lnTo>
                          <a:pt x="2143" y="194"/>
                        </a:lnTo>
                        <a:lnTo>
                          <a:pt x="2534" y="194"/>
                        </a:lnTo>
                        <a:lnTo>
                          <a:pt x="2321" y="348"/>
                        </a:lnTo>
                        <a:lnTo>
                          <a:pt x="2169" y="467"/>
                        </a:lnTo>
                        <a:lnTo>
                          <a:pt x="2352" y="546"/>
                        </a:lnTo>
                        <a:lnTo>
                          <a:pt x="1719" y="779"/>
                        </a:lnTo>
                        <a:lnTo>
                          <a:pt x="1328" y="893"/>
                        </a:lnTo>
                        <a:lnTo>
                          <a:pt x="1328" y="931"/>
                        </a:lnTo>
                        <a:lnTo>
                          <a:pt x="1148" y="972"/>
                        </a:lnTo>
                        <a:lnTo>
                          <a:pt x="1086" y="931"/>
                        </a:lnTo>
                        <a:lnTo>
                          <a:pt x="0" y="661"/>
                        </a:lnTo>
                        <a:lnTo>
                          <a:pt x="181" y="620"/>
                        </a:lnTo>
                        <a:lnTo>
                          <a:pt x="90" y="504"/>
                        </a:lnTo>
                        <a:lnTo>
                          <a:pt x="394" y="661"/>
                        </a:lnTo>
                        <a:lnTo>
                          <a:pt x="844" y="779"/>
                        </a:lnTo>
                        <a:lnTo>
                          <a:pt x="1207" y="816"/>
                        </a:lnTo>
                        <a:lnTo>
                          <a:pt x="1598" y="698"/>
                        </a:lnTo>
                        <a:lnTo>
                          <a:pt x="1987" y="504"/>
                        </a:lnTo>
                        <a:lnTo>
                          <a:pt x="2231" y="348"/>
                        </a:lnTo>
                        <a:lnTo>
                          <a:pt x="2352" y="272"/>
                        </a:lnTo>
                        <a:lnTo>
                          <a:pt x="1780" y="232"/>
                        </a:lnTo>
                        <a:lnTo>
                          <a:pt x="1266" y="115"/>
                        </a:lnTo>
                        <a:lnTo>
                          <a:pt x="994" y="78"/>
                        </a:lnTo>
                        <a:lnTo>
                          <a:pt x="693" y="272"/>
                        </a:lnTo>
                        <a:lnTo>
                          <a:pt x="330" y="467"/>
                        </a:lnTo>
                        <a:lnTo>
                          <a:pt x="60" y="5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H="1">
                    <a:off x="1305720" y="4732200"/>
                    <a:ext cx="140760" cy="33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4" h="2798">
                        <a:moveTo>
                          <a:pt x="556" y="543"/>
                        </a:moveTo>
                        <a:lnTo>
                          <a:pt x="210" y="288"/>
                        </a:lnTo>
                        <a:lnTo>
                          <a:pt x="0" y="0"/>
                        </a:lnTo>
                        <a:lnTo>
                          <a:pt x="240" y="271"/>
                        </a:lnTo>
                        <a:lnTo>
                          <a:pt x="574" y="506"/>
                        </a:lnTo>
                        <a:lnTo>
                          <a:pt x="996" y="738"/>
                        </a:lnTo>
                        <a:lnTo>
                          <a:pt x="1144" y="815"/>
                        </a:lnTo>
                        <a:lnTo>
                          <a:pt x="996" y="971"/>
                        </a:lnTo>
                        <a:lnTo>
                          <a:pt x="1144" y="1087"/>
                        </a:lnTo>
                        <a:lnTo>
                          <a:pt x="996" y="1246"/>
                        </a:lnTo>
                        <a:lnTo>
                          <a:pt x="1056" y="1397"/>
                        </a:lnTo>
                        <a:lnTo>
                          <a:pt x="903" y="1515"/>
                        </a:lnTo>
                        <a:lnTo>
                          <a:pt x="964" y="1711"/>
                        </a:lnTo>
                        <a:lnTo>
                          <a:pt x="784" y="1828"/>
                        </a:lnTo>
                        <a:lnTo>
                          <a:pt x="844" y="2061"/>
                        </a:lnTo>
                        <a:lnTo>
                          <a:pt x="694" y="2216"/>
                        </a:lnTo>
                        <a:lnTo>
                          <a:pt x="756" y="2370"/>
                        </a:lnTo>
                        <a:lnTo>
                          <a:pt x="664" y="2488"/>
                        </a:lnTo>
                        <a:lnTo>
                          <a:pt x="756" y="2681"/>
                        </a:lnTo>
                        <a:lnTo>
                          <a:pt x="632" y="2798"/>
                        </a:lnTo>
                        <a:lnTo>
                          <a:pt x="664" y="2681"/>
                        </a:lnTo>
                        <a:lnTo>
                          <a:pt x="632" y="2488"/>
                        </a:lnTo>
                        <a:lnTo>
                          <a:pt x="694" y="2409"/>
                        </a:lnTo>
                        <a:lnTo>
                          <a:pt x="632" y="2176"/>
                        </a:lnTo>
                        <a:lnTo>
                          <a:pt x="784" y="2100"/>
                        </a:lnTo>
                        <a:lnTo>
                          <a:pt x="722" y="1828"/>
                        </a:lnTo>
                        <a:lnTo>
                          <a:pt x="934" y="1748"/>
                        </a:lnTo>
                        <a:lnTo>
                          <a:pt x="844" y="1515"/>
                        </a:lnTo>
                        <a:lnTo>
                          <a:pt x="1056" y="1360"/>
                        </a:lnTo>
                        <a:lnTo>
                          <a:pt x="903" y="1204"/>
                        </a:lnTo>
                        <a:lnTo>
                          <a:pt x="1056" y="1126"/>
                        </a:lnTo>
                        <a:lnTo>
                          <a:pt x="874" y="971"/>
                        </a:lnTo>
                        <a:lnTo>
                          <a:pt x="1056" y="778"/>
                        </a:lnTo>
                        <a:lnTo>
                          <a:pt x="556" y="5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flipH="1">
                    <a:off x="1438920" y="5168160"/>
                    <a:ext cx="1753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20" h="701">
                        <a:moveTo>
                          <a:pt x="61" y="156"/>
                        </a:moveTo>
                        <a:lnTo>
                          <a:pt x="1118" y="0"/>
                        </a:lnTo>
                        <a:lnTo>
                          <a:pt x="1420" y="389"/>
                        </a:lnTo>
                        <a:lnTo>
                          <a:pt x="1358" y="428"/>
                        </a:lnTo>
                        <a:lnTo>
                          <a:pt x="815" y="505"/>
                        </a:lnTo>
                        <a:lnTo>
                          <a:pt x="483" y="545"/>
                        </a:lnTo>
                        <a:lnTo>
                          <a:pt x="0" y="701"/>
                        </a:lnTo>
                        <a:lnTo>
                          <a:pt x="0" y="621"/>
                        </a:lnTo>
                        <a:lnTo>
                          <a:pt x="547" y="505"/>
                        </a:lnTo>
                        <a:lnTo>
                          <a:pt x="1298" y="389"/>
                        </a:lnTo>
                        <a:lnTo>
                          <a:pt x="1178" y="156"/>
                        </a:lnTo>
                        <a:lnTo>
                          <a:pt x="61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>
                    <a:off x="1473480" y="5139000"/>
                    <a:ext cx="118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5" h="77">
                        <a:moveTo>
                          <a:pt x="0" y="0"/>
                        </a:moveTo>
                        <a:lnTo>
                          <a:pt x="965" y="40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>
                    <a:off x="1205640" y="5078520"/>
                    <a:ext cx="241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60" h="1283">
                        <a:moveTo>
                          <a:pt x="150" y="196"/>
                        </a:moveTo>
                        <a:lnTo>
                          <a:pt x="330" y="39"/>
                        </a:lnTo>
                        <a:lnTo>
                          <a:pt x="512" y="0"/>
                        </a:lnTo>
                        <a:lnTo>
                          <a:pt x="632" y="0"/>
                        </a:lnTo>
                        <a:lnTo>
                          <a:pt x="815" y="78"/>
                        </a:lnTo>
                        <a:lnTo>
                          <a:pt x="934" y="196"/>
                        </a:lnTo>
                        <a:lnTo>
                          <a:pt x="964" y="352"/>
                        </a:lnTo>
                        <a:lnTo>
                          <a:pt x="964" y="426"/>
                        </a:lnTo>
                        <a:lnTo>
                          <a:pt x="1056" y="272"/>
                        </a:lnTo>
                        <a:lnTo>
                          <a:pt x="1173" y="115"/>
                        </a:lnTo>
                        <a:lnTo>
                          <a:pt x="1418" y="39"/>
                        </a:lnTo>
                        <a:lnTo>
                          <a:pt x="1628" y="39"/>
                        </a:lnTo>
                        <a:lnTo>
                          <a:pt x="1806" y="156"/>
                        </a:lnTo>
                        <a:lnTo>
                          <a:pt x="1896" y="313"/>
                        </a:lnTo>
                        <a:lnTo>
                          <a:pt x="1960" y="465"/>
                        </a:lnTo>
                        <a:lnTo>
                          <a:pt x="1960" y="698"/>
                        </a:lnTo>
                        <a:lnTo>
                          <a:pt x="1930" y="854"/>
                        </a:lnTo>
                        <a:lnTo>
                          <a:pt x="1837" y="970"/>
                        </a:lnTo>
                        <a:lnTo>
                          <a:pt x="1750" y="1089"/>
                        </a:lnTo>
                        <a:lnTo>
                          <a:pt x="1806" y="1205"/>
                        </a:lnTo>
                        <a:lnTo>
                          <a:pt x="1628" y="1283"/>
                        </a:lnTo>
                        <a:lnTo>
                          <a:pt x="1418" y="1283"/>
                        </a:lnTo>
                        <a:lnTo>
                          <a:pt x="1266" y="1205"/>
                        </a:lnTo>
                        <a:lnTo>
                          <a:pt x="1144" y="1127"/>
                        </a:lnTo>
                        <a:lnTo>
                          <a:pt x="1086" y="1011"/>
                        </a:lnTo>
                        <a:lnTo>
                          <a:pt x="1056" y="894"/>
                        </a:lnTo>
                        <a:lnTo>
                          <a:pt x="1024" y="698"/>
                        </a:lnTo>
                        <a:lnTo>
                          <a:pt x="1116" y="933"/>
                        </a:lnTo>
                        <a:lnTo>
                          <a:pt x="1266" y="1089"/>
                        </a:lnTo>
                        <a:lnTo>
                          <a:pt x="1448" y="1127"/>
                        </a:lnTo>
                        <a:lnTo>
                          <a:pt x="1598" y="1089"/>
                        </a:lnTo>
                        <a:lnTo>
                          <a:pt x="1718" y="1048"/>
                        </a:lnTo>
                        <a:lnTo>
                          <a:pt x="1837" y="933"/>
                        </a:lnTo>
                        <a:lnTo>
                          <a:pt x="1896" y="778"/>
                        </a:lnTo>
                        <a:lnTo>
                          <a:pt x="1930" y="582"/>
                        </a:lnTo>
                        <a:lnTo>
                          <a:pt x="1896" y="389"/>
                        </a:lnTo>
                        <a:lnTo>
                          <a:pt x="1806" y="272"/>
                        </a:lnTo>
                        <a:lnTo>
                          <a:pt x="1690" y="156"/>
                        </a:lnTo>
                        <a:lnTo>
                          <a:pt x="1566" y="78"/>
                        </a:lnTo>
                        <a:lnTo>
                          <a:pt x="1386" y="78"/>
                        </a:lnTo>
                        <a:lnTo>
                          <a:pt x="1204" y="156"/>
                        </a:lnTo>
                        <a:lnTo>
                          <a:pt x="1116" y="272"/>
                        </a:lnTo>
                        <a:lnTo>
                          <a:pt x="1056" y="389"/>
                        </a:lnTo>
                        <a:lnTo>
                          <a:pt x="996" y="426"/>
                        </a:lnTo>
                        <a:lnTo>
                          <a:pt x="844" y="426"/>
                        </a:lnTo>
                        <a:lnTo>
                          <a:pt x="815" y="272"/>
                        </a:lnTo>
                        <a:lnTo>
                          <a:pt x="756" y="156"/>
                        </a:lnTo>
                        <a:lnTo>
                          <a:pt x="632" y="39"/>
                        </a:lnTo>
                        <a:lnTo>
                          <a:pt x="484" y="39"/>
                        </a:lnTo>
                        <a:lnTo>
                          <a:pt x="300" y="115"/>
                        </a:lnTo>
                        <a:lnTo>
                          <a:pt x="182" y="272"/>
                        </a:lnTo>
                        <a:lnTo>
                          <a:pt x="123" y="426"/>
                        </a:lnTo>
                        <a:lnTo>
                          <a:pt x="0" y="426"/>
                        </a:lnTo>
                        <a:lnTo>
                          <a:pt x="0" y="313"/>
                        </a:lnTo>
                        <a:lnTo>
                          <a:pt x="90" y="313"/>
                        </a:lnTo>
                        <a:lnTo>
                          <a:pt x="150" y="19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H="1">
                    <a:off x="1153440" y="5144760"/>
                    <a:ext cx="275040" cy="2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2" h="2371">
                        <a:moveTo>
                          <a:pt x="150" y="270"/>
                        </a:moveTo>
                        <a:lnTo>
                          <a:pt x="362" y="309"/>
                        </a:lnTo>
                        <a:lnTo>
                          <a:pt x="544" y="270"/>
                        </a:lnTo>
                        <a:lnTo>
                          <a:pt x="634" y="193"/>
                        </a:lnTo>
                        <a:lnTo>
                          <a:pt x="724" y="116"/>
                        </a:lnTo>
                        <a:lnTo>
                          <a:pt x="814" y="0"/>
                        </a:lnTo>
                        <a:lnTo>
                          <a:pt x="685" y="219"/>
                        </a:lnTo>
                        <a:lnTo>
                          <a:pt x="544" y="349"/>
                        </a:lnTo>
                        <a:lnTo>
                          <a:pt x="383" y="430"/>
                        </a:lnTo>
                        <a:lnTo>
                          <a:pt x="383" y="496"/>
                        </a:lnTo>
                        <a:lnTo>
                          <a:pt x="443" y="540"/>
                        </a:lnTo>
                        <a:lnTo>
                          <a:pt x="572" y="544"/>
                        </a:lnTo>
                        <a:lnTo>
                          <a:pt x="701" y="529"/>
                        </a:lnTo>
                        <a:lnTo>
                          <a:pt x="777" y="553"/>
                        </a:lnTo>
                        <a:lnTo>
                          <a:pt x="846" y="621"/>
                        </a:lnTo>
                        <a:lnTo>
                          <a:pt x="753" y="698"/>
                        </a:lnTo>
                        <a:lnTo>
                          <a:pt x="634" y="698"/>
                        </a:lnTo>
                        <a:lnTo>
                          <a:pt x="606" y="738"/>
                        </a:lnTo>
                        <a:lnTo>
                          <a:pt x="544" y="738"/>
                        </a:lnTo>
                        <a:lnTo>
                          <a:pt x="482" y="660"/>
                        </a:lnTo>
                        <a:lnTo>
                          <a:pt x="443" y="573"/>
                        </a:lnTo>
                        <a:lnTo>
                          <a:pt x="334" y="544"/>
                        </a:lnTo>
                        <a:lnTo>
                          <a:pt x="240" y="544"/>
                        </a:lnTo>
                        <a:lnTo>
                          <a:pt x="212" y="466"/>
                        </a:lnTo>
                        <a:lnTo>
                          <a:pt x="212" y="425"/>
                        </a:lnTo>
                        <a:lnTo>
                          <a:pt x="120" y="466"/>
                        </a:lnTo>
                        <a:lnTo>
                          <a:pt x="60" y="738"/>
                        </a:lnTo>
                        <a:lnTo>
                          <a:pt x="32" y="1047"/>
                        </a:lnTo>
                        <a:lnTo>
                          <a:pt x="60" y="1243"/>
                        </a:lnTo>
                        <a:lnTo>
                          <a:pt x="90" y="1399"/>
                        </a:lnTo>
                        <a:lnTo>
                          <a:pt x="120" y="1515"/>
                        </a:lnTo>
                        <a:lnTo>
                          <a:pt x="92" y="1687"/>
                        </a:lnTo>
                        <a:lnTo>
                          <a:pt x="134" y="1862"/>
                        </a:lnTo>
                        <a:lnTo>
                          <a:pt x="228" y="1906"/>
                        </a:lnTo>
                        <a:lnTo>
                          <a:pt x="482" y="1906"/>
                        </a:lnTo>
                        <a:lnTo>
                          <a:pt x="665" y="1825"/>
                        </a:lnTo>
                        <a:lnTo>
                          <a:pt x="966" y="1671"/>
                        </a:lnTo>
                        <a:lnTo>
                          <a:pt x="1256" y="1500"/>
                        </a:lnTo>
                        <a:lnTo>
                          <a:pt x="1416" y="1362"/>
                        </a:lnTo>
                        <a:lnTo>
                          <a:pt x="1568" y="1203"/>
                        </a:lnTo>
                        <a:lnTo>
                          <a:pt x="1634" y="1081"/>
                        </a:lnTo>
                        <a:lnTo>
                          <a:pt x="1649" y="959"/>
                        </a:lnTo>
                        <a:lnTo>
                          <a:pt x="1660" y="803"/>
                        </a:lnTo>
                        <a:lnTo>
                          <a:pt x="1649" y="639"/>
                        </a:lnTo>
                        <a:lnTo>
                          <a:pt x="1702" y="803"/>
                        </a:lnTo>
                        <a:lnTo>
                          <a:pt x="1720" y="1010"/>
                        </a:lnTo>
                        <a:lnTo>
                          <a:pt x="1746" y="1243"/>
                        </a:lnTo>
                        <a:lnTo>
                          <a:pt x="1780" y="1475"/>
                        </a:lnTo>
                        <a:lnTo>
                          <a:pt x="1810" y="1671"/>
                        </a:lnTo>
                        <a:lnTo>
                          <a:pt x="1870" y="1825"/>
                        </a:lnTo>
                        <a:lnTo>
                          <a:pt x="1960" y="1943"/>
                        </a:lnTo>
                        <a:lnTo>
                          <a:pt x="2080" y="1906"/>
                        </a:lnTo>
                        <a:lnTo>
                          <a:pt x="2111" y="2022"/>
                        </a:lnTo>
                        <a:lnTo>
                          <a:pt x="2204" y="2174"/>
                        </a:lnTo>
                        <a:lnTo>
                          <a:pt x="2232" y="2293"/>
                        </a:lnTo>
                        <a:lnTo>
                          <a:pt x="2140" y="2371"/>
                        </a:lnTo>
                        <a:lnTo>
                          <a:pt x="2111" y="2174"/>
                        </a:lnTo>
                        <a:lnTo>
                          <a:pt x="2050" y="2060"/>
                        </a:lnTo>
                        <a:lnTo>
                          <a:pt x="1870" y="2060"/>
                        </a:lnTo>
                        <a:lnTo>
                          <a:pt x="1687" y="2136"/>
                        </a:lnTo>
                        <a:lnTo>
                          <a:pt x="1507" y="2215"/>
                        </a:lnTo>
                        <a:lnTo>
                          <a:pt x="1326" y="2332"/>
                        </a:lnTo>
                        <a:lnTo>
                          <a:pt x="1358" y="2256"/>
                        </a:lnTo>
                        <a:lnTo>
                          <a:pt x="1568" y="2099"/>
                        </a:lnTo>
                        <a:lnTo>
                          <a:pt x="1746" y="2022"/>
                        </a:lnTo>
                        <a:lnTo>
                          <a:pt x="1870" y="1980"/>
                        </a:lnTo>
                        <a:lnTo>
                          <a:pt x="1870" y="1943"/>
                        </a:lnTo>
                        <a:lnTo>
                          <a:pt x="1687" y="1980"/>
                        </a:lnTo>
                        <a:lnTo>
                          <a:pt x="1507" y="2022"/>
                        </a:lnTo>
                        <a:lnTo>
                          <a:pt x="1326" y="2099"/>
                        </a:lnTo>
                        <a:lnTo>
                          <a:pt x="1533" y="1941"/>
                        </a:lnTo>
                        <a:lnTo>
                          <a:pt x="1298" y="2022"/>
                        </a:lnTo>
                        <a:lnTo>
                          <a:pt x="1430" y="1895"/>
                        </a:lnTo>
                        <a:lnTo>
                          <a:pt x="1178" y="1980"/>
                        </a:lnTo>
                        <a:lnTo>
                          <a:pt x="1326" y="1862"/>
                        </a:lnTo>
                        <a:lnTo>
                          <a:pt x="1054" y="1980"/>
                        </a:lnTo>
                        <a:lnTo>
                          <a:pt x="1188" y="1842"/>
                        </a:lnTo>
                        <a:lnTo>
                          <a:pt x="994" y="1980"/>
                        </a:lnTo>
                        <a:lnTo>
                          <a:pt x="874" y="2099"/>
                        </a:lnTo>
                        <a:lnTo>
                          <a:pt x="724" y="2256"/>
                        </a:lnTo>
                        <a:lnTo>
                          <a:pt x="874" y="2022"/>
                        </a:lnTo>
                        <a:lnTo>
                          <a:pt x="906" y="1943"/>
                        </a:lnTo>
                        <a:lnTo>
                          <a:pt x="814" y="1906"/>
                        </a:lnTo>
                        <a:lnTo>
                          <a:pt x="724" y="1906"/>
                        </a:lnTo>
                        <a:lnTo>
                          <a:pt x="665" y="1943"/>
                        </a:lnTo>
                        <a:lnTo>
                          <a:pt x="606" y="1943"/>
                        </a:lnTo>
                        <a:lnTo>
                          <a:pt x="470" y="2136"/>
                        </a:lnTo>
                        <a:lnTo>
                          <a:pt x="606" y="2256"/>
                        </a:lnTo>
                        <a:lnTo>
                          <a:pt x="390" y="2174"/>
                        </a:lnTo>
                        <a:lnTo>
                          <a:pt x="514" y="1943"/>
                        </a:lnTo>
                        <a:lnTo>
                          <a:pt x="334" y="1980"/>
                        </a:lnTo>
                        <a:lnTo>
                          <a:pt x="212" y="1980"/>
                        </a:lnTo>
                        <a:lnTo>
                          <a:pt x="145" y="1961"/>
                        </a:lnTo>
                        <a:lnTo>
                          <a:pt x="90" y="1906"/>
                        </a:lnTo>
                        <a:lnTo>
                          <a:pt x="60" y="1825"/>
                        </a:lnTo>
                        <a:lnTo>
                          <a:pt x="60" y="1710"/>
                        </a:lnTo>
                        <a:lnTo>
                          <a:pt x="90" y="1592"/>
                        </a:lnTo>
                        <a:lnTo>
                          <a:pt x="90" y="1515"/>
                        </a:lnTo>
                        <a:lnTo>
                          <a:pt x="32" y="1166"/>
                        </a:lnTo>
                        <a:lnTo>
                          <a:pt x="0" y="854"/>
                        </a:lnTo>
                        <a:lnTo>
                          <a:pt x="32" y="544"/>
                        </a:lnTo>
                        <a:lnTo>
                          <a:pt x="90" y="349"/>
                        </a:lnTo>
                        <a:lnTo>
                          <a:pt x="150" y="2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1239120" y="5017680"/>
                    <a:ext cx="1220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6" h="546">
                        <a:moveTo>
                          <a:pt x="121" y="507"/>
                        </a:moveTo>
                        <a:lnTo>
                          <a:pt x="330" y="352"/>
                        </a:lnTo>
                        <a:lnTo>
                          <a:pt x="510" y="195"/>
                        </a:lnTo>
                        <a:lnTo>
                          <a:pt x="634" y="156"/>
                        </a:lnTo>
                        <a:lnTo>
                          <a:pt x="814" y="79"/>
                        </a:lnTo>
                        <a:lnTo>
                          <a:pt x="934" y="39"/>
                        </a:lnTo>
                        <a:lnTo>
                          <a:pt x="996" y="0"/>
                        </a:lnTo>
                        <a:lnTo>
                          <a:pt x="782" y="0"/>
                        </a:lnTo>
                        <a:lnTo>
                          <a:pt x="602" y="39"/>
                        </a:lnTo>
                        <a:lnTo>
                          <a:pt x="422" y="118"/>
                        </a:lnTo>
                        <a:lnTo>
                          <a:pt x="270" y="195"/>
                        </a:lnTo>
                        <a:lnTo>
                          <a:pt x="150" y="272"/>
                        </a:lnTo>
                        <a:lnTo>
                          <a:pt x="62" y="389"/>
                        </a:lnTo>
                        <a:lnTo>
                          <a:pt x="0" y="470"/>
                        </a:lnTo>
                        <a:lnTo>
                          <a:pt x="209" y="311"/>
                        </a:lnTo>
                        <a:lnTo>
                          <a:pt x="392" y="195"/>
                        </a:lnTo>
                        <a:lnTo>
                          <a:pt x="510" y="118"/>
                        </a:lnTo>
                        <a:lnTo>
                          <a:pt x="692" y="79"/>
                        </a:lnTo>
                        <a:lnTo>
                          <a:pt x="422" y="235"/>
                        </a:lnTo>
                        <a:lnTo>
                          <a:pt x="302" y="352"/>
                        </a:lnTo>
                        <a:lnTo>
                          <a:pt x="180" y="428"/>
                        </a:lnTo>
                        <a:lnTo>
                          <a:pt x="62" y="546"/>
                        </a:lnTo>
                        <a:lnTo>
                          <a:pt x="121" y="5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H="1">
                    <a:off x="1012680" y="4970160"/>
                    <a:ext cx="345600" cy="44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05" h="3697">
                        <a:moveTo>
                          <a:pt x="0" y="350"/>
                        </a:moveTo>
                        <a:lnTo>
                          <a:pt x="274" y="156"/>
                        </a:lnTo>
                        <a:lnTo>
                          <a:pt x="482" y="80"/>
                        </a:lnTo>
                        <a:lnTo>
                          <a:pt x="726" y="39"/>
                        </a:lnTo>
                        <a:lnTo>
                          <a:pt x="996" y="0"/>
                        </a:lnTo>
                        <a:lnTo>
                          <a:pt x="1174" y="39"/>
                        </a:lnTo>
                        <a:lnTo>
                          <a:pt x="1266" y="80"/>
                        </a:lnTo>
                        <a:lnTo>
                          <a:pt x="1328" y="156"/>
                        </a:lnTo>
                        <a:lnTo>
                          <a:pt x="1598" y="156"/>
                        </a:lnTo>
                        <a:lnTo>
                          <a:pt x="1781" y="235"/>
                        </a:lnTo>
                        <a:lnTo>
                          <a:pt x="1930" y="428"/>
                        </a:lnTo>
                        <a:lnTo>
                          <a:pt x="2049" y="661"/>
                        </a:lnTo>
                        <a:lnTo>
                          <a:pt x="2231" y="1168"/>
                        </a:lnTo>
                        <a:lnTo>
                          <a:pt x="2352" y="1518"/>
                        </a:lnTo>
                        <a:lnTo>
                          <a:pt x="2414" y="1790"/>
                        </a:lnTo>
                        <a:lnTo>
                          <a:pt x="2501" y="2062"/>
                        </a:lnTo>
                        <a:lnTo>
                          <a:pt x="2653" y="2335"/>
                        </a:lnTo>
                        <a:lnTo>
                          <a:pt x="2741" y="2451"/>
                        </a:lnTo>
                        <a:lnTo>
                          <a:pt x="2805" y="2530"/>
                        </a:lnTo>
                        <a:lnTo>
                          <a:pt x="2741" y="2607"/>
                        </a:lnTo>
                        <a:lnTo>
                          <a:pt x="2625" y="2684"/>
                        </a:lnTo>
                        <a:lnTo>
                          <a:pt x="2715" y="2879"/>
                        </a:lnTo>
                        <a:lnTo>
                          <a:pt x="2774" y="2956"/>
                        </a:lnTo>
                        <a:lnTo>
                          <a:pt x="2805" y="2995"/>
                        </a:lnTo>
                        <a:lnTo>
                          <a:pt x="2741" y="3073"/>
                        </a:lnTo>
                        <a:lnTo>
                          <a:pt x="2625" y="3112"/>
                        </a:lnTo>
                        <a:lnTo>
                          <a:pt x="2473" y="3188"/>
                        </a:lnTo>
                        <a:lnTo>
                          <a:pt x="2501" y="3305"/>
                        </a:lnTo>
                        <a:lnTo>
                          <a:pt x="2534" y="3384"/>
                        </a:lnTo>
                        <a:lnTo>
                          <a:pt x="2442" y="3463"/>
                        </a:lnTo>
                        <a:lnTo>
                          <a:pt x="2324" y="3501"/>
                        </a:lnTo>
                        <a:lnTo>
                          <a:pt x="2141" y="3577"/>
                        </a:lnTo>
                        <a:lnTo>
                          <a:pt x="2020" y="3656"/>
                        </a:lnTo>
                        <a:lnTo>
                          <a:pt x="1930" y="3697"/>
                        </a:lnTo>
                        <a:lnTo>
                          <a:pt x="1840" y="3697"/>
                        </a:lnTo>
                        <a:lnTo>
                          <a:pt x="1717" y="3697"/>
                        </a:lnTo>
                        <a:lnTo>
                          <a:pt x="1598" y="3697"/>
                        </a:lnTo>
                        <a:lnTo>
                          <a:pt x="1902" y="3577"/>
                        </a:lnTo>
                        <a:lnTo>
                          <a:pt x="2049" y="3501"/>
                        </a:lnTo>
                        <a:lnTo>
                          <a:pt x="2231" y="3463"/>
                        </a:lnTo>
                        <a:lnTo>
                          <a:pt x="2352" y="3421"/>
                        </a:lnTo>
                        <a:lnTo>
                          <a:pt x="2414" y="3384"/>
                        </a:lnTo>
                        <a:lnTo>
                          <a:pt x="2442" y="3305"/>
                        </a:lnTo>
                        <a:lnTo>
                          <a:pt x="2414" y="3227"/>
                        </a:lnTo>
                        <a:lnTo>
                          <a:pt x="2381" y="3188"/>
                        </a:lnTo>
                        <a:lnTo>
                          <a:pt x="2625" y="3073"/>
                        </a:lnTo>
                        <a:lnTo>
                          <a:pt x="2681" y="2995"/>
                        </a:lnTo>
                        <a:lnTo>
                          <a:pt x="2681" y="2956"/>
                        </a:lnTo>
                        <a:lnTo>
                          <a:pt x="2625" y="2879"/>
                        </a:lnTo>
                        <a:lnTo>
                          <a:pt x="2442" y="2644"/>
                        </a:lnTo>
                        <a:lnTo>
                          <a:pt x="2231" y="2062"/>
                        </a:lnTo>
                        <a:lnTo>
                          <a:pt x="2049" y="1478"/>
                        </a:lnTo>
                        <a:lnTo>
                          <a:pt x="2381" y="2295"/>
                        </a:lnTo>
                        <a:lnTo>
                          <a:pt x="2501" y="2570"/>
                        </a:lnTo>
                        <a:lnTo>
                          <a:pt x="2594" y="2530"/>
                        </a:lnTo>
                        <a:lnTo>
                          <a:pt x="2414" y="2062"/>
                        </a:lnTo>
                        <a:lnTo>
                          <a:pt x="2231" y="1478"/>
                        </a:lnTo>
                        <a:lnTo>
                          <a:pt x="2111" y="1011"/>
                        </a:lnTo>
                        <a:lnTo>
                          <a:pt x="1961" y="584"/>
                        </a:lnTo>
                        <a:lnTo>
                          <a:pt x="1748" y="274"/>
                        </a:lnTo>
                        <a:lnTo>
                          <a:pt x="1539" y="235"/>
                        </a:lnTo>
                        <a:lnTo>
                          <a:pt x="1298" y="235"/>
                        </a:lnTo>
                        <a:lnTo>
                          <a:pt x="1148" y="274"/>
                        </a:lnTo>
                        <a:lnTo>
                          <a:pt x="1058" y="312"/>
                        </a:lnTo>
                        <a:lnTo>
                          <a:pt x="876" y="428"/>
                        </a:lnTo>
                        <a:lnTo>
                          <a:pt x="968" y="312"/>
                        </a:lnTo>
                        <a:lnTo>
                          <a:pt x="844" y="235"/>
                        </a:lnTo>
                        <a:lnTo>
                          <a:pt x="606" y="235"/>
                        </a:lnTo>
                        <a:lnTo>
                          <a:pt x="274" y="350"/>
                        </a:lnTo>
                        <a:lnTo>
                          <a:pt x="786" y="195"/>
                        </a:lnTo>
                        <a:lnTo>
                          <a:pt x="906" y="235"/>
                        </a:lnTo>
                        <a:lnTo>
                          <a:pt x="996" y="235"/>
                        </a:lnTo>
                        <a:lnTo>
                          <a:pt x="906" y="119"/>
                        </a:lnTo>
                        <a:lnTo>
                          <a:pt x="1115" y="195"/>
                        </a:lnTo>
                        <a:lnTo>
                          <a:pt x="1084" y="119"/>
                        </a:lnTo>
                        <a:lnTo>
                          <a:pt x="906" y="80"/>
                        </a:lnTo>
                        <a:lnTo>
                          <a:pt x="664" y="80"/>
                        </a:lnTo>
                        <a:lnTo>
                          <a:pt x="394" y="156"/>
                        </a:lnTo>
                        <a:lnTo>
                          <a:pt x="93" y="274"/>
                        </a:lnTo>
                        <a:lnTo>
                          <a:pt x="122" y="389"/>
                        </a:lnTo>
                        <a:lnTo>
                          <a:pt x="34" y="468"/>
                        </a:lnTo>
                        <a:lnTo>
                          <a:pt x="242" y="428"/>
                        </a:lnTo>
                        <a:lnTo>
                          <a:pt x="0" y="624"/>
                        </a:lnTo>
                        <a:lnTo>
                          <a:pt x="0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H="1">
                    <a:off x="1231560" y="5022360"/>
                    <a:ext cx="1152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546">
                        <a:moveTo>
                          <a:pt x="0" y="0"/>
                        </a:moveTo>
                        <a:lnTo>
                          <a:pt x="0" y="350"/>
                        </a:lnTo>
                        <a:lnTo>
                          <a:pt x="61" y="546"/>
                        </a:lnTo>
                        <a:lnTo>
                          <a:pt x="61" y="272"/>
                        </a:lnTo>
                        <a:lnTo>
                          <a:pt x="93" y="79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>
                    <a:off x="1150200" y="5186520"/>
                    <a:ext cx="63000" cy="20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1711">
                        <a:moveTo>
                          <a:pt x="64" y="154"/>
                        </a:moveTo>
                        <a:lnTo>
                          <a:pt x="154" y="505"/>
                        </a:lnTo>
                        <a:lnTo>
                          <a:pt x="304" y="817"/>
                        </a:lnTo>
                        <a:lnTo>
                          <a:pt x="394" y="1126"/>
                        </a:lnTo>
                        <a:lnTo>
                          <a:pt x="458" y="1437"/>
                        </a:lnTo>
                        <a:lnTo>
                          <a:pt x="516" y="1711"/>
                        </a:lnTo>
                        <a:lnTo>
                          <a:pt x="394" y="1243"/>
                        </a:lnTo>
                        <a:lnTo>
                          <a:pt x="334" y="1013"/>
                        </a:lnTo>
                        <a:lnTo>
                          <a:pt x="214" y="780"/>
                        </a:lnTo>
                        <a:lnTo>
                          <a:pt x="92" y="545"/>
                        </a:lnTo>
                        <a:lnTo>
                          <a:pt x="34" y="311"/>
                        </a:lnTo>
                        <a:lnTo>
                          <a:pt x="0" y="154"/>
                        </a:lnTo>
                        <a:lnTo>
                          <a:pt x="34" y="0"/>
                        </a:lnTo>
                        <a:lnTo>
                          <a:pt x="64" y="1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>
                    <a:off x="1176480" y="5284440"/>
                    <a:ext cx="2232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659">
                        <a:moveTo>
                          <a:pt x="0" y="0"/>
                        </a:moveTo>
                        <a:lnTo>
                          <a:pt x="180" y="659"/>
                        </a:lnTo>
                        <a:lnTo>
                          <a:pt x="120" y="6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H="1">
                    <a:off x="1053720" y="5242320"/>
                    <a:ext cx="4824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818">
                        <a:moveTo>
                          <a:pt x="270" y="818"/>
                        </a:moveTo>
                        <a:lnTo>
                          <a:pt x="0" y="0"/>
                        </a:lnTo>
                        <a:lnTo>
                          <a:pt x="391" y="818"/>
                        </a:lnTo>
                        <a:lnTo>
                          <a:pt x="270" y="8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>
                    <a:off x="1243440" y="5378400"/>
                    <a:ext cx="195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5" h="1129">
                        <a:moveTo>
                          <a:pt x="632" y="740"/>
                        </a:moveTo>
                        <a:lnTo>
                          <a:pt x="841" y="545"/>
                        </a:lnTo>
                        <a:lnTo>
                          <a:pt x="1054" y="428"/>
                        </a:lnTo>
                        <a:lnTo>
                          <a:pt x="1234" y="313"/>
                        </a:lnTo>
                        <a:lnTo>
                          <a:pt x="1142" y="117"/>
                        </a:lnTo>
                        <a:lnTo>
                          <a:pt x="1414" y="193"/>
                        </a:lnTo>
                        <a:lnTo>
                          <a:pt x="1595" y="79"/>
                        </a:lnTo>
                        <a:lnTo>
                          <a:pt x="1356" y="272"/>
                        </a:lnTo>
                        <a:lnTo>
                          <a:pt x="1266" y="193"/>
                        </a:lnTo>
                        <a:lnTo>
                          <a:pt x="1266" y="350"/>
                        </a:lnTo>
                        <a:lnTo>
                          <a:pt x="1266" y="428"/>
                        </a:lnTo>
                        <a:lnTo>
                          <a:pt x="1414" y="466"/>
                        </a:lnTo>
                        <a:lnTo>
                          <a:pt x="1356" y="507"/>
                        </a:lnTo>
                        <a:lnTo>
                          <a:pt x="1204" y="507"/>
                        </a:lnTo>
                        <a:lnTo>
                          <a:pt x="1082" y="582"/>
                        </a:lnTo>
                        <a:lnTo>
                          <a:pt x="962" y="661"/>
                        </a:lnTo>
                        <a:lnTo>
                          <a:pt x="841" y="740"/>
                        </a:lnTo>
                        <a:lnTo>
                          <a:pt x="722" y="778"/>
                        </a:lnTo>
                        <a:lnTo>
                          <a:pt x="632" y="817"/>
                        </a:lnTo>
                        <a:lnTo>
                          <a:pt x="478" y="933"/>
                        </a:lnTo>
                        <a:lnTo>
                          <a:pt x="360" y="933"/>
                        </a:lnTo>
                        <a:lnTo>
                          <a:pt x="238" y="1011"/>
                        </a:lnTo>
                        <a:lnTo>
                          <a:pt x="120" y="1090"/>
                        </a:lnTo>
                        <a:lnTo>
                          <a:pt x="28" y="1129"/>
                        </a:lnTo>
                        <a:lnTo>
                          <a:pt x="0" y="1090"/>
                        </a:lnTo>
                        <a:lnTo>
                          <a:pt x="178" y="1011"/>
                        </a:lnTo>
                        <a:lnTo>
                          <a:pt x="238" y="933"/>
                        </a:lnTo>
                        <a:lnTo>
                          <a:pt x="178" y="855"/>
                        </a:lnTo>
                        <a:lnTo>
                          <a:pt x="238" y="778"/>
                        </a:lnTo>
                        <a:lnTo>
                          <a:pt x="178" y="740"/>
                        </a:lnTo>
                        <a:lnTo>
                          <a:pt x="268" y="661"/>
                        </a:lnTo>
                        <a:lnTo>
                          <a:pt x="208" y="545"/>
                        </a:lnTo>
                        <a:lnTo>
                          <a:pt x="178" y="507"/>
                        </a:lnTo>
                        <a:lnTo>
                          <a:pt x="268" y="350"/>
                        </a:lnTo>
                        <a:lnTo>
                          <a:pt x="178" y="272"/>
                        </a:lnTo>
                        <a:lnTo>
                          <a:pt x="300" y="117"/>
                        </a:lnTo>
                        <a:lnTo>
                          <a:pt x="238" y="0"/>
                        </a:lnTo>
                        <a:lnTo>
                          <a:pt x="360" y="79"/>
                        </a:lnTo>
                        <a:lnTo>
                          <a:pt x="268" y="231"/>
                        </a:lnTo>
                        <a:lnTo>
                          <a:pt x="328" y="350"/>
                        </a:lnTo>
                        <a:lnTo>
                          <a:pt x="268" y="428"/>
                        </a:lnTo>
                        <a:lnTo>
                          <a:pt x="328" y="701"/>
                        </a:lnTo>
                        <a:lnTo>
                          <a:pt x="450" y="313"/>
                        </a:lnTo>
                        <a:lnTo>
                          <a:pt x="360" y="817"/>
                        </a:lnTo>
                        <a:lnTo>
                          <a:pt x="570" y="701"/>
                        </a:lnTo>
                        <a:lnTo>
                          <a:pt x="753" y="350"/>
                        </a:lnTo>
                        <a:lnTo>
                          <a:pt x="632" y="7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H="1">
                    <a:off x="1417320" y="5510160"/>
                    <a:ext cx="10332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2" h="544">
                        <a:moveTo>
                          <a:pt x="0" y="0"/>
                        </a:moveTo>
                        <a:lnTo>
                          <a:pt x="151" y="114"/>
                        </a:lnTo>
                        <a:lnTo>
                          <a:pt x="332" y="154"/>
                        </a:lnTo>
                        <a:lnTo>
                          <a:pt x="481" y="154"/>
                        </a:lnTo>
                        <a:lnTo>
                          <a:pt x="632" y="193"/>
                        </a:lnTo>
                        <a:lnTo>
                          <a:pt x="692" y="309"/>
                        </a:lnTo>
                        <a:lnTo>
                          <a:pt x="725" y="426"/>
                        </a:lnTo>
                        <a:lnTo>
                          <a:pt x="725" y="544"/>
                        </a:lnTo>
                        <a:lnTo>
                          <a:pt x="842" y="544"/>
                        </a:lnTo>
                        <a:lnTo>
                          <a:pt x="784" y="350"/>
                        </a:lnTo>
                        <a:lnTo>
                          <a:pt x="692" y="193"/>
                        </a:lnTo>
                        <a:lnTo>
                          <a:pt x="571" y="74"/>
                        </a:lnTo>
                        <a:lnTo>
                          <a:pt x="452" y="74"/>
                        </a:lnTo>
                        <a:lnTo>
                          <a:pt x="272" y="7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H="1">
                    <a:off x="1375920" y="5514120"/>
                    <a:ext cx="370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426">
                        <a:moveTo>
                          <a:pt x="0" y="0"/>
                        </a:moveTo>
                        <a:lnTo>
                          <a:pt x="214" y="75"/>
                        </a:lnTo>
                        <a:lnTo>
                          <a:pt x="270" y="154"/>
                        </a:lnTo>
                        <a:lnTo>
                          <a:pt x="304" y="270"/>
                        </a:lnTo>
                        <a:lnTo>
                          <a:pt x="270" y="387"/>
                        </a:lnTo>
                        <a:lnTo>
                          <a:pt x="152" y="426"/>
                        </a:lnTo>
                        <a:lnTo>
                          <a:pt x="120" y="193"/>
                        </a:lnTo>
                        <a:lnTo>
                          <a:pt x="60" y="7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>
                    <a:off x="1176120" y="5411160"/>
                    <a:ext cx="482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506">
                        <a:moveTo>
                          <a:pt x="214" y="0"/>
                        </a:moveTo>
                        <a:lnTo>
                          <a:pt x="363" y="78"/>
                        </a:lnTo>
                        <a:lnTo>
                          <a:pt x="394" y="194"/>
                        </a:lnTo>
                        <a:lnTo>
                          <a:pt x="363" y="350"/>
                        </a:lnTo>
                        <a:lnTo>
                          <a:pt x="304" y="468"/>
                        </a:lnTo>
                        <a:lnTo>
                          <a:pt x="154" y="506"/>
                        </a:lnTo>
                        <a:lnTo>
                          <a:pt x="304" y="273"/>
                        </a:lnTo>
                        <a:lnTo>
                          <a:pt x="273" y="117"/>
                        </a:lnTo>
                        <a:lnTo>
                          <a:pt x="182" y="78"/>
                        </a:lnTo>
                        <a:lnTo>
                          <a:pt x="0" y="78"/>
                        </a:lnTo>
                        <a:lnTo>
                          <a:pt x="2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>
                    <a:off x="1321200" y="5533560"/>
                    <a:ext cx="43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96">
                        <a:moveTo>
                          <a:pt x="30" y="196"/>
                        </a:moveTo>
                        <a:lnTo>
                          <a:pt x="360" y="0"/>
                        </a:lnTo>
                        <a:lnTo>
                          <a:pt x="0" y="157"/>
                        </a:lnTo>
                        <a:lnTo>
                          <a:pt x="30" y="19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>
                    <a:off x="1417680" y="5392800"/>
                    <a:ext cx="19296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8" h="853">
                        <a:moveTo>
                          <a:pt x="123" y="816"/>
                        </a:moveTo>
                        <a:lnTo>
                          <a:pt x="0" y="700"/>
                        </a:lnTo>
                        <a:lnTo>
                          <a:pt x="31" y="505"/>
                        </a:lnTo>
                        <a:lnTo>
                          <a:pt x="90" y="349"/>
                        </a:lnTo>
                        <a:lnTo>
                          <a:pt x="214" y="272"/>
                        </a:lnTo>
                        <a:lnTo>
                          <a:pt x="1568" y="0"/>
                        </a:lnTo>
                        <a:lnTo>
                          <a:pt x="152" y="349"/>
                        </a:lnTo>
                        <a:lnTo>
                          <a:pt x="1478" y="155"/>
                        </a:lnTo>
                        <a:lnTo>
                          <a:pt x="90" y="465"/>
                        </a:lnTo>
                        <a:lnTo>
                          <a:pt x="1478" y="349"/>
                        </a:lnTo>
                        <a:lnTo>
                          <a:pt x="90" y="623"/>
                        </a:lnTo>
                        <a:lnTo>
                          <a:pt x="1510" y="505"/>
                        </a:lnTo>
                        <a:lnTo>
                          <a:pt x="152" y="738"/>
                        </a:lnTo>
                        <a:lnTo>
                          <a:pt x="1510" y="661"/>
                        </a:lnTo>
                        <a:lnTo>
                          <a:pt x="183" y="853"/>
                        </a:lnTo>
                        <a:lnTo>
                          <a:pt x="123" y="8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1417680" y="5331960"/>
                    <a:ext cx="189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7" h="582">
                        <a:moveTo>
                          <a:pt x="121" y="582"/>
                        </a:moveTo>
                        <a:lnTo>
                          <a:pt x="0" y="426"/>
                        </a:lnTo>
                        <a:lnTo>
                          <a:pt x="31" y="310"/>
                        </a:lnTo>
                        <a:lnTo>
                          <a:pt x="271" y="193"/>
                        </a:lnTo>
                        <a:lnTo>
                          <a:pt x="1420" y="0"/>
                        </a:lnTo>
                        <a:lnTo>
                          <a:pt x="214" y="310"/>
                        </a:lnTo>
                        <a:lnTo>
                          <a:pt x="121" y="389"/>
                        </a:lnTo>
                        <a:lnTo>
                          <a:pt x="214" y="545"/>
                        </a:lnTo>
                        <a:lnTo>
                          <a:pt x="1537" y="389"/>
                        </a:lnTo>
                        <a:lnTo>
                          <a:pt x="271" y="582"/>
                        </a:lnTo>
                        <a:lnTo>
                          <a:pt x="121" y="5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>
                    <a:off x="1428480" y="5304240"/>
                    <a:ext cx="1929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8" h="389">
                        <a:moveTo>
                          <a:pt x="0" y="389"/>
                        </a:moveTo>
                        <a:lnTo>
                          <a:pt x="1541" y="117"/>
                        </a:lnTo>
                        <a:lnTo>
                          <a:pt x="1568" y="0"/>
                        </a:lnTo>
                        <a:lnTo>
                          <a:pt x="0" y="3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H="1">
                    <a:off x="1428120" y="5276160"/>
                    <a:ext cx="1969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3" h="465">
                        <a:moveTo>
                          <a:pt x="0" y="465"/>
                        </a:moveTo>
                        <a:lnTo>
                          <a:pt x="1593" y="114"/>
                        </a:lnTo>
                        <a:lnTo>
                          <a:pt x="1566" y="0"/>
                        </a:lnTo>
                        <a:lnTo>
                          <a:pt x="0" y="4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>
                    <a:off x="1442880" y="5223960"/>
                    <a:ext cx="1674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8" h="622">
                        <a:moveTo>
                          <a:pt x="62" y="622"/>
                        </a:moveTo>
                        <a:lnTo>
                          <a:pt x="0" y="469"/>
                        </a:lnTo>
                        <a:lnTo>
                          <a:pt x="123" y="234"/>
                        </a:lnTo>
                        <a:lnTo>
                          <a:pt x="1358" y="0"/>
                        </a:lnTo>
                        <a:lnTo>
                          <a:pt x="1358" y="117"/>
                        </a:lnTo>
                        <a:lnTo>
                          <a:pt x="214" y="350"/>
                        </a:lnTo>
                        <a:lnTo>
                          <a:pt x="90" y="429"/>
                        </a:lnTo>
                        <a:lnTo>
                          <a:pt x="123" y="583"/>
                        </a:lnTo>
                        <a:lnTo>
                          <a:pt x="62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>
                    <a:off x="1402920" y="5040720"/>
                    <a:ext cx="1634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7" h="584">
                        <a:moveTo>
                          <a:pt x="0" y="542"/>
                        </a:moveTo>
                        <a:lnTo>
                          <a:pt x="0" y="390"/>
                        </a:lnTo>
                        <a:lnTo>
                          <a:pt x="31" y="275"/>
                        </a:lnTo>
                        <a:lnTo>
                          <a:pt x="90" y="77"/>
                        </a:lnTo>
                        <a:lnTo>
                          <a:pt x="154" y="0"/>
                        </a:lnTo>
                        <a:lnTo>
                          <a:pt x="1327" y="194"/>
                        </a:lnTo>
                        <a:lnTo>
                          <a:pt x="1265" y="233"/>
                        </a:lnTo>
                        <a:lnTo>
                          <a:pt x="211" y="116"/>
                        </a:lnTo>
                        <a:lnTo>
                          <a:pt x="154" y="194"/>
                        </a:lnTo>
                        <a:lnTo>
                          <a:pt x="1147" y="351"/>
                        </a:lnTo>
                        <a:lnTo>
                          <a:pt x="154" y="275"/>
                        </a:lnTo>
                        <a:lnTo>
                          <a:pt x="62" y="390"/>
                        </a:lnTo>
                        <a:lnTo>
                          <a:pt x="1027" y="468"/>
                        </a:lnTo>
                        <a:lnTo>
                          <a:pt x="62" y="468"/>
                        </a:lnTo>
                        <a:lnTo>
                          <a:pt x="90" y="584"/>
                        </a:lnTo>
                        <a:lnTo>
                          <a:pt x="0" y="5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>
                    <a:off x="1381320" y="4984920"/>
                    <a:ext cx="166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51" h="426">
                        <a:moveTo>
                          <a:pt x="85" y="0"/>
                        </a:moveTo>
                        <a:lnTo>
                          <a:pt x="1351" y="426"/>
                        </a:lnTo>
                        <a:lnTo>
                          <a:pt x="0" y="116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>
                    <a:off x="1376280" y="4938480"/>
                    <a:ext cx="16056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0" h="620">
                        <a:moveTo>
                          <a:pt x="0" y="196"/>
                        </a:moveTo>
                        <a:lnTo>
                          <a:pt x="1300" y="620"/>
                        </a:lnTo>
                        <a:lnTo>
                          <a:pt x="1300" y="505"/>
                        </a:lnTo>
                        <a:lnTo>
                          <a:pt x="62" y="0"/>
                        </a:lnTo>
                        <a:lnTo>
                          <a:pt x="0" y="19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flipH="1">
                    <a:off x="1354320" y="4886280"/>
                    <a:ext cx="1702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740">
                        <a:moveTo>
                          <a:pt x="31" y="117"/>
                        </a:moveTo>
                        <a:lnTo>
                          <a:pt x="1389" y="740"/>
                        </a:lnTo>
                        <a:lnTo>
                          <a:pt x="0" y="0"/>
                        </a:lnTo>
                        <a:lnTo>
                          <a:pt x="31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H="1">
                    <a:off x="1354680" y="4839120"/>
                    <a:ext cx="1663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58" h="736">
                        <a:moveTo>
                          <a:pt x="1358" y="736"/>
                        </a:moveTo>
                        <a:lnTo>
                          <a:pt x="59" y="0"/>
                        </a:lnTo>
                        <a:lnTo>
                          <a:pt x="0" y="114"/>
                        </a:lnTo>
                        <a:lnTo>
                          <a:pt x="1358" y="7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>
                    <a:off x="1346760" y="4797360"/>
                    <a:ext cx="1634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5" h="775">
                        <a:moveTo>
                          <a:pt x="1325" y="775"/>
                        </a:moveTo>
                        <a:lnTo>
                          <a:pt x="59" y="0"/>
                        </a:lnTo>
                        <a:lnTo>
                          <a:pt x="0" y="77"/>
                        </a:lnTo>
                        <a:lnTo>
                          <a:pt x="1325" y="7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H="1">
                    <a:off x="1295280" y="5233680"/>
                    <a:ext cx="1123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910" h="412">
                        <a:moveTo>
                          <a:pt x="129" y="164"/>
                        </a:moveTo>
                        <a:lnTo>
                          <a:pt x="364" y="164"/>
                        </a:lnTo>
                        <a:lnTo>
                          <a:pt x="646" y="246"/>
                        </a:lnTo>
                        <a:lnTo>
                          <a:pt x="910" y="412"/>
                        </a:lnTo>
                        <a:lnTo>
                          <a:pt x="708" y="184"/>
                        </a:lnTo>
                        <a:lnTo>
                          <a:pt x="558" y="103"/>
                        </a:lnTo>
                        <a:lnTo>
                          <a:pt x="429" y="113"/>
                        </a:lnTo>
                        <a:lnTo>
                          <a:pt x="263" y="62"/>
                        </a:lnTo>
                        <a:lnTo>
                          <a:pt x="150" y="76"/>
                        </a:lnTo>
                        <a:lnTo>
                          <a:pt x="116" y="140"/>
                        </a:lnTo>
                        <a:lnTo>
                          <a:pt x="94" y="0"/>
                        </a:lnTo>
                        <a:lnTo>
                          <a:pt x="0" y="246"/>
                        </a:lnTo>
                        <a:lnTo>
                          <a:pt x="120" y="263"/>
                        </a:lnTo>
                        <a:lnTo>
                          <a:pt x="129" y="1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>
                    <a:off x="1294200" y="5265360"/>
                    <a:ext cx="103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44" h="195">
                        <a:moveTo>
                          <a:pt x="46" y="0"/>
                        </a:moveTo>
                        <a:lnTo>
                          <a:pt x="260" y="81"/>
                        </a:lnTo>
                        <a:lnTo>
                          <a:pt x="686" y="124"/>
                        </a:lnTo>
                        <a:lnTo>
                          <a:pt x="666" y="70"/>
                        </a:lnTo>
                        <a:lnTo>
                          <a:pt x="844" y="142"/>
                        </a:lnTo>
                        <a:lnTo>
                          <a:pt x="680" y="175"/>
                        </a:lnTo>
                        <a:lnTo>
                          <a:pt x="463" y="195"/>
                        </a:lnTo>
                        <a:lnTo>
                          <a:pt x="212" y="184"/>
                        </a:lnTo>
                        <a:lnTo>
                          <a:pt x="82" y="142"/>
                        </a:lnTo>
                        <a:lnTo>
                          <a:pt x="95" y="114"/>
                        </a:lnTo>
                        <a:lnTo>
                          <a:pt x="238" y="158"/>
                        </a:lnTo>
                        <a:lnTo>
                          <a:pt x="267" y="108"/>
                        </a:lnTo>
                        <a:lnTo>
                          <a:pt x="131" y="55"/>
                        </a:lnTo>
                        <a:lnTo>
                          <a:pt x="60" y="70"/>
                        </a:lnTo>
                        <a:lnTo>
                          <a:pt x="60" y="99"/>
                        </a:lnTo>
                        <a:lnTo>
                          <a:pt x="42" y="99"/>
                        </a:lnTo>
                        <a:lnTo>
                          <a:pt x="0" y="2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>
                    <a:off x="1287360" y="5236560"/>
                    <a:ext cx="104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99">
                        <a:moveTo>
                          <a:pt x="20" y="138"/>
                        </a:moveTo>
                        <a:lnTo>
                          <a:pt x="39" y="499"/>
                        </a:lnTo>
                        <a:lnTo>
                          <a:pt x="88" y="368"/>
                        </a:lnTo>
                        <a:lnTo>
                          <a:pt x="0" y="0"/>
                        </a:lnTo>
                        <a:lnTo>
                          <a:pt x="20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H="1">
                    <a:off x="1086120" y="4648320"/>
                    <a:ext cx="47520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858" h="2410">
                        <a:moveTo>
                          <a:pt x="150" y="776"/>
                        </a:moveTo>
                        <a:lnTo>
                          <a:pt x="60" y="502"/>
                        </a:lnTo>
                        <a:lnTo>
                          <a:pt x="0" y="311"/>
                        </a:lnTo>
                        <a:lnTo>
                          <a:pt x="30" y="76"/>
                        </a:lnTo>
                        <a:lnTo>
                          <a:pt x="570" y="115"/>
                        </a:lnTo>
                        <a:lnTo>
                          <a:pt x="1052" y="115"/>
                        </a:lnTo>
                        <a:lnTo>
                          <a:pt x="1326" y="37"/>
                        </a:lnTo>
                        <a:lnTo>
                          <a:pt x="1566" y="0"/>
                        </a:lnTo>
                        <a:lnTo>
                          <a:pt x="1597" y="311"/>
                        </a:lnTo>
                        <a:lnTo>
                          <a:pt x="1685" y="659"/>
                        </a:lnTo>
                        <a:lnTo>
                          <a:pt x="1900" y="1050"/>
                        </a:lnTo>
                        <a:lnTo>
                          <a:pt x="1988" y="1125"/>
                        </a:lnTo>
                        <a:lnTo>
                          <a:pt x="1988" y="853"/>
                        </a:lnTo>
                        <a:lnTo>
                          <a:pt x="2047" y="699"/>
                        </a:lnTo>
                        <a:lnTo>
                          <a:pt x="2469" y="737"/>
                        </a:lnTo>
                        <a:lnTo>
                          <a:pt x="2953" y="620"/>
                        </a:lnTo>
                        <a:lnTo>
                          <a:pt x="3343" y="502"/>
                        </a:lnTo>
                        <a:lnTo>
                          <a:pt x="3493" y="464"/>
                        </a:lnTo>
                        <a:lnTo>
                          <a:pt x="3285" y="853"/>
                        </a:lnTo>
                        <a:lnTo>
                          <a:pt x="3225" y="1283"/>
                        </a:lnTo>
                        <a:lnTo>
                          <a:pt x="3285" y="1672"/>
                        </a:lnTo>
                        <a:lnTo>
                          <a:pt x="3405" y="1981"/>
                        </a:lnTo>
                        <a:lnTo>
                          <a:pt x="3527" y="2138"/>
                        </a:lnTo>
                        <a:lnTo>
                          <a:pt x="3858" y="2214"/>
                        </a:lnTo>
                        <a:lnTo>
                          <a:pt x="3615" y="2331"/>
                        </a:lnTo>
                        <a:lnTo>
                          <a:pt x="3285" y="2410"/>
                        </a:lnTo>
                        <a:lnTo>
                          <a:pt x="2983" y="2331"/>
                        </a:lnTo>
                        <a:lnTo>
                          <a:pt x="2592" y="2214"/>
                        </a:lnTo>
                        <a:lnTo>
                          <a:pt x="2260" y="2021"/>
                        </a:lnTo>
                        <a:lnTo>
                          <a:pt x="2047" y="1905"/>
                        </a:lnTo>
                        <a:lnTo>
                          <a:pt x="2017" y="1786"/>
                        </a:lnTo>
                        <a:lnTo>
                          <a:pt x="2317" y="1981"/>
                        </a:lnTo>
                        <a:lnTo>
                          <a:pt x="2834" y="2253"/>
                        </a:lnTo>
                        <a:lnTo>
                          <a:pt x="3285" y="2331"/>
                        </a:lnTo>
                        <a:lnTo>
                          <a:pt x="3493" y="2293"/>
                        </a:lnTo>
                        <a:lnTo>
                          <a:pt x="3343" y="2098"/>
                        </a:lnTo>
                        <a:lnTo>
                          <a:pt x="3166" y="1672"/>
                        </a:lnTo>
                        <a:lnTo>
                          <a:pt x="3133" y="1320"/>
                        </a:lnTo>
                        <a:lnTo>
                          <a:pt x="3195" y="1009"/>
                        </a:lnTo>
                        <a:lnTo>
                          <a:pt x="3343" y="583"/>
                        </a:lnTo>
                        <a:lnTo>
                          <a:pt x="2983" y="699"/>
                        </a:lnTo>
                        <a:lnTo>
                          <a:pt x="2410" y="776"/>
                        </a:lnTo>
                        <a:lnTo>
                          <a:pt x="2078" y="776"/>
                        </a:lnTo>
                        <a:lnTo>
                          <a:pt x="2017" y="1166"/>
                        </a:lnTo>
                        <a:lnTo>
                          <a:pt x="2291" y="1397"/>
                        </a:lnTo>
                        <a:lnTo>
                          <a:pt x="2559" y="1514"/>
                        </a:lnTo>
                        <a:lnTo>
                          <a:pt x="2739" y="1553"/>
                        </a:lnTo>
                        <a:lnTo>
                          <a:pt x="2441" y="1672"/>
                        </a:lnTo>
                        <a:lnTo>
                          <a:pt x="2017" y="1709"/>
                        </a:lnTo>
                        <a:lnTo>
                          <a:pt x="2469" y="1592"/>
                        </a:lnTo>
                        <a:lnTo>
                          <a:pt x="2230" y="1435"/>
                        </a:lnTo>
                        <a:lnTo>
                          <a:pt x="1960" y="1204"/>
                        </a:lnTo>
                        <a:lnTo>
                          <a:pt x="1808" y="931"/>
                        </a:lnTo>
                        <a:lnTo>
                          <a:pt x="1628" y="659"/>
                        </a:lnTo>
                        <a:lnTo>
                          <a:pt x="1538" y="311"/>
                        </a:lnTo>
                        <a:lnTo>
                          <a:pt x="1476" y="37"/>
                        </a:lnTo>
                        <a:lnTo>
                          <a:pt x="1204" y="115"/>
                        </a:lnTo>
                        <a:lnTo>
                          <a:pt x="810" y="191"/>
                        </a:lnTo>
                        <a:lnTo>
                          <a:pt x="422" y="152"/>
                        </a:lnTo>
                        <a:lnTo>
                          <a:pt x="118" y="152"/>
                        </a:lnTo>
                        <a:lnTo>
                          <a:pt x="60" y="269"/>
                        </a:lnTo>
                        <a:lnTo>
                          <a:pt x="90" y="350"/>
                        </a:lnTo>
                        <a:lnTo>
                          <a:pt x="150" y="7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flipH="1">
                    <a:off x="819000" y="4957560"/>
                    <a:ext cx="24516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1" h="1517">
                        <a:moveTo>
                          <a:pt x="0" y="816"/>
                        </a:moveTo>
                        <a:lnTo>
                          <a:pt x="393" y="623"/>
                        </a:lnTo>
                        <a:lnTo>
                          <a:pt x="664" y="427"/>
                        </a:lnTo>
                        <a:lnTo>
                          <a:pt x="787" y="233"/>
                        </a:lnTo>
                        <a:lnTo>
                          <a:pt x="844" y="81"/>
                        </a:lnTo>
                        <a:lnTo>
                          <a:pt x="875" y="0"/>
                        </a:lnTo>
                        <a:lnTo>
                          <a:pt x="1207" y="274"/>
                        </a:lnTo>
                        <a:lnTo>
                          <a:pt x="1569" y="390"/>
                        </a:lnTo>
                        <a:lnTo>
                          <a:pt x="1811" y="427"/>
                        </a:lnTo>
                        <a:lnTo>
                          <a:pt x="1991" y="427"/>
                        </a:lnTo>
                        <a:lnTo>
                          <a:pt x="1721" y="740"/>
                        </a:lnTo>
                        <a:lnTo>
                          <a:pt x="1419" y="1051"/>
                        </a:lnTo>
                        <a:lnTo>
                          <a:pt x="1117" y="1284"/>
                        </a:lnTo>
                        <a:lnTo>
                          <a:pt x="875" y="1438"/>
                        </a:lnTo>
                        <a:lnTo>
                          <a:pt x="725" y="1517"/>
                        </a:lnTo>
                        <a:lnTo>
                          <a:pt x="515" y="1401"/>
                        </a:lnTo>
                        <a:lnTo>
                          <a:pt x="332" y="1207"/>
                        </a:lnTo>
                        <a:lnTo>
                          <a:pt x="183" y="1012"/>
                        </a:lnTo>
                        <a:lnTo>
                          <a:pt x="123" y="896"/>
                        </a:lnTo>
                        <a:lnTo>
                          <a:pt x="483" y="1207"/>
                        </a:lnTo>
                        <a:lnTo>
                          <a:pt x="697" y="1361"/>
                        </a:lnTo>
                        <a:lnTo>
                          <a:pt x="787" y="1401"/>
                        </a:lnTo>
                        <a:lnTo>
                          <a:pt x="1027" y="1244"/>
                        </a:lnTo>
                        <a:lnTo>
                          <a:pt x="1419" y="972"/>
                        </a:lnTo>
                        <a:lnTo>
                          <a:pt x="1838" y="507"/>
                        </a:lnTo>
                        <a:lnTo>
                          <a:pt x="1538" y="427"/>
                        </a:lnTo>
                        <a:lnTo>
                          <a:pt x="1117" y="274"/>
                        </a:lnTo>
                        <a:lnTo>
                          <a:pt x="905" y="81"/>
                        </a:lnTo>
                        <a:lnTo>
                          <a:pt x="757" y="427"/>
                        </a:lnTo>
                        <a:lnTo>
                          <a:pt x="483" y="623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>
                    <a:off x="1416600" y="5137920"/>
                    <a:ext cx="244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441">
                        <a:moveTo>
                          <a:pt x="70" y="9"/>
                        </a:moveTo>
                        <a:lnTo>
                          <a:pt x="105" y="165"/>
                        </a:lnTo>
                        <a:lnTo>
                          <a:pt x="171" y="286"/>
                        </a:lnTo>
                        <a:lnTo>
                          <a:pt x="199" y="319"/>
                        </a:lnTo>
                        <a:lnTo>
                          <a:pt x="120" y="441"/>
                        </a:lnTo>
                        <a:lnTo>
                          <a:pt x="35" y="263"/>
                        </a:lnTo>
                        <a:lnTo>
                          <a:pt x="0" y="88"/>
                        </a:lnTo>
                        <a:lnTo>
                          <a:pt x="0" y="0"/>
                        </a:lnTo>
                        <a:lnTo>
                          <a:pt x="7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1" name=""/>
              <p:cNvSpPr/>
              <p:nvPr/>
            </p:nvSpPr>
            <p:spPr>
              <a:xfrm>
                <a:off x="1447920" y="4343400"/>
                <a:ext cx="304560" cy="228600"/>
              </a:xfrm>
              <a:prstGeom prst="downArrow">
                <a:avLst>
                  <a:gd name="adj1" fmla="val 50000"/>
                  <a:gd name="adj2" fmla="val 47222"/>
                </a:avLst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1983240" y="5105520"/>
              <a:ext cx="586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Penentua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Performance Indicator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6840" y="1866960"/>
            <a:ext cx="8381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uk dat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ang cenderung meningkat,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iambil yang terakh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ta-rata IPK lulu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/199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/199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1997/199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/199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1999/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6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2.7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2.8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2.8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uk dat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ang cenderung menurun atau fluktuatif,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iambil nilai rata-rata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ta-rata IPK lulu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/199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/199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1997/199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/199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1999/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7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2.7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2.7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6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2.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a-rata 5 tahun 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7299000" y="3473280"/>
            <a:ext cx="667080" cy="638280"/>
            <a:chOff x="7299000" y="3473280"/>
            <a:chExt cx="667080" cy="638280"/>
          </a:xfrm>
        </p:grpSpPr>
        <p:sp>
          <p:nvSpPr>
            <p:cNvPr id="976" name=""/>
            <p:cNvSpPr/>
            <p:nvPr/>
          </p:nvSpPr>
          <p:spPr>
            <a:xfrm>
              <a:off x="7508880" y="34732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299000" y="3877920"/>
              <a:ext cx="243000" cy="23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476160" y="5886360"/>
            <a:ext cx="667080" cy="638280"/>
            <a:chOff x="3476160" y="5886360"/>
            <a:chExt cx="667080" cy="638280"/>
          </a:xfrm>
        </p:grpSpPr>
        <p:sp>
          <p:nvSpPr>
            <p:cNvPr id="979" name=""/>
            <p:cNvSpPr/>
            <p:nvPr/>
          </p:nvSpPr>
          <p:spPr>
            <a:xfrm>
              <a:off x="3686040" y="588636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476160" y="6291000"/>
              <a:ext cx="243000" cy="23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354360" y="5734080"/>
            <a:ext cx="384840" cy="892440"/>
            <a:chOff x="6354360" y="5734080"/>
            <a:chExt cx="384840" cy="892440"/>
          </a:xfrm>
        </p:grpSpPr>
        <p:sp>
          <p:nvSpPr>
            <p:cNvPr id="982" name=""/>
            <p:cNvSpPr/>
            <p:nvPr/>
          </p:nvSpPr>
          <p:spPr>
            <a:xfrm>
              <a:off x="6381720" y="5734080"/>
              <a:ext cx="317520" cy="355680"/>
            </a:xfrm>
            <a:prstGeom prst="upArrow">
              <a:avLst>
                <a:gd name="adj1" fmla="val 46000"/>
                <a:gd name="adj2" fmla="val 58011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54360" y="6045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9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9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304920" y="1828800"/>
            <a:ext cx="1600200" cy="4114800"/>
            <a:chOff x="304920" y="1828800"/>
            <a:chExt cx="1600200" cy="4114800"/>
          </a:xfrm>
        </p:grpSpPr>
        <p:grpSp>
          <p:nvGrpSpPr>
            <p:cNvPr id="985" name=""/>
            <p:cNvGrpSpPr/>
            <p:nvPr/>
          </p:nvGrpSpPr>
          <p:grpSpPr>
            <a:xfrm>
              <a:off x="304920" y="2438280"/>
              <a:ext cx="1600200" cy="3505320"/>
              <a:chOff x="304920" y="2438280"/>
              <a:chExt cx="1600200" cy="350532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380880" y="2743200"/>
                <a:ext cx="1400040" cy="3065400"/>
                <a:chOff x="380880" y="2743200"/>
                <a:chExt cx="1400040" cy="306540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380880" y="2743200"/>
                  <a:ext cx="1400040" cy="1465200"/>
                  <a:chOff x="380880" y="2743200"/>
                  <a:chExt cx="1400040" cy="1465200"/>
                </a:xfrm>
              </p:grpSpPr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380880" y="2743200"/>
                    <a:ext cx="1400040" cy="819000"/>
                    <a:chOff x="380880" y="2743200"/>
                    <a:chExt cx="1400040" cy="81900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380880" y="2743200"/>
                      <a:ext cx="1400040" cy="81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aphicFrame>
                  <p:nvGraphicFramePr>
                    <p:cNvPr id="990" name=""/>
                    <p:cNvGraphicFramePr/>
                    <p:nvPr/>
                  </p:nvGraphicFramePr>
                  <p:xfrm>
                    <a:off x="438480" y="2828520"/>
                    <a:ext cx="1274400" cy="637920"/>
                  </p:xfrm>
                  <a:graphic>
                    <a:graphicData uri="http://schemas.openxmlformats.org/presentationml/2006/ole">
                      <p:oleObj progId="Excel.Sheet.12" r:id="rId1" spid="">
                        <p:embed/>
                        <p:pic>
                          <p:nvPicPr>
                            <p:cNvPr id="991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438480" y="2828520"/>
                              <a:ext cx="1274400" cy="6379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sp>
                <p:nvSpPr>
                  <p:cNvPr id="992" name=""/>
                  <p:cNvSpPr/>
                  <p:nvPr/>
                </p:nvSpPr>
                <p:spPr>
                  <a:xfrm>
                    <a:off x="610920" y="3657600"/>
                    <a:ext cx="941040" cy="55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esimpulan :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…………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…………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380880" y="4343400"/>
                  <a:ext cx="1400040" cy="1465200"/>
                  <a:chOff x="380880" y="4343400"/>
                  <a:chExt cx="1400040" cy="1465200"/>
                </a:xfrm>
              </p:grpSpPr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380880" y="4343400"/>
                    <a:ext cx="1400040" cy="819000"/>
                    <a:chOff x="380880" y="4343400"/>
                    <a:chExt cx="1400040" cy="81900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380880" y="4343400"/>
                      <a:ext cx="1400040" cy="81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96" name=""/>
                    <p:cNvGrpSpPr/>
                    <p:nvPr/>
                  </p:nvGrpSpPr>
                  <p:grpSpPr>
                    <a:xfrm>
                      <a:off x="466560" y="4429080"/>
                      <a:ext cx="1162080" cy="628560"/>
                      <a:chOff x="466560" y="4429080"/>
                      <a:chExt cx="1162080" cy="628560"/>
                    </a:xfrm>
                  </p:grpSpPr>
                  <p:sp>
                    <p:nvSpPr>
                      <p:cNvPr id="997" name=""/>
                      <p:cNvSpPr/>
                      <p:nvPr/>
                    </p:nvSpPr>
                    <p:spPr>
                      <a:xfrm>
                        <a:off x="466560" y="5048280"/>
                        <a:ext cx="11620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3">
                            <a:moveTo>
                              <a:pt x="0" y="3"/>
                            </a:moveTo>
                            <a:lnTo>
                              <a:pt x="732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466560" y="4876920"/>
                        <a:ext cx="1154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466560" y="4524480"/>
                        <a:ext cx="1154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0" name=""/>
                      <p:cNvSpPr/>
                      <p:nvPr/>
                    </p:nvSpPr>
                    <p:spPr>
                      <a:xfrm>
                        <a:off x="466560" y="4754520"/>
                        <a:ext cx="1149120" cy="11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26" h="426">
                            <a:moveTo>
                              <a:pt x="0" y="426"/>
                            </a:moveTo>
                            <a:cubicBezTo>
                              <a:pt x="281" y="373"/>
                              <a:pt x="1065" y="175"/>
                              <a:pt x="1686" y="108"/>
                            </a:cubicBezTo>
                            <a:cubicBezTo>
                              <a:pt x="2430" y="0"/>
                              <a:pt x="3301" y="42"/>
                              <a:pt x="3726" y="24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1" name=""/>
                      <p:cNvSpPr/>
                      <p:nvPr/>
                    </p:nvSpPr>
                    <p:spPr>
                      <a:xfrm>
                        <a:off x="466560" y="4630680"/>
                        <a:ext cx="1137960" cy="23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90" h="902">
                            <a:moveTo>
                              <a:pt x="0" y="902"/>
                            </a:moveTo>
                            <a:cubicBezTo>
                              <a:pt x="309" y="777"/>
                              <a:pt x="1239" y="300"/>
                              <a:pt x="1854" y="152"/>
                            </a:cubicBezTo>
                            <a:cubicBezTo>
                              <a:pt x="2470" y="0"/>
                              <a:pt x="3308" y="43"/>
                              <a:pt x="3690" y="14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33cc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2" name=""/>
                      <p:cNvSpPr/>
                      <p:nvPr/>
                    </p:nvSpPr>
                    <p:spPr>
                      <a:xfrm>
                        <a:off x="466560" y="4505400"/>
                        <a:ext cx="1143000" cy="36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08" h="1379">
                            <a:moveTo>
                              <a:pt x="0" y="1379"/>
                            </a:moveTo>
                            <a:cubicBezTo>
                              <a:pt x="121" y="1310"/>
                              <a:pt x="408" y="1199"/>
                              <a:pt x="726" y="965"/>
                            </a:cubicBezTo>
                            <a:cubicBezTo>
                              <a:pt x="1044" y="731"/>
                              <a:pt x="1643" y="298"/>
                              <a:pt x="2118" y="149"/>
                            </a:cubicBezTo>
                            <a:cubicBezTo>
                              <a:pt x="2593" y="0"/>
                              <a:pt x="3377" y="34"/>
                              <a:pt x="3708" y="4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466560" y="4429080"/>
                        <a:ext cx="1440" cy="62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2400">
                            <a:moveTo>
                              <a:pt x="0" y="0"/>
                            </a:moveTo>
                            <a:lnTo>
                              <a:pt x="3" y="240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04" name=""/>
                  <p:cNvSpPr/>
                  <p:nvPr/>
                </p:nvSpPr>
                <p:spPr>
                  <a:xfrm>
                    <a:off x="610920" y="5257800"/>
                    <a:ext cx="941040" cy="55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esimpulan :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…………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…………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05" name=""/>
              <p:cNvSpPr/>
              <p:nvPr/>
            </p:nvSpPr>
            <p:spPr>
              <a:xfrm>
                <a:off x="304920" y="2438280"/>
                <a:ext cx="1600200" cy="3505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344520" y="20574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rnal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8600" y="182880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ternal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981080" y="3505320"/>
            <a:ext cx="2286000" cy="914400"/>
            <a:chOff x="1981080" y="3505320"/>
            <a:chExt cx="2286000" cy="914400"/>
          </a:xfrm>
        </p:grpSpPr>
        <p:grpSp>
          <p:nvGrpSpPr>
            <p:cNvPr id="1009" name=""/>
            <p:cNvGrpSpPr/>
            <p:nvPr/>
          </p:nvGrpSpPr>
          <p:grpSpPr>
            <a:xfrm>
              <a:off x="2590920" y="3505320"/>
              <a:ext cx="1676160" cy="914400"/>
              <a:chOff x="2590920" y="3505320"/>
              <a:chExt cx="1676160" cy="9144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590920" y="3505320"/>
                <a:ext cx="1676160" cy="9144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65600" y="3641760"/>
                <a:ext cx="1127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SWO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Analys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1981080" y="39625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343400" y="3352680"/>
            <a:ext cx="2362320" cy="1199880"/>
            <a:chOff x="4343400" y="3352680"/>
            <a:chExt cx="2362320" cy="1199880"/>
          </a:xfrm>
        </p:grpSpPr>
        <p:grpSp>
          <p:nvGrpSpPr>
            <p:cNvPr id="1014" name=""/>
            <p:cNvGrpSpPr/>
            <p:nvPr/>
          </p:nvGrpSpPr>
          <p:grpSpPr>
            <a:xfrm>
              <a:off x="4953240" y="3352680"/>
              <a:ext cx="1752480" cy="1199880"/>
              <a:chOff x="4953240" y="3352680"/>
              <a:chExt cx="1752480" cy="1199880"/>
            </a:xfrm>
          </p:grpSpPr>
          <p:sp>
            <p:nvSpPr>
              <p:cNvPr id="1015" name=""/>
              <p:cNvSpPr/>
              <p:nvPr/>
            </p:nvSpPr>
            <p:spPr>
              <a:xfrm>
                <a:off x="4953240" y="3352680"/>
                <a:ext cx="1752480" cy="1199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57920" y="3449160"/>
                <a:ext cx="1741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trength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Weakness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 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 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Opportunities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Threa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 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 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4343400" y="395280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2413080" y="1447920"/>
            <a:ext cx="3843000" cy="1828800"/>
            <a:chOff x="2413080" y="1447920"/>
            <a:chExt cx="3843000" cy="1828800"/>
          </a:xfrm>
        </p:grpSpPr>
        <p:grpSp>
          <p:nvGrpSpPr>
            <p:cNvPr id="1019" name=""/>
            <p:cNvGrpSpPr/>
            <p:nvPr/>
          </p:nvGrpSpPr>
          <p:grpSpPr>
            <a:xfrm>
              <a:off x="2413080" y="1447920"/>
              <a:ext cx="3843000" cy="1600200"/>
              <a:chOff x="2413080" y="1447920"/>
              <a:chExt cx="3843000" cy="1600200"/>
            </a:xfrm>
          </p:grpSpPr>
          <p:sp>
            <p:nvSpPr>
              <p:cNvPr id="1020" name=""/>
              <p:cNvSpPr/>
              <p:nvPr/>
            </p:nvSpPr>
            <p:spPr>
              <a:xfrm>
                <a:off x="3789720" y="1922400"/>
                <a:ext cx="246636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S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ength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W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akneses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O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portunities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T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rea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1" name=""/>
              <p:cNvGrpSpPr/>
              <p:nvPr/>
            </p:nvGrpSpPr>
            <p:grpSpPr>
              <a:xfrm>
                <a:off x="2413080" y="1447920"/>
                <a:ext cx="1295280" cy="1600200"/>
                <a:chOff x="2413080" y="1447920"/>
                <a:chExt cx="1295280" cy="16002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2548080" y="1879560"/>
                  <a:ext cx="641160" cy="1164600"/>
                </a:xfrm>
                <a:custGeom>
                  <a:avLst/>
                  <a:gdLst/>
                  <a:ahLst/>
                  <a:rect l="l" t="t" r="r" b="b"/>
                  <a:pathLst>
                    <a:path w="5401" h="9581">
                      <a:moveTo>
                        <a:pt x="4619" y="1950"/>
                      </a:moveTo>
                      <a:lnTo>
                        <a:pt x="4619" y="1760"/>
                      </a:lnTo>
                      <a:lnTo>
                        <a:pt x="4344" y="1384"/>
                      </a:lnTo>
                      <a:lnTo>
                        <a:pt x="1966" y="376"/>
                      </a:lnTo>
                      <a:lnTo>
                        <a:pt x="1034" y="0"/>
                      </a:lnTo>
                      <a:lnTo>
                        <a:pt x="1013" y="658"/>
                      </a:lnTo>
                      <a:lnTo>
                        <a:pt x="791" y="1255"/>
                      </a:lnTo>
                      <a:lnTo>
                        <a:pt x="0" y="3579"/>
                      </a:lnTo>
                      <a:lnTo>
                        <a:pt x="79" y="9077"/>
                      </a:lnTo>
                      <a:lnTo>
                        <a:pt x="224" y="9294"/>
                      </a:lnTo>
                      <a:lnTo>
                        <a:pt x="716" y="9551"/>
                      </a:lnTo>
                      <a:lnTo>
                        <a:pt x="1206" y="9581"/>
                      </a:lnTo>
                      <a:lnTo>
                        <a:pt x="1061" y="9169"/>
                      </a:lnTo>
                      <a:lnTo>
                        <a:pt x="1158" y="9047"/>
                      </a:lnTo>
                      <a:lnTo>
                        <a:pt x="1158" y="8732"/>
                      </a:lnTo>
                      <a:lnTo>
                        <a:pt x="1281" y="8481"/>
                      </a:lnTo>
                      <a:lnTo>
                        <a:pt x="1281" y="8167"/>
                      </a:lnTo>
                      <a:lnTo>
                        <a:pt x="1401" y="7630"/>
                      </a:lnTo>
                      <a:lnTo>
                        <a:pt x="2528" y="6309"/>
                      </a:lnTo>
                      <a:lnTo>
                        <a:pt x="4149" y="8767"/>
                      </a:lnTo>
                      <a:lnTo>
                        <a:pt x="4934" y="8955"/>
                      </a:lnTo>
                      <a:lnTo>
                        <a:pt x="5401" y="8922"/>
                      </a:lnTo>
                      <a:lnTo>
                        <a:pt x="5135" y="8732"/>
                      </a:lnTo>
                      <a:lnTo>
                        <a:pt x="4911" y="8414"/>
                      </a:lnTo>
                      <a:lnTo>
                        <a:pt x="4911" y="8230"/>
                      </a:lnTo>
                      <a:lnTo>
                        <a:pt x="4812" y="7915"/>
                      </a:lnTo>
                      <a:lnTo>
                        <a:pt x="4637" y="7823"/>
                      </a:lnTo>
                      <a:lnTo>
                        <a:pt x="4544" y="7383"/>
                      </a:lnTo>
                      <a:lnTo>
                        <a:pt x="4371" y="2701"/>
                      </a:lnTo>
                      <a:lnTo>
                        <a:pt x="4471" y="2230"/>
                      </a:lnTo>
                      <a:lnTo>
                        <a:pt x="4619" y="1950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solidFill>
                    <a:srgbClr val="70230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649600" y="2008080"/>
                  <a:ext cx="1042560" cy="787680"/>
                </a:xfrm>
                <a:custGeom>
                  <a:avLst/>
                  <a:gdLst/>
                  <a:ahLst/>
                  <a:rect l="l" t="t" r="r" b="b"/>
                  <a:pathLst>
                    <a:path w="8777" h="6476">
                      <a:moveTo>
                        <a:pt x="7501" y="853"/>
                      </a:moveTo>
                      <a:lnTo>
                        <a:pt x="7598" y="640"/>
                      </a:lnTo>
                      <a:lnTo>
                        <a:pt x="8003" y="0"/>
                      </a:lnTo>
                      <a:lnTo>
                        <a:pt x="7394" y="189"/>
                      </a:lnTo>
                      <a:lnTo>
                        <a:pt x="6749" y="477"/>
                      </a:lnTo>
                      <a:lnTo>
                        <a:pt x="6215" y="803"/>
                      </a:lnTo>
                      <a:lnTo>
                        <a:pt x="5864" y="1087"/>
                      </a:lnTo>
                      <a:lnTo>
                        <a:pt x="5512" y="1420"/>
                      </a:lnTo>
                      <a:lnTo>
                        <a:pt x="5145" y="1841"/>
                      </a:lnTo>
                      <a:lnTo>
                        <a:pt x="4866" y="2224"/>
                      </a:lnTo>
                      <a:lnTo>
                        <a:pt x="4774" y="2433"/>
                      </a:lnTo>
                      <a:lnTo>
                        <a:pt x="4496" y="2433"/>
                      </a:lnTo>
                      <a:lnTo>
                        <a:pt x="3854" y="2105"/>
                      </a:lnTo>
                      <a:lnTo>
                        <a:pt x="3040" y="1680"/>
                      </a:lnTo>
                      <a:lnTo>
                        <a:pt x="1176" y="336"/>
                      </a:lnTo>
                      <a:lnTo>
                        <a:pt x="1105" y="640"/>
                      </a:lnTo>
                      <a:lnTo>
                        <a:pt x="887" y="543"/>
                      </a:lnTo>
                      <a:lnTo>
                        <a:pt x="934" y="853"/>
                      </a:lnTo>
                      <a:lnTo>
                        <a:pt x="809" y="828"/>
                      </a:lnTo>
                      <a:lnTo>
                        <a:pt x="887" y="1110"/>
                      </a:lnTo>
                      <a:lnTo>
                        <a:pt x="919" y="1889"/>
                      </a:lnTo>
                      <a:lnTo>
                        <a:pt x="919" y="2548"/>
                      </a:lnTo>
                      <a:lnTo>
                        <a:pt x="861" y="3095"/>
                      </a:lnTo>
                      <a:lnTo>
                        <a:pt x="659" y="4538"/>
                      </a:lnTo>
                      <a:lnTo>
                        <a:pt x="385" y="5245"/>
                      </a:lnTo>
                      <a:lnTo>
                        <a:pt x="0" y="6143"/>
                      </a:lnTo>
                      <a:lnTo>
                        <a:pt x="385" y="6192"/>
                      </a:lnTo>
                      <a:lnTo>
                        <a:pt x="1913" y="6214"/>
                      </a:lnTo>
                      <a:lnTo>
                        <a:pt x="2780" y="6309"/>
                      </a:lnTo>
                      <a:lnTo>
                        <a:pt x="3483" y="6476"/>
                      </a:lnTo>
                      <a:lnTo>
                        <a:pt x="3651" y="6331"/>
                      </a:lnTo>
                      <a:lnTo>
                        <a:pt x="4203" y="5880"/>
                      </a:lnTo>
                      <a:lnTo>
                        <a:pt x="4699" y="5578"/>
                      </a:lnTo>
                      <a:lnTo>
                        <a:pt x="5436" y="5316"/>
                      </a:lnTo>
                      <a:lnTo>
                        <a:pt x="5568" y="4866"/>
                      </a:lnTo>
                      <a:lnTo>
                        <a:pt x="5749" y="4371"/>
                      </a:lnTo>
                      <a:lnTo>
                        <a:pt x="5993" y="3898"/>
                      </a:lnTo>
                      <a:lnTo>
                        <a:pt x="6531" y="3026"/>
                      </a:lnTo>
                      <a:lnTo>
                        <a:pt x="7042" y="2486"/>
                      </a:lnTo>
                      <a:lnTo>
                        <a:pt x="7353" y="2176"/>
                      </a:lnTo>
                      <a:lnTo>
                        <a:pt x="7779" y="1889"/>
                      </a:lnTo>
                      <a:lnTo>
                        <a:pt x="8313" y="1609"/>
                      </a:lnTo>
                      <a:lnTo>
                        <a:pt x="8777" y="1372"/>
                      </a:lnTo>
                      <a:lnTo>
                        <a:pt x="8535" y="1301"/>
                      </a:lnTo>
                      <a:lnTo>
                        <a:pt x="8224" y="1278"/>
                      </a:lnTo>
                      <a:lnTo>
                        <a:pt x="7850" y="1278"/>
                      </a:lnTo>
                      <a:lnTo>
                        <a:pt x="8132" y="991"/>
                      </a:lnTo>
                      <a:lnTo>
                        <a:pt x="8517" y="588"/>
                      </a:lnTo>
                      <a:lnTo>
                        <a:pt x="8132" y="662"/>
                      </a:lnTo>
                      <a:lnTo>
                        <a:pt x="7668" y="784"/>
                      </a:lnTo>
                      <a:lnTo>
                        <a:pt x="7501" y="8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610720" y="2302920"/>
                  <a:ext cx="225720" cy="304560"/>
                </a:xfrm>
                <a:custGeom>
                  <a:avLst/>
                  <a:gdLst/>
                  <a:ahLst/>
                  <a:rect l="l" t="t" r="r" b="b"/>
                  <a:pathLst>
                    <a:path w="1909" h="2509">
                      <a:moveTo>
                        <a:pt x="1245" y="0"/>
                      </a:moveTo>
                      <a:lnTo>
                        <a:pt x="1227" y="297"/>
                      </a:lnTo>
                      <a:lnTo>
                        <a:pt x="1179" y="620"/>
                      </a:lnTo>
                      <a:lnTo>
                        <a:pt x="1213" y="710"/>
                      </a:lnTo>
                      <a:lnTo>
                        <a:pt x="1568" y="1022"/>
                      </a:lnTo>
                      <a:lnTo>
                        <a:pt x="1856" y="1181"/>
                      </a:lnTo>
                      <a:lnTo>
                        <a:pt x="1909" y="1320"/>
                      </a:lnTo>
                      <a:lnTo>
                        <a:pt x="1823" y="1440"/>
                      </a:lnTo>
                      <a:lnTo>
                        <a:pt x="1339" y="1461"/>
                      </a:lnTo>
                      <a:lnTo>
                        <a:pt x="1612" y="1791"/>
                      </a:lnTo>
                      <a:lnTo>
                        <a:pt x="1697" y="1992"/>
                      </a:lnTo>
                      <a:lnTo>
                        <a:pt x="1624" y="2129"/>
                      </a:lnTo>
                      <a:lnTo>
                        <a:pt x="1426" y="2173"/>
                      </a:lnTo>
                      <a:lnTo>
                        <a:pt x="1489" y="2315"/>
                      </a:lnTo>
                      <a:lnTo>
                        <a:pt x="1467" y="2460"/>
                      </a:lnTo>
                      <a:lnTo>
                        <a:pt x="1143" y="2509"/>
                      </a:lnTo>
                      <a:lnTo>
                        <a:pt x="507" y="2372"/>
                      </a:lnTo>
                      <a:lnTo>
                        <a:pt x="140" y="2076"/>
                      </a:lnTo>
                      <a:lnTo>
                        <a:pt x="0" y="1661"/>
                      </a:lnTo>
                      <a:lnTo>
                        <a:pt x="56" y="1209"/>
                      </a:lnTo>
                      <a:lnTo>
                        <a:pt x="489" y="504"/>
                      </a:lnTo>
                      <a:lnTo>
                        <a:pt x="728" y="183"/>
                      </a:lnTo>
                      <a:lnTo>
                        <a:pt x="1090" y="9"/>
                      </a:lnTo>
                      <a:lnTo>
                        <a:pt x="1245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solidFill>
                    <a:srgbClr val="ffc98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597400" y="2372040"/>
                  <a:ext cx="70200" cy="119520"/>
                </a:xfrm>
                <a:custGeom>
                  <a:avLst/>
                  <a:gdLst/>
                  <a:ahLst/>
                  <a:rect l="l" t="t" r="r" b="b"/>
                  <a:pathLst>
                    <a:path w="586" h="981">
                      <a:moveTo>
                        <a:pt x="530" y="0"/>
                      </a:moveTo>
                      <a:lnTo>
                        <a:pt x="586" y="327"/>
                      </a:lnTo>
                      <a:lnTo>
                        <a:pt x="286" y="677"/>
                      </a:lnTo>
                      <a:lnTo>
                        <a:pt x="151" y="981"/>
                      </a:lnTo>
                      <a:lnTo>
                        <a:pt x="0" y="707"/>
                      </a:lnTo>
                      <a:lnTo>
                        <a:pt x="163" y="361"/>
                      </a:lnTo>
                      <a:lnTo>
                        <a:pt x="400" y="71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314880" y="2311560"/>
                  <a:ext cx="189720" cy="248760"/>
                </a:xfrm>
                <a:custGeom>
                  <a:avLst/>
                  <a:gdLst/>
                  <a:ahLst/>
                  <a:rect l="l" t="t" r="r" b="b"/>
                  <a:pathLst>
                    <a:path w="1601" h="2044">
                      <a:moveTo>
                        <a:pt x="1389" y="0"/>
                      </a:moveTo>
                      <a:lnTo>
                        <a:pt x="1482" y="147"/>
                      </a:lnTo>
                      <a:lnTo>
                        <a:pt x="1601" y="553"/>
                      </a:lnTo>
                      <a:lnTo>
                        <a:pt x="1339" y="669"/>
                      </a:lnTo>
                      <a:lnTo>
                        <a:pt x="1367" y="972"/>
                      </a:lnTo>
                      <a:lnTo>
                        <a:pt x="1207" y="1084"/>
                      </a:lnTo>
                      <a:lnTo>
                        <a:pt x="934" y="1084"/>
                      </a:lnTo>
                      <a:lnTo>
                        <a:pt x="1016" y="1204"/>
                      </a:lnTo>
                      <a:lnTo>
                        <a:pt x="978" y="1337"/>
                      </a:lnTo>
                      <a:lnTo>
                        <a:pt x="748" y="1407"/>
                      </a:lnTo>
                      <a:lnTo>
                        <a:pt x="867" y="1672"/>
                      </a:lnTo>
                      <a:lnTo>
                        <a:pt x="1071" y="1988"/>
                      </a:lnTo>
                      <a:lnTo>
                        <a:pt x="1000" y="2044"/>
                      </a:lnTo>
                      <a:lnTo>
                        <a:pt x="809" y="2008"/>
                      </a:lnTo>
                      <a:lnTo>
                        <a:pt x="690" y="1934"/>
                      </a:lnTo>
                      <a:lnTo>
                        <a:pt x="527" y="1744"/>
                      </a:lnTo>
                      <a:lnTo>
                        <a:pt x="375" y="1496"/>
                      </a:lnTo>
                      <a:lnTo>
                        <a:pt x="53" y="1105"/>
                      </a:lnTo>
                      <a:lnTo>
                        <a:pt x="0" y="957"/>
                      </a:lnTo>
                      <a:lnTo>
                        <a:pt x="12" y="845"/>
                      </a:lnTo>
                      <a:lnTo>
                        <a:pt x="56" y="783"/>
                      </a:lnTo>
                      <a:lnTo>
                        <a:pt x="115" y="749"/>
                      </a:lnTo>
                      <a:lnTo>
                        <a:pt x="218" y="713"/>
                      </a:lnTo>
                      <a:lnTo>
                        <a:pt x="200" y="501"/>
                      </a:lnTo>
                      <a:lnTo>
                        <a:pt x="249" y="420"/>
                      </a:lnTo>
                      <a:lnTo>
                        <a:pt x="438" y="310"/>
                      </a:lnTo>
                      <a:lnTo>
                        <a:pt x="563" y="318"/>
                      </a:lnTo>
                      <a:lnTo>
                        <a:pt x="500" y="155"/>
                      </a:lnTo>
                      <a:lnTo>
                        <a:pt x="539" y="54"/>
                      </a:lnTo>
                      <a:lnTo>
                        <a:pt x="588" y="23"/>
                      </a:lnTo>
                      <a:lnTo>
                        <a:pt x="809" y="94"/>
                      </a:lnTo>
                      <a:lnTo>
                        <a:pt x="1031" y="114"/>
                      </a:lnTo>
                      <a:lnTo>
                        <a:pt x="1250" y="72"/>
                      </a:lnTo>
                      <a:lnTo>
                        <a:pt x="1326" y="36"/>
                      </a:lnTo>
                      <a:lnTo>
                        <a:pt x="1389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solidFill>
                    <a:srgbClr val="ffc98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2789280" y="1582920"/>
                  <a:ext cx="453960" cy="613800"/>
                </a:xfrm>
                <a:custGeom>
                  <a:avLst/>
                  <a:gdLst/>
                  <a:ahLst/>
                  <a:rect l="l" t="t" r="r" b="b"/>
                  <a:pathLst>
                    <a:path w="3824" h="5047">
                      <a:moveTo>
                        <a:pt x="3175" y="663"/>
                      </a:moveTo>
                      <a:lnTo>
                        <a:pt x="3330" y="907"/>
                      </a:lnTo>
                      <a:lnTo>
                        <a:pt x="3434" y="1305"/>
                      </a:lnTo>
                      <a:lnTo>
                        <a:pt x="3460" y="1888"/>
                      </a:lnTo>
                      <a:lnTo>
                        <a:pt x="3612" y="1801"/>
                      </a:lnTo>
                      <a:lnTo>
                        <a:pt x="3720" y="1850"/>
                      </a:lnTo>
                      <a:lnTo>
                        <a:pt x="3824" y="2203"/>
                      </a:lnTo>
                      <a:lnTo>
                        <a:pt x="3289" y="2946"/>
                      </a:lnTo>
                      <a:lnTo>
                        <a:pt x="3382" y="3145"/>
                      </a:lnTo>
                      <a:lnTo>
                        <a:pt x="3475" y="3473"/>
                      </a:lnTo>
                      <a:lnTo>
                        <a:pt x="3487" y="3707"/>
                      </a:lnTo>
                      <a:lnTo>
                        <a:pt x="3353" y="3804"/>
                      </a:lnTo>
                      <a:lnTo>
                        <a:pt x="3175" y="3755"/>
                      </a:lnTo>
                      <a:lnTo>
                        <a:pt x="3009" y="3626"/>
                      </a:lnTo>
                      <a:lnTo>
                        <a:pt x="2900" y="3508"/>
                      </a:lnTo>
                      <a:lnTo>
                        <a:pt x="2642" y="3689"/>
                      </a:lnTo>
                      <a:lnTo>
                        <a:pt x="2322" y="4070"/>
                      </a:lnTo>
                      <a:lnTo>
                        <a:pt x="1833" y="4795"/>
                      </a:lnTo>
                      <a:lnTo>
                        <a:pt x="1719" y="5047"/>
                      </a:lnTo>
                      <a:lnTo>
                        <a:pt x="1548" y="4964"/>
                      </a:lnTo>
                      <a:lnTo>
                        <a:pt x="888" y="4531"/>
                      </a:lnTo>
                      <a:lnTo>
                        <a:pt x="244" y="4084"/>
                      </a:lnTo>
                      <a:lnTo>
                        <a:pt x="150" y="2959"/>
                      </a:lnTo>
                      <a:lnTo>
                        <a:pt x="191" y="2447"/>
                      </a:lnTo>
                      <a:lnTo>
                        <a:pt x="36" y="2136"/>
                      </a:lnTo>
                      <a:lnTo>
                        <a:pt x="0" y="1707"/>
                      </a:lnTo>
                      <a:lnTo>
                        <a:pt x="10" y="1221"/>
                      </a:lnTo>
                      <a:lnTo>
                        <a:pt x="72" y="712"/>
                      </a:lnTo>
                      <a:lnTo>
                        <a:pt x="1291" y="0"/>
                      </a:lnTo>
                      <a:lnTo>
                        <a:pt x="2983" y="349"/>
                      </a:lnTo>
                      <a:lnTo>
                        <a:pt x="3175" y="663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solidFill>
                    <a:srgbClr val="ffc98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913840" y="1864440"/>
                  <a:ext cx="163440" cy="158400"/>
                </a:xfrm>
                <a:custGeom>
                  <a:avLst/>
                  <a:gdLst/>
                  <a:ahLst/>
                  <a:rect l="l" t="t" r="r" b="b"/>
                  <a:pathLst>
                    <a:path w="1379" h="1305">
                      <a:moveTo>
                        <a:pt x="167" y="0"/>
                      </a:moveTo>
                      <a:lnTo>
                        <a:pt x="344" y="239"/>
                      </a:lnTo>
                      <a:lnTo>
                        <a:pt x="588" y="480"/>
                      </a:lnTo>
                      <a:lnTo>
                        <a:pt x="786" y="651"/>
                      </a:lnTo>
                      <a:lnTo>
                        <a:pt x="967" y="783"/>
                      </a:lnTo>
                      <a:lnTo>
                        <a:pt x="1183" y="907"/>
                      </a:lnTo>
                      <a:lnTo>
                        <a:pt x="1379" y="1005"/>
                      </a:lnTo>
                      <a:lnTo>
                        <a:pt x="1207" y="1139"/>
                      </a:lnTo>
                      <a:lnTo>
                        <a:pt x="1056" y="1216"/>
                      </a:lnTo>
                      <a:lnTo>
                        <a:pt x="909" y="1261"/>
                      </a:lnTo>
                      <a:lnTo>
                        <a:pt x="723" y="1305"/>
                      </a:lnTo>
                      <a:lnTo>
                        <a:pt x="504" y="1195"/>
                      </a:lnTo>
                      <a:lnTo>
                        <a:pt x="229" y="969"/>
                      </a:lnTo>
                      <a:lnTo>
                        <a:pt x="114" y="806"/>
                      </a:lnTo>
                      <a:lnTo>
                        <a:pt x="22" y="572"/>
                      </a:lnTo>
                      <a:lnTo>
                        <a:pt x="0" y="391"/>
                      </a:lnTo>
                      <a:lnTo>
                        <a:pt x="4" y="195"/>
                      </a:lnTo>
                      <a:lnTo>
                        <a:pt x="60" y="10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945160" y="1452600"/>
                  <a:ext cx="232560" cy="224640"/>
                </a:xfrm>
                <a:custGeom>
                  <a:avLst/>
                  <a:gdLst/>
                  <a:ahLst/>
                  <a:rect l="l" t="t" r="r" b="b"/>
                  <a:pathLst>
                    <a:path w="1959" h="1849">
                      <a:moveTo>
                        <a:pt x="1905" y="1849"/>
                      </a:moveTo>
                      <a:lnTo>
                        <a:pt x="1701" y="1693"/>
                      </a:lnTo>
                      <a:lnTo>
                        <a:pt x="1357" y="1530"/>
                      </a:lnTo>
                      <a:lnTo>
                        <a:pt x="1144" y="1482"/>
                      </a:lnTo>
                      <a:lnTo>
                        <a:pt x="1052" y="1354"/>
                      </a:lnTo>
                      <a:lnTo>
                        <a:pt x="951" y="1482"/>
                      </a:lnTo>
                      <a:lnTo>
                        <a:pt x="629" y="1434"/>
                      </a:lnTo>
                      <a:lnTo>
                        <a:pt x="367" y="1456"/>
                      </a:lnTo>
                      <a:lnTo>
                        <a:pt x="284" y="1295"/>
                      </a:lnTo>
                      <a:lnTo>
                        <a:pt x="0" y="141"/>
                      </a:lnTo>
                      <a:lnTo>
                        <a:pt x="99" y="0"/>
                      </a:lnTo>
                      <a:lnTo>
                        <a:pt x="477" y="67"/>
                      </a:lnTo>
                      <a:lnTo>
                        <a:pt x="629" y="199"/>
                      </a:lnTo>
                      <a:lnTo>
                        <a:pt x="759" y="141"/>
                      </a:lnTo>
                      <a:lnTo>
                        <a:pt x="943" y="191"/>
                      </a:lnTo>
                      <a:lnTo>
                        <a:pt x="1203" y="487"/>
                      </a:lnTo>
                      <a:lnTo>
                        <a:pt x="1441" y="553"/>
                      </a:lnTo>
                      <a:lnTo>
                        <a:pt x="1663" y="805"/>
                      </a:lnTo>
                      <a:lnTo>
                        <a:pt x="1889" y="1275"/>
                      </a:lnTo>
                      <a:lnTo>
                        <a:pt x="1959" y="1672"/>
                      </a:lnTo>
                      <a:lnTo>
                        <a:pt x="1905" y="1849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solidFill>
                    <a:srgbClr val="ffea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134160" y="1817640"/>
                  <a:ext cx="42840" cy="63000"/>
                </a:xfrm>
                <a:custGeom>
                  <a:avLst/>
                  <a:gdLst/>
                  <a:ahLst/>
                  <a:rect l="l" t="t" r="r" b="b"/>
                  <a:pathLst>
                    <a:path w="357" h="519">
                      <a:moveTo>
                        <a:pt x="293" y="0"/>
                      </a:moveTo>
                      <a:lnTo>
                        <a:pt x="339" y="89"/>
                      </a:lnTo>
                      <a:lnTo>
                        <a:pt x="339" y="173"/>
                      </a:lnTo>
                      <a:lnTo>
                        <a:pt x="297" y="270"/>
                      </a:lnTo>
                      <a:lnTo>
                        <a:pt x="230" y="107"/>
                      </a:lnTo>
                      <a:lnTo>
                        <a:pt x="155" y="89"/>
                      </a:lnTo>
                      <a:lnTo>
                        <a:pt x="45" y="166"/>
                      </a:lnTo>
                      <a:lnTo>
                        <a:pt x="0" y="306"/>
                      </a:lnTo>
                      <a:lnTo>
                        <a:pt x="23" y="422"/>
                      </a:lnTo>
                      <a:lnTo>
                        <a:pt x="87" y="519"/>
                      </a:lnTo>
                      <a:lnTo>
                        <a:pt x="163" y="506"/>
                      </a:lnTo>
                      <a:lnTo>
                        <a:pt x="257" y="443"/>
                      </a:lnTo>
                      <a:lnTo>
                        <a:pt x="315" y="347"/>
                      </a:lnTo>
                      <a:lnTo>
                        <a:pt x="357" y="196"/>
                      </a:lnTo>
                      <a:lnTo>
                        <a:pt x="357" y="99"/>
                      </a:lnTo>
                      <a:lnTo>
                        <a:pt x="315" y="10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069720" y="1798920"/>
                  <a:ext cx="40680" cy="65160"/>
                </a:xfrm>
                <a:custGeom>
                  <a:avLst/>
                  <a:gdLst/>
                  <a:ahLst/>
                  <a:rect l="l" t="t" r="r" b="b"/>
                  <a:pathLst>
                    <a:path w="341" h="534">
                      <a:moveTo>
                        <a:pt x="252" y="22"/>
                      </a:moveTo>
                      <a:lnTo>
                        <a:pt x="297" y="109"/>
                      </a:lnTo>
                      <a:lnTo>
                        <a:pt x="297" y="203"/>
                      </a:lnTo>
                      <a:lnTo>
                        <a:pt x="245" y="300"/>
                      </a:lnTo>
                      <a:lnTo>
                        <a:pt x="227" y="167"/>
                      </a:lnTo>
                      <a:lnTo>
                        <a:pt x="156" y="167"/>
                      </a:lnTo>
                      <a:lnTo>
                        <a:pt x="112" y="53"/>
                      </a:lnTo>
                      <a:lnTo>
                        <a:pt x="9" y="256"/>
                      </a:lnTo>
                      <a:lnTo>
                        <a:pt x="0" y="375"/>
                      </a:lnTo>
                      <a:lnTo>
                        <a:pt x="20" y="464"/>
                      </a:lnTo>
                      <a:lnTo>
                        <a:pt x="63" y="526"/>
                      </a:lnTo>
                      <a:lnTo>
                        <a:pt x="152" y="534"/>
                      </a:lnTo>
                      <a:lnTo>
                        <a:pt x="227" y="503"/>
                      </a:lnTo>
                      <a:lnTo>
                        <a:pt x="297" y="385"/>
                      </a:lnTo>
                      <a:lnTo>
                        <a:pt x="341" y="248"/>
                      </a:lnTo>
                      <a:lnTo>
                        <a:pt x="341" y="127"/>
                      </a:lnTo>
                      <a:lnTo>
                        <a:pt x="311" y="65"/>
                      </a:lnTo>
                      <a:lnTo>
                        <a:pt x="263" y="0"/>
                      </a:lnTo>
                      <a:lnTo>
                        <a:pt x="25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048480" y="1671480"/>
                  <a:ext cx="57960" cy="44640"/>
                </a:xfrm>
                <a:custGeom>
                  <a:avLst/>
                  <a:gdLst/>
                  <a:ahLst/>
                  <a:rect l="l" t="t" r="r" b="b"/>
                  <a:pathLst>
                    <a:path w="491" h="366">
                      <a:moveTo>
                        <a:pt x="481" y="226"/>
                      </a:moveTo>
                      <a:lnTo>
                        <a:pt x="359" y="239"/>
                      </a:lnTo>
                      <a:lnTo>
                        <a:pt x="288" y="274"/>
                      </a:lnTo>
                      <a:lnTo>
                        <a:pt x="244" y="306"/>
                      </a:lnTo>
                      <a:lnTo>
                        <a:pt x="199" y="328"/>
                      </a:lnTo>
                      <a:lnTo>
                        <a:pt x="169" y="284"/>
                      </a:lnTo>
                      <a:lnTo>
                        <a:pt x="72" y="348"/>
                      </a:lnTo>
                      <a:lnTo>
                        <a:pt x="18" y="366"/>
                      </a:lnTo>
                      <a:lnTo>
                        <a:pt x="0" y="328"/>
                      </a:lnTo>
                      <a:lnTo>
                        <a:pt x="72" y="208"/>
                      </a:lnTo>
                      <a:lnTo>
                        <a:pt x="176" y="155"/>
                      </a:lnTo>
                      <a:lnTo>
                        <a:pt x="278" y="44"/>
                      </a:lnTo>
                      <a:lnTo>
                        <a:pt x="421" y="0"/>
                      </a:lnTo>
                      <a:lnTo>
                        <a:pt x="473" y="10"/>
                      </a:lnTo>
                      <a:lnTo>
                        <a:pt x="421" y="78"/>
                      </a:lnTo>
                      <a:lnTo>
                        <a:pt x="491" y="89"/>
                      </a:lnTo>
                      <a:lnTo>
                        <a:pt x="428" y="167"/>
                      </a:lnTo>
                      <a:lnTo>
                        <a:pt x="487" y="195"/>
                      </a:lnTo>
                      <a:lnTo>
                        <a:pt x="481" y="2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146760" y="1712520"/>
                  <a:ext cx="33840" cy="59040"/>
                </a:xfrm>
                <a:custGeom>
                  <a:avLst/>
                  <a:gdLst/>
                  <a:ahLst/>
                  <a:rect l="l" t="t" r="r" b="b"/>
                  <a:pathLst>
                    <a:path w="288" h="486">
                      <a:moveTo>
                        <a:pt x="192" y="486"/>
                      </a:moveTo>
                      <a:lnTo>
                        <a:pt x="129" y="260"/>
                      </a:lnTo>
                      <a:lnTo>
                        <a:pt x="0" y="119"/>
                      </a:lnTo>
                      <a:lnTo>
                        <a:pt x="141" y="181"/>
                      </a:lnTo>
                      <a:lnTo>
                        <a:pt x="77" y="45"/>
                      </a:lnTo>
                      <a:lnTo>
                        <a:pt x="186" y="0"/>
                      </a:lnTo>
                      <a:lnTo>
                        <a:pt x="262" y="211"/>
                      </a:lnTo>
                      <a:lnTo>
                        <a:pt x="288" y="422"/>
                      </a:lnTo>
                      <a:lnTo>
                        <a:pt x="238" y="384"/>
                      </a:lnTo>
                      <a:lnTo>
                        <a:pt x="238" y="465"/>
                      </a:lnTo>
                      <a:lnTo>
                        <a:pt x="192" y="4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032640" y="1901160"/>
                  <a:ext cx="176400" cy="145800"/>
                </a:xfrm>
                <a:custGeom>
                  <a:avLst/>
                  <a:gdLst/>
                  <a:ahLst/>
                  <a:rect l="l" t="t" r="r" b="b"/>
                  <a:pathLst>
                    <a:path w="1491" h="1199">
                      <a:moveTo>
                        <a:pt x="573" y="504"/>
                      </a:moveTo>
                      <a:lnTo>
                        <a:pt x="391" y="468"/>
                      </a:lnTo>
                      <a:lnTo>
                        <a:pt x="252" y="415"/>
                      </a:lnTo>
                      <a:lnTo>
                        <a:pt x="116" y="315"/>
                      </a:lnTo>
                      <a:lnTo>
                        <a:pt x="22" y="208"/>
                      </a:lnTo>
                      <a:lnTo>
                        <a:pt x="0" y="133"/>
                      </a:lnTo>
                      <a:lnTo>
                        <a:pt x="19" y="71"/>
                      </a:lnTo>
                      <a:lnTo>
                        <a:pt x="55" y="38"/>
                      </a:lnTo>
                      <a:lnTo>
                        <a:pt x="126" y="38"/>
                      </a:lnTo>
                      <a:lnTo>
                        <a:pt x="196" y="71"/>
                      </a:lnTo>
                      <a:lnTo>
                        <a:pt x="341" y="176"/>
                      </a:lnTo>
                      <a:lnTo>
                        <a:pt x="484" y="296"/>
                      </a:lnTo>
                      <a:lnTo>
                        <a:pt x="625" y="468"/>
                      </a:lnTo>
                      <a:lnTo>
                        <a:pt x="763" y="651"/>
                      </a:lnTo>
                      <a:lnTo>
                        <a:pt x="988" y="963"/>
                      </a:lnTo>
                      <a:lnTo>
                        <a:pt x="1085" y="1058"/>
                      </a:lnTo>
                      <a:lnTo>
                        <a:pt x="1194" y="1110"/>
                      </a:lnTo>
                      <a:lnTo>
                        <a:pt x="1288" y="1148"/>
                      </a:lnTo>
                      <a:lnTo>
                        <a:pt x="1356" y="1148"/>
                      </a:lnTo>
                      <a:lnTo>
                        <a:pt x="1412" y="1110"/>
                      </a:lnTo>
                      <a:lnTo>
                        <a:pt x="1452" y="1058"/>
                      </a:lnTo>
                      <a:lnTo>
                        <a:pt x="1452" y="947"/>
                      </a:lnTo>
                      <a:lnTo>
                        <a:pt x="1430" y="804"/>
                      </a:lnTo>
                      <a:lnTo>
                        <a:pt x="1356" y="540"/>
                      </a:lnTo>
                      <a:lnTo>
                        <a:pt x="1230" y="296"/>
                      </a:lnTo>
                      <a:lnTo>
                        <a:pt x="1104" y="38"/>
                      </a:lnTo>
                      <a:lnTo>
                        <a:pt x="1170" y="0"/>
                      </a:lnTo>
                      <a:lnTo>
                        <a:pt x="1297" y="264"/>
                      </a:lnTo>
                      <a:lnTo>
                        <a:pt x="1415" y="552"/>
                      </a:lnTo>
                      <a:lnTo>
                        <a:pt x="1474" y="788"/>
                      </a:lnTo>
                      <a:lnTo>
                        <a:pt x="1491" y="941"/>
                      </a:lnTo>
                      <a:lnTo>
                        <a:pt x="1482" y="1051"/>
                      </a:lnTo>
                      <a:lnTo>
                        <a:pt x="1460" y="1148"/>
                      </a:lnTo>
                      <a:lnTo>
                        <a:pt x="1415" y="1189"/>
                      </a:lnTo>
                      <a:lnTo>
                        <a:pt x="1331" y="1199"/>
                      </a:lnTo>
                      <a:lnTo>
                        <a:pt x="1239" y="1189"/>
                      </a:lnTo>
                      <a:lnTo>
                        <a:pt x="1112" y="1137"/>
                      </a:lnTo>
                      <a:lnTo>
                        <a:pt x="1026" y="1069"/>
                      </a:lnTo>
                      <a:lnTo>
                        <a:pt x="942" y="982"/>
                      </a:lnTo>
                      <a:lnTo>
                        <a:pt x="863" y="876"/>
                      </a:lnTo>
                      <a:lnTo>
                        <a:pt x="774" y="743"/>
                      </a:lnTo>
                      <a:lnTo>
                        <a:pt x="669" y="601"/>
                      </a:lnTo>
                      <a:lnTo>
                        <a:pt x="615" y="522"/>
                      </a:lnTo>
                      <a:lnTo>
                        <a:pt x="573" y="5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171240" y="1669680"/>
                  <a:ext cx="81720" cy="273240"/>
                </a:xfrm>
                <a:custGeom>
                  <a:avLst/>
                  <a:gdLst/>
                  <a:ahLst/>
                  <a:rect l="l" t="t" r="r" b="b"/>
                  <a:pathLst>
                    <a:path w="683" h="2252">
                      <a:moveTo>
                        <a:pt x="0" y="44"/>
                      </a:moveTo>
                      <a:lnTo>
                        <a:pt x="105" y="203"/>
                      </a:lnTo>
                      <a:lnTo>
                        <a:pt x="186" y="443"/>
                      </a:lnTo>
                      <a:lnTo>
                        <a:pt x="242" y="680"/>
                      </a:lnTo>
                      <a:lnTo>
                        <a:pt x="245" y="995"/>
                      </a:lnTo>
                      <a:lnTo>
                        <a:pt x="245" y="1305"/>
                      </a:lnTo>
                      <a:lnTo>
                        <a:pt x="219" y="1601"/>
                      </a:lnTo>
                      <a:lnTo>
                        <a:pt x="161" y="1919"/>
                      </a:lnTo>
                      <a:lnTo>
                        <a:pt x="92" y="2155"/>
                      </a:lnTo>
                      <a:lnTo>
                        <a:pt x="156" y="2252"/>
                      </a:lnTo>
                      <a:lnTo>
                        <a:pt x="415" y="2079"/>
                      </a:lnTo>
                      <a:lnTo>
                        <a:pt x="568" y="1919"/>
                      </a:lnTo>
                      <a:lnTo>
                        <a:pt x="653" y="1744"/>
                      </a:lnTo>
                      <a:lnTo>
                        <a:pt x="683" y="1619"/>
                      </a:lnTo>
                      <a:lnTo>
                        <a:pt x="675" y="1531"/>
                      </a:lnTo>
                      <a:lnTo>
                        <a:pt x="627" y="1486"/>
                      </a:lnTo>
                      <a:lnTo>
                        <a:pt x="560" y="1486"/>
                      </a:lnTo>
                      <a:lnTo>
                        <a:pt x="467" y="1522"/>
                      </a:lnTo>
                      <a:lnTo>
                        <a:pt x="357" y="1601"/>
                      </a:lnTo>
                      <a:lnTo>
                        <a:pt x="245" y="1722"/>
                      </a:lnTo>
                      <a:lnTo>
                        <a:pt x="290" y="1434"/>
                      </a:lnTo>
                      <a:lnTo>
                        <a:pt x="304" y="1132"/>
                      </a:lnTo>
                      <a:lnTo>
                        <a:pt x="290" y="699"/>
                      </a:lnTo>
                      <a:lnTo>
                        <a:pt x="242" y="410"/>
                      </a:lnTo>
                      <a:lnTo>
                        <a:pt x="161" y="185"/>
                      </a:lnTo>
                      <a:lnTo>
                        <a:pt x="87" y="44"/>
                      </a:lnTo>
                      <a:lnTo>
                        <a:pt x="24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205440" y="1798920"/>
                  <a:ext cx="47520" cy="60120"/>
                </a:xfrm>
                <a:custGeom>
                  <a:avLst/>
                  <a:gdLst/>
                  <a:ahLst/>
                  <a:rect l="l" t="t" r="r" b="b"/>
                  <a:pathLst>
                    <a:path w="401" h="496">
                      <a:moveTo>
                        <a:pt x="401" y="496"/>
                      </a:moveTo>
                      <a:lnTo>
                        <a:pt x="401" y="385"/>
                      </a:lnTo>
                      <a:lnTo>
                        <a:pt x="246" y="12"/>
                      </a:lnTo>
                      <a:lnTo>
                        <a:pt x="146" y="0"/>
                      </a:lnTo>
                      <a:lnTo>
                        <a:pt x="16" y="65"/>
                      </a:lnTo>
                      <a:lnTo>
                        <a:pt x="0" y="127"/>
                      </a:lnTo>
                      <a:lnTo>
                        <a:pt x="115" y="65"/>
                      </a:lnTo>
                      <a:lnTo>
                        <a:pt x="185" y="75"/>
                      </a:lnTo>
                      <a:lnTo>
                        <a:pt x="233" y="159"/>
                      </a:lnTo>
                      <a:lnTo>
                        <a:pt x="309" y="357"/>
                      </a:lnTo>
                      <a:lnTo>
                        <a:pt x="330" y="445"/>
                      </a:lnTo>
                      <a:lnTo>
                        <a:pt x="330" y="496"/>
                      </a:lnTo>
                      <a:lnTo>
                        <a:pt x="401" y="4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881440" y="1773720"/>
                  <a:ext cx="108360" cy="99000"/>
                </a:xfrm>
                <a:custGeom>
                  <a:avLst/>
                  <a:gdLst/>
                  <a:ahLst/>
                  <a:rect l="l" t="t" r="r" b="b"/>
                  <a:pathLst>
                    <a:path w="916" h="818">
                      <a:moveTo>
                        <a:pt x="916" y="765"/>
                      </a:moveTo>
                      <a:lnTo>
                        <a:pt x="659" y="668"/>
                      </a:lnTo>
                      <a:lnTo>
                        <a:pt x="456" y="558"/>
                      </a:lnTo>
                      <a:lnTo>
                        <a:pt x="313" y="451"/>
                      </a:lnTo>
                      <a:lnTo>
                        <a:pt x="242" y="372"/>
                      </a:lnTo>
                      <a:lnTo>
                        <a:pt x="145" y="258"/>
                      </a:lnTo>
                      <a:lnTo>
                        <a:pt x="89" y="128"/>
                      </a:lnTo>
                      <a:lnTo>
                        <a:pt x="27" y="0"/>
                      </a:lnTo>
                      <a:lnTo>
                        <a:pt x="5" y="181"/>
                      </a:lnTo>
                      <a:lnTo>
                        <a:pt x="0" y="395"/>
                      </a:lnTo>
                      <a:lnTo>
                        <a:pt x="23" y="598"/>
                      </a:lnTo>
                      <a:lnTo>
                        <a:pt x="49" y="716"/>
                      </a:lnTo>
                      <a:lnTo>
                        <a:pt x="79" y="792"/>
                      </a:lnTo>
                      <a:lnTo>
                        <a:pt x="145" y="805"/>
                      </a:lnTo>
                      <a:lnTo>
                        <a:pt x="353" y="818"/>
                      </a:lnTo>
                      <a:lnTo>
                        <a:pt x="649" y="792"/>
                      </a:lnTo>
                      <a:lnTo>
                        <a:pt x="850" y="774"/>
                      </a:lnTo>
                      <a:lnTo>
                        <a:pt x="916" y="7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901600" y="1866960"/>
                  <a:ext cx="186120" cy="193320"/>
                </a:xfrm>
                <a:custGeom>
                  <a:avLst/>
                  <a:gdLst/>
                  <a:ahLst/>
                  <a:rect l="l" t="t" r="r" b="b"/>
                  <a:pathLst>
                    <a:path w="1565" h="1593">
                      <a:moveTo>
                        <a:pt x="331" y="18"/>
                      </a:moveTo>
                      <a:lnTo>
                        <a:pt x="517" y="227"/>
                      </a:lnTo>
                      <a:lnTo>
                        <a:pt x="843" y="550"/>
                      </a:lnTo>
                      <a:lnTo>
                        <a:pt x="1110" y="743"/>
                      </a:lnTo>
                      <a:lnTo>
                        <a:pt x="1355" y="876"/>
                      </a:lnTo>
                      <a:lnTo>
                        <a:pt x="1565" y="968"/>
                      </a:lnTo>
                      <a:lnTo>
                        <a:pt x="1336" y="1133"/>
                      </a:lnTo>
                      <a:lnTo>
                        <a:pt x="1170" y="1204"/>
                      </a:lnTo>
                      <a:lnTo>
                        <a:pt x="873" y="1293"/>
                      </a:lnTo>
                      <a:lnTo>
                        <a:pt x="795" y="1267"/>
                      </a:lnTo>
                      <a:lnTo>
                        <a:pt x="644" y="1178"/>
                      </a:lnTo>
                      <a:lnTo>
                        <a:pt x="636" y="1474"/>
                      </a:lnTo>
                      <a:lnTo>
                        <a:pt x="591" y="1558"/>
                      </a:lnTo>
                      <a:lnTo>
                        <a:pt x="535" y="1593"/>
                      </a:lnTo>
                      <a:lnTo>
                        <a:pt x="420" y="1578"/>
                      </a:lnTo>
                      <a:lnTo>
                        <a:pt x="295" y="1486"/>
                      </a:lnTo>
                      <a:lnTo>
                        <a:pt x="186" y="1367"/>
                      </a:lnTo>
                      <a:lnTo>
                        <a:pt x="106" y="1204"/>
                      </a:lnTo>
                      <a:lnTo>
                        <a:pt x="53" y="1000"/>
                      </a:lnTo>
                      <a:lnTo>
                        <a:pt x="9" y="735"/>
                      </a:lnTo>
                      <a:lnTo>
                        <a:pt x="0" y="430"/>
                      </a:lnTo>
                      <a:lnTo>
                        <a:pt x="25" y="194"/>
                      </a:lnTo>
                      <a:lnTo>
                        <a:pt x="61" y="0"/>
                      </a:lnTo>
                      <a:lnTo>
                        <a:pt x="180" y="10"/>
                      </a:lnTo>
                      <a:lnTo>
                        <a:pt x="146" y="194"/>
                      </a:lnTo>
                      <a:lnTo>
                        <a:pt x="158" y="443"/>
                      </a:lnTo>
                      <a:lnTo>
                        <a:pt x="231" y="656"/>
                      </a:lnTo>
                      <a:lnTo>
                        <a:pt x="323" y="827"/>
                      </a:lnTo>
                      <a:lnTo>
                        <a:pt x="507" y="1013"/>
                      </a:lnTo>
                      <a:lnTo>
                        <a:pt x="728" y="1178"/>
                      </a:lnTo>
                      <a:lnTo>
                        <a:pt x="858" y="1238"/>
                      </a:lnTo>
                      <a:lnTo>
                        <a:pt x="1122" y="1178"/>
                      </a:lnTo>
                      <a:lnTo>
                        <a:pt x="1277" y="1120"/>
                      </a:lnTo>
                      <a:lnTo>
                        <a:pt x="1476" y="978"/>
                      </a:lnTo>
                      <a:lnTo>
                        <a:pt x="1237" y="876"/>
                      </a:lnTo>
                      <a:lnTo>
                        <a:pt x="980" y="708"/>
                      </a:lnTo>
                      <a:lnTo>
                        <a:pt x="783" y="550"/>
                      </a:lnTo>
                      <a:lnTo>
                        <a:pt x="598" y="364"/>
                      </a:lnTo>
                      <a:lnTo>
                        <a:pt x="438" y="204"/>
                      </a:lnTo>
                      <a:lnTo>
                        <a:pt x="283" y="31"/>
                      </a:lnTo>
                      <a:lnTo>
                        <a:pt x="331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138840" y="1596600"/>
                  <a:ext cx="25560" cy="69840"/>
                </a:xfrm>
                <a:custGeom>
                  <a:avLst/>
                  <a:gdLst/>
                  <a:ahLst/>
                  <a:rect l="l" t="t" r="r" b="b"/>
                  <a:pathLst>
                    <a:path w="211" h="580">
                      <a:moveTo>
                        <a:pt x="163" y="580"/>
                      </a:moveTo>
                      <a:lnTo>
                        <a:pt x="211" y="509"/>
                      </a:lnTo>
                      <a:lnTo>
                        <a:pt x="163" y="285"/>
                      </a:lnTo>
                      <a:lnTo>
                        <a:pt x="92" y="107"/>
                      </a:lnTo>
                      <a:lnTo>
                        <a:pt x="30" y="10"/>
                      </a:lnTo>
                      <a:lnTo>
                        <a:pt x="0" y="0"/>
                      </a:lnTo>
                      <a:lnTo>
                        <a:pt x="0" y="55"/>
                      </a:lnTo>
                      <a:lnTo>
                        <a:pt x="68" y="196"/>
                      </a:lnTo>
                      <a:lnTo>
                        <a:pt x="114" y="359"/>
                      </a:lnTo>
                      <a:lnTo>
                        <a:pt x="137" y="524"/>
                      </a:lnTo>
                      <a:lnTo>
                        <a:pt x="163" y="5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787480" y="1447920"/>
                  <a:ext cx="394920" cy="450360"/>
                </a:xfrm>
                <a:custGeom>
                  <a:avLst/>
                  <a:gdLst/>
                  <a:ahLst/>
                  <a:rect l="l" t="t" r="r" b="b"/>
                  <a:pathLst>
                    <a:path w="3335" h="3699">
                      <a:moveTo>
                        <a:pt x="3335" y="1893"/>
                      </a:moveTo>
                      <a:lnTo>
                        <a:pt x="3335" y="1592"/>
                      </a:lnTo>
                      <a:lnTo>
                        <a:pt x="3238" y="1229"/>
                      </a:lnTo>
                      <a:lnTo>
                        <a:pt x="3101" y="934"/>
                      </a:lnTo>
                      <a:lnTo>
                        <a:pt x="2986" y="733"/>
                      </a:lnTo>
                      <a:lnTo>
                        <a:pt x="2852" y="583"/>
                      </a:lnTo>
                      <a:lnTo>
                        <a:pt x="2737" y="527"/>
                      </a:lnTo>
                      <a:lnTo>
                        <a:pt x="2641" y="509"/>
                      </a:lnTo>
                      <a:lnTo>
                        <a:pt x="2574" y="509"/>
                      </a:lnTo>
                      <a:lnTo>
                        <a:pt x="2467" y="389"/>
                      </a:lnTo>
                      <a:lnTo>
                        <a:pt x="2345" y="239"/>
                      </a:lnTo>
                      <a:lnTo>
                        <a:pt x="2175" y="145"/>
                      </a:lnTo>
                      <a:lnTo>
                        <a:pt x="2068" y="145"/>
                      </a:lnTo>
                      <a:lnTo>
                        <a:pt x="1971" y="180"/>
                      </a:lnTo>
                      <a:lnTo>
                        <a:pt x="1792" y="43"/>
                      </a:lnTo>
                      <a:lnTo>
                        <a:pt x="1561" y="0"/>
                      </a:lnTo>
                      <a:lnTo>
                        <a:pt x="1382" y="31"/>
                      </a:lnTo>
                      <a:lnTo>
                        <a:pt x="1323" y="135"/>
                      </a:lnTo>
                      <a:lnTo>
                        <a:pt x="1323" y="208"/>
                      </a:lnTo>
                      <a:lnTo>
                        <a:pt x="1133" y="208"/>
                      </a:lnTo>
                      <a:lnTo>
                        <a:pt x="955" y="270"/>
                      </a:lnTo>
                      <a:lnTo>
                        <a:pt x="859" y="346"/>
                      </a:lnTo>
                      <a:lnTo>
                        <a:pt x="771" y="450"/>
                      </a:lnTo>
                      <a:lnTo>
                        <a:pt x="682" y="615"/>
                      </a:lnTo>
                      <a:lnTo>
                        <a:pt x="367" y="703"/>
                      </a:lnTo>
                      <a:lnTo>
                        <a:pt x="214" y="840"/>
                      </a:lnTo>
                      <a:lnTo>
                        <a:pt x="160" y="990"/>
                      </a:lnTo>
                      <a:lnTo>
                        <a:pt x="122" y="1158"/>
                      </a:lnTo>
                      <a:lnTo>
                        <a:pt x="160" y="1352"/>
                      </a:lnTo>
                      <a:lnTo>
                        <a:pt x="36" y="1459"/>
                      </a:lnTo>
                      <a:lnTo>
                        <a:pt x="10" y="1606"/>
                      </a:lnTo>
                      <a:lnTo>
                        <a:pt x="28" y="1728"/>
                      </a:lnTo>
                      <a:lnTo>
                        <a:pt x="73" y="1941"/>
                      </a:lnTo>
                      <a:lnTo>
                        <a:pt x="0" y="2509"/>
                      </a:lnTo>
                      <a:lnTo>
                        <a:pt x="0" y="2822"/>
                      </a:lnTo>
                      <a:lnTo>
                        <a:pt x="48" y="3160"/>
                      </a:lnTo>
                      <a:lnTo>
                        <a:pt x="129" y="3423"/>
                      </a:lnTo>
                      <a:lnTo>
                        <a:pt x="236" y="3699"/>
                      </a:lnTo>
                      <a:lnTo>
                        <a:pt x="165" y="3363"/>
                      </a:lnTo>
                      <a:lnTo>
                        <a:pt x="73" y="2946"/>
                      </a:lnTo>
                      <a:lnTo>
                        <a:pt x="66" y="2676"/>
                      </a:lnTo>
                      <a:lnTo>
                        <a:pt x="73" y="2301"/>
                      </a:lnTo>
                      <a:lnTo>
                        <a:pt x="122" y="1969"/>
                      </a:lnTo>
                      <a:lnTo>
                        <a:pt x="165" y="1822"/>
                      </a:lnTo>
                      <a:lnTo>
                        <a:pt x="214" y="1799"/>
                      </a:lnTo>
                      <a:lnTo>
                        <a:pt x="394" y="2346"/>
                      </a:lnTo>
                      <a:lnTo>
                        <a:pt x="280" y="2494"/>
                      </a:lnTo>
                      <a:lnTo>
                        <a:pt x="262" y="2598"/>
                      </a:lnTo>
                      <a:lnTo>
                        <a:pt x="275" y="2735"/>
                      </a:lnTo>
                      <a:lnTo>
                        <a:pt x="318" y="2857"/>
                      </a:lnTo>
                      <a:lnTo>
                        <a:pt x="367" y="2911"/>
                      </a:lnTo>
                      <a:lnTo>
                        <a:pt x="404" y="2956"/>
                      </a:lnTo>
                      <a:lnTo>
                        <a:pt x="438" y="2972"/>
                      </a:lnTo>
                      <a:lnTo>
                        <a:pt x="619" y="2587"/>
                      </a:lnTo>
                      <a:lnTo>
                        <a:pt x="581" y="2257"/>
                      </a:lnTo>
                      <a:lnTo>
                        <a:pt x="514" y="2013"/>
                      </a:lnTo>
                      <a:lnTo>
                        <a:pt x="438" y="1866"/>
                      </a:lnTo>
                      <a:lnTo>
                        <a:pt x="367" y="1787"/>
                      </a:lnTo>
                      <a:lnTo>
                        <a:pt x="280" y="1755"/>
                      </a:lnTo>
                      <a:lnTo>
                        <a:pt x="581" y="1654"/>
                      </a:lnTo>
                      <a:lnTo>
                        <a:pt x="674" y="1685"/>
                      </a:lnTo>
                      <a:lnTo>
                        <a:pt x="771" y="1787"/>
                      </a:lnTo>
                      <a:lnTo>
                        <a:pt x="823" y="1941"/>
                      </a:lnTo>
                      <a:lnTo>
                        <a:pt x="889" y="2162"/>
                      </a:lnTo>
                      <a:lnTo>
                        <a:pt x="937" y="2135"/>
                      </a:lnTo>
                      <a:lnTo>
                        <a:pt x="871" y="1848"/>
                      </a:lnTo>
                      <a:lnTo>
                        <a:pt x="1018" y="1743"/>
                      </a:lnTo>
                      <a:lnTo>
                        <a:pt x="1168" y="1710"/>
                      </a:lnTo>
                      <a:lnTo>
                        <a:pt x="1323" y="1592"/>
                      </a:lnTo>
                      <a:lnTo>
                        <a:pt x="1393" y="1459"/>
                      </a:lnTo>
                      <a:lnTo>
                        <a:pt x="1441" y="1326"/>
                      </a:lnTo>
                      <a:lnTo>
                        <a:pt x="1472" y="1292"/>
                      </a:lnTo>
                      <a:lnTo>
                        <a:pt x="1522" y="1292"/>
                      </a:lnTo>
                      <a:lnTo>
                        <a:pt x="1597" y="1303"/>
                      </a:lnTo>
                      <a:lnTo>
                        <a:pt x="1642" y="1352"/>
                      </a:lnTo>
                      <a:lnTo>
                        <a:pt x="1675" y="1336"/>
                      </a:lnTo>
                      <a:lnTo>
                        <a:pt x="1701" y="1274"/>
                      </a:lnTo>
                      <a:lnTo>
                        <a:pt x="1701" y="1127"/>
                      </a:lnTo>
                      <a:lnTo>
                        <a:pt x="1690" y="1012"/>
                      </a:lnTo>
                      <a:lnTo>
                        <a:pt x="1782" y="1038"/>
                      </a:lnTo>
                      <a:lnTo>
                        <a:pt x="1579" y="509"/>
                      </a:lnTo>
                      <a:lnTo>
                        <a:pt x="1448" y="301"/>
                      </a:lnTo>
                      <a:lnTo>
                        <a:pt x="1393" y="180"/>
                      </a:lnTo>
                      <a:lnTo>
                        <a:pt x="1441" y="145"/>
                      </a:lnTo>
                      <a:lnTo>
                        <a:pt x="1540" y="226"/>
                      </a:lnTo>
                      <a:lnTo>
                        <a:pt x="1760" y="583"/>
                      </a:lnTo>
                      <a:lnTo>
                        <a:pt x="1923" y="1012"/>
                      </a:lnTo>
                      <a:lnTo>
                        <a:pt x="1971" y="1219"/>
                      </a:lnTo>
                      <a:lnTo>
                        <a:pt x="2030" y="1052"/>
                      </a:lnTo>
                      <a:lnTo>
                        <a:pt x="2113" y="1052"/>
                      </a:lnTo>
                      <a:lnTo>
                        <a:pt x="2135" y="934"/>
                      </a:lnTo>
                      <a:lnTo>
                        <a:pt x="2016" y="570"/>
                      </a:lnTo>
                      <a:lnTo>
                        <a:pt x="1885" y="326"/>
                      </a:lnTo>
                      <a:lnTo>
                        <a:pt x="1690" y="102"/>
                      </a:lnTo>
                      <a:lnTo>
                        <a:pt x="1808" y="123"/>
                      </a:lnTo>
                      <a:lnTo>
                        <a:pt x="1981" y="257"/>
                      </a:lnTo>
                      <a:lnTo>
                        <a:pt x="2101" y="208"/>
                      </a:lnTo>
                      <a:lnTo>
                        <a:pt x="2252" y="226"/>
                      </a:lnTo>
                      <a:lnTo>
                        <a:pt x="2360" y="326"/>
                      </a:lnTo>
                      <a:lnTo>
                        <a:pt x="2551" y="583"/>
                      </a:lnTo>
                      <a:lnTo>
                        <a:pt x="2719" y="583"/>
                      </a:lnTo>
                      <a:lnTo>
                        <a:pt x="2852" y="675"/>
                      </a:lnTo>
                      <a:lnTo>
                        <a:pt x="3065" y="1012"/>
                      </a:lnTo>
                      <a:lnTo>
                        <a:pt x="3220" y="1384"/>
                      </a:lnTo>
                      <a:lnTo>
                        <a:pt x="3280" y="1699"/>
                      </a:lnTo>
                      <a:lnTo>
                        <a:pt x="3280" y="1866"/>
                      </a:lnTo>
                      <a:lnTo>
                        <a:pt x="3335" y="18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035520" y="1491480"/>
                  <a:ext cx="65160" cy="138960"/>
                </a:xfrm>
                <a:custGeom>
                  <a:avLst/>
                  <a:gdLst/>
                  <a:ahLst/>
                  <a:rect l="l" t="t" r="r" b="b"/>
                  <a:pathLst>
                    <a:path w="551" h="1147">
                      <a:moveTo>
                        <a:pt x="504" y="1147"/>
                      </a:moveTo>
                      <a:lnTo>
                        <a:pt x="551" y="1129"/>
                      </a:lnTo>
                      <a:lnTo>
                        <a:pt x="545" y="946"/>
                      </a:lnTo>
                      <a:lnTo>
                        <a:pt x="461" y="681"/>
                      </a:lnTo>
                      <a:lnTo>
                        <a:pt x="351" y="465"/>
                      </a:lnTo>
                      <a:lnTo>
                        <a:pt x="211" y="244"/>
                      </a:lnTo>
                      <a:lnTo>
                        <a:pt x="33" y="14"/>
                      </a:lnTo>
                      <a:lnTo>
                        <a:pt x="0" y="0"/>
                      </a:lnTo>
                      <a:lnTo>
                        <a:pt x="140" y="213"/>
                      </a:lnTo>
                      <a:lnTo>
                        <a:pt x="281" y="465"/>
                      </a:lnTo>
                      <a:lnTo>
                        <a:pt x="369" y="740"/>
                      </a:lnTo>
                      <a:lnTo>
                        <a:pt x="400" y="935"/>
                      </a:lnTo>
                      <a:lnTo>
                        <a:pt x="444" y="969"/>
                      </a:lnTo>
                      <a:lnTo>
                        <a:pt x="484" y="946"/>
                      </a:lnTo>
                      <a:lnTo>
                        <a:pt x="504" y="1068"/>
                      </a:lnTo>
                      <a:lnTo>
                        <a:pt x="504" y="1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662920" y="1764000"/>
                  <a:ext cx="547200" cy="541800"/>
                </a:xfrm>
                <a:custGeom>
                  <a:avLst/>
                  <a:gdLst/>
                  <a:ahLst/>
                  <a:rect l="l" t="t" r="r" b="b"/>
                  <a:pathLst>
                    <a:path w="4610" h="4460">
                      <a:moveTo>
                        <a:pt x="1665" y="0"/>
                      </a:moveTo>
                      <a:lnTo>
                        <a:pt x="1547" y="324"/>
                      </a:lnTo>
                      <a:lnTo>
                        <a:pt x="1420" y="743"/>
                      </a:lnTo>
                      <a:lnTo>
                        <a:pt x="1357" y="1120"/>
                      </a:lnTo>
                      <a:lnTo>
                        <a:pt x="1305" y="1656"/>
                      </a:lnTo>
                      <a:lnTo>
                        <a:pt x="1316" y="2141"/>
                      </a:lnTo>
                      <a:lnTo>
                        <a:pt x="1357" y="2576"/>
                      </a:lnTo>
                      <a:lnTo>
                        <a:pt x="2449" y="3351"/>
                      </a:lnTo>
                      <a:lnTo>
                        <a:pt x="2766" y="3540"/>
                      </a:lnTo>
                      <a:lnTo>
                        <a:pt x="2940" y="3165"/>
                      </a:lnTo>
                      <a:lnTo>
                        <a:pt x="3187" y="2766"/>
                      </a:lnTo>
                      <a:lnTo>
                        <a:pt x="3385" y="2504"/>
                      </a:lnTo>
                      <a:lnTo>
                        <a:pt x="3597" y="2280"/>
                      </a:lnTo>
                      <a:lnTo>
                        <a:pt x="3877" y="2033"/>
                      </a:lnTo>
                      <a:lnTo>
                        <a:pt x="3925" y="2077"/>
                      </a:lnTo>
                      <a:lnTo>
                        <a:pt x="3646" y="2351"/>
                      </a:lnTo>
                      <a:lnTo>
                        <a:pt x="3403" y="2659"/>
                      </a:lnTo>
                      <a:lnTo>
                        <a:pt x="3169" y="3044"/>
                      </a:lnTo>
                      <a:lnTo>
                        <a:pt x="3169" y="3540"/>
                      </a:lnTo>
                      <a:lnTo>
                        <a:pt x="3210" y="3731"/>
                      </a:lnTo>
                      <a:lnTo>
                        <a:pt x="3376" y="3199"/>
                      </a:lnTo>
                      <a:lnTo>
                        <a:pt x="3526" y="3110"/>
                      </a:lnTo>
                      <a:lnTo>
                        <a:pt x="3687" y="2713"/>
                      </a:lnTo>
                      <a:lnTo>
                        <a:pt x="3699" y="2850"/>
                      </a:lnTo>
                      <a:lnTo>
                        <a:pt x="3580" y="3199"/>
                      </a:lnTo>
                      <a:lnTo>
                        <a:pt x="3770" y="3110"/>
                      </a:lnTo>
                      <a:lnTo>
                        <a:pt x="3907" y="3438"/>
                      </a:lnTo>
                      <a:lnTo>
                        <a:pt x="4122" y="3802"/>
                      </a:lnTo>
                      <a:lnTo>
                        <a:pt x="4292" y="4041"/>
                      </a:lnTo>
                      <a:lnTo>
                        <a:pt x="4556" y="4249"/>
                      </a:lnTo>
                      <a:lnTo>
                        <a:pt x="4610" y="4333"/>
                      </a:lnTo>
                      <a:lnTo>
                        <a:pt x="4596" y="4422"/>
                      </a:lnTo>
                      <a:lnTo>
                        <a:pt x="4511" y="4460"/>
                      </a:lnTo>
                      <a:lnTo>
                        <a:pt x="4322" y="4460"/>
                      </a:lnTo>
                      <a:lnTo>
                        <a:pt x="3836" y="4333"/>
                      </a:lnTo>
                      <a:lnTo>
                        <a:pt x="3240" y="4130"/>
                      </a:lnTo>
                      <a:lnTo>
                        <a:pt x="2602" y="3872"/>
                      </a:lnTo>
                      <a:lnTo>
                        <a:pt x="1962" y="3580"/>
                      </a:lnTo>
                      <a:lnTo>
                        <a:pt x="1123" y="3143"/>
                      </a:lnTo>
                      <a:lnTo>
                        <a:pt x="675" y="2814"/>
                      </a:lnTo>
                      <a:lnTo>
                        <a:pt x="667" y="2776"/>
                      </a:lnTo>
                      <a:lnTo>
                        <a:pt x="1112" y="3090"/>
                      </a:lnTo>
                      <a:lnTo>
                        <a:pt x="1516" y="3302"/>
                      </a:lnTo>
                      <a:lnTo>
                        <a:pt x="2059" y="3580"/>
                      </a:lnTo>
                      <a:lnTo>
                        <a:pt x="2602" y="3834"/>
                      </a:lnTo>
                      <a:lnTo>
                        <a:pt x="3279" y="4097"/>
                      </a:lnTo>
                      <a:lnTo>
                        <a:pt x="3770" y="4249"/>
                      </a:lnTo>
                      <a:lnTo>
                        <a:pt x="2979" y="3872"/>
                      </a:lnTo>
                      <a:lnTo>
                        <a:pt x="2209" y="3453"/>
                      </a:lnTo>
                      <a:lnTo>
                        <a:pt x="1450" y="2988"/>
                      </a:lnTo>
                      <a:lnTo>
                        <a:pt x="772" y="2555"/>
                      </a:lnTo>
                      <a:lnTo>
                        <a:pt x="1869" y="3214"/>
                      </a:lnTo>
                      <a:lnTo>
                        <a:pt x="2334" y="3476"/>
                      </a:lnTo>
                      <a:lnTo>
                        <a:pt x="2794" y="3713"/>
                      </a:lnTo>
                      <a:lnTo>
                        <a:pt x="3347" y="4008"/>
                      </a:lnTo>
                      <a:lnTo>
                        <a:pt x="3999" y="4249"/>
                      </a:lnTo>
                      <a:lnTo>
                        <a:pt x="3292" y="3921"/>
                      </a:lnTo>
                      <a:lnTo>
                        <a:pt x="2695" y="3562"/>
                      </a:lnTo>
                      <a:lnTo>
                        <a:pt x="2169" y="3232"/>
                      </a:lnTo>
                      <a:lnTo>
                        <a:pt x="1613" y="2850"/>
                      </a:lnTo>
                      <a:lnTo>
                        <a:pt x="867" y="2296"/>
                      </a:lnTo>
                      <a:lnTo>
                        <a:pt x="839" y="1988"/>
                      </a:lnTo>
                      <a:lnTo>
                        <a:pt x="742" y="1553"/>
                      </a:lnTo>
                      <a:lnTo>
                        <a:pt x="613" y="1280"/>
                      </a:lnTo>
                      <a:lnTo>
                        <a:pt x="430" y="1120"/>
                      </a:lnTo>
                      <a:lnTo>
                        <a:pt x="230" y="1016"/>
                      </a:lnTo>
                      <a:lnTo>
                        <a:pt x="38" y="962"/>
                      </a:lnTo>
                      <a:lnTo>
                        <a:pt x="0" y="828"/>
                      </a:lnTo>
                      <a:lnTo>
                        <a:pt x="270" y="846"/>
                      </a:lnTo>
                      <a:lnTo>
                        <a:pt x="623" y="947"/>
                      </a:lnTo>
                      <a:lnTo>
                        <a:pt x="853" y="1086"/>
                      </a:lnTo>
                      <a:lnTo>
                        <a:pt x="1206" y="1308"/>
                      </a:lnTo>
                      <a:lnTo>
                        <a:pt x="1272" y="846"/>
                      </a:lnTo>
                      <a:lnTo>
                        <a:pt x="1413" y="413"/>
                      </a:lnTo>
                      <a:lnTo>
                        <a:pt x="1530" y="99"/>
                      </a:lnTo>
                      <a:lnTo>
                        <a:pt x="16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074400" y="2059560"/>
                  <a:ext cx="27360" cy="52200"/>
                </a:xfrm>
                <a:custGeom>
                  <a:avLst/>
                  <a:gdLst/>
                  <a:ahLst/>
                  <a:rect l="l" t="t" r="r" b="b"/>
                  <a:pathLst>
                    <a:path w="234" h="435">
                      <a:moveTo>
                        <a:pt x="234" y="417"/>
                      </a:moveTo>
                      <a:lnTo>
                        <a:pt x="222" y="206"/>
                      </a:lnTo>
                      <a:lnTo>
                        <a:pt x="84" y="0"/>
                      </a:lnTo>
                      <a:lnTo>
                        <a:pt x="0" y="89"/>
                      </a:lnTo>
                      <a:lnTo>
                        <a:pt x="101" y="191"/>
                      </a:lnTo>
                      <a:lnTo>
                        <a:pt x="193" y="435"/>
                      </a:lnTo>
                      <a:lnTo>
                        <a:pt x="234" y="4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748600" y="2034360"/>
                  <a:ext cx="40680" cy="86400"/>
                </a:xfrm>
                <a:custGeom>
                  <a:avLst/>
                  <a:gdLst/>
                  <a:ahLst/>
                  <a:rect l="l" t="t" r="r" b="b"/>
                  <a:pathLst>
                    <a:path w="349" h="709">
                      <a:moveTo>
                        <a:pt x="349" y="203"/>
                      </a:moveTo>
                      <a:lnTo>
                        <a:pt x="349" y="518"/>
                      </a:lnTo>
                      <a:lnTo>
                        <a:pt x="92" y="363"/>
                      </a:lnTo>
                      <a:lnTo>
                        <a:pt x="158" y="709"/>
                      </a:lnTo>
                      <a:lnTo>
                        <a:pt x="92" y="656"/>
                      </a:lnTo>
                      <a:lnTo>
                        <a:pt x="0" y="258"/>
                      </a:lnTo>
                      <a:lnTo>
                        <a:pt x="92" y="292"/>
                      </a:lnTo>
                      <a:lnTo>
                        <a:pt x="147" y="0"/>
                      </a:lnTo>
                      <a:lnTo>
                        <a:pt x="349" y="2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2691360" y="1960560"/>
                  <a:ext cx="45360" cy="40680"/>
                </a:xfrm>
                <a:custGeom>
                  <a:avLst/>
                  <a:gdLst/>
                  <a:ahLst/>
                  <a:rect l="l" t="t" r="r" b="b"/>
                  <a:pathLst>
                    <a:path w="381" h="333">
                      <a:moveTo>
                        <a:pt x="371" y="333"/>
                      </a:moveTo>
                      <a:lnTo>
                        <a:pt x="0" y="51"/>
                      </a:lnTo>
                      <a:lnTo>
                        <a:pt x="28" y="0"/>
                      </a:lnTo>
                      <a:lnTo>
                        <a:pt x="381" y="280"/>
                      </a:lnTo>
                      <a:lnTo>
                        <a:pt x="371" y="3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2686680" y="1925280"/>
                  <a:ext cx="80640" cy="94320"/>
                </a:xfrm>
                <a:custGeom>
                  <a:avLst/>
                  <a:gdLst/>
                  <a:ahLst/>
                  <a:rect l="l" t="t" r="r" b="b"/>
                  <a:pathLst>
                    <a:path w="675" h="779">
                      <a:moveTo>
                        <a:pt x="636" y="779"/>
                      </a:moveTo>
                      <a:lnTo>
                        <a:pt x="527" y="553"/>
                      </a:lnTo>
                      <a:lnTo>
                        <a:pt x="362" y="342"/>
                      </a:lnTo>
                      <a:lnTo>
                        <a:pt x="142" y="155"/>
                      </a:lnTo>
                      <a:lnTo>
                        <a:pt x="0" y="39"/>
                      </a:lnTo>
                      <a:lnTo>
                        <a:pt x="53" y="0"/>
                      </a:lnTo>
                      <a:lnTo>
                        <a:pt x="227" y="120"/>
                      </a:lnTo>
                      <a:lnTo>
                        <a:pt x="443" y="328"/>
                      </a:lnTo>
                      <a:lnTo>
                        <a:pt x="579" y="487"/>
                      </a:lnTo>
                      <a:lnTo>
                        <a:pt x="675" y="677"/>
                      </a:lnTo>
                      <a:lnTo>
                        <a:pt x="636" y="7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741040" y="2102400"/>
                  <a:ext cx="103320" cy="466920"/>
                </a:xfrm>
                <a:custGeom>
                  <a:avLst/>
                  <a:gdLst/>
                  <a:ahLst/>
                  <a:rect l="l" t="t" r="r" b="b"/>
                  <a:pathLst>
                    <a:path w="873" h="3839">
                      <a:moveTo>
                        <a:pt x="0" y="0"/>
                      </a:moveTo>
                      <a:lnTo>
                        <a:pt x="73" y="277"/>
                      </a:lnTo>
                      <a:lnTo>
                        <a:pt x="117" y="716"/>
                      </a:lnTo>
                      <a:lnTo>
                        <a:pt x="117" y="1486"/>
                      </a:lnTo>
                      <a:lnTo>
                        <a:pt x="58" y="2181"/>
                      </a:lnTo>
                      <a:lnTo>
                        <a:pt x="0" y="2255"/>
                      </a:lnTo>
                      <a:lnTo>
                        <a:pt x="18" y="2326"/>
                      </a:lnTo>
                      <a:lnTo>
                        <a:pt x="137" y="2496"/>
                      </a:lnTo>
                      <a:lnTo>
                        <a:pt x="389" y="2669"/>
                      </a:lnTo>
                      <a:lnTo>
                        <a:pt x="700" y="2822"/>
                      </a:lnTo>
                      <a:lnTo>
                        <a:pt x="756" y="2894"/>
                      </a:lnTo>
                      <a:lnTo>
                        <a:pt x="778" y="2972"/>
                      </a:lnTo>
                      <a:lnTo>
                        <a:pt x="736" y="3043"/>
                      </a:lnTo>
                      <a:lnTo>
                        <a:pt x="643" y="3073"/>
                      </a:lnTo>
                      <a:lnTo>
                        <a:pt x="333" y="3043"/>
                      </a:lnTo>
                      <a:lnTo>
                        <a:pt x="73" y="2990"/>
                      </a:lnTo>
                      <a:lnTo>
                        <a:pt x="522" y="3512"/>
                      </a:lnTo>
                      <a:lnTo>
                        <a:pt x="549" y="3613"/>
                      </a:lnTo>
                      <a:lnTo>
                        <a:pt x="504" y="3708"/>
                      </a:lnTo>
                      <a:lnTo>
                        <a:pt x="389" y="3764"/>
                      </a:lnTo>
                      <a:lnTo>
                        <a:pt x="196" y="3708"/>
                      </a:lnTo>
                      <a:lnTo>
                        <a:pt x="58" y="3664"/>
                      </a:lnTo>
                      <a:lnTo>
                        <a:pt x="292" y="3817"/>
                      </a:lnTo>
                      <a:lnTo>
                        <a:pt x="488" y="3839"/>
                      </a:lnTo>
                      <a:lnTo>
                        <a:pt x="643" y="3738"/>
                      </a:lnTo>
                      <a:lnTo>
                        <a:pt x="677" y="3641"/>
                      </a:lnTo>
                      <a:lnTo>
                        <a:pt x="643" y="3491"/>
                      </a:lnTo>
                      <a:lnTo>
                        <a:pt x="522" y="3343"/>
                      </a:lnTo>
                      <a:lnTo>
                        <a:pt x="347" y="3145"/>
                      </a:lnTo>
                      <a:lnTo>
                        <a:pt x="677" y="3145"/>
                      </a:lnTo>
                      <a:lnTo>
                        <a:pt x="832" y="3097"/>
                      </a:lnTo>
                      <a:lnTo>
                        <a:pt x="873" y="2942"/>
                      </a:lnTo>
                      <a:lnTo>
                        <a:pt x="832" y="2799"/>
                      </a:lnTo>
                      <a:lnTo>
                        <a:pt x="619" y="2646"/>
                      </a:lnTo>
                      <a:lnTo>
                        <a:pt x="196" y="2376"/>
                      </a:lnTo>
                      <a:lnTo>
                        <a:pt x="117" y="2255"/>
                      </a:lnTo>
                      <a:lnTo>
                        <a:pt x="173" y="1881"/>
                      </a:lnTo>
                      <a:lnTo>
                        <a:pt x="196" y="1264"/>
                      </a:lnTo>
                      <a:lnTo>
                        <a:pt x="173" y="570"/>
                      </a:lnTo>
                      <a:lnTo>
                        <a:pt x="137" y="15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658240" y="2295000"/>
                  <a:ext cx="100800" cy="177840"/>
                </a:xfrm>
                <a:custGeom>
                  <a:avLst/>
                  <a:gdLst/>
                  <a:ahLst/>
                  <a:rect l="l" t="t" r="r" b="b"/>
                  <a:pathLst>
                    <a:path w="853" h="1457">
                      <a:moveTo>
                        <a:pt x="815" y="0"/>
                      </a:moveTo>
                      <a:lnTo>
                        <a:pt x="583" y="47"/>
                      </a:lnTo>
                      <a:lnTo>
                        <a:pt x="289" y="223"/>
                      </a:lnTo>
                      <a:lnTo>
                        <a:pt x="116" y="396"/>
                      </a:lnTo>
                      <a:lnTo>
                        <a:pt x="19" y="595"/>
                      </a:lnTo>
                      <a:lnTo>
                        <a:pt x="0" y="768"/>
                      </a:lnTo>
                      <a:lnTo>
                        <a:pt x="41" y="961"/>
                      </a:lnTo>
                      <a:lnTo>
                        <a:pt x="97" y="1113"/>
                      </a:lnTo>
                      <a:lnTo>
                        <a:pt x="252" y="1261"/>
                      </a:lnTo>
                      <a:lnTo>
                        <a:pt x="519" y="1386"/>
                      </a:lnTo>
                      <a:lnTo>
                        <a:pt x="853" y="1457"/>
                      </a:lnTo>
                      <a:lnTo>
                        <a:pt x="545" y="1338"/>
                      </a:lnTo>
                      <a:lnTo>
                        <a:pt x="252" y="1139"/>
                      </a:lnTo>
                      <a:lnTo>
                        <a:pt x="138" y="961"/>
                      </a:lnTo>
                      <a:lnTo>
                        <a:pt x="116" y="768"/>
                      </a:lnTo>
                      <a:lnTo>
                        <a:pt x="194" y="514"/>
                      </a:lnTo>
                      <a:lnTo>
                        <a:pt x="328" y="320"/>
                      </a:lnTo>
                      <a:lnTo>
                        <a:pt x="504" y="223"/>
                      </a:lnTo>
                      <a:lnTo>
                        <a:pt x="654" y="126"/>
                      </a:lnTo>
                      <a:lnTo>
                        <a:pt x="815" y="99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609640" y="2397240"/>
                  <a:ext cx="186120" cy="244080"/>
                </a:xfrm>
                <a:custGeom>
                  <a:avLst/>
                  <a:gdLst/>
                  <a:ahLst/>
                  <a:rect l="l" t="t" r="r" b="b"/>
                  <a:pathLst>
                    <a:path w="1570" h="2004">
                      <a:moveTo>
                        <a:pt x="477" y="221"/>
                      </a:moveTo>
                      <a:lnTo>
                        <a:pt x="370" y="374"/>
                      </a:lnTo>
                      <a:lnTo>
                        <a:pt x="270" y="547"/>
                      </a:lnTo>
                      <a:lnTo>
                        <a:pt x="251" y="672"/>
                      </a:lnTo>
                      <a:lnTo>
                        <a:pt x="562" y="967"/>
                      </a:lnTo>
                      <a:lnTo>
                        <a:pt x="344" y="918"/>
                      </a:lnTo>
                      <a:lnTo>
                        <a:pt x="251" y="1066"/>
                      </a:lnTo>
                      <a:lnTo>
                        <a:pt x="270" y="1188"/>
                      </a:lnTo>
                      <a:lnTo>
                        <a:pt x="477" y="1440"/>
                      </a:lnTo>
                      <a:lnTo>
                        <a:pt x="774" y="1587"/>
                      </a:lnTo>
                      <a:lnTo>
                        <a:pt x="1122" y="1661"/>
                      </a:lnTo>
                      <a:lnTo>
                        <a:pt x="1374" y="1661"/>
                      </a:lnTo>
                      <a:lnTo>
                        <a:pt x="1451" y="1636"/>
                      </a:lnTo>
                      <a:lnTo>
                        <a:pt x="1473" y="1560"/>
                      </a:lnTo>
                      <a:lnTo>
                        <a:pt x="1473" y="1486"/>
                      </a:lnTo>
                      <a:lnTo>
                        <a:pt x="1451" y="1440"/>
                      </a:lnTo>
                      <a:lnTo>
                        <a:pt x="1493" y="1440"/>
                      </a:lnTo>
                      <a:lnTo>
                        <a:pt x="1570" y="1560"/>
                      </a:lnTo>
                      <a:lnTo>
                        <a:pt x="1552" y="1710"/>
                      </a:lnTo>
                      <a:lnTo>
                        <a:pt x="1437" y="1783"/>
                      </a:lnTo>
                      <a:lnTo>
                        <a:pt x="1318" y="1809"/>
                      </a:lnTo>
                      <a:lnTo>
                        <a:pt x="1141" y="1936"/>
                      </a:lnTo>
                      <a:lnTo>
                        <a:pt x="968" y="1982"/>
                      </a:lnTo>
                      <a:lnTo>
                        <a:pt x="717" y="2004"/>
                      </a:lnTo>
                      <a:lnTo>
                        <a:pt x="522" y="1936"/>
                      </a:lnTo>
                      <a:lnTo>
                        <a:pt x="329" y="1835"/>
                      </a:lnTo>
                      <a:lnTo>
                        <a:pt x="173" y="1613"/>
                      </a:lnTo>
                      <a:lnTo>
                        <a:pt x="154" y="1366"/>
                      </a:lnTo>
                      <a:lnTo>
                        <a:pt x="154" y="1039"/>
                      </a:lnTo>
                      <a:lnTo>
                        <a:pt x="230" y="896"/>
                      </a:lnTo>
                      <a:lnTo>
                        <a:pt x="310" y="840"/>
                      </a:lnTo>
                      <a:lnTo>
                        <a:pt x="154" y="672"/>
                      </a:lnTo>
                      <a:lnTo>
                        <a:pt x="54" y="870"/>
                      </a:lnTo>
                      <a:lnTo>
                        <a:pt x="0" y="814"/>
                      </a:lnTo>
                      <a:lnTo>
                        <a:pt x="115" y="499"/>
                      </a:lnTo>
                      <a:lnTo>
                        <a:pt x="251" y="274"/>
                      </a:lnTo>
                      <a:lnTo>
                        <a:pt x="370" y="122"/>
                      </a:lnTo>
                      <a:lnTo>
                        <a:pt x="465" y="0"/>
                      </a:lnTo>
                      <a:lnTo>
                        <a:pt x="477" y="2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413080" y="1864440"/>
                  <a:ext cx="285840" cy="1183680"/>
                </a:xfrm>
                <a:custGeom>
                  <a:avLst/>
                  <a:gdLst/>
                  <a:ahLst/>
                  <a:rect l="l" t="t" r="r" b="b"/>
                  <a:pathLst>
                    <a:path w="2406" h="9734">
                      <a:moveTo>
                        <a:pt x="868" y="5915"/>
                      </a:moveTo>
                      <a:lnTo>
                        <a:pt x="831" y="6432"/>
                      </a:lnTo>
                      <a:lnTo>
                        <a:pt x="753" y="7619"/>
                      </a:lnTo>
                      <a:lnTo>
                        <a:pt x="718" y="8221"/>
                      </a:lnTo>
                      <a:lnTo>
                        <a:pt x="603" y="8358"/>
                      </a:lnTo>
                      <a:lnTo>
                        <a:pt x="787" y="9029"/>
                      </a:lnTo>
                      <a:lnTo>
                        <a:pt x="986" y="9109"/>
                      </a:lnTo>
                      <a:lnTo>
                        <a:pt x="1171" y="9301"/>
                      </a:lnTo>
                      <a:lnTo>
                        <a:pt x="1367" y="9446"/>
                      </a:lnTo>
                      <a:lnTo>
                        <a:pt x="1760" y="9668"/>
                      </a:lnTo>
                      <a:lnTo>
                        <a:pt x="2157" y="9734"/>
                      </a:lnTo>
                      <a:lnTo>
                        <a:pt x="2406" y="9734"/>
                      </a:lnTo>
                      <a:lnTo>
                        <a:pt x="2312" y="9564"/>
                      </a:lnTo>
                      <a:lnTo>
                        <a:pt x="2220" y="9380"/>
                      </a:lnTo>
                      <a:lnTo>
                        <a:pt x="2139" y="9365"/>
                      </a:lnTo>
                      <a:lnTo>
                        <a:pt x="2198" y="9516"/>
                      </a:lnTo>
                      <a:lnTo>
                        <a:pt x="2291" y="9686"/>
                      </a:lnTo>
                      <a:lnTo>
                        <a:pt x="1751" y="9564"/>
                      </a:lnTo>
                      <a:lnTo>
                        <a:pt x="1420" y="9365"/>
                      </a:lnTo>
                      <a:lnTo>
                        <a:pt x="1283" y="9198"/>
                      </a:lnTo>
                      <a:lnTo>
                        <a:pt x="1790" y="9261"/>
                      </a:lnTo>
                      <a:lnTo>
                        <a:pt x="1772" y="9198"/>
                      </a:lnTo>
                      <a:lnTo>
                        <a:pt x="1772" y="9029"/>
                      </a:lnTo>
                      <a:lnTo>
                        <a:pt x="1866" y="8610"/>
                      </a:lnTo>
                      <a:lnTo>
                        <a:pt x="1800" y="8274"/>
                      </a:lnTo>
                      <a:lnTo>
                        <a:pt x="1760" y="7963"/>
                      </a:lnTo>
                      <a:lnTo>
                        <a:pt x="1769" y="7755"/>
                      </a:lnTo>
                      <a:lnTo>
                        <a:pt x="1790" y="7282"/>
                      </a:lnTo>
                      <a:lnTo>
                        <a:pt x="1884" y="6613"/>
                      </a:lnTo>
                      <a:lnTo>
                        <a:pt x="1964" y="6221"/>
                      </a:lnTo>
                      <a:lnTo>
                        <a:pt x="1845" y="5425"/>
                      </a:lnTo>
                      <a:lnTo>
                        <a:pt x="1751" y="5081"/>
                      </a:lnTo>
                      <a:lnTo>
                        <a:pt x="1589" y="4855"/>
                      </a:lnTo>
                      <a:lnTo>
                        <a:pt x="1751" y="4582"/>
                      </a:lnTo>
                      <a:lnTo>
                        <a:pt x="1983" y="4315"/>
                      </a:lnTo>
                      <a:lnTo>
                        <a:pt x="2176" y="4109"/>
                      </a:lnTo>
                      <a:lnTo>
                        <a:pt x="2176" y="4012"/>
                      </a:lnTo>
                      <a:lnTo>
                        <a:pt x="1866" y="4238"/>
                      </a:lnTo>
                      <a:lnTo>
                        <a:pt x="1589" y="4508"/>
                      </a:lnTo>
                      <a:lnTo>
                        <a:pt x="1420" y="4855"/>
                      </a:lnTo>
                      <a:lnTo>
                        <a:pt x="1402" y="4712"/>
                      </a:lnTo>
                      <a:lnTo>
                        <a:pt x="1402" y="4109"/>
                      </a:lnTo>
                      <a:lnTo>
                        <a:pt x="1479" y="3373"/>
                      </a:lnTo>
                      <a:lnTo>
                        <a:pt x="1589" y="2677"/>
                      </a:lnTo>
                      <a:lnTo>
                        <a:pt x="1845" y="1859"/>
                      </a:lnTo>
                      <a:lnTo>
                        <a:pt x="2101" y="1147"/>
                      </a:lnTo>
                      <a:lnTo>
                        <a:pt x="2198" y="824"/>
                      </a:lnTo>
                      <a:lnTo>
                        <a:pt x="2235" y="452"/>
                      </a:lnTo>
                      <a:lnTo>
                        <a:pt x="2235" y="125"/>
                      </a:lnTo>
                      <a:lnTo>
                        <a:pt x="2101" y="0"/>
                      </a:lnTo>
                      <a:lnTo>
                        <a:pt x="2101" y="254"/>
                      </a:lnTo>
                      <a:lnTo>
                        <a:pt x="2024" y="1017"/>
                      </a:lnTo>
                      <a:lnTo>
                        <a:pt x="1615" y="1890"/>
                      </a:lnTo>
                      <a:lnTo>
                        <a:pt x="1063" y="2655"/>
                      </a:lnTo>
                      <a:lnTo>
                        <a:pt x="624" y="3200"/>
                      </a:lnTo>
                      <a:lnTo>
                        <a:pt x="270" y="3739"/>
                      </a:lnTo>
                      <a:lnTo>
                        <a:pt x="0" y="4315"/>
                      </a:lnTo>
                      <a:lnTo>
                        <a:pt x="563" y="5200"/>
                      </a:lnTo>
                      <a:lnTo>
                        <a:pt x="898" y="5669"/>
                      </a:lnTo>
                      <a:lnTo>
                        <a:pt x="868" y="59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216240" y="2000520"/>
                  <a:ext cx="492120" cy="321840"/>
                </a:xfrm>
                <a:custGeom>
                  <a:avLst/>
                  <a:gdLst/>
                  <a:ahLst/>
                  <a:rect l="l" t="t" r="r" b="b"/>
                  <a:pathLst>
                    <a:path w="4149" h="2650">
                      <a:moveTo>
                        <a:pt x="2877" y="691"/>
                      </a:moveTo>
                      <a:lnTo>
                        <a:pt x="3440" y="0"/>
                      </a:lnTo>
                      <a:lnTo>
                        <a:pt x="3058" y="57"/>
                      </a:lnTo>
                      <a:lnTo>
                        <a:pt x="2409" y="262"/>
                      </a:lnTo>
                      <a:lnTo>
                        <a:pt x="1614" y="691"/>
                      </a:lnTo>
                      <a:lnTo>
                        <a:pt x="1003" y="1177"/>
                      </a:lnTo>
                      <a:lnTo>
                        <a:pt x="524" y="1658"/>
                      </a:lnTo>
                      <a:lnTo>
                        <a:pt x="127" y="2216"/>
                      </a:lnTo>
                      <a:lnTo>
                        <a:pt x="0" y="2485"/>
                      </a:lnTo>
                      <a:lnTo>
                        <a:pt x="83" y="2538"/>
                      </a:lnTo>
                      <a:lnTo>
                        <a:pt x="549" y="2194"/>
                      </a:lnTo>
                      <a:lnTo>
                        <a:pt x="1446" y="1791"/>
                      </a:lnTo>
                      <a:lnTo>
                        <a:pt x="2307" y="1517"/>
                      </a:lnTo>
                      <a:lnTo>
                        <a:pt x="2956" y="1416"/>
                      </a:lnTo>
                      <a:lnTo>
                        <a:pt x="3607" y="1362"/>
                      </a:lnTo>
                      <a:lnTo>
                        <a:pt x="3919" y="1390"/>
                      </a:lnTo>
                      <a:lnTo>
                        <a:pt x="3351" y="1683"/>
                      </a:lnTo>
                      <a:lnTo>
                        <a:pt x="2767" y="2083"/>
                      </a:lnTo>
                      <a:lnTo>
                        <a:pt x="2118" y="2650"/>
                      </a:lnTo>
                      <a:lnTo>
                        <a:pt x="2767" y="2167"/>
                      </a:lnTo>
                      <a:lnTo>
                        <a:pt x="3464" y="1765"/>
                      </a:lnTo>
                      <a:lnTo>
                        <a:pt x="4149" y="1439"/>
                      </a:lnTo>
                      <a:lnTo>
                        <a:pt x="4048" y="1335"/>
                      </a:lnTo>
                      <a:lnTo>
                        <a:pt x="3689" y="1284"/>
                      </a:lnTo>
                      <a:lnTo>
                        <a:pt x="3164" y="1309"/>
                      </a:lnTo>
                      <a:lnTo>
                        <a:pt x="2179" y="1439"/>
                      </a:lnTo>
                      <a:lnTo>
                        <a:pt x="1446" y="1709"/>
                      </a:lnTo>
                      <a:lnTo>
                        <a:pt x="667" y="2060"/>
                      </a:lnTo>
                      <a:lnTo>
                        <a:pt x="290" y="2301"/>
                      </a:lnTo>
                      <a:lnTo>
                        <a:pt x="776" y="1897"/>
                      </a:lnTo>
                      <a:lnTo>
                        <a:pt x="1380" y="1517"/>
                      </a:lnTo>
                      <a:lnTo>
                        <a:pt x="2077" y="1207"/>
                      </a:lnTo>
                      <a:lnTo>
                        <a:pt x="2767" y="933"/>
                      </a:lnTo>
                      <a:lnTo>
                        <a:pt x="3689" y="691"/>
                      </a:lnTo>
                      <a:lnTo>
                        <a:pt x="3440" y="933"/>
                      </a:lnTo>
                      <a:lnTo>
                        <a:pt x="3230" y="1225"/>
                      </a:lnTo>
                      <a:lnTo>
                        <a:pt x="3585" y="880"/>
                      </a:lnTo>
                      <a:lnTo>
                        <a:pt x="3855" y="645"/>
                      </a:lnTo>
                      <a:lnTo>
                        <a:pt x="4022" y="508"/>
                      </a:lnTo>
                      <a:lnTo>
                        <a:pt x="3482" y="589"/>
                      </a:lnTo>
                      <a:lnTo>
                        <a:pt x="2767" y="854"/>
                      </a:lnTo>
                      <a:lnTo>
                        <a:pt x="1821" y="1225"/>
                      </a:lnTo>
                      <a:lnTo>
                        <a:pt x="1168" y="1549"/>
                      </a:lnTo>
                      <a:lnTo>
                        <a:pt x="524" y="2031"/>
                      </a:lnTo>
                      <a:lnTo>
                        <a:pt x="106" y="2401"/>
                      </a:lnTo>
                      <a:lnTo>
                        <a:pt x="308" y="2060"/>
                      </a:lnTo>
                      <a:lnTo>
                        <a:pt x="794" y="1469"/>
                      </a:lnTo>
                      <a:lnTo>
                        <a:pt x="1423" y="933"/>
                      </a:lnTo>
                      <a:lnTo>
                        <a:pt x="2077" y="536"/>
                      </a:lnTo>
                      <a:lnTo>
                        <a:pt x="2640" y="292"/>
                      </a:lnTo>
                      <a:lnTo>
                        <a:pt x="3185" y="129"/>
                      </a:lnTo>
                      <a:lnTo>
                        <a:pt x="2877" y="6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2643120" y="2627640"/>
                  <a:ext cx="497520" cy="311040"/>
                </a:xfrm>
                <a:custGeom>
                  <a:avLst/>
                  <a:gdLst/>
                  <a:ahLst/>
                  <a:rect l="l" t="t" r="r" b="b"/>
                  <a:pathLst>
                    <a:path w="4192" h="2565">
                      <a:moveTo>
                        <a:pt x="502" y="105"/>
                      </a:moveTo>
                      <a:lnTo>
                        <a:pt x="100" y="1018"/>
                      </a:lnTo>
                      <a:lnTo>
                        <a:pt x="645" y="1074"/>
                      </a:lnTo>
                      <a:lnTo>
                        <a:pt x="1806" y="1074"/>
                      </a:lnTo>
                      <a:lnTo>
                        <a:pt x="2743" y="1150"/>
                      </a:lnTo>
                      <a:lnTo>
                        <a:pt x="3211" y="1255"/>
                      </a:lnTo>
                      <a:lnTo>
                        <a:pt x="3584" y="1389"/>
                      </a:lnTo>
                      <a:lnTo>
                        <a:pt x="3354" y="1362"/>
                      </a:lnTo>
                      <a:lnTo>
                        <a:pt x="3566" y="1735"/>
                      </a:lnTo>
                      <a:lnTo>
                        <a:pt x="3715" y="1870"/>
                      </a:lnTo>
                      <a:lnTo>
                        <a:pt x="3878" y="2246"/>
                      </a:lnTo>
                      <a:lnTo>
                        <a:pt x="4084" y="2140"/>
                      </a:lnTo>
                      <a:lnTo>
                        <a:pt x="4026" y="1791"/>
                      </a:lnTo>
                      <a:lnTo>
                        <a:pt x="3858" y="1684"/>
                      </a:lnTo>
                      <a:lnTo>
                        <a:pt x="3715" y="1173"/>
                      </a:lnTo>
                      <a:lnTo>
                        <a:pt x="3733" y="1150"/>
                      </a:lnTo>
                      <a:lnTo>
                        <a:pt x="3901" y="1628"/>
                      </a:lnTo>
                      <a:lnTo>
                        <a:pt x="4065" y="1761"/>
                      </a:lnTo>
                      <a:lnTo>
                        <a:pt x="4192" y="2190"/>
                      </a:lnTo>
                      <a:lnTo>
                        <a:pt x="3981" y="2349"/>
                      </a:lnTo>
                      <a:lnTo>
                        <a:pt x="3626" y="2512"/>
                      </a:lnTo>
                      <a:lnTo>
                        <a:pt x="3332" y="2565"/>
                      </a:lnTo>
                      <a:lnTo>
                        <a:pt x="2766" y="2565"/>
                      </a:lnTo>
                      <a:lnTo>
                        <a:pt x="2517" y="2246"/>
                      </a:lnTo>
                      <a:lnTo>
                        <a:pt x="2536" y="1977"/>
                      </a:lnTo>
                      <a:lnTo>
                        <a:pt x="2244" y="1791"/>
                      </a:lnTo>
                      <a:lnTo>
                        <a:pt x="1887" y="1150"/>
                      </a:lnTo>
                      <a:lnTo>
                        <a:pt x="604" y="1150"/>
                      </a:lnTo>
                      <a:lnTo>
                        <a:pt x="185" y="1122"/>
                      </a:lnTo>
                      <a:lnTo>
                        <a:pt x="0" y="1040"/>
                      </a:lnTo>
                      <a:lnTo>
                        <a:pt x="185" y="636"/>
                      </a:lnTo>
                      <a:lnTo>
                        <a:pt x="357" y="268"/>
                      </a:lnTo>
                      <a:lnTo>
                        <a:pt x="437" y="0"/>
                      </a:lnTo>
                      <a:lnTo>
                        <a:pt x="502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976480" y="2910960"/>
                  <a:ext cx="219600" cy="61200"/>
                </a:xfrm>
                <a:custGeom>
                  <a:avLst/>
                  <a:gdLst/>
                  <a:ahLst/>
                  <a:rect l="l" t="t" r="r" b="b"/>
                  <a:pathLst>
                    <a:path w="1846" h="503">
                      <a:moveTo>
                        <a:pt x="1356" y="0"/>
                      </a:moveTo>
                      <a:lnTo>
                        <a:pt x="1575" y="238"/>
                      </a:lnTo>
                      <a:lnTo>
                        <a:pt x="1846" y="398"/>
                      </a:lnTo>
                      <a:lnTo>
                        <a:pt x="1846" y="451"/>
                      </a:lnTo>
                      <a:lnTo>
                        <a:pt x="1657" y="503"/>
                      </a:lnTo>
                      <a:lnTo>
                        <a:pt x="1274" y="503"/>
                      </a:lnTo>
                      <a:lnTo>
                        <a:pt x="878" y="423"/>
                      </a:lnTo>
                      <a:lnTo>
                        <a:pt x="0" y="212"/>
                      </a:lnTo>
                      <a:lnTo>
                        <a:pt x="167" y="185"/>
                      </a:lnTo>
                      <a:lnTo>
                        <a:pt x="792" y="348"/>
                      </a:lnTo>
                      <a:lnTo>
                        <a:pt x="1274" y="423"/>
                      </a:lnTo>
                      <a:lnTo>
                        <a:pt x="1634" y="423"/>
                      </a:lnTo>
                      <a:lnTo>
                        <a:pt x="1738" y="398"/>
                      </a:lnTo>
                      <a:lnTo>
                        <a:pt x="1463" y="238"/>
                      </a:lnTo>
                      <a:lnTo>
                        <a:pt x="1338" y="78"/>
                      </a:lnTo>
                      <a:lnTo>
                        <a:pt x="1320" y="0"/>
                      </a:lnTo>
                      <a:lnTo>
                        <a:pt x="13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678040" y="2760120"/>
                  <a:ext cx="69120" cy="228240"/>
                </a:xfrm>
                <a:custGeom>
                  <a:avLst/>
                  <a:gdLst/>
                  <a:ahLst/>
                  <a:rect l="l" t="t" r="r" b="b"/>
                  <a:pathLst>
                    <a:path w="588" h="1875">
                      <a:moveTo>
                        <a:pt x="588" y="58"/>
                      </a:moveTo>
                      <a:lnTo>
                        <a:pt x="417" y="403"/>
                      </a:lnTo>
                      <a:lnTo>
                        <a:pt x="274" y="801"/>
                      </a:lnTo>
                      <a:lnTo>
                        <a:pt x="234" y="1098"/>
                      </a:lnTo>
                      <a:lnTo>
                        <a:pt x="252" y="1257"/>
                      </a:lnTo>
                      <a:lnTo>
                        <a:pt x="121" y="1501"/>
                      </a:lnTo>
                      <a:lnTo>
                        <a:pt x="81" y="1717"/>
                      </a:lnTo>
                      <a:lnTo>
                        <a:pt x="81" y="1875"/>
                      </a:lnTo>
                      <a:lnTo>
                        <a:pt x="0" y="1875"/>
                      </a:lnTo>
                      <a:lnTo>
                        <a:pt x="40" y="1658"/>
                      </a:lnTo>
                      <a:lnTo>
                        <a:pt x="81" y="1420"/>
                      </a:lnTo>
                      <a:lnTo>
                        <a:pt x="143" y="1257"/>
                      </a:lnTo>
                      <a:lnTo>
                        <a:pt x="143" y="964"/>
                      </a:lnTo>
                      <a:lnTo>
                        <a:pt x="208" y="699"/>
                      </a:lnTo>
                      <a:lnTo>
                        <a:pt x="292" y="403"/>
                      </a:lnTo>
                      <a:lnTo>
                        <a:pt x="478" y="0"/>
                      </a:lnTo>
                      <a:lnTo>
                        <a:pt x="588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067920" y="2317320"/>
                  <a:ext cx="164160" cy="477720"/>
                </a:xfrm>
                <a:custGeom>
                  <a:avLst/>
                  <a:gdLst/>
                  <a:ahLst/>
                  <a:rect l="l" t="t" r="r" b="b"/>
                  <a:pathLst>
                    <a:path w="1378" h="3932">
                      <a:moveTo>
                        <a:pt x="1378" y="0"/>
                      </a:moveTo>
                      <a:lnTo>
                        <a:pt x="1288" y="0"/>
                      </a:lnTo>
                      <a:lnTo>
                        <a:pt x="1080" y="423"/>
                      </a:lnTo>
                      <a:lnTo>
                        <a:pt x="756" y="1277"/>
                      </a:lnTo>
                      <a:lnTo>
                        <a:pt x="448" y="2161"/>
                      </a:lnTo>
                      <a:lnTo>
                        <a:pt x="204" y="2997"/>
                      </a:lnTo>
                      <a:lnTo>
                        <a:pt x="0" y="3932"/>
                      </a:lnTo>
                      <a:lnTo>
                        <a:pt x="62" y="3918"/>
                      </a:lnTo>
                      <a:lnTo>
                        <a:pt x="214" y="3196"/>
                      </a:lnTo>
                      <a:lnTo>
                        <a:pt x="433" y="2394"/>
                      </a:lnTo>
                      <a:lnTo>
                        <a:pt x="700" y="1583"/>
                      </a:lnTo>
                      <a:lnTo>
                        <a:pt x="952" y="911"/>
                      </a:lnTo>
                      <a:lnTo>
                        <a:pt x="1194" y="305"/>
                      </a:lnTo>
                      <a:lnTo>
                        <a:pt x="1319" y="61"/>
                      </a:lnTo>
                      <a:lnTo>
                        <a:pt x="13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335760" y="2311560"/>
                  <a:ext cx="182520" cy="132120"/>
                </a:xfrm>
                <a:custGeom>
                  <a:avLst/>
                  <a:gdLst/>
                  <a:ahLst/>
                  <a:rect l="l" t="t" r="r" b="b"/>
                  <a:pathLst>
                    <a:path w="1538" h="1087">
                      <a:moveTo>
                        <a:pt x="1390" y="145"/>
                      </a:moveTo>
                      <a:lnTo>
                        <a:pt x="1334" y="105"/>
                      </a:lnTo>
                      <a:lnTo>
                        <a:pt x="1298" y="115"/>
                      </a:lnTo>
                      <a:lnTo>
                        <a:pt x="1298" y="193"/>
                      </a:lnTo>
                      <a:lnTo>
                        <a:pt x="1396" y="530"/>
                      </a:lnTo>
                      <a:lnTo>
                        <a:pt x="1286" y="588"/>
                      </a:lnTo>
                      <a:lnTo>
                        <a:pt x="1123" y="599"/>
                      </a:lnTo>
                      <a:lnTo>
                        <a:pt x="874" y="543"/>
                      </a:lnTo>
                      <a:lnTo>
                        <a:pt x="619" y="441"/>
                      </a:lnTo>
                      <a:lnTo>
                        <a:pt x="433" y="311"/>
                      </a:lnTo>
                      <a:lnTo>
                        <a:pt x="362" y="179"/>
                      </a:lnTo>
                      <a:lnTo>
                        <a:pt x="374" y="90"/>
                      </a:lnTo>
                      <a:lnTo>
                        <a:pt x="418" y="44"/>
                      </a:lnTo>
                      <a:lnTo>
                        <a:pt x="522" y="56"/>
                      </a:lnTo>
                      <a:lnTo>
                        <a:pt x="749" y="115"/>
                      </a:lnTo>
                      <a:lnTo>
                        <a:pt x="953" y="115"/>
                      </a:lnTo>
                      <a:lnTo>
                        <a:pt x="1123" y="70"/>
                      </a:lnTo>
                      <a:lnTo>
                        <a:pt x="1192" y="16"/>
                      </a:lnTo>
                      <a:lnTo>
                        <a:pt x="980" y="70"/>
                      </a:lnTo>
                      <a:lnTo>
                        <a:pt x="830" y="70"/>
                      </a:lnTo>
                      <a:lnTo>
                        <a:pt x="626" y="56"/>
                      </a:lnTo>
                      <a:lnTo>
                        <a:pt x="433" y="0"/>
                      </a:lnTo>
                      <a:lnTo>
                        <a:pt x="362" y="26"/>
                      </a:lnTo>
                      <a:lnTo>
                        <a:pt x="341" y="105"/>
                      </a:lnTo>
                      <a:lnTo>
                        <a:pt x="341" y="193"/>
                      </a:lnTo>
                      <a:lnTo>
                        <a:pt x="410" y="338"/>
                      </a:lnTo>
                      <a:lnTo>
                        <a:pt x="570" y="489"/>
                      </a:lnTo>
                      <a:lnTo>
                        <a:pt x="953" y="675"/>
                      </a:lnTo>
                      <a:lnTo>
                        <a:pt x="1135" y="703"/>
                      </a:lnTo>
                      <a:lnTo>
                        <a:pt x="1171" y="866"/>
                      </a:lnTo>
                      <a:lnTo>
                        <a:pt x="1148" y="955"/>
                      </a:lnTo>
                      <a:lnTo>
                        <a:pt x="1060" y="1029"/>
                      </a:lnTo>
                      <a:lnTo>
                        <a:pt x="830" y="1043"/>
                      </a:lnTo>
                      <a:lnTo>
                        <a:pt x="494" y="970"/>
                      </a:lnTo>
                      <a:lnTo>
                        <a:pt x="197" y="812"/>
                      </a:lnTo>
                      <a:lnTo>
                        <a:pt x="92" y="662"/>
                      </a:lnTo>
                      <a:lnTo>
                        <a:pt x="51" y="530"/>
                      </a:lnTo>
                      <a:lnTo>
                        <a:pt x="92" y="441"/>
                      </a:lnTo>
                      <a:lnTo>
                        <a:pt x="286" y="311"/>
                      </a:lnTo>
                      <a:lnTo>
                        <a:pt x="44" y="426"/>
                      </a:lnTo>
                      <a:lnTo>
                        <a:pt x="0" y="515"/>
                      </a:lnTo>
                      <a:lnTo>
                        <a:pt x="92" y="774"/>
                      </a:lnTo>
                      <a:lnTo>
                        <a:pt x="242" y="906"/>
                      </a:lnTo>
                      <a:lnTo>
                        <a:pt x="467" y="1015"/>
                      </a:lnTo>
                      <a:lnTo>
                        <a:pt x="830" y="1087"/>
                      </a:lnTo>
                      <a:lnTo>
                        <a:pt x="1042" y="1087"/>
                      </a:lnTo>
                      <a:lnTo>
                        <a:pt x="1192" y="1043"/>
                      </a:lnTo>
                      <a:lnTo>
                        <a:pt x="1260" y="970"/>
                      </a:lnTo>
                      <a:lnTo>
                        <a:pt x="1286" y="884"/>
                      </a:lnTo>
                      <a:lnTo>
                        <a:pt x="1280" y="733"/>
                      </a:lnTo>
                      <a:lnTo>
                        <a:pt x="1245" y="675"/>
                      </a:lnTo>
                      <a:lnTo>
                        <a:pt x="1439" y="644"/>
                      </a:lnTo>
                      <a:lnTo>
                        <a:pt x="1528" y="573"/>
                      </a:lnTo>
                      <a:lnTo>
                        <a:pt x="1538" y="467"/>
                      </a:lnTo>
                      <a:lnTo>
                        <a:pt x="1520" y="378"/>
                      </a:lnTo>
                      <a:lnTo>
                        <a:pt x="1439" y="204"/>
                      </a:lnTo>
                      <a:lnTo>
                        <a:pt x="1390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072600" y="2392560"/>
                  <a:ext cx="370440" cy="402840"/>
                </a:xfrm>
                <a:custGeom>
                  <a:avLst/>
                  <a:gdLst/>
                  <a:ahLst/>
                  <a:rect l="l" t="t" r="r" b="b"/>
                  <a:pathLst>
                    <a:path w="3124" h="3314">
                      <a:moveTo>
                        <a:pt x="2271" y="0"/>
                      </a:moveTo>
                      <a:lnTo>
                        <a:pt x="2135" y="59"/>
                      </a:lnTo>
                      <a:lnTo>
                        <a:pt x="2054" y="150"/>
                      </a:lnTo>
                      <a:lnTo>
                        <a:pt x="2034" y="234"/>
                      </a:lnTo>
                      <a:lnTo>
                        <a:pt x="2042" y="353"/>
                      </a:lnTo>
                      <a:lnTo>
                        <a:pt x="2078" y="438"/>
                      </a:lnTo>
                      <a:lnTo>
                        <a:pt x="1961" y="481"/>
                      </a:lnTo>
                      <a:lnTo>
                        <a:pt x="1942" y="540"/>
                      </a:lnTo>
                      <a:lnTo>
                        <a:pt x="1942" y="619"/>
                      </a:lnTo>
                      <a:lnTo>
                        <a:pt x="1976" y="689"/>
                      </a:lnTo>
                      <a:lnTo>
                        <a:pt x="2271" y="995"/>
                      </a:lnTo>
                      <a:lnTo>
                        <a:pt x="1871" y="2084"/>
                      </a:lnTo>
                      <a:lnTo>
                        <a:pt x="1502" y="2202"/>
                      </a:lnTo>
                      <a:lnTo>
                        <a:pt x="1044" y="2423"/>
                      </a:lnTo>
                      <a:lnTo>
                        <a:pt x="605" y="2700"/>
                      </a:lnTo>
                      <a:lnTo>
                        <a:pt x="247" y="2995"/>
                      </a:lnTo>
                      <a:lnTo>
                        <a:pt x="18" y="3229"/>
                      </a:lnTo>
                      <a:lnTo>
                        <a:pt x="0" y="3314"/>
                      </a:lnTo>
                      <a:lnTo>
                        <a:pt x="256" y="3084"/>
                      </a:lnTo>
                      <a:lnTo>
                        <a:pt x="734" y="2712"/>
                      </a:lnTo>
                      <a:lnTo>
                        <a:pt x="1179" y="2452"/>
                      </a:lnTo>
                      <a:lnTo>
                        <a:pt x="1515" y="2305"/>
                      </a:lnTo>
                      <a:lnTo>
                        <a:pt x="1942" y="2158"/>
                      </a:lnTo>
                      <a:lnTo>
                        <a:pt x="2113" y="1614"/>
                      </a:lnTo>
                      <a:lnTo>
                        <a:pt x="2320" y="1084"/>
                      </a:lnTo>
                      <a:lnTo>
                        <a:pt x="2528" y="733"/>
                      </a:lnTo>
                      <a:lnTo>
                        <a:pt x="2921" y="733"/>
                      </a:lnTo>
                      <a:lnTo>
                        <a:pt x="3058" y="689"/>
                      </a:lnTo>
                      <a:lnTo>
                        <a:pt x="3106" y="629"/>
                      </a:lnTo>
                      <a:lnTo>
                        <a:pt x="3124" y="540"/>
                      </a:lnTo>
                      <a:lnTo>
                        <a:pt x="3106" y="481"/>
                      </a:lnTo>
                      <a:lnTo>
                        <a:pt x="3020" y="397"/>
                      </a:lnTo>
                      <a:lnTo>
                        <a:pt x="2976" y="397"/>
                      </a:lnTo>
                      <a:lnTo>
                        <a:pt x="3058" y="499"/>
                      </a:lnTo>
                      <a:lnTo>
                        <a:pt x="3050" y="588"/>
                      </a:lnTo>
                      <a:lnTo>
                        <a:pt x="2949" y="659"/>
                      </a:lnTo>
                      <a:lnTo>
                        <a:pt x="2861" y="673"/>
                      </a:lnTo>
                      <a:lnTo>
                        <a:pt x="2665" y="644"/>
                      </a:lnTo>
                      <a:lnTo>
                        <a:pt x="2427" y="570"/>
                      </a:lnTo>
                      <a:lnTo>
                        <a:pt x="2264" y="481"/>
                      </a:lnTo>
                      <a:lnTo>
                        <a:pt x="2126" y="381"/>
                      </a:lnTo>
                      <a:lnTo>
                        <a:pt x="2090" y="262"/>
                      </a:lnTo>
                      <a:lnTo>
                        <a:pt x="2105" y="150"/>
                      </a:lnTo>
                      <a:lnTo>
                        <a:pt x="2161" y="89"/>
                      </a:lnTo>
                      <a:lnTo>
                        <a:pt x="2291" y="59"/>
                      </a:lnTo>
                      <a:lnTo>
                        <a:pt x="22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360600" y="2480040"/>
                  <a:ext cx="92160" cy="85320"/>
                </a:xfrm>
                <a:custGeom>
                  <a:avLst/>
                  <a:gdLst/>
                  <a:ahLst/>
                  <a:rect l="l" t="t" r="r" b="b"/>
                  <a:pathLst>
                    <a:path w="773" h="704">
                      <a:moveTo>
                        <a:pt x="412" y="0"/>
                      </a:moveTo>
                      <a:lnTo>
                        <a:pt x="500" y="216"/>
                      </a:lnTo>
                      <a:lnTo>
                        <a:pt x="653" y="437"/>
                      </a:lnTo>
                      <a:lnTo>
                        <a:pt x="773" y="600"/>
                      </a:lnTo>
                      <a:lnTo>
                        <a:pt x="653" y="704"/>
                      </a:lnTo>
                      <a:lnTo>
                        <a:pt x="478" y="669"/>
                      </a:lnTo>
                      <a:lnTo>
                        <a:pt x="260" y="482"/>
                      </a:lnTo>
                      <a:lnTo>
                        <a:pt x="79" y="262"/>
                      </a:lnTo>
                      <a:lnTo>
                        <a:pt x="0" y="111"/>
                      </a:lnTo>
                      <a:lnTo>
                        <a:pt x="35" y="57"/>
                      </a:lnTo>
                      <a:lnTo>
                        <a:pt x="124" y="244"/>
                      </a:lnTo>
                      <a:lnTo>
                        <a:pt x="260" y="407"/>
                      </a:lnTo>
                      <a:lnTo>
                        <a:pt x="419" y="556"/>
                      </a:lnTo>
                      <a:lnTo>
                        <a:pt x="570" y="619"/>
                      </a:lnTo>
                      <a:lnTo>
                        <a:pt x="667" y="600"/>
                      </a:lnTo>
                      <a:lnTo>
                        <a:pt x="679" y="556"/>
                      </a:lnTo>
                      <a:lnTo>
                        <a:pt x="631" y="465"/>
                      </a:lnTo>
                      <a:lnTo>
                        <a:pt x="512" y="292"/>
                      </a:lnTo>
                      <a:lnTo>
                        <a:pt x="419" y="101"/>
                      </a:lnTo>
                      <a:lnTo>
                        <a:pt x="363" y="0"/>
                      </a:lnTo>
                      <a:lnTo>
                        <a:pt x="4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289320" y="1509120"/>
                  <a:ext cx="113760" cy="106920"/>
                </a:xfrm>
                <a:custGeom>
                  <a:avLst/>
                  <a:gdLst/>
                  <a:ahLst/>
                  <a:rect l="l" t="t" r="r" b="b"/>
                  <a:pathLst>
                    <a:path w="958" h="884">
                      <a:moveTo>
                        <a:pt x="917" y="290"/>
                      </a:moveTo>
                      <a:lnTo>
                        <a:pt x="717" y="385"/>
                      </a:lnTo>
                      <a:lnTo>
                        <a:pt x="509" y="538"/>
                      </a:lnTo>
                      <a:lnTo>
                        <a:pt x="314" y="703"/>
                      </a:lnTo>
                      <a:lnTo>
                        <a:pt x="199" y="841"/>
                      </a:lnTo>
                      <a:lnTo>
                        <a:pt x="120" y="830"/>
                      </a:lnTo>
                      <a:lnTo>
                        <a:pt x="28" y="884"/>
                      </a:lnTo>
                      <a:lnTo>
                        <a:pt x="0" y="874"/>
                      </a:lnTo>
                      <a:lnTo>
                        <a:pt x="191" y="566"/>
                      </a:lnTo>
                      <a:lnTo>
                        <a:pt x="451" y="260"/>
                      </a:lnTo>
                      <a:lnTo>
                        <a:pt x="665" y="70"/>
                      </a:lnTo>
                      <a:lnTo>
                        <a:pt x="805" y="0"/>
                      </a:lnTo>
                      <a:lnTo>
                        <a:pt x="858" y="9"/>
                      </a:lnTo>
                      <a:lnTo>
                        <a:pt x="917" y="70"/>
                      </a:lnTo>
                      <a:lnTo>
                        <a:pt x="958" y="190"/>
                      </a:lnTo>
                      <a:lnTo>
                        <a:pt x="940" y="246"/>
                      </a:lnTo>
                      <a:lnTo>
                        <a:pt x="91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262680" y="1626840"/>
                  <a:ext cx="22680" cy="27000"/>
                </a:xfrm>
                <a:custGeom>
                  <a:avLst/>
                  <a:gdLst/>
                  <a:ahLst/>
                  <a:rect l="l" t="t" r="r" b="b"/>
                  <a:pathLst>
                    <a:path w="197" h="219">
                      <a:moveTo>
                        <a:pt x="175" y="16"/>
                      </a:moveTo>
                      <a:lnTo>
                        <a:pt x="197" y="79"/>
                      </a:lnTo>
                      <a:lnTo>
                        <a:pt x="181" y="168"/>
                      </a:lnTo>
                      <a:lnTo>
                        <a:pt x="123" y="212"/>
                      </a:lnTo>
                      <a:lnTo>
                        <a:pt x="52" y="219"/>
                      </a:lnTo>
                      <a:lnTo>
                        <a:pt x="0" y="181"/>
                      </a:lnTo>
                      <a:lnTo>
                        <a:pt x="3" y="133"/>
                      </a:lnTo>
                      <a:lnTo>
                        <a:pt x="40" y="74"/>
                      </a:lnTo>
                      <a:lnTo>
                        <a:pt x="89" y="52"/>
                      </a:lnTo>
                      <a:lnTo>
                        <a:pt x="137" y="61"/>
                      </a:lnTo>
                      <a:lnTo>
                        <a:pt x="141" y="34"/>
                      </a:lnTo>
                      <a:lnTo>
                        <a:pt x="137" y="0"/>
                      </a:lnTo>
                      <a:lnTo>
                        <a:pt x="17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345120" y="1563480"/>
                  <a:ext cx="131760" cy="72720"/>
                </a:xfrm>
                <a:custGeom>
                  <a:avLst/>
                  <a:gdLst/>
                  <a:ahLst/>
                  <a:rect l="l" t="t" r="r" b="b"/>
                  <a:pathLst>
                    <a:path w="1111" h="592">
                      <a:moveTo>
                        <a:pt x="77" y="592"/>
                      </a:moveTo>
                      <a:lnTo>
                        <a:pt x="278" y="470"/>
                      </a:lnTo>
                      <a:lnTo>
                        <a:pt x="574" y="348"/>
                      </a:lnTo>
                      <a:lnTo>
                        <a:pt x="893" y="282"/>
                      </a:lnTo>
                      <a:lnTo>
                        <a:pt x="1066" y="264"/>
                      </a:lnTo>
                      <a:lnTo>
                        <a:pt x="1111" y="208"/>
                      </a:lnTo>
                      <a:lnTo>
                        <a:pt x="1096" y="89"/>
                      </a:lnTo>
                      <a:lnTo>
                        <a:pt x="1040" y="27"/>
                      </a:lnTo>
                      <a:lnTo>
                        <a:pt x="930" y="0"/>
                      </a:lnTo>
                      <a:lnTo>
                        <a:pt x="770" y="61"/>
                      </a:lnTo>
                      <a:lnTo>
                        <a:pt x="523" y="167"/>
                      </a:lnTo>
                      <a:lnTo>
                        <a:pt x="289" y="333"/>
                      </a:lnTo>
                      <a:lnTo>
                        <a:pt x="97" y="482"/>
                      </a:lnTo>
                      <a:lnTo>
                        <a:pt x="0" y="579"/>
                      </a:lnTo>
                      <a:lnTo>
                        <a:pt x="77" y="5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309120" y="1645200"/>
                  <a:ext cx="24480" cy="24480"/>
                </a:xfrm>
                <a:custGeom>
                  <a:avLst/>
                  <a:gdLst/>
                  <a:ahLst/>
                  <a:rect l="l" t="t" r="r" b="b"/>
                  <a:pathLst>
                    <a:path w="208" h="198">
                      <a:moveTo>
                        <a:pt x="181" y="12"/>
                      </a:moveTo>
                      <a:lnTo>
                        <a:pt x="208" y="46"/>
                      </a:lnTo>
                      <a:lnTo>
                        <a:pt x="175" y="124"/>
                      </a:lnTo>
                      <a:lnTo>
                        <a:pt x="96" y="180"/>
                      </a:lnTo>
                      <a:lnTo>
                        <a:pt x="7" y="198"/>
                      </a:lnTo>
                      <a:lnTo>
                        <a:pt x="0" y="153"/>
                      </a:lnTo>
                      <a:lnTo>
                        <a:pt x="22" y="75"/>
                      </a:lnTo>
                      <a:lnTo>
                        <a:pt x="60" y="38"/>
                      </a:lnTo>
                      <a:lnTo>
                        <a:pt x="122" y="0"/>
                      </a:lnTo>
                      <a:lnTo>
                        <a:pt x="18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3" name=""/>
            <p:cNvSpPr/>
            <p:nvPr/>
          </p:nvSpPr>
          <p:spPr>
            <a:xfrm>
              <a:off x="5943600" y="25909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666880" y="4648320"/>
            <a:ext cx="3614400" cy="1904400"/>
            <a:chOff x="2666880" y="4648320"/>
            <a:chExt cx="3614400" cy="1904400"/>
          </a:xfrm>
        </p:grpSpPr>
        <p:grpSp>
          <p:nvGrpSpPr>
            <p:cNvPr id="1065" name=""/>
            <p:cNvGrpSpPr/>
            <p:nvPr/>
          </p:nvGrpSpPr>
          <p:grpSpPr>
            <a:xfrm>
              <a:off x="2666880" y="4800600"/>
              <a:ext cx="3614400" cy="1752120"/>
              <a:chOff x="2666880" y="4800600"/>
              <a:chExt cx="3614400" cy="1752120"/>
            </a:xfrm>
          </p:grpSpPr>
          <p:sp>
            <p:nvSpPr>
              <p:cNvPr id="1066" name=""/>
              <p:cNvSpPr/>
              <p:nvPr/>
            </p:nvSpPr>
            <p:spPr>
              <a:xfrm>
                <a:off x="3814920" y="5351400"/>
                <a:ext cx="246636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S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ength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W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aknes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O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portunitie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T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rea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7" name=""/>
              <p:cNvGrpSpPr/>
              <p:nvPr/>
            </p:nvGrpSpPr>
            <p:grpSpPr>
              <a:xfrm>
                <a:off x="2666880" y="4800600"/>
                <a:ext cx="914400" cy="1752120"/>
                <a:chOff x="2666880" y="4800600"/>
                <a:chExt cx="914400" cy="17521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2919600" y="5365440"/>
                  <a:ext cx="599760" cy="1144800"/>
                </a:xfrm>
                <a:custGeom>
                  <a:avLst/>
                  <a:gdLst/>
                  <a:ahLst/>
                  <a:rect l="l" t="t" r="r" b="b"/>
                  <a:pathLst>
                    <a:path w="6850" h="8544">
                      <a:moveTo>
                        <a:pt x="486" y="7925"/>
                      </a:moveTo>
                      <a:lnTo>
                        <a:pt x="0" y="7587"/>
                      </a:lnTo>
                      <a:lnTo>
                        <a:pt x="306" y="6888"/>
                      </a:lnTo>
                      <a:lnTo>
                        <a:pt x="571" y="6773"/>
                      </a:lnTo>
                      <a:lnTo>
                        <a:pt x="1006" y="5882"/>
                      </a:lnTo>
                      <a:lnTo>
                        <a:pt x="1225" y="5177"/>
                      </a:lnTo>
                      <a:lnTo>
                        <a:pt x="1293" y="4760"/>
                      </a:lnTo>
                      <a:lnTo>
                        <a:pt x="2075" y="1089"/>
                      </a:lnTo>
                      <a:lnTo>
                        <a:pt x="2600" y="530"/>
                      </a:lnTo>
                      <a:lnTo>
                        <a:pt x="2582" y="221"/>
                      </a:lnTo>
                      <a:lnTo>
                        <a:pt x="2847" y="0"/>
                      </a:lnTo>
                      <a:lnTo>
                        <a:pt x="3175" y="137"/>
                      </a:lnTo>
                      <a:lnTo>
                        <a:pt x="3542" y="254"/>
                      </a:lnTo>
                      <a:lnTo>
                        <a:pt x="5465" y="423"/>
                      </a:lnTo>
                      <a:lnTo>
                        <a:pt x="6300" y="221"/>
                      </a:lnTo>
                      <a:lnTo>
                        <a:pt x="6610" y="84"/>
                      </a:lnTo>
                      <a:lnTo>
                        <a:pt x="6740" y="168"/>
                      </a:lnTo>
                      <a:lnTo>
                        <a:pt x="6828" y="423"/>
                      </a:lnTo>
                      <a:lnTo>
                        <a:pt x="6850" y="725"/>
                      </a:lnTo>
                      <a:lnTo>
                        <a:pt x="6740" y="844"/>
                      </a:lnTo>
                      <a:lnTo>
                        <a:pt x="6717" y="1175"/>
                      </a:lnTo>
                      <a:lnTo>
                        <a:pt x="6580" y="2069"/>
                      </a:lnTo>
                      <a:lnTo>
                        <a:pt x="5663" y="5316"/>
                      </a:lnTo>
                      <a:lnTo>
                        <a:pt x="4420" y="8544"/>
                      </a:lnTo>
                      <a:lnTo>
                        <a:pt x="3960" y="8544"/>
                      </a:lnTo>
                      <a:lnTo>
                        <a:pt x="3720" y="8264"/>
                      </a:lnTo>
                      <a:lnTo>
                        <a:pt x="3830" y="7840"/>
                      </a:lnTo>
                      <a:lnTo>
                        <a:pt x="3853" y="7702"/>
                      </a:lnTo>
                      <a:lnTo>
                        <a:pt x="4051" y="7587"/>
                      </a:lnTo>
                      <a:lnTo>
                        <a:pt x="4242" y="6913"/>
                      </a:lnTo>
                      <a:lnTo>
                        <a:pt x="4375" y="6384"/>
                      </a:lnTo>
                      <a:lnTo>
                        <a:pt x="4420" y="5770"/>
                      </a:lnTo>
                      <a:lnTo>
                        <a:pt x="4441" y="5374"/>
                      </a:lnTo>
                      <a:lnTo>
                        <a:pt x="3349" y="5316"/>
                      </a:lnTo>
                      <a:lnTo>
                        <a:pt x="486" y="7925"/>
                      </a:lnTo>
                      <a:close/>
                    </a:path>
                  </a:pathLst>
                </a:custGeom>
                <a:solidFill>
                  <a:srgbClr val="70230c"/>
                </a:solidFill>
                <a:ln w="0">
                  <a:solidFill>
                    <a:srgbClr val="70230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673720" y="5264640"/>
                  <a:ext cx="714600" cy="886320"/>
                </a:xfrm>
                <a:custGeom>
                  <a:avLst/>
                  <a:gdLst/>
                  <a:ahLst/>
                  <a:rect l="l" t="t" r="r" b="b"/>
                  <a:pathLst>
                    <a:path w="8153" h="6617">
                      <a:moveTo>
                        <a:pt x="8153" y="6140"/>
                      </a:moveTo>
                      <a:lnTo>
                        <a:pt x="8061" y="5178"/>
                      </a:lnTo>
                      <a:lnTo>
                        <a:pt x="7921" y="3722"/>
                      </a:lnTo>
                      <a:lnTo>
                        <a:pt x="8132" y="2832"/>
                      </a:lnTo>
                      <a:lnTo>
                        <a:pt x="8025" y="2806"/>
                      </a:lnTo>
                      <a:lnTo>
                        <a:pt x="8113" y="2461"/>
                      </a:lnTo>
                      <a:lnTo>
                        <a:pt x="7760" y="2394"/>
                      </a:lnTo>
                      <a:lnTo>
                        <a:pt x="7867" y="2035"/>
                      </a:lnTo>
                      <a:lnTo>
                        <a:pt x="6972" y="1916"/>
                      </a:lnTo>
                      <a:lnTo>
                        <a:pt x="6228" y="1887"/>
                      </a:lnTo>
                      <a:lnTo>
                        <a:pt x="5515" y="1887"/>
                      </a:lnTo>
                      <a:lnTo>
                        <a:pt x="4616" y="1982"/>
                      </a:lnTo>
                      <a:lnTo>
                        <a:pt x="3404" y="2302"/>
                      </a:lnTo>
                      <a:lnTo>
                        <a:pt x="3158" y="1781"/>
                      </a:lnTo>
                      <a:lnTo>
                        <a:pt x="2653" y="1089"/>
                      </a:lnTo>
                      <a:lnTo>
                        <a:pt x="2161" y="618"/>
                      </a:lnTo>
                      <a:lnTo>
                        <a:pt x="1622" y="254"/>
                      </a:lnTo>
                      <a:lnTo>
                        <a:pt x="1052" y="0"/>
                      </a:lnTo>
                      <a:lnTo>
                        <a:pt x="1586" y="1005"/>
                      </a:lnTo>
                      <a:lnTo>
                        <a:pt x="853" y="662"/>
                      </a:lnTo>
                      <a:lnTo>
                        <a:pt x="566" y="588"/>
                      </a:lnTo>
                      <a:lnTo>
                        <a:pt x="1052" y="1321"/>
                      </a:lnTo>
                      <a:lnTo>
                        <a:pt x="486" y="1277"/>
                      </a:lnTo>
                      <a:lnTo>
                        <a:pt x="0" y="1277"/>
                      </a:lnTo>
                      <a:lnTo>
                        <a:pt x="566" y="1706"/>
                      </a:lnTo>
                      <a:lnTo>
                        <a:pt x="1018" y="2097"/>
                      </a:lnTo>
                      <a:lnTo>
                        <a:pt x="1405" y="2508"/>
                      </a:lnTo>
                      <a:lnTo>
                        <a:pt x="1822" y="2987"/>
                      </a:lnTo>
                      <a:lnTo>
                        <a:pt x="2388" y="3668"/>
                      </a:lnTo>
                      <a:lnTo>
                        <a:pt x="3033" y="4631"/>
                      </a:lnTo>
                      <a:lnTo>
                        <a:pt x="3315" y="5366"/>
                      </a:lnTo>
                      <a:lnTo>
                        <a:pt x="3817" y="5592"/>
                      </a:lnTo>
                      <a:lnTo>
                        <a:pt x="4348" y="5930"/>
                      </a:lnTo>
                      <a:lnTo>
                        <a:pt x="4726" y="6274"/>
                      </a:lnTo>
                      <a:lnTo>
                        <a:pt x="5009" y="6617"/>
                      </a:lnTo>
                      <a:lnTo>
                        <a:pt x="5833" y="6345"/>
                      </a:lnTo>
                      <a:lnTo>
                        <a:pt x="6777" y="6114"/>
                      </a:lnTo>
                      <a:lnTo>
                        <a:pt x="7435" y="6091"/>
                      </a:lnTo>
                      <a:lnTo>
                        <a:pt x="7921" y="6114"/>
                      </a:lnTo>
                      <a:lnTo>
                        <a:pt x="8153" y="61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205080" y="5419800"/>
                  <a:ext cx="156960" cy="113760"/>
                </a:xfrm>
                <a:custGeom>
                  <a:avLst/>
                  <a:gdLst/>
                  <a:ahLst/>
                  <a:rect l="l" t="t" r="r" b="b"/>
                  <a:pathLst>
                    <a:path w="1786" h="842">
                      <a:moveTo>
                        <a:pt x="0" y="725"/>
                      </a:moveTo>
                      <a:lnTo>
                        <a:pt x="714" y="754"/>
                      </a:lnTo>
                      <a:lnTo>
                        <a:pt x="1591" y="842"/>
                      </a:lnTo>
                      <a:lnTo>
                        <a:pt x="1786" y="137"/>
                      </a:lnTo>
                      <a:lnTo>
                        <a:pt x="343" y="0"/>
                      </a:lnTo>
                      <a:lnTo>
                        <a:pt x="0" y="7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289320" y="5733000"/>
                  <a:ext cx="171360" cy="271080"/>
                </a:xfrm>
                <a:custGeom>
                  <a:avLst/>
                  <a:gdLst/>
                  <a:ahLst/>
                  <a:rect l="l" t="t" r="r" b="b"/>
                  <a:pathLst>
                    <a:path w="1956" h="2018">
                      <a:moveTo>
                        <a:pt x="1268" y="0"/>
                      </a:moveTo>
                      <a:lnTo>
                        <a:pt x="1154" y="94"/>
                      </a:lnTo>
                      <a:lnTo>
                        <a:pt x="833" y="294"/>
                      </a:lnTo>
                      <a:lnTo>
                        <a:pt x="484" y="441"/>
                      </a:lnTo>
                      <a:lnTo>
                        <a:pt x="0" y="597"/>
                      </a:lnTo>
                      <a:lnTo>
                        <a:pt x="35" y="850"/>
                      </a:lnTo>
                      <a:lnTo>
                        <a:pt x="201" y="1091"/>
                      </a:lnTo>
                      <a:lnTo>
                        <a:pt x="529" y="1091"/>
                      </a:lnTo>
                      <a:lnTo>
                        <a:pt x="240" y="1261"/>
                      </a:lnTo>
                      <a:lnTo>
                        <a:pt x="128" y="1371"/>
                      </a:lnTo>
                      <a:lnTo>
                        <a:pt x="130" y="1467"/>
                      </a:lnTo>
                      <a:lnTo>
                        <a:pt x="267" y="1544"/>
                      </a:lnTo>
                      <a:lnTo>
                        <a:pt x="400" y="1612"/>
                      </a:lnTo>
                      <a:lnTo>
                        <a:pt x="281" y="1719"/>
                      </a:lnTo>
                      <a:lnTo>
                        <a:pt x="288" y="1813"/>
                      </a:lnTo>
                      <a:lnTo>
                        <a:pt x="374" y="1912"/>
                      </a:lnTo>
                      <a:lnTo>
                        <a:pt x="815" y="2018"/>
                      </a:lnTo>
                      <a:lnTo>
                        <a:pt x="1230" y="1964"/>
                      </a:lnTo>
                      <a:lnTo>
                        <a:pt x="1478" y="1676"/>
                      </a:lnTo>
                      <a:lnTo>
                        <a:pt x="1956" y="743"/>
                      </a:lnTo>
                      <a:lnTo>
                        <a:pt x="1894" y="383"/>
                      </a:lnTo>
                      <a:lnTo>
                        <a:pt x="1729" y="142"/>
                      </a:lnTo>
                      <a:lnTo>
                        <a:pt x="1549" y="32"/>
                      </a:lnTo>
                      <a:lnTo>
                        <a:pt x="1268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solidFill>
                    <a:srgbClr val="ffc98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2806920" y="5657760"/>
                  <a:ext cx="149760" cy="227160"/>
                </a:xfrm>
                <a:custGeom>
                  <a:avLst/>
                  <a:gdLst/>
                  <a:ahLst/>
                  <a:rect l="l" t="t" r="r" b="b"/>
                  <a:pathLst>
                    <a:path w="1716" h="1697">
                      <a:moveTo>
                        <a:pt x="218" y="0"/>
                      </a:moveTo>
                      <a:lnTo>
                        <a:pt x="107" y="168"/>
                      </a:lnTo>
                      <a:lnTo>
                        <a:pt x="0" y="427"/>
                      </a:lnTo>
                      <a:lnTo>
                        <a:pt x="0" y="641"/>
                      </a:lnTo>
                      <a:lnTo>
                        <a:pt x="45" y="803"/>
                      </a:lnTo>
                      <a:lnTo>
                        <a:pt x="339" y="925"/>
                      </a:lnTo>
                      <a:lnTo>
                        <a:pt x="309" y="1068"/>
                      </a:lnTo>
                      <a:lnTo>
                        <a:pt x="361" y="1270"/>
                      </a:lnTo>
                      <a:lnTo>
                        <a:pt x="539" y="1373"/>
                      </a:lnTo>
                      <a:lnTo>
                        <a:pt x="718" y="1373"/>
                      </a:lnTo>
                      <a:lnTo>
                        <a:pt x="678" y="1521"/>
                      </a:lnTo>
                      <a:lnTo>
                        <a:pt x="781" y="1697"/>
                      </a:lnTo>
                      <a:lnTo>
                        <a:pt x="1391" y="1602"/>
                      </a:lnTo>
                      <a:lnTo>
                        <a:pt x="1683" y="1322"/>
                      </a:lnTo>
                      <a:lnTo>
                        <a:pt x="1716" y="1104"/>
                      </a:lnTo>
                      <a:lnTo>
                        <a:pt x="1594" y="1032"/>
                      </a:lnTo>
                      <a:lnTo>
                        <a:pt x="1452" y="994"/>
                      </a:lnTo>
                      <a:lnTo>
                        <a:pt x="1480" y="793"/>
                      </a:lnTo>
                      <a:lnTo>
                        <a:pt x="1314" y="620"/>
                      </a:lnTo>
                      <a:lnTo>
                        <a:pt x="1065" y="601"/>
                      </a:lnTo>
                      <a:lnTo>
                        <a:pt x="1176" y="417"/>
                      </a:lnTo>
                      <a:lnTo>
                        <a:pt x="1135" y="236"/>
                      </a:lnTo>
                      <a:lnTo>
                        <a:pt x="980" y="178"/>
                      </a:lnTo>
                      <a:lnTo>
                        <a:pt x="667" y="321"/>
                      </a:lnTo>
                      <a:lnTo>
                        <a:pt x="491" y="321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solidFill>
                    <a:srgbClr val="ffc98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243600" y="4804560"/>
                  <a:ext cx="69840" cy="79200"/>
                </a:xfrm>
                <a:custGeom>
                  <a:avLst/>
                  <a:gdLst/>
                  <a:ahLst/>
                  <a:rect l="l" t="t" r="r" b="b"/>
                  <a:pathLst>
                    <a:path w="803" h="593">
                      <a:moveTo>
                        <a:pt x="156" y="0"/>
                      </a:moveTo>
                      <a:lnTo>
                        <a:pt x="0" y="67"/>
                      </a:lnTo>
                      <a:lnTo>
                        <a:pt x="5" y="191"/>
                      </a:lnTo>
                      <a:lnTo>
                        <a:pt x="138" y="280"/>
                      </a:lnTo>
                      <a:lnTo>
                        <a:pt x="438" y="316"/>
                      </a:lnTo>
                      <a:lnTo>
                        <a:pt x="692" y="445"/>
                      </a:lnTo>
                      <a:lnTo>
                        <a:pt x="803" y="593"/>
                      </a:lnTo>
                      <a:lnTo>
                        <a:pt x="759" y="413"/>
                      </a:lnTo>
                      <a:lnTo>
                        <a:pt x="597" y="204"/>
                      </a:lnTo>
                      <a:lnTo>
                        <a:pt x="402" y="56"/>
                      </a:lnTo>
                      <a:lnTo>
                        <a:pt x="273" y="16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solidFill>
                    <a:srgbClr val="00ea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504960" y="4985640"/>
                  <a:ext cx="70560" cy="45000"/>
                </a:xfrm>
                <a:custGeom>
                  <a:avLst/>
                  <a:gdLst/>
                  <a:ahLst/>
                  <a:rect l="l" t="t" r="r" b="b"/>
                  <a:pathLst>
                    <a:path w="803" h="333">
                      <a:moveTo>
                        <a:pt x="0" y="207"/>
                      </a:moveTo>
                      <a:lnTo>
                        <a:pt x="177" y="66"/>
                      </a:lnTo>
                      <a:lnTo>
                        <a:pt x="439" y="0"/>
                      </a:lnTo>
                      <a:lnTo>
                        <a:pt x="627" y="0"/>
                      </a:lnTo>
                      <a:lnTo>
                        <a:pt x="774" y="102"/>
                      </a:lnTo>
                      <a:lnTo>
                        <a:pt x="803" y="244"/>
                      </a:lnTo>
                      <a:lnTo>
                        <a:pt x="734" y="310"/>
                      </a:lnTo>
                      <a:lnTo>
                        <a:pt x="627" y="333"/>
                      </a:lnTo>
                      <a:lnTo>
                        <a:pt x="490" y="257"/>
                      </a:lnTo>
                      <a:lnTo>
                        <a:pt x="324" y="207"/>
                      </a:lnTo>
                      <a:lnTo>
                        <a:pt x="192" y="191"/>
                      </a:lnTo>
                      <a:lnTo>
                        <a:pt x="0" y="207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solidFill>
                    <a:srgbClr val="00ea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143880" y="4840920"/>
                  <a:ext cx="350280" cy="664560"/>
                </a:xfrm>
                <a:custGeom>
                  <a:avLst/>
                  <a:gdLst/>
                  <a:ahLst/>
                  <a:rect l="l" t="t" r="r" b="b"/>
                  <a:pathLst>
                    <a:path w="3997" h="4960">
                      <a:moveTo>
                        <a:pt x="108" y="1881"/>
                      </a:moveTo>
                      <a:lnTo>
                        <a:pt x="260" y="1744"/>
                      </a:lnTo>
                      <a:lnTo>
                        <a:pt x="856" y="1219"/>
                      </a:lnTo>
                      <a:lnTo>
                        <a:pt x="1350" y="991"/>
                      </a:lnTo>
                      <a:lnTo>
                        <a:pt x="1973" y="715"/>
                      </a:lnTo>
                      <a:lnTo>
                        <a:pt x="2481" y="662"/>
                      </a:lnTo>
                      <a:lnTo>
                        <a:pt x="3007" y="209"/>
                      </a:lnTo>
                      <a:lnTo>
                        <a:pt x="3507" y="0"/>
                      </a:lnTo>
                      <a:lnTo>
                        <a:pt x="3769" y="49"/>
                      </a:lnTo>
                      <a:lnTo>
                        <a:pt x="3739" y="354"/>
                      </a:lnTo>
                      <a:lnTo>
                        <a:pt x="3320" y="1130"/>
                      </a:lnTo>
                      <a:lnTo>
                        <a:pt x="3438" y="1517"/>
                      </a:lnTo>
                      <a:lnTo>
                        <a:pt x="3578" y="2369"/>
                      </a:lnTo>
                      <a:lnTo>
                        <a:pt x="3987" y="2627"/>
                      </a:lnTo>
                      <a:lnTo>
                        <a:pt x="3997" y="2855"/>
                      </a:lnTo>
                      <a:lnTo>
                        <a:pt x="3779" y="3360"/>
                      </a:lnTo>
                      <a:lnTo>
                        <a:pt x="3438" y="3745"/>
                      </a:lnTo>
                      <a:lnTo>
                        <a:pt x="3142" y="3952"/>
                      </a:lnTo>
                      <a:lnTo>
                        <a:pt x="2977" y="3934"/>
                      </a:lnTo>
                      <a:lnTo>
                        <a:pt x="2856" y="4077"/>
                      </a:lnTo>
                      <a:lnTo>
                        <a:pt x="2481" y="4478"/>
                      </a:lnTo>
                      <a:lnTo>
                        <a:pt x="2081" y="4758"/>
                      </a:lnTo>
                      <a:lnTo>
                        <a:pt x="1850" y="4893"/>
                      </a:lnTo>
                      <a:lnTo>
                        <a:pt x="1442" y="4960"/>
                      </a:lnTo>
                      <a:lnTo>
                        <a:pt x="1207" y="4907"/>
                      </a:lnTo>
                      <a:lnTo>
                        <a:pt x="997" y="4683"/>
                      </a:lnTo>
                      <a:lnTo>
                        <a:pt x="757" y="4092"/>
                      </a:lnTo>
                      <a:lnTo>
                        <a:pt x="581" y="3446"/>
                      </a:lnTo>
                      <a:lnTo>
                        <a:pt x="530" y="3102"/>
                      </a:lnTo>
                      <a:lnTo>
                        <a:pt x="362" y="3080"/>
                      </a:lnTo>
                      <a:lnTo>
                        <a:pt x="164" y="2925"/>
                      </a:lnTo>
                      <a:lnTo>
                        <a:pt x="28" y="2627"/>
                      </a:lnTo>
                      <a:lnTo>
                        <a:pt x="0" y="2127"/>
                      </a:lnTo>
                      <a:lnTo>
                        <a:pt x="108" y="188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solidFill>
                    <a:srgbClr val="ffc98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155040" y="4948200"/>
                  <a:ext cx="95760" cy="191520"/>
                </a:xfrm>
                <a:custGeom>
                  <a:avLst/>
                  <a:gdLst/>
                  <a:ahLst/>
                  <a:rect l="l" t="t" r="r" b="b"/>
                  <a:pathLst>
                    <a:path w="1100" h="1428">
                      <a:moveTo>
                        <a:pt x="1100" y="280"/>
                      </a:moveTo>
                      <a:lnTo>
                        <a:pt x="879" y="506"/>
                      </a:lnTo>
                      <a:lnTo>
                        <a:pt x="731" y="453"/>
                      </a:lnTo>
                      <a:lnTo>
                        <a:pt x="731" y="613"/>
                      </a:lnTo>
                      <a:lnTo>
                        <a:pt x="611" y="578"/>
                      </a:lnTo>
                      <a:lnTo>
                        <a:pt x="611" y="804"/>
                      </a:lnTo>
                      <a:lnTo>
                        <a:pt x="456" y="804"/>
                      </a:lnTo>
                      <a:lnTo>
                        <a:pt x="552" y="975"/>
                      </a:lnTo>
                      <a:lnTo>
                        <a:pt x="489" y="1428"/>
                      </a:lnTo>
                      <a:lnTo>
                        <a:pt x="364" y="1214"/>
                      </a:lnTo>
                      <a:lnTo>
                        <a:pt x="26" y="1059"/>
                      </a:lnTo>
                      <a:lnTo>
                        <a:pt x="0" y="766"/>
                      </a:lnTo>
                      <a:lnTo>
                        <a:pt x="102" y="631"/>
                      </a:lnTo>
                      <a:lnTo>
                        <a:pt x="26" y="399"/>
                      </a:lnTo>
                      <a:lnTo>
                        <a:pt x="201" y="314"/>
                      </a:lnTo>
                      <a:lnTo>
                        <a:pt x="474" y="296"/>
                      </a:lnTo>
                      <a:lnTo>
                        <a:pt x="512" y="0"/>
                      </a:lnTo>
                      <a:lnTo>
                        <a:pt x="894" y="127"/>
                      </a:lnTo>
                      <a:lnTo>
                        <a:pt x="1042" y="229"/>
                      </a:lnTo>
                      <a:lnTo>
                        <a:pt x="1100" y="280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solidFill>
                    <a:srgbClr val="ffea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244320" y="5025600"/>
                  <a:ext cx="182160" cy="167040"/>
                </a:xfrm>
                <a:custGeom>
                  <a:avLst/>
                  <a:gdLst/>
                  <a:ahLst/>
                  <a:rect l="l" t="t" r="r" b="b"/>
                  <a:pathLst>
                    <a:path w="2081" h="1247">
                      <a:moveTo>
                        <a:pt x="1752" y="1247"/>
                      </a:moveTo>
                      <a:lnTo>
                        <a:pt x="1940" y="1074"/>
                      </a:lnTo>
                      <a:lnTo>
                        <a:pt x="2065" y="850"/>
                      </a:lnTo>
                      <a:lnTo>
                        <a:pt x="2081" y="663"/>
                      </a:lnTo>
                      <a:lnTo>
                        <a:pt x="2024" y="417"/>
                      </a:lnTo>
                      <a:lnTo>
                        <a:pt x="1833" y="188"/>
                      </a:lnTo>
                      <a:lnTo>
                        <a:pt x="1535" y="53"/>
                      </a:lnTo>
                      <a:lnTo>
                        <a:pt x="1196" y="0"/>
                      </a:lnTo>
                      <a:lnTo>
                        <a:pt x="898" y="12"/>
                      </a:lnTo>
                      <a:lnTo>
                        <a:pt x="666" y="84"/>
                      </a:lnTo>
                      <a:lnTo>
                        <a:pt x="366" y="257"/>
                      </a:lnTo>
                      <a:lnTo>
                        <a:pt x="242" y="417"/>
                      </a:lnTo>
                      <a:lnTo>
                        <a:pt x="81" y="677"/>
                      </a:lnTo>
                      <a:lnTo>
                        <a:pt x="0" y="953"/>
                      </a:lnTo>
                      <a:lnTo>
                        <a:pt x="41" y="989"/>
                      </a:lnTo>
                      <a:lnTo>
                        <a:pt x="772" y="921"/>
                      </a:lnTo>
                      <a:lnTo>
                        <a:pt x="1480" y="1112"/>
                      </a:lnTo>
                      <a:lnTo>
                        <a:pt x="1752" y="1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232080" y="5021280"/>
                  <a:ext cx="200520" cy="296640"/>
                </a:xfrm>
                <a:custGeom>
                  <a:avLst/>
                  <a:gdLst/>
                  <a:ahLst/>
                  <a:rect l="l" t="t" r="r" b="b"/>
                  <a:pathLst>
                    <a:path w="2281" h="2211">
                      <a:moveTo>
                        <a:pt x="1881" y="2211"/>
                      </a:moveTo>
                      <a:lnTo>
                        <a:pt x="1808" y="2031"/>
                      </a:lnTo>
                      <a:lnTo>
                        <a:pt x="1711" y="1898"/>
                      </a:lnTo>
                      <a:lnTo>
                        <a:pt x="1550" y="1719"/>
                      </a:lnTo>
                      <a:lnTo>
                        <a:pt x="1278" y="1552"/>
                      </a:lnTo>
                      <a:lnTo>
                        <a:pt x="979" y="1431"/>
                      </a:lnTo>
                      <a:lnTo>
                        <a:pt x="798" y="1421"/>
                      </a:lnTo>
                      <a:lnTo>
                        <a:pt x="588" y="1431"/>
                      </a:lnTo>
                      <a:lnTo>
                        <a:pt x="437" y="1519"/>
                      </a:lnTo>
                      <a:lnTo>
                        <a:pt x="221" y="1634"/>
                      </a:lnTo>
                      <a:lnTo>
                        <a:pt x="111" y="1648"/>
                      </a:lnTo>
                      <a:lnTo>
                        <a:pt x="63" y="1615"/>
                      </a:lnTo>
                      <a:lnTo>
                        <a:pt x="10" y="1519"/>
                      </a:lnTo>
                      <a:lnTo>
                        <a:pt x="0" y="1368"/>
                      </a:lnTo>
                      <a:lnTo>
                        <a:pt x="40" y="1150"/>
                      </a:lnTo>
                      <a:lnTo>
                        <a:pt x="139" y="875"/>
                      </a:lnTo>
                      <a:lnTo>
                        <a:pt x="257" y="625"/>
                      </a:lnTo>
                      <a:lnTo>
                        <a:pt x="412" y="397"/>
                      </a:lnTo>
                      <a:lnTo>
                        <a:pt x="499" y="295"/>
                      </a:lnTo>
                      <a:lnTo>
                        <a:pt x="320" y="559"/>
                      </a:lnTo>
                      <a:lnTo>
                        <a:pt x="221" y="776"/>
                      </a:lnTo>
                      <a:lnTo>
                        <a:pt x="178" y="957"/>
                      </a:lnTo>
                      <a:lnTo>
                        <a:pt x="412" y="852"/>
                      </a:lnTo>
                      <a:lnTo>
                        <a:pt x="735" y="776"/>
                      </a:lnTo>
                      <a:lnTo>
                        <a:pt x="1030" y="753"/>
                      </a:lnTo>
                      <a:lnTo>
                        <a:pt x="1369" y="824"/>
                      </a:lnTo>
                      <a:lnTo>
                        <a:pt x="1649" y="938"/>
                      </a:lnTo>
                      <a:lnTo>
                        <a:pt x="1792" y="1056"/>
                      </a:lnTo>
                      <a:lnTo>
                        <a:pt x="1871" y="1173"/>
                      </a:lnTo>
                      <a:lnTo>
                        <a:pt x="1921" y="1173"/>
                      </a:lnTo>
                      <a:lnTo>
                        <a:pt x="1999" y="1104"/>
                      </a:lnTo>
                      <a:lnTo>
                        <a:pt x="2102" y="1022"/>
                      </a:lnTo>
                      <a:lnTo>
                        <a:pt x="2179" y="891"/>
                      </a:lnTo>
                      <a:lnTo>
                        <a:pt x="2219" y="722"/>
                      </a:lnTo>
                      <a:lnTo>
                        <a:pt x="2169" y="522"/>
                      </a:lnTo>
                      <a:lnTo>
                        <a:pt x="2062" y="345"/>
                      </a:lnTo>
                      <a:lnTo>
                        <a:pt x="1911" y="198"/>
                      </a:lnTo>
                      <a:lnTo>
                        <a:pt x="1685" y="114"/>
                      </a:lnTo>
                      <a:lnTo>
                        <a:pt x="1402" y="68"/>
                      </a:lnTo>
                      <a:lnTo>
                        <a:pt x="1041" y="68"/>
                      </a:lnTo>
                      <a:lnTo>
                        <a:pt x="641" y="198"/>
                      </a:lnTo>
                      <a:lnTo>
                        <a:pt x="927" y="68"/>
                      </a:lnTo>
                      <a:lnTo>
                        <a:pt x="1148" y="15"/>
                      </a:lnTo>
                      <a:lnTo>
                        <a:pt x="1431" y="0"/>
                      </a:lnTo>
                      <a:lnTo>
                        <a:pt x="1728" y="33"/>
                      </a:lnTo>
                      <a:lnTo>
                        <a:pt x="1959" y="152"/>
                      </a:lnTo>
                      <a:lnTo>
                        <a:pt x="2090" y="261"/>
                      </a:lnTo>
                      <a:lnTo>
                        <a:pt x="2191" y="412"/>
                      </a:lnTo>
                      <a:lnTo>
                        <a:pt x="2260" y="607"/>
                      </a:lnTo>
                      <a:lnTo>
                        <a:pt x="2281" y="824"/>
                      </a:lnTo>
                      <a:lnTo>
                        <a:pt x="2260" y="986"/>
                      </a:lnTo>
                      <a:lnTo>
                        <a:pt x="2169" y="1119"/>
                      </a:lnTo>
                      <a:lnTo>
                        <a:pt x="1808" y="1572"/>
                      </a:lnTo>
                      <a:lnTo>
                        <a:pt x="1764" y="1666"/>
                      </a:lnTo>
                      <a:lnTo>
                        <a:pt x="1777" y="1781"/>
                      </a:lnTo>
                      <a:lnTo>
                        <a:pt x="1892" y="1961"/>
                      </a:lnTo>
                      <a:lnTo>
                        <a:pt x="1947" y="2130"/>
                      </a:lnTo>
                      <a:lnTo>
                        <a:pt x="1959" y="2211"/>
                      </a:lnTo>
                      <a:lnTo>
                        <a:pt x="1881" y="2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237840" y="4833360"/>
                  <a:ext cx="268920" cy="378360"/>
                </a:xfrm>
                <a:custGeom>
                  <a:avLst/>
                  <a:gdLst/>
                  <a:ahLst/>
                  <a:rect l="l" t="t" r="r" b="b"/>
                  <a:pathLst>
                    <a:path w="3069" h="2826">
                      <a:moveTo>
                        <a:pt x="25" y="1303"/>
                      </a:moveTo>
                      <a:lnTo>
                        <a:pt x="146" y="1184"/>
                      </a:lnTo>
                      <a:lnTo>
                        <a:pt x="349" y="1038"/>
                      </a:lnTo>
                      <a:lnTo>
                        <a:pt x="604" y="924"/>
                      </a:lnTo>
                      <a:lnTo>
                        <a:pt x="927" y="809"/>
                      </a:lnTo>
                      <a:lnTo>
                        <a:pt x="1199" y="756"/>
                      </a:lnTo>
                      <a:lnTo>
                        <a:pt x="1416" y="756"/>
                      </a:lnTo>
                      <a:lnTo>
                        <a:pt x="1622" y="560"/>
                      </a:lnTo>
                      <a:lnTo>
                        <a:pt x="1946" y="328"/>
                      </a:lnTo>
                      <a:lnTo>
                        <a:pt x="2197" y="199"/>
                      </a:lnTo>
                      <a:lnTo>
                        <a:pt x="2373" y="137"/>
                      </a:lnTo>
                      <a:lnTo>
                        <a:pt x="2513" y="118"/>
                      </a:lnTo>
                      <a:lnTo>
                        <a:pt x="2605" y="137"/>
                      </a:lnTo>
                      <a:lnTo>
                        <a:pt x="2620" y="163"/>
                      </a:lnTo>
                      <a:lnTo>
                        <a:pt x="2636" y="247"/>
                      </a:lnTo>
                      <a:lnTo>
                        <a:pt x="2605" y="328"/>
                      </a:lnTo>
                      <a:lnTo>
                        <a:pt x="2503" y="463"/>
                      </a:lnTo>
                      <a:lnTo>
                        <a:pt x="2348" y="596"/>
                      </a:lnTo>
                      <a:lnTo>
                        <a:pt x="2116" y="776"/>
                      </a:lnTo>
                      <a:lnTo>
                        <a:pt x="1936" y="872"/>
                      </a:lnTo>
                      <a:lnTo>
                        <a:pt x="1829" y="894"/>
                      </a:lnTo>
                      <a:lnTo>
                        <a:pt x="2009" y="1027"/>
                      </a:lnTo>
                      <a:lnTo>
                        <a:pt x="2178" y="1221"/>
                      </a:lnTo>
                      <a:lnTo>
                        <a:pt x="2256" y="1369"/>
                      </a:lnTo>
                      <a:lnTo>
                        <a:pt x="2337" y="1581"/>
                      </a:lnTo>
                      <a:lnTo>
                        <a:pt x="2373" y="1835"/>
                      </a:lnTo>
                      <a:lnTo>
                        <a:pt x="2388" y="2064"/>
                      </a:lnTo>
                      <a:lnTo>
                        <a:pt x="2396" y="2381"/>
                      </a:lnTo>
                      <a:lnTo>
                        <a:pt x="2360" y="2608"/>
                      </a:lnTo>
                      <a:lnTo>
                        <a:pt x="2488" y="2542"/>
                      </a:lnTo>
                      <a:lnTo>
                        <a:pt x="2827" y="2657"/>
                      </a:lnTo>
                      <a:lnTo>
                        <a:pt x="2944" y="2826"/>
                      </a:lnTo>
                      <a:lnTo>
                        <a:pt x="2966" y="2608"/>
                      </a:lnTo>
                      <a:lnTo>
                        <a:pt x="3069" y="2555"/>
                      </a:lnTo>
                      <a:lnTo>
                        <a:pt x="3055" y="2381"/>
                      </a:lnTo>
                      <a:lnTo>
                        <a:pt x="2859" y="2229"/>
                      </a:lnTo>
                      <a:lnTo>
                        <a:pt x="2966" y="2030"/>
                      </a:lnTo>
                      <a:lnTo>
                        <a:pt x="2930" y="1898"/>
                      </a:lnTo>
                      <a:lnTo>
                        <a:pt x="2488" y="1847"/>
                      </a:lnTo>
                      <a:lnTo>
                        <a:pt x="2436" y="1619"/>
                      </a:lnTo>
                      <a:lnTo>
                        <a:pt x="2373" y="1420"/>
                      </a:lnTo>
                      <a:lnTo>
                        <a:pt x="2319" y="1255"/>
                      </a:lnTo>
                      <a:lnTo>
                        <a:pt x="2513" y="942"/>
                      </a:lnTo>
                      <a:lnTo>
                        <a:pt x="2658" y="677"/>
                      </a:lnTo>
                      <a:lnTo>
                        <a:pt x="2771" y="397"/>
                      </a:lnTo>
                      <a:lnTo>
                        <a:pt x="2816" y="209"/>
                      </a:lnTo>
                      <a:lnTo>
                        <a:pt x="2796" y="80"/>
                      </a:lnTo>
                      <a:lnTo>
                        <a:pt x="2717" y="13"/>
                      </a:lnTo>
                      <a:lnTo>
                        <a:pt x="2595" y="0"/>
                      </a:lnTo>
                      <a:lnTo>
                        <a:pt x="2436" y="13"/>
                      </a:lnTo>
                      <a:lnTo>
                        <a:pt x="2231" y="80"/>
                      </a:lnTo>
                      <a:lnTo>
                        <a:pt x="1920" y="265"/>
                      </a:lnTo>
                      <a:lnTo>
                        <a:pt x="1586" y="529"/>
                      </a:lnTo>
                      <a:lnTo>
                        <a:pt x="1393" y="690"/>
                      </a:lnTo>
                      <a:lnTo>
                        <a:pt x="1006" y="725"/>
                      </a:lnTo>
                      <a:lnTo>
                        <a:pt x="711" y="809"/>
                      </a:lnTo>
                      <a:lnTo>
                        <a:pt x="430" y="942"/>
                      </a:lnTo>
                      <a:lnTo>
                        <a:pt x="194" y="1074"/>
                      </a:lnTo>
                      <a:lnTo>
                        <a:pt x="66" y="1184"/>
                      </a:lnTo>
                      <a:lnTo>
                        <a:pt x="0" y="1269"/>
                      </a:lnTo>
                      <a:lnTo>
                        <a:pt x="25" y="13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151080" y="4943880"/>
                  <a:ext cx="101520" cy="145800"/>
                </a:xfrm>
                <a:custGeom>
                  <a:avLst/>
                  <a:gdLst/>
                  <a:ahLst/>
                  <a:rect l="l" t="t" r="r" b="b"/>
                  <a:pathLst>
                    <a:path w="1159" h="1093">
                      <a:moveTo>
                        <a:pt x="1082" y="332"/>
                      </a:moveTo>
                      <a:lnTo>
                        <a:pt x="995" y="232"/>
                      </a:lnTo>
                      <a:lnTo>
                        <a:pt x="839" y="133"/>
                      </a:lnTo>
                      <a:lnTo>
                        <a:pt x="581" y="70"/>
                      </a:lnTo>
                      <a:lnTo>
                        <a:pt x="581" y="316"/>
                      </a:lnTo>
                      <a:lnTo>
                        <a:pt x="815" y="360"/>
                      </a:lnTo>
                      <a:lnTo>
                        <a:pt x="954" y="493"/>
                      </a:lnTo>
                      <a:lnTo>
                        <a:pt x="932" y="545"/>
                      </a:lnTo>
                      <a:lnTo>
                        <a:pt x="772" y="431"/>
                      </a:lnTo>
                      <a:lnTo>
                        <a:pt x="530" y="360"/>
                      </a:lnTo>
                      <a:lnTo>
                        <a:pt x="335" y="360"/>
                      </a:lnTo>
                      <a:lnTo>
                        <a:pt x="129" y="431"/>
                      </a:lnTo>
                      <a:lnTo>
                        <a:pt x="180" y="614"/>
                      </a:lnTo>
                      <a:lnTo>
                        <a:pt x="412" y="545"/>
                      </a:lnTo>
                      <a:lnTo>
                        <a:pt x="644" y="545"/>
                      </a:lnTo>
                      <a:lnTo>
                        <a:pt x="732" y="596"/>
                      </a:lnTo>
                      <a:lnTo>
                        <a:pt x="726" y="626"/>
                      </a:lnTo>
                      <a:lnTo>
                        <a:pt x="611" y="614"/>
                      </a:lnTo>
                      <a:lnTo>
                        <a:pt x="464" y="614"/>
                      </a:lnTo>
                      <a:lnTo>
                        <a:pt x="313" y="658"/>
                      </a:lnTo>
                      <a:lnTo>
                        <a:pt x="93" y="779"/>
                      </a:lnTo>
                      <a:lnTo>
                        <a:pt x="93" y="993"/>
                      </a:lnTo>
                      <a:lnTo>
                        <a:pt x="298" y="876"/>
                      </a:lnTo>
                      <a:lnTo>
                        <a:pt x="530" y="809"/>
                      </a:lnTo>
                      <a:lnTo>
                        <a:pt x="674" y="827"/>
                      </a:lnTo>
                      <a:lnTo>
                        <a:pt x="674" y="861"/>
                      </a:lnTo>
                      <a:lnTo>
                        <a:pt x="530" y="861"/>
                      </a:lnTo>
                      <a:lnTo>
                        <a:pt x="282" y="926"/>
                      </a:lnTo>
                      <a:lnTo>
                        <a:pt x="55" y="1093"/>
                      </a:lnTo>
                      <a:lnTo>
                        <a:pt x="0" y="809"/>
                      </a:lnTo>
                      <a:lnTo>
                        <a:pt x="129" y="649"/>
                      </a:lnTo>
                      <a:lnTo>
                        <a:pt x="40" y="431"/>
                      </a:lnTo>
                      <a:lnTo>
                        <a:pt x="170" y="346"/>
                      </a:lnTo>
                      <a:lnTo>
                        <a:pt x="349" y="316"/>
                      </a:lnTo>
                      <a:lnTo>
                        <a:pt x="491" y="316"/>
                      </a:lnTo>
                      <a:lnTo>
                        <a:pt x="540" y="0"/>
                      </a:lnTo>
                      <a:lnTo>
                        <a:pt x="700" y="16"/>
                      </a:lnTo>
                      <a:lnTo>
                        <a:pt x="865" y="70"/>
                      </a:lnTo>
                      <a:lnTo>
                        <a:pt x="1043" y="169"/>
                      </a:lnTo>
                      <a:lnTo>
                        <a:pt x="1159" y="265"/>
                      </a:lnTo>
                      <a:lnTo>
                        <a:pt x="1082" y="3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152520" y="5081040"/>
                  <a:ext cx="330120" cy="432000"/>
                </a:xfrm>
                <a:custGeom>
                  <a:avLst/>
                  <a:gdLst/>
                  <a:ahLst/>
                  <a:rect l="l" t="t" r="r" b="b"/>
                  <a:pathLst>
                    <a:path w="3767" h="3223">
                      <a:moveTo>
                        <a:pt x="525" y="364"/>
                      </a:moveTo>
                      <a:lnTo>
                        <a:pt x="486" y="748"/>
                      </a:lnTo>
                      <a:lnTo>
                        <a:pt x="486" y="1046"/>
                      </a:lnTo>
                      <a:lnTo>
                        <a:pt x="515" y="1555"/>
                      </a:lnTo>
                      <a:lnTo>
                        <a:pt x="608" y="1982"/>
                      </a:lnTo>
                      <a:lnTo>
                        <a:pt x="735" y="2399"/>
                      </a:lnTo>
                      <a:lnTo>
                        <a:pt x="904" y="2806"/>
                      </a:lnTo>
                      <a:lnTo>
                        <a:pt x="1046" y="3023"/>
                      </a:lnTo>
                      <a:lnTo>
                        <a:pt x="1189" y="3108"/>
                      </a:lnTo>
                      <a:lnTo>
                        <a:pt x="1344" y="3153"/>
                      </a:lnTo>
                      <a:lnTo>
                        <a:pt x="1499" y="3140"/>
                      </a:lnTo>
                      <a:lnTo>
                        <a:pt x="1777" y="3072"/>
                      </a:lnTo>
                      <a:lnTo>
                        <a:pt x="2009" y="2924"/>
                      </a:lnTo>
                      <a:lnTo>
                        <a:pt x="2408" y="2611"/>
                      </a:lnTo>
                      <a:lnTo>
                        <a:pt x="2761" y="2262"/>
                      </a:lnTo>
                      <a:lnTo>
                        <a:pt x="2989" y="1954"/>
                      </a:lnTo>
                      <a:lnTo>
                        <a:pt x="3136" y="1688"/>
                      </a:lnTo>
                      <a:lnTo>
                        <a:pt x="3265" y="1357"/>
                      </a:lnTo>
                      <a:lnTo>
                        <a:pt x="3328" y="1143"/>
                      </a:lnTo>
                      <a:lnTo>
                        <a:pt x="3652" y="1011"/>
                      </a:lnTo>
                      <a:lnTo>
                        <a:pt x="3767" y="1110"/>
                      </a:lnTo>
                      <a:lnTo>
                        <a:pt x="3638" y="1110"/>
                      </a:lnTo>
                      <a:lnTo>
                        <a:pt x="3428" y="1555"/>
                      </a:lnTo>
                      <a:lnTo>
                        <a:pt x="3251" y="1688"/>
                      </a:lnTo>
                      <a:lnTo>
                        <a:pt x="2966" y="2101"/>
                      </a:lnTo>
                      <a:lnTo>
                        <a:pt x="2735" y="2379"/>
                      </a:lnTo>
                      <a:lnTo>
                        <a:pt x="2467" y="2644"/>
                      </a:lnTo>
                      <a:lnTo>
                        <a:pt x="2124" y="2924"/>
                      </a:lnTo>
                      <a:lnTo>
                        <a:pt x="1896" y="3090"/>
                      </a:lnTo>
                      <a:lnTo>
                        <a:pt x="1584" y="3189"/>
                      </a:lnTo>
                      <a:lnTo>
                        <a:pt x="1433" y="3223"/>
                      </a:lnTo>
                      <a:lnTo>
                        <a:pt x="1237" y="3223"/>
                      </a:lnTo>
                      <a:lnTo>
                        <a:pt x="1067" y="3140"/>
                      </a:lnTo>
                      <a:lnTo>
                        <a:pt x="917" y="2975"/>
                      </a:lnTo>
                      <a:lnTo>
                        <a:pt x="787" y="2725"/>
                      </a:lnTo>
                      <a:lnTo>
                        <a:pt x="542" y="2034"/>
                      </a:lnTo>
                      <a:lnTo>
                        <a:pt x="449" y="1626"/>
                      </a:lnTo>
                      <a:lnTo>
                        <a:pt x="427" y="1143"/>
                      </a:lnTo>
                      <a:lnTo>
                        <a:pt x="408" y="761"/>
                      </a:lnTo>
                      <a:lnTo>
                        <a:pt x="231" y="515"/>
                      </a:lnTo>
                      <a:lnTo>
                        <a:pt x="165" y="600"/>
                      </a:lnTo>
                      <a:lnTo>
                        <a:pt x="61" y="544"/>
                      </a:lnTo>
                      <a:lnTo>
                        <a:pt x="165" y="147"/>
                      </a:lnTo>
                      <a:lnTo>
                        <a:pt x="0" y="107"/>
                      </a:lnTo>
                      <a:lnTo>
                        <a:pt x="40" y="0"/>
                      </a:lnTo>
                      <a:lnTo>
                        <a:pt x="257" y="70"/>
                      </a:lnTo>
                      <a:lnTo>
                        <a:pt x="408" y="183"/>
                      </a:lnTo>
                      <a:lnTo>
                        <a:pt x="504" y="302"/>
                      </a:lnTo>
                      <a:lnTo>
                        <a:pt x="525" y="3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140640" y="5070600"/>
                  <a:ext cx="51120" cy="186120"/>
                </a:xfrm>
                <a:custGeom>
                  <a:avLst/>
                  <a:gdLst/>
                  <a:ahLst/>
                  <a:rect l="l" t="t" r="r" b="b"/>
                  <a:pathLst>
                    <a:path w="582" h="1400">
                      <a:moveTo>
                        <a:pt x="390" y="0"/>
                      </a:moveTo>
                      <a:lnTo>
                        <a:pt x="261" y="102"/>
                      </a:lnTo>
                      <a:lnTo>
                        <a:pt x="189" y="246"/>
                      </a:lnTo>
                      <a:lnTo>
                        <a:pt x="146" y="392"/>
                      </a:lnTo>
                      <a:lnTo>
                        <a:pt x="118" y="647"/>
                      </a:lnTo>
                      <a:lnTo>
                        <a:pt x="133" y="909"/>
                      </a:lnTo>
                      <a:lnTo>
                        <a:pt x="189" y="1127"/>
                      </a:lnTo>
                      <a:lnTo>
                        <a:pt x="288" y="1254"/>
                      </a:lnTo>
                      <a:lnTo>
                        <a:pt x="390" y="1336"/>
                      </a:lnTo>
                      <a:lnTo>
                        <a:pt x="582" y="1400"/>
                      </a:lnTo>
                      <a:lnTo>
                        <a:pt x="400" y="1400"/>
                      </a:lnTo>
                      <a:lnTo>
                        <a:pt x="288" y="1358"/>
                      </a:lnTo>
                      <a:lnTo>
                        <a:pt x="118" y="1191"/>
                      </a:lnTo>
                      <a:lnTo>
                        <a:pt x="59" y="1007"/>
                      </a:lnTo>
                      <a:lnTo>
                        <a:pt x="16" y="829"/>
                      </a:lnTo>
                      <a:lnTo>
                        <a:pt x="0" y="647"/>
                      </a:lnTo>
                      <a:lnTo>
                        <a:pt x="0" y="430"/>
                      </a:lnTo>
                      <a:lnTo>
                        <a:pt x="59" y="264"/>
                      </a:lnTo>
                      <a:lnTo>
                        <a:pt x="106" y="188"/>
                      </a:lnTo>
                      <a:lnTo>
                        <a:pt x="211" y="69"/>
                      </a:lnTo>
                      <a:lnTo>
                        <a:pt x="3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405960" y="5187240"/>
                  <a:ext cx="93240" cy="189720"/>
                </a:xfrm>
                <a:custGeom>
                  <a:avLst/>
                  <a:gdLst/>
                  <a:ahLst/>
                  <a:rect l="l" t="t" r="r" b="b"/>
                  <a:pathLst>
                    <a:path w="1059" h="1420">
                      <a:moveTo>
                        <a:pt x="66" y="1288"/>
                      </a:moveTo>
                      <a:lnTo>
                        <a:pt x="186" y="1307"/>
                      </a:lnTo>
                      <a:lnTo>
                        <a:pt x="285" y="1240"/>
                      </a:lnTo>
                      <a:lnTo>
                        <a:pt x="494" y="1071"/>
                      </a:lnTo>
                      <a:lnTo>
                        <a:pt x="675" y="876"/>
                      </a:lnTo>
                      <a:lnTo>
                        <a:pt x="827" y="662"/>
                      </a:lnTo>
                      <a:lnTo>
                        <a:pt x="939" y="412"/>
                      </a:lnTo>
                      <a:lnTo>
                        <a:pt x="1010" y="217"/>
                      </a:lnTo>
                      <a:lnTo>
                        <a:pt x="1024" y="84"/>
                      </a:lnTo>
                      <a:lnTo>
                        <a:pt x="1046" y="0"/>
                      </a:lnTo>
                      <a:lnTo>
                        <a:pt x="1059" y="185"/>
                      </a:lnTo>
                      <a:lnTo>
                        <a:pt x="1024" y="364"/>
                      </a:lnTo>
                      <a:lnTo>
                        <a:pt x="876" y="695"/>
                      </a:lnTo>
                      <a:lnTo>
                        <a:pt x="762" y="894"/>
                      </a:lnTo>
                      <a:lnTo>
                        <a:pt x="547" y="1174"/>
                      </a:lnTo>
                      <a:lnTo>
                        <a:pt x="351" y="1339"/>
                      </a:lnTo>
                      <a:lnTo>
                        <a:pt x="222" y="1405"/>
                      </a:lnTo>
                      <a:lnTo>
                        <a:pt x="129" y="1420"/>
                      </a:lnTo>
                      <a:lnTo>
                        <a:pt x="53" y="1405"/>
                      </a:lnTo>
                      <a:lnTo>
                        <a:pt x="0" y="1374"/>
                      </a:lnTo>
                      <a:lnTo>
                        <a:pt x="66" y="12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134880" y="5352480"/>
                  <a:ext cx="76320" cy="162720"/>
                </a:xfrm>
                <a:custGeom>
                  <a:avLst/>
                  <a:gdLst/>
                  <a:ahLst/>
                  <a:rect l="l" t="t" r="r" b="b"/>
                  <a:pathLst>
                    <a:path w="866" h="1219">
                      <a:moveTo>
                        <a:pt x="847" y="204"/>
                      </a:moveTo>
                      <a:lnTo>
                        <a:pt x="527" y="103"/>
                      </a:lnTo>
                      <a:lnTo>
                        <a:pt x="302" y="0"/>
                      </a:lnTo>
                      <a:lnTo>
                        <a:pt x="0" y="463"/>
                      </a:lnTo>
                      <a:lnTo>
                        <a:pt x="155" y="776"/>
                      </a:lnTo>
                      <a:lnTo>
                        <a:pt x="361" y="1188"/>
                      </a:lnTo>
                      <a:lnTo>
                        <a:pt x="547" y="1219"/>
                      </a:lnTo>
                      <a:lnTo>
                        <a:pt x="484" y="984"/>
                      </a:lnTo>
                      <a:lnTo>
                        <a:pt x="387" y="695"/>
                      </a:lnTo>
                      <a:lnTo>
                        <a:pt x="236" y="435"/>
                      </a:lnTo>
                      <a:lnTo>
                        <a:pt x="401" y="155"/>
                      </a:lnTo>
                      <a:lnTo>
                        <a:pt x="866" y="335"/>
                      </a:lnTo>
                      <a:lnTo>
                        <a:pt x="847" y="2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2966040" y="5432760"/>
                  <a:ext cx="407160" cy="141480"/>
                </a:xfrm>
                <a:custGeom>
                  <a:avLst/>
                  <a:gdLst/>
                  <a:ahLst/>
                  <a:rect l="l" t="t" r="r" b="b"/>
                  <a:pathLst>
                    <a:path w="4644" h="1064">
                      <a:moveTo>
                        <a:pt x="1986" y="0"/>
                      </a:moveTo>
                      <a:lnTo>
                        <a:pt x="1482" y="672"/>
                      </a:lnTo>
                      <a:lnTo>
                        <a:pt x="672" y="823"/>
                      </a:lnTo>
                      <a:lnTo>
                        <a:pt x="0" y="1033"/>
                      </a:lnTo>
                      <a:lnTo>
                        <a:pt x="855" y="853"/>
                      </a:lnTo>
                      <a:lnTo>
                        <a:pt x="1525" y="749"/>
                      </a:lnTo>
                      <a:lnTo>
                        <a:pt x="2210" y="698"/>
                      </a:lnTo>
                      <a:lnTo>
                        <a:pt x="2656" y="672"/>
                      </a:lnTo>
                      <a:lnTo>
                        <a:pt x="3407" y="698"/>
                      </a:lnTo>
                      <a:lnTo>
                        <a:pt x="4481" y="823"/>
                      </a:lnTo>
                      <a:lnTo>
                        <a:pt x="4441" y="1033"/>
                      </a:lnTo>
                      <a:lnTo>
                        <a:pt x="4499" y="1064"/>
                      </a:lnTo>
                      <a:lnTo>
                        <a:pt x="4644" y="749"/>
                      </a:lnTo>
                      <a:lnTo>
                        <a:pt x="3970" y="672"/>
                      </a:lnTo>
                      <a:lnTo>
                        <a:pt x="3323" y="622"/>
                      </a:lnTo>
                      <a:lnTo>
                        <a:pt x="2737" y="591"/>
                      </a:lnTo>
                      <a:lnTo>
                        <a:pt x="2291" y="591"/>
                      </a:lnTo>
                      <a:lnTo>
                        <a:pt x="1683" y="647"/>
                      </a:lnTo>
                      <a:lnTo>
                        <a:pt x="2111" y="77"/>
                      </a:lnTo>
                      <a:lnTo>
                        <a:pt x="198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966040" y="5549760"/>
                  <a:ext cx="429480" cy="222840"/>
                </a:xfrm>
                <a:custGeom>
                  <a:avLst/>
                  <a:gdLst/>
                  <a:ahLst/>
                  <a:rect l="l" t="t" r="r" b="b"/>
                  <a:pathLst>
                    <a:path w="4906" h="1662">
                      <a:moveTo>
                        <a:pt x="0" y="157"/>
                      </a:moveTo>
                      <a:lnTo>
                        <a:pt x="771" y="76"/>
                      </a:lnTo>
                      <a:lnTo>
                        <a:pt x="1440" y="76"/>
                      </a:lnTo>
                      <a:lnTo>
                        <a:pt x="2111" y="157"/>
                      </a:lnTo>
                      <a:lnTo>
                        <a:pt x="3142" y="316"/>
                      </a:lnTo>
                      <a:lnTo>
                        <a:pt x="3911" y="469"/>
                      </a:lnTo>
                      <a:lnTo>
                        <a:pt x="4762" y="731"/>
                      </a:lnTo>
                      <a:lnTo>
                        <a:pt x="4619" y="1301"/>
                      </a:lnTo>
                      <a:lnTo>
                        <a:pt x="4558" y="1662"/>
                      </a:lnTo>
                      <a:lnTo>
                        <a:pt x="4644" y="1662"/>
                      </a:lnTo>
                      <a:lnTo>
                        <a:pt x="4703" y="1224"/>
                      </a:lnTo>
                      <a:lnTo>
                        <a:pt x="4906" y="705"/>
                      </a:lnTo>
                      <a:lnTo>
                        <a:pt x="4117" y="419"/>
                      </a:lnTo>
                      <a:lnTo>
                        <a:pt x="3323" y="237"/>
                      </a:lnTo>
                      <a:lnTo>
                        <a:pt x="2232" y="76"/>
                      </a:lnTo>
                      <a:lnTo>
                        <a:pt x="1500" y="0"/>
                      </a:lnTo>
                      <a:lnTo>
                        <a:pt x="914" y="0"/>
                      </a:lnTo>
                      <a:lnTo>
                        <a:pt x="450" y="54"/>
                      </a:lnTo>
                      <a:lnTo>
                        <a:pt x="0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2977200" y="5540040"/>
                  <a:ext cx="418320" cy="82440"/>
                </a:xfrm>
                <a:custGeom>
                  <a:avLst/>
                  <a:gdLst/>
                  <a:ahLst/>
                  <a:rect l="l" t="t" r="r" b="b"/>
                  <a:pathLst>
                    <a:path w="4782" h="621">
                      <a:moveTo>
                        <a:pt x="4638" y="621"/>
                      </a:moveTo>
                      <a:lnTo>
                        <a:pt x="4782" y="283"/>
                      </a:lnTo>
                      <a:lnTo>
                        <a:pt x="4696" y="262"/>
                      </a:lnTo>
                      <a:lnTo>
                        <a:pt x="4620" y="364"/>
                      </a:lnTo>
                      <a:lnTo>
                        <a:pt x="3747" y="181"/>
                      </a:lnTo>
                      <a:lnTo>
                        <a:pt x="2933" y="51"/>
                      </a:lnTo>
                      <a:lnTo>
                        <a:pt x="2207" y="0"/>
                      </a:lnTo>
                      <a:lnTo>
                        <a:pt x="1195" y="0"/>
                      </a:lnTo>
                      <a:lnTo>
                        <a:pt x="592" y="51"/>
                      </a:lnTo>
                      <a:lnTo>
                        <a:pt x="0" y="209"/>
                      </a:lnTo>
                      <a:lnTo>
                        <a:pt x="976" y="51"/>
                      </a:lnTo>
                      <a:lnTo>
                        <a:pt x="1862" y="51"/>
                      </a:lnTo>
                      <a:lnTo>
                        <a:pt x="2758" y="107"/>
                      </a:lnTo>
                      <a:lnTo>
                        <a:pt x="3481" y="209"/>
                      </a:lnTo>
                      <a:lnTo>
                        <a:pt x="4317" y="390"/>
                      </a:lnTo>
                      <a:lnTo>
                        <a:pt x="4579" y="471"/>
                      </a:lnTo>
                      <a:lnTo>
                        <a:pt x="4535" y="600"/>
                      </a:lnTo>
                      <a:lnTo>
                        <a:pt x="4638" y="6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179160" y="5418000"/>
                  <a:ext cx="54360" cy="97200"/>
                </a:xfrm>
                <a:custGeom>
                  <a:avLst/>
                  <a:gdLst/>
                  <a:ahLst/>
                  <a:rect l="l" t="t" r="r" b="b"/>
                  <a:pathLst>
                    <a:path w="625" h="729">
                      <a:moveTo>
                        <a:pt x="625" y="467"/>
                      </a:moveTo>
                      <a:lnTo>
                        <a:pt x="468" y="729"/>
                      </a:lnTo>
                      <a:lnTo>
                        <a:pt x="0" y="729"/>
                      </a:lnTo>
                      <a:lnTo>
                        <a:pt x="427" y="0"/>
                      </a:lnTo>
                      <a:lnTo>
                        <a:pt x="544" y="312"/>
                      </a:lnTo>
                      <a:lnTo>
                        <a:pt x="625" y="4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340800" y="5370840"/>
                  <a:ext cx="181800" cy="161640"/>
                </a:xfrm>
                <a:custGeom>
                  <a:avLst/>
                  <a:gdLst/>
                  <a:ahLst/>
                  <a:rect l="l" t="t" r="r" b="b"/>
                  <a:pathLst>
                    <a:path w="2083" h="1212">
                      <a:moveTo>
                        <a:pt x="0" y="1212"/>
                      </a:moveTo>
                      <a:lnTo>
                        <a:pt x="33" y="930"/>
                      </a:lnTo>
                      <a:lnTo>
                        <a:pt x="180" y="561"/>
                      </a:lnTo>
                      <a:lnTo>
                        <a:pt x="626" y="176"/>
                      </a:lnTo>
                      <a:lnTo>
                        <a:pt x="766" y="201"/>
                      </a:lnTo>
                      <a:lnTo>
                        <a:pt x="1049" y="201"/>
                      </a:lnTo>
                      <a:lnTo>
                        <a:pt x="1373" y="151"/>
                      </a:lnTo>
                      <a:lnTo>
                        <a:pt x="1760" y="0"/>
                      </a:lnTo>
                      <a:lnTo>
                        <a:pt x="1881" y="0"/>
                      </a:lnTo>
                      <a:lnTo>
                        <a:pt x="2020" y="201"/>
                      </a:lnTo>
                      <a:lnTo>
                        <a:pt x="2083" y="408"/>
                      </a:lnTo>
                      <a:lnTo>
                        <a:pt x="2083" y="561"/>
                      </a:lnTo>
                      <a:lnTo>
                        <a:pt x="2047" y="771"/>
                      </a:lnTo>
                      <a:lnTo>
                        <a:pt x="1966" y="771"/>
                      </a:lnTo>
                      <a:lnTo>
                        <a:pt x="1782" y="823"/>
                      </a:lnTo>
                      <a:lnTo>
                        <a:pt x="1881" y="695"/>
                      </a:lnTo>
                      <a:lnTo>
                        <a:pt x="2020" y="561"/>
                      </a:lnTo>
                      <a:lnTo>
                        <a:pt x="1980" y="329"/>
                      </a:lnTo>
                      <a:lnTo>
                        <a:pt x="1895" y="151"/>
                      </a:lnTo>
                      <a:lnTo>
                        <a:pt x="1841" y="98"/>
                      </a:lnTo>
                      <a:lnTo>
                        <a:pt x="1760" y="98"/>
                      </a:lnTo>
                      <a:lnTo>
                        <a:pt x="1574" y="201"/>
                      </a:lnTo>
                      <a:lnTo>
                        <a:pt x="1517" y="382"/>
                      </a:lnTo>
                      <a:lnTo>
                        <a:pt x="1214" y="668"/>
                      </a:lnTo>
                      <a:lnTo>
                        <a:pt x="865" y="899"/>
                      </a:lnTo>
                      <a:lnTo>
                        <a:pt x="482" y="1110"/>
                      </a:lnTo>
                      <a:lnTo>
                        <a:pt x="180" y="1188"/>
                      </a:lnTo>
                      <a:lnTo>
                        <a:pt x="0" y="12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2666880" y="5428800"/>
                  <a:ext cx="299160" cy="354600"/>
                </a:xfrm>
                <a:custGeom>
                  <a:avLst/>
                  <a:gdLst/>
                  <a:ahLst/>
                  <a:rect l="l" t="t" r="r" b="b"/>
                  <a:pathLst>
                    <a:path w="3418" h="2649">
                      <a:moveTo>
                        <a:pt x="3418" y="1063"/>
                      </a:moveTo>
                      <a:lnTo>
                        <a:pt x="3018" y="832"/>
                      </a:lnTo>
                      <a:lnTo>
                        <a:pt x="2447" y="573"/>
                      </a:lnTo>
                      <a:lnTo>
                        <a:pt x="1844" y="338"/>
                      </a:lnTo>
                      <a:lnTo>
                        <a:pt x="1155" y="185"/>
                      </a:lnTo>
                      <a:lnTo>
                        <a:pt x="544" y="107"/>
                      </a:lnTo>
                      <a:lnTo>
                        <a:pt x="282" y="107"/>
                      </a:lnTo>
                      <a:lnTo>
                        <a:pt x="727" y="466"/>
                      </a:lnTo>
                      <a:lnTo>
                        <a:pt x="1320" y="1013"/>
                      </a:lnTo>
                      <a:lnTo>
                        <a:pt x="1717" y="1478"/>
                      </a:lnTo>
                      <a:lnTo>
                        <a:pt x="2145" y="2023"/>
                      </a:lnTo>
                      <a:lnTo>
                        <a:pt x="2348" y="1972"/>
                      </a:lnTo>
                      <a:lnTo>
                        <a:pt x="2590" y="1873"/>
                      </a:lnTo>
                      <a:lnTo>
                        <a:pt x="2771" y="1891"/>
                      </a:lnTo>
                      <a:lnTo>
                        <a:pt x="2816" y="1998"/>
                      </a:lnTo>
                      <a:lnTo>
                        <a:pt x="2816" y="2155"/>
                      </a:lnTo>
                      <a:lnTo>
                        <a:pt x="2690" y="2359"/>
                      </a:lnTo>
                      <a:lnTo>
                        <a:pt x="2509" y="2516"/>
                      </a:lnTo>
                      <a:lnTo>
                        <a:pt x="2185" y="2649"/>
                      </a:lnTo>
                      <a:lnTo>
                        <a:pt x="1818" y="2649"/>
                      </a:lnTo>
                      <a:lnTo>
                        <a:pt x="1659" y="2598"/>
                      </a:lnTo>
                      <a:lnTo>
                        <a:pt x="1600" y="2491"/>
                      </a:lnTo>
                      <a:lnTo>
                        <a:pt x="1560" y="2310"/>
                      </a:lnTo>
                      <a:lnTo>
                        <a:pt x="1600" y="2104"/>
                      </a:lnTo>
                      <a:lnTo>
                        <a:pt x="1740" y="1839"/>
                      </a:lnTo>
                      <a:lnTo>
                        <a:pt x="1659" y="2104"/>
                      </a:lnTo>
                      <a:lnTo>
                        <a:pt x="1641" y="2260"/>
                      </a:lnTo>
                      <a:lnTo>
                        <a:pt x="1659" y="2439"/>
                      </a:lnTo>
                      <a:lnTo>
                        <a:pt x="1740" y="2516"/>
                      </a:lnTo>
                      <a:lnTo>
                        <a:pt x="1862" y="2568"/>
                      </a:lnTo>
                      <a:lnTo>
                        <a:pt x="2091" y="2568"/>
                      </a:lnTo>
                      <a:lnTo>
                        <a:pt x="2371" y="2491"/>
                      </a:lnTo>
                      <a:lnTo>
                        <a:pt x="2590" y="2333"/>
                      </a:lnTo>
                      <a:lnTo>
                        <a:pt x="2731" y="2130"/>
                      </a:lnTo>
                      <a:lnTo>
                        <a:pt x="2731" y="1998"/>
                      </a:lnTo>
                      <a:lnTo>
                        <a:pt x="2672" y="1946"/>
                      </a:lnTo>
                      <a:lnTo>
                        <a:pt x="2568" y="1946"/>
                      </a:lnTo>
                      <a:lnTo>
                        <a:pt x="2285" y="2074"/>
                      </a:lnTo>
                      <a:lnTo>
                        <a:pt x="2060" y="2074"/>
                      </a:lnTo>
                      <a:lnTo>
                        <a:pt x="1781" y="1664"/>
                      </a:lnTo>
                      <a:lnTo>
                        <a:pt x="1394" y="1222"/>
                      </a:lnTo>
                      <a:lnTo>
                        <a:pt x="949" y="779"/>
                      </a:lnTo>
                      <a:lnTo>
                        <a:pt x="530" y="440"/>
                      </a:lnTo>
                      <a:lnTo>
                        <a:pt x="0" y="0"/>
                      </a:lnTo>
                      <a:lnTo>
                        <a:pt x="423" y="0"/>
                      </a:lnTo>
                      <a:lnTo>
                        <a:pt x="949" y="56"/>
                      </a:lnTo>
                      <a:lnTo>
                        <a:pt x="1681" y="209"/>
                      </a:lnTo>
                      <a:lnTo>
                        <a:pt x="2425" y="466"/>
                      </a:lnTo>
                      <a:lnTo>
                        <a:pt x="2995" y="755"/>
                      </a:lnTo>
                      <a:lnTo>
                        <a:pt x="3342" y="960"/>
                      </a:lnTo>
                      <a:lnTo>
                        <a:pt x="3418" y="10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710800" y="5330880"/>
                  <a:ext cx="254880" cy="240120"/>
                </a:xfrm>
                <a:custGeom>
                  <a:avLst/>
                  <a:gdLst/>
                  <a:ahLst/>
                  <a:rect l="l" t="t" r="r" b="b"/>
                  <a:pathLst>
                    <a:path w="2915" h="1787">
                      <a:moveTo>
                        <a:pt x="531" y="780"/>
                      </a:moveTo>
                      <a:lnTo>
                        <a:pt x="0" y="0"/>
                      </a:lnTo>
                      <a:lnTo>
                        <a:pt x="572" y="180"/>
                      </a:lnTo>
                      <a:lnTo>
                        <a:pt x="1278" y="518"/>
                      </a:lnTo>
                      <a:lnTo>
                        <a:pt x="1868" y="909"/>
                      </a:lnTo>
                      <a:lnTo>
                        <a:pt x="2474" y="1376"/>
                      </a:lnTo>
                      <a:lnTo>
                        <a:pt x="2915" y="1787"/>
                      </a:lnTo>
                      <a:lnTo>
                        <a:pt x="2187" y="1221"/>
                      </a:lnTo>
                      <a:lnTo>
                        <a:pt x="1382" y="673"/>
                      </a:lnTo>
                      <a:lnTo>
                        <a:pt x="751" y="361"/>
                      </a:lnTo>
                      <a:lnTo>
                        <a:pt x="265" y="180"/>
                      </a:lnTo>
                      <a:lnTo>
                        <a:pt x="710" y="852"/>
                      </a:lnTo>
                      <a:lnTo>
                        <a:pt x="531" y="7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760480" y="5251680"/>
                  <a:ext cx="212760" cy="319320"/>
                </a:xfrm>
                <a:custGeom>
                  <a:avLst/>
                  <a:gdLst/>
                  <a:ahLst/>
                  <a:rect l="l" t="t" r="r" b="b"/>
                  <a:pathLst>
                    <a:path w="2429" h="2379">
                      <a:moveTo>
                        <a:pt x="445" y="852"/>
                      </a:moveTo>
                      <a:lnTo>
                        <a:pt x="0" y="0"/>
                      </a:lnTo>
                      <a:lnTo>
                        <a:pt x="281" y="72"/>
                      </a:lnTo>
                      <a:lnTo>
                        <a:pt x="1052" y="514"/>
                      </a:lnTo>
                      <a:lnTo>
                        <a:pt x="1615" y="1008"/>
                      </a:lnTo>
                      <a:lnTo>
                        <a:pt x="2043" y="1525"/>
                      </a:lnTo>
                      <a:lnTo>
                        <a:pt x="2325" y="1993"/>
                      </a:lnTo>
                      <a:lnTo>
                        <a:pt x="2406" y="2276"/>
                      </a:lnTo>
                      <a:lnTo>
                        <a:pt x="2429" y="2379"/>
                      </a:lnTo>
                      <a:lnTo>
                        <a:pt x="2343" y="2379"/>
                      </a:lnTo>
                      <a:lnTo>
                        <a:pt x="2223" y="2125"/>
                      </a:lnTo>
                      <a:lnTo>
                        <a:pt x="1880" y="1551"/>
                      </a:lnTo>
                      <a:lnTo>
                        <a:pt x="1335" y="904"/>
                      </a:lnTo>
                      <a:lnTo>
                        <a:pt x="864" y="540"/>
                      </a:lnTo>
                      <a:lnTo>
                        <a:pt x="319" y="227"/>
                      </a:lnTo>
                      <a:lnTo>
                        <a:pt x="179" y="179"/>
                      </a:lnTo>
                      <a:lnTo>
                        <a:pt x="525" y="883"/>
                      </a:lnTo>
                      <a:lnTo>
                        <a:pt x="445" y="8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827800" y="5734080"/>
                  <a:ext cx="113400" cy="111240"/>
                </a:xfrm>
                <a:custGeom>
                  <a:avLst/>
                  <a:gdLst/>
                  <a:ahLst/>
                  <a:rect l="l" t="t" r="r" b="b"/>
                  <a:pathLst>
                    <a:path w="1292" h="832">
                      <a:moveTo>
                        <a:pt x="176" y="365"/>
                      </a:moveTo>
                      <a:lnTo>
                        <a:pt x="117" y="443"/>
                      </a:lnTo>
                      <a:lnTo>
                        <a:pt x="117" y="570"/>
                      </a:lnTo>
                      <a:lnTo>
                        <a:pt x="176" y="699"/>
                      </a:lnTo>
                      <a:lnTo>
                        <a:pt x="319" y="777"/>
                      </a:lnTo>
                      <a:lnTo>
                        <a:pt x="548" y="777"/>
                      </a:lnTo>
                      <a:lnTo>
                        <a:pt x="764" y="699"/>
                      </a:lnTo>
                      <a:lnTo>
                        <a:pt x="990" y="570"/>
                      </a:lnTo>
                      <a:lnTo>
                        <a:pt x="1133" y="416"/>
                      </a:lnTo>
                      <a:lnTo>
                        <a:pt x="1174" y="284"/>
                      </a:lnTo>
                      <a:lnTo>
                        <a:pt x="1174" y="181"/>
                      </a:lnTo>
                      <a:lnTo>
                        <a:pt x="1093" y="75"/>
                      </a:lnTo>
                      <a:lnTo>
                        <a:pt x="990" y="49"/>
                      </a:lnTo>
                      <a:lnTo>
                        <a:pt x="846" y="49"/>
                      </a:lnTo>
                      <a:lnTo>
                        <a:pt x="909" y="0"/>
                      </a:lnTo>
                      <a:lnTo>
                        <a:pt x="1049" y="0"/>
                      </a:lnTo>
                      <a:lnTo>
                        <a:pt x="1232" y="100"/>
                      </a:lnTo>
                      <a:lnTo>
                        <a:pt x="1292" y="207"/>
                      </a:lnTo>
                      <a:lnTo>
                        <a:pt x="1292" y="314"/>
                      </a:lnTo>
                      <a:lnTo>
                        <a:pt x="1192" y="542"/>
                      </a:lnTo>
                      <a:lnTo>
                        <a:pt x="972" y="725"/>
                      </a:lnTo>
                      <a:lnTo>
                        <a:pt x="621" y="832"/>
                      </a:lnTo>
                      <a:lnTo>
                        <a:pt x="527" y="832"/>
                      </a:lnTo>
                      <a:lnTo>
                        <a:pt x="260" y="832"/>
                      </a:lnTo>
                      <a:lnTo>
                        <a:pt x="41" y="725"/>
                      </a:lnTo>
                      <a:lnTo>
                        <a:pt x="0" y="592"/>
                      </a:lnTo>
                      <a:lnTo>
                        <a:pt x="0" y="443"/>
                      </a:lnTo>
                      <a:lnTo>
                        <a:pt x="95" y="336"/>
                      </a:lnTo>
                      <a:lnTo>
                        <a:pt x="176" y="3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860200" y="5789880"/>
                  <a:ext cx="253440" cy="368640"/>
                </a:xfrm>
                <a:custGeom>
                  <a:avLst/>
                  <a:gdLst/>
                  <a:ahLst/>
                  <a:rect l="l" t="t" r="r" b="b"/>
                  <a:pathLst>
                    <a:path w="2895" h="2748">
                      <a:moveTo>
                        <a:pt x="848" y="107"/>
                      </a:moveTo>
                      <a:lnTo>
                        <a:pt x="997" y="78"/>
                      </a:lnTo>
                      <a:lnTo>
                        <a:pt x="1069" y="126"/>
                      </a:lnTo>
                      <a:lnTo>
                        <a:pt x="1092" y="206"/>
                      </a:lnTo>
                      <a:lnTo>
                        <a:pt x="1069" y="309"/>
                      </a:lnTo>
                      <a:lnTo>
                        <a:pt x="930" y="442"/>
                      </a:lnTo>
                      <a:lnTo>
                        <a:pt x="669" y="570"/>
                      </a:lnTo>
                      <a:lnTo>
                        <a:pt x="402" y="619"/>
                      </a:lnTo>
                      <a:lnTo>
                        <a:pt x="204" y="619"/>
                      </a:lnTo>
                      <a:lnTo>
                        <a:pt x="120" y="549"/>
                      </a:lnTo>
                      <a:lnTo>
                        <a:pt x="120" y="442"/>
                      </a:lnTo>
                      <a:lnTo>
                        <a:pt x="165" y="386"/>
                      </a:lnTo>
                      <a:lnTo>
                        <a:pt x="61" y="416"/>
                      </a:lnTo>
                      <a:lnTo>
                        <a:pt x="0" y="570"/>
                      </a:lnTo>
                      <a:lnTo>
                        <a:pt x="61" y="724"/>
                      </a:lnTo>
                      <a:lnTo>
                        <a:pt x="285" y="773"/>
                      </a:lnTo>
                      <a:lnTo>
                        <a:pt x="610" y="724"/>
                      </a:lnTo>
                      <a:lnTo>
                        <a:pt x="830" y="669"/>
                      </a:lnTo>
                      <a:lnTo>
                        <a:pt x="1051" y="1111"/>
                      </a:lnTo>
                      <a:lnTo>
                        <a:pt x="1154" y="1453"/>
                      </a:lnTo>
                      <a:lnTo>
                        <a:pt x="1680" y="1685"/>
                      </a:lnTo>
                      <a:lnTo>
                        <a:pt x="2126" y="1997"/>
                      </a:lnTo>
                      <a:lnTo>
                        <a:pt x="2450" y="2277"/>
                      </a:lnTo>
                      <a:lnTo>
                        <a:pt x="2895" y="2748"/>
                      </a:lnTo>
                      <a:lnTo>
                        <a:pt x="2775" y="2517"/>
                      </a:lnTo>
                      <a:lnTo>
                        <a:pt x="2388" y="2076"/>
                      </a:lnTo>
                      <a:lnTo>
                        <a:pt x="1983" y="1761"/>
                      </a:lnTo>
                      <a:lnTo>
                        <a:pt x="1578" y="1529"/>
                      </a:lnTo>
                      <a:lnTo>
                        <a:pt x="1235" y="1373"/>
                      </a:lnTo>
                      <a:lnTo>
                        <a:pt x="1136" y="1111"/>
                      </a:lnTo>
                      <a:lnTo>
                        <a:pt x="1051" y="905"/>
                      </a:lnTo>
                      <a:lnTo>
                        <a:pt x="1235" y="570"/>
                      </a:lnTo>
                      <a:lnTo>
                        <a:pt x="1257" y="416"/>
                      </a:lnTo>
                      <a:lnTo>
                        <a:pt x="1235" y="309"/>
                      </a:lnTo>
                      <a:lnTo>
                        <a:pt x="1154" y="259"/>
                      </a:lnTo>
                      <a:lnTo>
                        <a:pt x="1154" y="126"/>
                      </a:lnTo>
                      <a:lnTo>
                        <a:pt x="1092" y="27"/>
                      </a:lnTo>
                      <a:lnTo>
                        <a:pt x="1011" y="0"/>
                      </a:lnTo>
                      <a:lnTo>
                        <a:pt x="891" y="0"/>
                      </a:lnTo>
                      <a:lnTo>
                        <a:pt x="848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964600" y="5571000"/>
                  <a:ext cx="150480" cy="587520"/>
                </a:xfrm>
                <a:custGeom>
                  <a:avLst/>
                  <a:gdLst/>
                  <a:ahLst/>
                  <a:rect l="l" t="t" r="r" b="b"/>
                  <a:pathLst>
                    <a:path w="1724" h="4385">
                      <a:moveTo>
                        <a:pt x="0" y="0"/>
                      </a:moveTo>
                      <a:lnTo>
                        <a:pt x="262" y="494"/>
                      </a:lnTo>
                      <a:lnTo>
                        <a:pt x="543" y="1092"/>
                      </a:lnTo>
                      <a:lnTo>
                        <a:pt x="873" y="1763"/>
                      </a:lnTo>
                      <a:lnTo>
                        <a:pt x="1194" y="2568"/>
                      </a:lnTo>
                      <a:lnTo>
                        <a:pt x="1395" y="3272"/>
                      </a:lnTo>
                      <a:lnTo>
                        <a:pt x="1518" y="3863"/>
                      </a:lnTo>
                      <a:lnTo>
                        <a:pt x="1581" y="4257"/>
                      </a:lnTo>
                      <a:lnTo>
                        <a:pt x="1724" y="4385"/>
                      </a:lnTo>
                      <a:lnTo>
                        <a:pt x="1559" y="3687"/>
                      </a:lnTo>
                      <a:lnTo>
                        <a:pt x="1436" y="3143"/>
                      </a:lnTo>
                      <a:lnTo>
                        <a:pt x="1319" y="2700"/>
                      </a:lnTo>
                      <a:lnTo>
                        <a:pt x="1194" y="2306"/>
                      </a:lnTo>
                      <a:lnTo>
                        <a:pt x="972" y="1763"/>
                      </a:lnTo>
                      <a:lnTo>
                        <a:pt x="668" y="1092"/>
                      </a:lnTo>
                      <a:lnTo>
                        <a:pt x="423" y="574"/>
                      </a:lnTo>
                      <a:lnTo>
                        <a:pt x="1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404160" y="5441400"/>
                  <a:ext cx="99360" cy="131760"/>
                </a:xfrm>
                <a:custGeom>
                  <a:avLst/>
                  <a:gdLst/>
                  <a:ahLst/>
                  <a:rect l="l" t="t" r="r" b="b"/>
                  <a:pathLst>
                    <a:path w="1133" h="989">
                      <a:moveTo>
                        <a:pt x="1133" y="26"/>
                      </a:moveTo>
                      <a:lnTo>
                        <a:pt x="1066" y="26"/>
                      </a:lnTo>
                      <a:lnTo>
                        <a:pt x="994" y="26"/>
                      </a:lnTo>
                      <a:lnTo>
                        <a:pt x="875" y="72"/>
                      </a:lnTo>
                      <a:lnTo>
                        <a:pt x="744" y="157"/>
                      </a:lnTo>
                      <a:lnTo>
                        <a:pt x="625" y="263"/>
                      </a:lnTo>
                      <a:lnTo>
                        <a:pt x="533" y="383"/>
                      </a:lnTo>
                      <a:lnTo>
                        <a:pt x="683" y="339"/>
                      </a:lnTo>
                      <a:lnTo>
                        <a:pt x="834" y="339"/>
                      </a:lnTo>
                      <a:lnTo>
                        <a:pt x="915" y="383"/>
                      </a:lnTo>
                      <a:lnTo>
                        <a:pt x="744" y="411"/>
                      </a:lnTo>
                      <a:lnTo>
                        <a:pt x="552" y="489"/>
                      </a:lnTo>
                      <a:lnTo>
                        <a:pt x="371" y="624"/>
                      </a:lnTo>
                      <a:lnTo>
                        <a:pt x="220" y="757"/>
                      </a:lnTo>
                      <a:lnTo>
                        <a:pt x="0" y="989"/>
                      </a:lnTo>
                      <a:lnTo>
                        <a:pt x="0" y="959"/>
                      </a:lnTo>
                      <a:lnTo>
                        <a:pt x="90" y="757"/>
                      </a:lnTo>
                      <a:lnTo>
                        <a:pt x="276" y="504"/>
                      </a:lnTo>
                      <a:lnTo>
                        <a:pt x="459" y="326"/>
                      </a:lnTo>
                      <a:lnTo>
                        <a:pt x="661" y="157"/>
                      </a:lnTo>
                      <a:lnTo>
                        <a:pt x="857" y="44"/>
                      </a:lnTo>
                      <a:lnTo>
                        <a:pt x="971" y="0"/>
                      </a:lnTo>
                      <a:lnTo>
                        <a:pt x="1093" y="0"/>
                      </a:lnTo>
                      <a:lnTo>
                        <a:pt x="1123" y="0"/>
                      </a:lnTo>
                      <a:lnTo>
                        <a:pt x="1133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410280" y="5605200"/>
                  <a:ext cx="70560" cy="41760"/>
                </a:xfrm>
                <a:custGeom>
                  <a:avLst/>
                  <a:gdLst/>
                  <a:ahLst/>
                  <a:rect l="l" t="t" r="r" b="b"/>
                  <a:pathLst>
                    <a:path w="808" h="312">
                      <a:moveTo>
                        <a:pt x="13" y="312"/>
                      </a:moveTo>
                      <a:lnTo>
                        <a:pt x="0" y="286"/>
                      </a:lnTo>
                      <a:lnTo>
                        <a:pt x="104" y="151"/>
                      </a:lnTo>
                      <a:lnTo>
                        <a:pt x="255" y="44"/>
                      </a:lnTo>
                      <a:lnTo>
                        <a:pt x="441" y="0"/>
                      </a:lnTo>
                      <a:lnTo>
                        <a:pt x="594" y="0"/>
                      </a:lnTo>
                      <a:lnTo>
                        <a:pt x="731" y="62"/>
                      </a:lnTo>
                      <a:lnTo>
                        <a:pt x="808" y="151"/>
                      </a:lnTo>
                      <a:lnTo>
                        <a:pt x="776" y="166"/>
                      </a:lnTo>
                      <a:lnTo>
                        <a:pt x="709" y="107"/>
                      </a:lnTo>
                      <a:lnTo>
                        <a:pt x="606" y="62"/>
                      </a:lnTo>
                      <a:lnTo>
                        <a:pt x="499" y="44"/>
                      </a:lnTo>
                      <a:lnTo>
                        <a:pt x="331" y="72"/>
                      </a:lnTo>
                      <a:lnTo>
                        <a:pt x="153" y="166"/>
                      </a:lnTo>
                      <a:lnTo>
                        <a:pt x="84" y="253"/>
                      </a:lnTo>
                      <a:lnTo>
                        <a:pt x="36" y="312"/>
                      </a:lnTo>
                      <a:lnTo>
                        <a:pt x="13" y="3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410280" y="5640840"/>
                  <a:ext cx="56880" cy="28800"/>
                </a:xfrm>
                <a:custGeom>
                  <a:avLst/>
                  <a:gdLst/>
                  <a:ahLst/>
                  <a:rect l="l" t="t" r="r" b="b"/>
                  <a:pathLst>
                    <a:path w="650" h="211">
                      <a:moveTo>
                        <a:pt x="13" y="211"/>
                      </a:moveTo>
                      <a:lnTo>
                        <a:pt x="165" y="107"/>
                      </a:lnTo>
                      <a:lnTo>
                        <a:pt x="304" y="63"/>
                      </a:lnTo>
                      <a:lnTo>
                        <a:pt x="428" y="63"/>
                      </a:lnTo>
                      <a:lnTo>
                        <a:pt x="548" y="89"/>
                      </a:lnTo>
                      <a:lnTo>
                        <a:pt x="639" y="170"/>
                      </a:lnTo>
                      <a:lnTo>
                        <a:pt x="650" y="156"/>
                      </a:lnTo>
                      <a:lnTo>
                        <a:pt x="584" y="63"/>
                      </a:lnTo>
                      <a:lnTo>
                        <a:pt x="466" y="23"/>
                      </a:lnTo>
                      <a:lnTo>
                        <a:pt x="349" y="0"/>
                      </a:lnTo>
                      <a:lnTo>
                        <a:pt x="255" y="23"/>
                      </a:lnTo>
                      <a:lnTo>
                        <a:pt x="130" y="79"/>
                      </a:lnTo>
                      <a:lnTo>
                        <a:pt x="0" y="182"/>
                      </a:lnTo>
                      <a:lnTo>
                        <a:pt x="13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285720" y="5740560"/>
                  <a:ext cx="144720" cy="143640"/>
                </a:xfrm>
                <a:custGeom>
                  <a:avLst/>
                  <a:gdLst/>
                  <a:ahLst/>
                  <a:rect l="l" t="t" r="r" b="b"/>
                  <a:pathLst>
                    <a:path w="1660" h="1071">
                      <a:moveTo>
                        <a:pt x="1250" y="0"/>
                      </a:moveTo>
                      <a:lnTo>
                        <a:pt x="942" y="191"/>
                      </a:lnTo>
                      <a:lnTo>
                        <a:pt x="573" y="341"/>
                      </a:lnTo>
                      <a:lnTo>
                        <a:pt x="265" y="448"/>
                      </a:lnTo>
                      <a:lnTo>
                        <a:pt x="11" y="499"/>
                      </a:lnTo>
                      <a:lnTo>
                        <a:pt x="0" y="565"/>
                      </a:lnTo>
                      <a:lnTo>
                        <a:pt x="43" y="743"/>
                      </a:lnTo>
                      <a:lnTo>
                        <a:pt x="132" y="922"/>
                      </a:lnTo>
                      <a:lnTo>
                        <a:pt x="225" y="1071"/>
                      </a:lnTo>
                      <a:lnTo>
                        <a:pt x="427" y="1071"/>
                      </a:lnTo>
                      <a:lnTo>
                        <a:pt x="729" y="1006"/>
                      </a:lnTo>
                      <a:lnTo>
                        <a:pt x="1005" y="904"/>
                      </a:lnTo>
                      <a:lnTo>
                        <a:pt x="1227" y="805"/>
                      </a:lnTo>
                      <a:lnTo>
                        <a:pt x="1403" y="684"/>
                      </a:lnTo>
                      <a:lnTo>
                        <a:pt x="1507" y="596"/>
                      </a:lnTo>
                      <a:lnTo>
                        <a:pt x="1660" y="225"/>
                      </a:lnTo>
                      <a:lnTo>
                        <a:pt x="1624" y="191"/>
                      </a:lnTo>
                      <a:lnTo>
                        <a:pt x="1481" y="493"/>
                      </a:lnTo>
                      <a:lnTo>
                        <a:pt x="1481" y="581"/>
                      </a:lnTo>
                      <a:lnTo>
                        <a:pt x="1215" y="743"/>
                      </a:lnTo>
                      <a:lnTo>
                        <a:pt x="835" y="904"/>
                      </a:lnTo>
                      <a:lnTo>
                        <a:pt x="545" y="992"/>
                      </a:lnTo>
                      <a:lnTo>
                        <a:pt x="306" y="1006"/>
                      </a:lnTo>
                      <a:lnTo>
                        <a:pt x="265" y="992"/>
                      </a:lnTo>
                      <a:lnTo>
                        <a:pt x="189" y="860"/>
                      </a:lnTo>
                      <a:lnTo>
                        <a:pt x="132" y="702"/>
                      </a:lnTo>
                      <a:lnTo>
                        <a:pt x="104" y="565"/>
                      </a:lnTo>
                      <a:lnTo>
                        <a:pt x="137" y="533"/>
                      </a:lnTo>
                      <a:lnTo>
                        <a:pt x="358" y="479"/>
                      </a:lnTo>
                      <a:lnTo>
                        <a:pt x="649" y="386"/>
                      </a:lnTo>
                      <a:lnTo>
                        <a:pt x="906" y="280"/>
                      </a:lnTo>
                      <a:lnTo>
                        <a:pt x="1064" y="209"/>
                      </a:lnTo>
                      <a:lnTo>
                        <a:pt x="1250" y="92"/>
                      </a:lnTo>
                      <a:lnTo>
                        <a:pt x="1271" y="18"/>
                      </a:lnTo>
                      <a:lnTo>
                        <a:pt x="12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296160" y="5851080"/>
                  <a:ext cx="129240" cy="104040"/>
                </a:xfrm>
                <a:custGeom>
                  <a:avLst/>
                  <a:gdLst/>
                  <a:ahLst/>
                  <a:rect l="l" t="t" r="r" b="b"/>
                  <a:pathLst>
                    <a:path w="1480" h="779">
                      <a:moveTo>
                        <a:pt x="1417" y="0"/>
                      </a:moveTo>
                      <a:lnTo>
                        <a:pt x="1409" y="155"/>
                      </a:lnTo>
                      <a:lnTo>
                        <a:pt x="1377" y="288"/>
                      </a:lnTo>
                      <a:lnTo>
                        <a:pt x="1328" y="377"/>
                      </a:lnTo>
                      <a:lnTo>
                        <a:pt x="1249" y="463"/>
                      </a:lnTo>
                      <a:lnTo>
                        <a:pt x="1119" y="542"/>
                      </a:lnTo>
                      <a:lnTo>
                        <a:pt x="918" y="631"/>
                      </a:lnTo>
                      <a:lnTo>
                        <a:pt x="732" y="675"/>
                      </a:lnTo>
                      <a:lnTo>
                        <a:pt x="437" y="689"/>
                      </a:lnTo>
                      <a:lnTo>
                        <a:pt x="240" y="659"/>
                      </a:lnTo>
                      <a:lnTo>
                        <a:pt x="126" y="586"/>
                      </a:lnTo>
                      <a:lnTo>
                        <a:pt x="116" y="525"/>
                      </a:lnTo>
                      <a:lnTo>
                        <a:pt x="139" y="467"/>
                      </a:lnTo>
                      <a:lnTo>
                        <a:pt x="246" y="387"/>
                      </a:lnTo>
                      <a:lnTo>
                        <a:pt x="414" y="284"/>
                      </a:lnTo>
                      <a:lnTo>
                        <a:pt x="710" y="145"/>
                      </a:lnTo>
                      <a:lnTo>
                        <a:pt x="455" y="187"/>
                      </a:lnTo>
                      <a:lnTo>
                        <a:pt x="231" y="306"/>
                      </a:lnTo>
                      <a:lnTo>
                        <a:pt x="32" y="446"/>
                      </a:lnTo>
                      <a:lnTo>
                        <a:pt x="0" y="507"/>
                      </a:lnTo>
                      <a:lnTo>
                        <a:pt x="19" y="586"/>
                      </a:lnTo>
                      <a:lnTo>
                        <a:pt x="137" y="675"/>
                      </a:lnTo>
                      <a:lnTo>
                        <a:pt x="280" y="738"/>
                      </a:lnTo>
                      <a:lnTo>
                        <a:pt x="513" y="779"/>
                      </a:lnTo>
                      <a:lnTo>
                        <a:pt x="758" y="779"/>
                      </a:lnTo>
                      <a:lnTo>
                        <a:pt x="990" y="738"/>
                      </a:lnTo>
                      <a:lnTo>
                        <a:pt x="1163" y="659"/>
                      </a:lnTo>
                      <a:lnTo>
                        <a:pt x="1325" y="542"/>
                      </a:lnTo>
                      <a:lnTo>
                        <a:pt x="1422" y="408"/>
                      </a:lnTo>
                      <a:lnTo>
                        <a:pt x="1470" y="262"/>
                      </a:lnTo>
                      <a:lnTo>
                        <a:pt x="1480" y="123"/>
                      </a:lnTo>
                      <a:lnTo>
                        <a:pt x="1458" y="22"/>
                      </a:lnTo>
                      <a:lnTo>
                        <a:pt x="14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862720" y="5499360"/>
                  <a:ext cx="679680" cy="1053360"/>
                </a:xfrm>
                <a:custGeom>
                  <a:avLst/>
                  <a:gdLst/>
                  <a:ahLst/>
                  <a:rect l="l" t="t" r="r" b="b"/>
                  <a:pathLst>
                    <a:path w="7765" h="7867">
                      <a:moveTo>
                        <a:pt x="7368" y="0"/>
                      </a:moveTo>
                      <a:lnTo>
                        <a:pt x="7289" y="611"/>
                      </a:lnTo>
                      <a:lnTo>
                        <a:pt x="7225" y="1059"/>
                      </a:lnTo>
                      <a:lnTo>
                        <a:pt x="6871" y="2208"/>
                      </a:lnTo>
                      <a:lnTo>
                        <a:pt x="6749" y="1972"/>
                      </a:lnTo>
                      <a:lnTo>
                        <a:pt x="6602" y="1807"/>
                      </a:lnTo>
                      <a:lnTo>
                        <a:pt x="6375" y="1731"/>
                      </a:lnTo>
                      <a:lnTo>
                        <a:pt x="6149" y="1731"/>
                      </a:lnTo>
                      <a:lnTo>
                        <a:pt x="6149" y="1755"/>
                      </a:lnTo>
                      <a:lnTo>
                        <a:pt x="6419" y="1807"/>
                      </a:lnTo>
                      <a:lnTo>
                        <a:pt x="6584" y="1940"/>
                      </a:lnTo>
                      <a:lnTo>
                        <a:pt x="6709" y="2075"/>
                      </a:lnTo>
                      <a:lnTo>
                        <a:pt x="6790" y="2260"/>
                      </a:lnTo>
                      <a:lnTo>
                        <a:pt x="6812" y="2443"/>
                      </a:lnTo>
                      <a:lnTo>
                        <a:pt x="6503" y="2895"/>
                      </a:lnTo>
                      <a:lnTo>
                        <a:pt x="6354" y="2952"/>
                      </a:lnTo>
                      <a:lnTo>
                        <a:pt x="6314" y="3109"/>
                      </a:lnTo>
                      <a:lnTo>
                        <a:pt x="6354" y="3293"/>
                      </a:lnTo>
                      <a:lnTo>
                        <a:pt x="6250" y="3481"/>
                      </a:lnTo>
                      <a:lnTo>
                        <a:pt x="6019" y="3639"/>
                      </a:lnTo>
                      <a:lnTo>
                        <a:pt x="5796" y="3695"/>
                      </a:lnTo>
                      <a:lnTo>
                        <a:pt x="5527" y="3695"/>
                      </a:lnTo>
                      <a:lnTo>
                        <a:pt x="5254" y="3639"/>
                      </a:lnTo>
                      <a:lnTo>
                        <a:pt x="5191" y="3562"/>
                      </a:lnTo>
                      <a:lnTo>
                        <a:pt x="5214" y="3455"/>
                      </a:lnTo>
                      <a:lnTo>
                        <a:pt x="5314" y="3352"/>
                      </a:lnTo>
                      <a:lnTo>
                        <a:pt x="5229" y="3352"/>
                      </a:lnTo>
                      <a:lnTo>
                        <a:pt x="5128" y="3455"/>
                      </a:lnTo>
                      <a:lnTo>
                        <a:pt x="5128" y="3562"/>
                      </a:lnTo>
                      <a:lnTo>
                        <a:pt x="5229" y="3669"/>
                      </a:lnTo>
                      <a:lnTo>
                        <a:pt x="5461" y="3771"/>
                      </a:lnTo>
                      <a:lnTo>
                        <a:pt x="5774" y="3856"/>
                      </a:lnTo>
                      <a:lnTo>
                        <a:pt x="5921" y="3856"/>
                      </a:lnTo>
                      <a:lnTo>
                        <a:pt x="5961" y="4331"/>
                      </a:lnTo>
                      <a:lnTo>
                        <a:pt x="5527" y="4305"/>
                      </a:lnTo>
                      <a:lnTo>
                        <a:pt x="4740" y="4331"/>
                      </a:lnTo>
                      <a:lnTo>
                        <a:pt x="4050" y="4466"/>
                      </a:lnTo>
                      <a:lnTo>
                        <a:pt x="3177" y="4702"/>
                      </a:lnTo>
                      <a:lnTo>
                        <a:pt x="2851" y="4863"/>
                      </a:lnTo>
                      <a:lnTo>
                        <a:pt x="2434" y="4438"/>
                      </a:lnTo>
                      <a:lnTo>
                        <a:pt x="2059" y="5338"/>
                      </a:lnTo>
                      <a:lnTo>
                        <a:pt x="1683" y="5898"/>
                      </a:lnTo>
                      <a:lnTo>
                        <a:pt x="1329" y="6059"/>
                      </a:lnTo>
                      <a:lnTo>
                        <a:pt x="1105" y="6799"/>
                      </a:lnTo>
                      <a:lnTo>
                        <a:pt x="730" y="6616"/>
                      </a:lnTo>
                      <a:lnTo>
                        <a:pt x="483" y="6829"/>
                      </a:lnTo>
                      <a:lnTo>
                        <a:pt x="0" y="7013"/>
                      </a:lnTo>
                      <a:lnTo>
                        <a:pt x="27" y="7119"/>
                      </a:lnTo>
                      <a:lnTo>
                        <a:pt x="331" y="7230"/>
                      </a:lnTo>
                      <a:lnTo>
                        <a:pt x="692" y="7252"/>
                      </a:lnTo>
                      <a:lnTo>
                        <a:pt x="1208" y="7230"/>
                      </a:lnTo>
                      <a:lnTo>
                        <a:pt x="1897" y="7067"/>
                      </a:lnTo>
                      <a:lnTo>
                        <a:pt x="2264" y="7013"/>
                      </a:lnTo>
                      <a:lnTo>
                        <a:pt x="2619" y="7067"/>
                      </a:lnTo>
                      <a:lnTo>
                        <a:pt x="3034" y="6428"/>
                      </a:lnTo>
                      <a:lnTo>
                        <a:pt x="2909" y="6112"/>
                      </a:lnTo>
                      <a:lnTo>
                        <a:pt x="3347" y="5605"/>
                      </a:lnTo>
                      <a:lnTo>
                        <a:pt x="3715" y="5102"/>
                      </a:lnTo>
                      <a:lnTo>
                        <a:pt x="4076" y="4550"/>
                      </a:lnTo>
                      <a:lnTo>
                        <a:pt x="4674" y="4438"/>
                      </a:lnTo>
                      <a:lnTo>
                        <a:pt x="5229" y="4438"/>
                      </a:lnTo>
                      <a:lnTo>
                        <a:pt x="5881" y="4492"/>
                      </a:lnTo>
                      <a:lnTo>
                        <a:pt x="5626" y="5740"/>
                      </a:lnTo>
                      <a:lnTo>
                        <a:pt x="5359" y="6535"/>
                      </a:lnTo>
                      <a:lnTo>
                        <a:pt x="5214" y="6666"/>
                      </a:lnTo>
                      <a:lnTo>
                        <a:pt x="5191" y="6987"/>
                      </a:lnTo>
                      <a:lnTo>
                        <a:pt x="5071" y="7384"/>
                      </a:lnTo>
                      <a:lnTo>
                        <a:pt x="4964" y="7494"/>
                      </a:lnTo>
                      <a:lnTo>
                        <a:pt x="4633" y="7466"/>
                      </a:lnTo>
                      <a:lnTo>
                        <a:pt x="4486" y="7333"/>
                      </a:lnTo>
                      <a:lnTo>
                        <a:pt x="4468" y="7178"/>
                      </a:lnTo>
                      <a:lnTo>
                        <a:pt x="4570" y="6776"/>
                      </a:lnTo>
                      <a:lnTo>
                        <a:pt x="4570" y="6697"/>
                      </a:lnTo>
                      <a:lnTo>
                        <a:pt x="4717" y="6644"/>
                      </a:lnTo>
                      <a:lnTo>
                        <a:pt x="4865" y="6219"/>
                      </a:lnTo>
                      <a:lnTo>
                        <a:pt x="5026" y="5689"/>
                      </a:lnTo>
                      <a:lnTo>
                        <a:pt x="5071" y="5286"/>
                      </a:lnTo>
                      <a:lnTo>
                        <a:pt x="5110" y="4680"/>
                      </a:lnTo>
                      <a:lnTo>
                        <a:pt x="5003" y="5605"/>
                      </a:lnTo>
                      <a:lnTo>
                        <a:pt x="4798" y="6242"/>
                      </a:lnTo>
                      <a:lnTo>
                        <a:pt x="4674" y="6590"/>
                      </a:lnTo>
                      <a:lnTo>
                        <a:pt x="4447" y="6666"/>
                      </a:lnTo>
                      <a:lnTo>
                        <a:pt x="4447" y="6883"/>
                      </a:lnTo>
                      <a:lnTo>
                        <a:pt x="4323" y="7230"/>
                      </a:lnTo>
                      <a:lnTo>
                        <a:pt x="4423" y="7440"/>
                      </a:lnTo>
                      <a:lnTo>
                        <a:pt x="4323" y="7730"/>
                      </a:lnTo>
                      <a:lnTo>
                        <a:pt x="4384" y="7837"/>
                      </a:lnTo>
                      <a:lnTo>
                        <a:pt x="4593" y="7867"/>
                      </a:lnTo>
                      <a:lnTo>
                        <a:pt x="4798" y="7837"/>
                      </a:lnTo>
                      <a:lnTo>
                        <a:pt x="5229" y="7653"/>
                      </a:lnTo>
                      <a:lnTo>
                        <a:pt x="5693" y="7413"/>
                      </a:lnTo>
                      <a:lnTo>
                        <a:pt x="6171" y="7230"/>
                      </a:lnTo>
                      <a:lnTo>
                        <a:pt x="6772" y="7013"/>
                      </a:lnTo>
                      <a:lnTo>
                        <a:pt x="6937" y="6644"/>
                      </a:lnTo>
                      <a:lnTo>
                        <a:pt x="6834" y="6535"/>
                      </a:lnTo>
                      <a:lnTo>
                        <a:pt x="6959" y="5873"/>
                      </a:lnTo>
                      <a:lnTo>
                        <a:pt x="7058" y="5155"/>
                      </a:lnTo>
                      <a:lnTo>
                        <a:pt x="7146" y="4275"/>
                      </a:lnTo>
                      <a:lnTo>
                        <a:pt x="7169" y="3695"/>
                      </a:lnTo>
                      <a:lnTo>
                        <a:pt x="7209" y="3425"/>
                      </a:lnTo>
                      <a:lnTo>
                        <a:pt x="7765" y="3028"/>
                      </a:lnTo>
                      <a:lnTo>
                        <a:pt x="7684" y="2341"/>
                      </a:lnTo>
                      <a:lnTo>
                        <a:pt x="7519" y="1593"/>
                      </a:lnTo>
                      <a:lnTo>
                        <a:pt x="7312" y="778"/>
                      </a:lnTo>
                      <a:lnTo>
                        <a:pt x="7368" y="209"/>
                      </a:lnTo>
                      <a:lnTo>
                        <a:pt x="7394" y="61"/>
                      </a:lnTo>
                      <a:lnTo>
                        <a:pt x="73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926800" y="6030000"/>
                  <a:ext cx="108360" cy="337680"/>
                </a:xfrm>
                <a:custGeom>
                  <a:avLst/>
                  <a:gdLst/>
                  <a:ahLst/>
                  <a:rect l="l" t="t" r="r" b="b"/>
                  <a:pathLst>
                    <a:path w="1243" h="2524">
                      <a:moveTo>
                        <a:pt x="1141" y="0"/>
                      </a:moveTo>
                      <a:lnTo>
                        <a:pt x="914" y="799"/>
                      </a:lnTo>
                      <a:lnTo>
                        <a:pt x="647" y="1405"/>
                      </a:lnTo>
                      <a:lnTo>
                        <a:pt x="415" y="1807"/>
                      </a:lnTo>
                      <a:lnTo>
                        <a:pt x="188" y="1914"/>
                      </a:lnTo>
                      <a:lnTo>
                        <a:pt x="0" y="2443"/>
                      </a:lnTo>
                      <a:lnTo>
                        <a:pt x="107" y="2524"/>
                      </a:lnTo>
                      <a:lnTo>
                        <a:pt x="272" y="1993"/>
                      </a:lnTo>
                      <a:lnTo>
                        <a:pt x="540" y="1888"/>
                      </a:lnTo>
                      <a:lnTo>
                        <a:pt x="846" y="1273"/>
                      </a:lnTo>
                      <a:lnTo>
                        <a:pt x="1060" y="743"/>
                      </a:lnTo>
                      <a:lnTo>
                        <a:pt x="1182" y="298"/>
                      </a:lnTo>
                      <a:lnTo>
                        <a:pt x="1243" y="52"/>
                      </a:lnTo>
                      <a:lnTo>
                        <a:pt x="1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240720" y="4800600"/>
                  <a:ext cx="79920" cy="96120"/>
                </a:xfrm>
                <a:custGeom>
                  <a:avLst/>
                  <a:gdLst/>
                  <a:ahLst/>
                  <a:rect l="l" t="t" r="r" b="b"/>
                  <a:pathLst>
                    <a:path w="907" h="721">
                      <a:moveTo>
                        <a:pt x="907" y="721"/>
                      </a:moveTo>
                      <a:lnTo>
                        <a:pt x="815" y="433"/>
                      </a:lnTo>
                      <a:lnTo>
                        <a:pt x="664" y="235"/>
                      </a:lnTo>
                      <a:lnTo>
                        <a:pt x="494" y="92"/>
                      </a:lnTo>
                      <a:lnTo>
                        <a:pt x="336" y="22"/>
                      </a:lnTo>
                      <a:lnTo>
                        <a:pt x="226" y="0"/>
                      </a:lnTo>
                      <a:lnTo>
                        <a:pt x="127" y="22"/>
                      </a:lnTo>
                      <a:lnTo>
                        <a:pt x="35" y="62"/>
                      </a:lnTo>
                      <a:lnTo>
                        <a:pt x="0" y="143"/>
                      </a:lnTo>
                      <a:lnTo>
                        <a:pt x="5" y="250"/>
                      </a:lnTo>
                      <a:lnTo>
                        <a:pt x="56" y="143"/>
                      </a:lnTo>
                      <a:lnTo>
                        <a:pt x="137" y="92"/>
                      </a:lnTo>
                      <a:lnTo>
                        <a:pt x="226" y="62"/>
                      </a:lnTo>
                      <a:lnTo>
                        <a:pt x="343" y="77"/>
                      </a:lnTo>
                      <a:lnTo>
                        <a:pt x="512" y="165"/>
                      </a:lnTo>
                      <a:lnTo>
                        <a:pt x="685" y="324"/>
                      </a:lnTo>
                      <a:lnTo>
                        <a:pt x="779" y="453"/>
                      </a:lnTo>
                      <a:lnTo>
                        <a:pt x="840" y="581"/>
                      </a:lnTo>
                      <a:lnTo>
                        <a:pt x="907" y="7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239280" y="4806720"/>
                  <a:ext cx="81000" cy="91080"/>
                </a:xfrm>
                <a:custGeom>
                  <a:avLst/>
                  <a:gdLst/>
                  <a:ahLst/>
                  <a:rect l="l" t="t" r="r" b="b"/>
                  <a:pathLst>
                    <a:path w="929" h="681">
                      <a:moveTo>
                        <a:pt x="101" y="79"/>
                      </a:moveTo>
                      <a:lnTo>
                        <a:pt x="93" y="119"/>
                      </a:lnTo>
                      <a:lnTo>
                        <a:pt x="123" y="196"/>
                      </a:lnTo>
                      <a:lnTo>
                        <a:pt x="196" y="226"/>
                      </a:lnTo>
                      <a:lnTo>
                        <a:pt x="311" y="252"/>
                      </a:lnTo>
                      <a:lnTo>
                        <a:pt x="498" y="262"/>
                      </a:lnTo>
                      <a:lnTo>
                        <a:pt x="690" y="354"/>
                      </a:lnTo>
                      <a:lnTo>
                        <a:pt x="792" y="443"/>
                      </a:lnTo>
                      <a:lnTo>
                        <a:pt x="869" y="520"/>
                      </a:lnTo>
                      <a:lnTo>
                        <a:pt x="929" y="681"/>
                      </a:lnTo>
                      <a:lnTo>
                        <a:pt x="797" y="527"/>
                      </a:lnTo>
                      <a:lnTo>
                        <a:pt x="615" y="391"/>
                      </a:lnTo>
                      <a:lnTo>
                        <a:pt x="440" y="321"/>
                      </a:lnTo>
                      <a:lnTo>
                        <a:pt x="306" y="303"/>
                      </a:lnTo>
                      <a:lnTo>
                        <a:pt x="145" y="285"/>
                      </a:lnTo>
                      <a:lnTo>
                        <a:pt x="61" y="240"/>
                      </a:lnTo>
                      <a:lnTo>
                        <a:pt x="18" y="209"/>
                      </a:lnTo>
                      <a:lnTo>
                        <a:pt x="0" y="111"/>
                      </a:lnTo>
                      <a:lnTo>
                        <a:pt x="18" y="44"/>
                      </a:lnTo>
                      <a:lnTo>
                        <a:pt x="66" y="0"/>
                      </a:lnTo>
                      <a:lnTo>
                        <a:pt x="101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493800" y="4977000"/>
                  <a:ext cx="87480" cy="59040"/>
                </a:xfrm>
                <a:custGeom>
                  <a:avLst/>
                  <a:gdLst/>
                  <a:ahLst/>
                  <a:rect l="l" t="t" r="r" b="b"/>
                  <a:pathLst>
                    <a:path w="1000" h="435">
                      <a:moveTo>
                        <a:pt x="0" y="347"/>
                      </a:moveTo>
                      <a:lnTo>
                        <a:pt x="147" y="302"/>
                      </a:lnTo>
                      <a:lnTo>
                        <a:pt x="287" y="276"/>
                      </a:lnTo>
                      <a:lnTo>
                        <a:pt x="463" y="312"/>
                      </a:lnTo>
                      <a:lnTo>
                        <a:pt x="736" y="417"/>
                      </a:lnTo>
                      <a:lnTo>
                        <a:pt x="842" y="435"/>
                      </a:lnTo>
                      <a:lnTo>
                        <a:pt x="941" y="405"/>
                      </a:lnTo>
                      <a:lnTo>
                        <a:pt x="993" y="333"/>
                      </a:lnTo>
                      <a:lnTo>
                        <a:pt x="1000" y="236"/>
                      </a:lnTo>
                      <a:lnTo>
                        <a:pt x="955" y="160"/>
                      </a:lnTo>
                      <a:lnTo>
                        <a:pt x="901" y="89"/>
                      </a:lnTo>
                      <a:lnTo>
                        <a:pt x="776" y="12"/>
                      </a:lnTo>
                      <a:lnTo>
                        <a:pt x="621" y="0"/>
                      </a:lnTo>
                      <a:lnTo>
                        <a:pt x="491" y="35"/>
                      </a:lnTo>
                      <a:lnTo>
                        <a:pt x="603" y="45"/>
                      </a:lnTo>
                      <a:lnTo>
                        <a:pt x="776" y="71"/>
                      </a:lnTo>
                      <a:lnTo>
                        <a:pt x="887" y="173"/>
                      </a:lnTo>
                      <a:lnTo>
                        <a:pt x="909" y="258"/>
                      </a:lnTo>
                      <a:lnTo>
                        <a:pt x="893" y="320"/>
                      </a:lnTo>
                      <a:lnTo>
                        <a:pt x="824" y="377"/>
                      </a:lnTo>
                      <a:lnTo>
                        <a:pt x="713" y="333"/>
                      </a:lnTo>
                      <a:lnTo>
                        <a:pt x="562" y="236"/>
                      </a:lnTo>
                      <a:lnTo>
                        <a:pt x="379" y="200"/>
                      </a:lnTo>
                      <a:lnTo>
                        <a:pt x="219" y="214"/>
                      </a:lnTo>
                      <a:lnTo>
                        <a:pt x="99" y="258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493800" y="4977000"/>
                  <a:ext cx="79920" cy="48240"/>
                </a:xfrm>
                <a:custGeom>
                  <a:avLst/>
                  <a:gdLst/>
                  <a:ahLst/>
                  <a:rect l="l" t="t" r="r" b="b"/>
                  <a:pathLst>
                    <a:path w="916" h="356">
                      <a:moveTo>
                        <a:pt x="0" y="356"/>
                      </a:moveTo>
                      <a:lnTo>
                        <a:pt x="180" y="173"/>
                      </a:lnTo>
                      <a:lnTo>
                        <a:pt x="379" y="53"/>
                      </a:lnTo>
                      <a:lnTo>
                        <a:pt x="629" y="0"/>
                      </a:lnTo>
                      <a:lnTo>
                        <a:pt x="791" y="18"/>
                      </a:lnTo>
                      <a:lnTo>
                        <a:pt x="857" y="71"/>
                      </a:lnTo>
                      <a:lnTo>
                        <a:pt x="916" y="147"/>
                      </a:lnTo>
                      <a:lnTo>
                        <a:pt x="802" y="107"/>
                      </a:lnTo>
                      <a:lnTo>
                        <a:pt x="643" y="89"/>
                      </a:lnTo>
                      <a:lnTo>
                        <a:pt x="508" y="107"/>
                      </a:lnTo>
                      <a:lnTo>
                        <a:pt x="371" y="142"/>
                      </a:lnTo>
                      <a:lnTo>
                        <a:pt x="264" y="200"/>
                      </a:lnTo>
                      <a:lnTo>
                        <a:pt x="193" y="258"/>
                      </a:lnTo>
                      <a:lnTo>
                        <a:pt x="0" y="3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7" name=""/>
            <p:cNvSpPr/>
            <p:nvPr/>
          </p:nvSpPr>
          <p:spPr>
            <a:xfrm>
              <a:off x="5943600" y="46483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6400800" y="5486400"/>
            <a:ext cx="2558520" cy="398880"/>
            <a:chOff x="6400800" y="5486400"/>
            <a:chExt cx="2558520" cy="398880"/>
          </a:xfrm>
        </p:grpSpPr>
        <p:sp>
          <p:nvSpPr>
            <p:cNvPr id="1109" name=""/>
            <p:cNvSpPr/>
            <p:nvPr/>
          </p:nvSpPr>
          <p:spPr>
            <a:xfrm>
              <a:off x="7312680" y="548640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onsolidasi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400800" y="5715000"/>
              <a:ext cx="838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400800" y="2057400"/>
            <a:ext cx="2277360" cy="398880"/>
            <a:chOff x="6400800" y="2057400"/>
            <a:chExt cx="2277360" cy="398880"/>
          </a:xfrm>
        </p:grpSpPr>
        <p:sp>
          <p:nvSpPr>
            <p:cNvPr id="1112" name=""/>
            <p:cNvSpPr/>
            <p:nvPr/>
          </p:nvSpPr>
          <p:spPr>
            <a:xfrm>
              <a:off x="7314840" y="20574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kspansi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0800" y="2286000"/>
              <a:ext cx="838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1600200" y="152280"/>
            <a:ext cx="7238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SWOT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7543800" y="2514600"/>
            <a:ext cx="825480" cy="3048120"/>
            <a:chOff x="7543800" y="2514600"/>
            <a:chExt cx="825480" cy="3048120"/>
          </a:xfrm>
        </p:grpSpPr>
        <p:sp>
          <p:nvSpPr>
            <p:cNvPr id="1116" name=""/>
            <p:cNvSpPr/>
            <p:nvPr/>
          </p:nvSpPr>
          <p:spPr>
            <a:xfrm rot="16200000">
              <a:off x="6735960" y="3636720"/>
              <a:ext cx="244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Benguiat Bk BT"/>
                </a:rPr>
                <a:t>Strateg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Benguiat Bk BT"/>
                </a:rPr>
                <a:t>Pengemban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988400" y="2514600"/>
              <a:ext cx="0" cy="30481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600200" y="152280"/>
            <a:ext cx="7238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SWOT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990720" y="1987560"/>
            <a:ext cx="7696080" cy="4489560"/>
            <a:chOff x="990720" y="1987560"/>
            <a:chExt cx="7696080" cy="4489560"/>
          </a:xfrm>
        </p:grpSpPr>
        <p:sp>
          <p:nvSpPr>
            <p:cNvPr id="1120" name=""/>
            <p:cNvSpPr/>
            <p:nvPr/>
          </p:nvSpPr>
          <p:spPr>
            <a:xfrm>
              <a:off x="1028880" y="2031840"/>
              <a:ext cx="2419200" cy="4407120"/>
            </a:xfrm>
            <a:custGeom>
              <a:avLst/>
              <a:gdLst/>
              <a:ahLst/>
              <a:rect l="l" t="t" r="r" b="b"/>
              <a:pathLst>
                <a:path w="1524" h="2776">
                  <a:moveTo>
                    <a:pt x="5" y="0"/>
                  </a:moveTo>
                  <a:lnTo>
                    <a:pt x="0" y="2766"/>
                  </a:lnTo>
                  <a:lnTo>
                    <a:pt x="1524" y="2776"/>
                  </a:lnTo>
                  <a:lnTo>
                    <a:pt x="1512" y="9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3c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29000" y="3505320"/>
              <a:ext cx="5257800" cy="297180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28880" y="1989000"/>
              <a:ext cx="7635600" cy="1508400"/>
            </a:xfrm>
            <a:custGeom>
              <a:avLst/>
              <a:gdLst/>
              <a:ahLst/>
              <a:rect l="l" t="t" r="r" b="b"/>
              <a:pathLst>
                <a:path w="4810" h="950">
                  <a:moveTo>
                    <a:pt x="0" y="0"/>
                  </a:moveTo>
                  <a:lnTo>
                    <a:pt x="4810" y="11"/>
                  </a:lnTo>
                  <a:lnTo>
                    <a:pt x="4805" y="950"/>
                  </a:lnTo>
                  <a:lnTo>
                    <a:pt x="1518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025640" y="2006640"/>
              <a:ext cx="7635600" cy="4440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451320" y="2006640"/>
              <a:ext cx="0" cy="4440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28880" y="4921200"/>
              <a:ext cx="7651440" cy="1800"/>
            </a:xfrm>
            <a:custGeom>
              <a:avLst/>
              <a:gdLst/>
              <a:ahLst/>
              <a:rect l="l" t="t" r="r" b="b"/>
              <a:pathLst>
                <a:path w="4820" h="1">
                  <a:moveTo>
                    <a:pt x="0" y="1"/>
                  </a:moveTo>
                  <a:lnTo>
                    <a:pt x="482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25640" y="2006640"/>
              <a:ext cx="2377800" cy="1473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38440" y="2286000"/>
              <a:ext cx="24051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ength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173320" y="2057400"/>
              <a:ext cx="133668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037c03"/>
                  </a:solidFill>
                  <a:uFillTx/>
                  <a:latin typeface="Arial"/>
                </a:rPr>
                <a:t>Intern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037c03"/>
                  </a:solidFill>
                  <a:uFillTx/>
                  <a:latin typeface="Arial"/>
                </a:rPr>
                <a:t>Fac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92240" y="2792520"/>
              <a:ext cx="14270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114ffb"/>
                  </a:solidFill>
                  <a:uFillTx/>
                  <a:latin typeface="Arial"/>
                </a:rPr>
                <a:t>Extern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114ffb"/>
                  </a:solidFill>
                  <a:uFillTx/>
                  <a:latin typeface="Arial"/>
                </a:rPr>
                <a:t>Factors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66680" y="3581280"/>
              <a:ext cx="2210040" cy="13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portunities (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08920" y="3581280"/>
              <a:ext cx="231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 Strate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---------------------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3480" y="3602160"/>
              <a:ext cx="2295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O Strate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--------------------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90720" y="5181480"/>
              <a:ext cx="24368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reat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508560" y="5056200"/>
              <a:ext cx="2400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 Strate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----------------------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211080" y="5056200"/>
              <a:ext cx="231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T Strate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---------------------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524400" y="5627520"/>
              <a:ext cx="1984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 strengths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oid thre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226200" y="5627520"/>
              <a:ext cx="20988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. weaknesse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avoid thre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10080" y="4094280"/>
              <a:ext cx="21747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 strengths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ke advantage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219360" y="4094280"/>
              <a:ext cx="22359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fset weakn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take advant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opportunit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019920" y="1987560"/>
              <a:ext cx="0" cy="448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15920" y="3505320"/>
              <a:ext cx="7645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172200" y="2286000"/>
              <a:ext cx="23623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aknesses (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3429000" y="3505320"/>
            <a:ext cx="2590920" cy="1414440"/>
            <a:chOff x="3429000" y="3505320"/>
            <a:chExt cx="2590920" cy="1414440"/>
          </a:xfrm>
        </p:grpSpPr>
        <p:sp>
          <p:nvSpPr>
            <p:cNvPr id="1144" name=""/>
            <p:cNvSpPr/>
            <p:nvPr/>
          </p:nvSpPr>
          <p:spPr>
            <a:xfrm>
              <a:off x="3429000" y="3505320"/>
              <a:ext cx="2590920" cy="1414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23680" y="3733920"/>
              <a:ext cx="2475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Benguiat Bk BT"/>
                </a:rPr>
                <a:t>Ekspansi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3448080" y="3497400"/>
            <a:ext cx="5216400" cy="2941560"/>
            <a:chOff x="3448080" y="3497400"/>
            <a:chExt cx="5216400" cy="2941560"/>
          </a:xfrm>
        </p:grpSpPr>
        <p:sp>
          <p:nvSpPr>
            <p:cNvPr id="1147" name=""/>
            <p:cNvSpPr/>
            <p:nvPr/>
          </p:nvSpPr>
          <p:spPr>
            <a:xfrm>
              <a:off x="3448080" y="3497400"/>
              <a:ext cx="5216400" cy="2941560"/>
            </a:xfrm>
            <a:custGeom>
              <a:avLst/>
              <a:gdLst/>
              <a:ahLst/>
              <a:rect l="l" t="t" r="r" b="b"/>
              <a:pathLst>
                <a:path w="3286" h="1853">
                  <a:moveTo>
                    <a:pt x="3281" y="11"/>
                  </a:moveTo>
                  <a:lnTo>
                    <a:pt x="3286" y="1853"/>
                  </a:lnTo>
                  <a:lnTo>
                    <a:pt x="5" y="1848"/>
                  </a:lnTo>
                  <a:lnTo>
                    <a:pt x="0" y="903"/>
                  </a:lnTo>
                  <a:lnTo>
                    <a:pt x="1619" y="898"/>
                  </a:lnTo>
                  <a:lnTo>
                    <a:pt x="1614" y="0"/>
                  </a:lnTo>
                  <a:lnTo>
                    <a:pt x="3281" y="1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83520" y="5257800"/>
              <a:ext cx="317844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Benguiat Bk BT"/>
                </a:rPr>
                <a:t>Konsolidasi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38480" y="2438280"/>
            <a:ext cx="381240" cy="2895840"/>
          </a:xfrm>
          <a:prstGeom prst="downArrow">
            <a:avLst>
              <a:gd name="adj1" fmla="val 65000"/>
              <a:gd name="adj2" fmla="val 809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895480"/>
            <a:ext cx="1906560" cy="2590920"/>
          </a:xfrm>
          <a:custGeom>
            <a:avLst/>
            <a:gdLst/>
            <a:ahLst/>
            <a:rect l="l" t="t" r="r" b="b"/>
            <a:pathLst>
              <a:path w="1201" h="1632">
                <a:moveTo>
                  <a:pt x="1200" y="1632"/>
                </a:moveTo>
                <a:lnTo>
                  <a:pt x="1201" y="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20280" y="2556000"/>
            <a:ext cx="1166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Akses data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form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00600" y="2895480"/>
            <a:ext cx="1906560" cy="2590920"/>
          </a:xfrm>
          <a:custGeom>
            <a:avLst/>
            <a:gdLst/>
            <a:ahLst/>
            <a:rect l="l" t="t" r="r" b="b"/>
            <a:pathLst>
              <a:path w="1201" h="1632">
                <a:moveTo>
                  <a:pt x="1200" y="1632"/>
                </a:moveTo>
                <a:lnTo>
                  <a:pt x="1201" y="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99520" y="2590920"/>
            <a:ext cx="1072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Pelapo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Disku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Penyusunan Proposal Secara Terpadu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07680" y="1447920"/>
            <a:ext cx="3652560" cy="838080"/>
            <a:chOff x="2407680" y="1447920"/>
            <a:chExt cx="3652560" cy="838080"/>
          </a:xfrm>
        </p:grpSpPr>
        <p:sp>
          <p:nvSpPr>
            <p:cNvPr id="96" name=""/>
            <p:cNvSpPr/>
            <p:nvPr/>
          </p:nvSpPr>
          <p:spPr>
            <a:xfrm>
              <a:off x="2438280" y="1447920"/>
              <a:ext cx="3581640" cy="8380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07680" y="1447920"/>
              <a:ext cx="365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Rek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Pimpinan Univ./Fakul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628320" y="2666880"/>
            <a:ext cx="2134800" cy="762120"/>
            <a:chOff x="6628320" y="2666880"/>
            <a:chExt cx="2134800" cy="762120"/>
          </a:xfrm>
        </p:grpSpPr>
        <p:sp>
          <p:nvSpPr>
            <p:cNvPr id="99" name=""/>
            <p:cNvSpPr/>
            <p:nvPr/>
          </p:nvSpPr>
          <p:spPr>
            <a:xfrm>
              <a:off x="6705720" y="2666880"/>
              <a:ext cx="2057400" cy="762120"/>
            </a:xfrm>
            <a:prstGeom prst="foldedCorner">
              <a:avLst>
                <a:gd name="adj" fmla="val 12500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8320" y="2666880"/>
              <a:ext cx="195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f Akadem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mpinan PS/Ju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048120" y="5410080"/>
            <a:ext cx="2590200" cy="1219320"/>
            <a:chOff x="3048120" y="5410080"/>
            <a:chExt cx="2590200" cy="1219320"/>
          </a:xfrm>
        </p:grpSpPr>
        <p:sp>
          <p:nvSpPr>
            <p:cNvPr id="102" name=""/>
            <p:cNvSpPr/>
            <p:nvPr/>
          </p:nvSpPr>
          <p:spPr>
            <a:xfrm>
              <a:off x="3352680" y="5715000"/>
              <a:ext cx="2285640" cy="91440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0040" y="5562720"/>
              <a:ext cx="2285640" cy="91440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8120" y="5410080"/>
              <a:ext cx="2285640" cy="91440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88560" y="5415120"/>
              <a:ext cx="96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Ta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Fo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435400" y="3429000"/>
            <a:ext cx="3584520" cy="1981080"/>
            <a:chOff x="2435400" y="3429000"/>
            <a:chExt cx="3584520" cy="1981080"/>
          </a:xfrm>
        </p:grpSpPr>
        <p:sp>
          <p:nvSpPr>
            <p:cNvPr id="107" name=""/>
            <p:cNvSpPr/>
            <p:nvPr/>
          </p:nvSpPr>
          <p:spPr>
            <a:xfrm>
              <a:off x="2438280" y="3429000"/>
              <a:ext cx="358164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5400" y="3429000"/>
              <a:ext cx="357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entifikasi masala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ngembangan isu strateg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si alternat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cana Aktivi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43520" y="5103720"/>
              <a:ext cx="380880" cy="306360"/>
            </a:xfrm>
            <a:prstGeom prst="upArrow">
              <a:avLst>
                <a:gd name="adj1" fmla="val 35833"/>
                <a:gd name="adj2" fmla="val 4974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046240" y="5502240"/>
            <a:ext cx="1117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osialisasi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brosu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disku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5486400"/>
            <a:ext cx="1676160" cy="761760"/>
            <a:chOff x="380880" y="5486400"/>
            <a:chExt cx="1676160" cy="761760"/>
          </a:xfrm>
        </p:grpSpPr>
        <p:sp>
          <p:nvSpPr>
            <p:cNvPr id="112" name=""/>
            <p:cNvSpPr/>
            <p:nvPr/>
          </p:nvSpPr>
          <p:spPr>
            <a:xfrm>
              <a:off x="380880" y="5486400"/>
              <a:ext cx="1676160" cy="76176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5486400"/>
              <a:ext cx="147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hasisw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um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2055960" y="5867280"/>
            <a:ext cx="992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6840" y="2438280"/>
            <a:ext cx="1219320" cy="1313640"/>
            <a:chOff x="456840" y="2438280"/>
            <a:chExt cx="1219320" cy="1313640"/>
          </a:xfrm>
        </p:grpSpPr>
        <p:sp>
          <p:nvSpPr>
            <p:cNvPr id="116" name=""/>
            <p:cNvSpPr/>
            <p:nvPr/>
          </p:nvSpPr>
          <p:spPr>
            <a:xfrm flipH="1" flipV="1">
              <a:off x="456120" y="2438280"/>
              <a:ext cx="1219320" cy="1295280"/>
            </a:xfrm>
            <a:prstGeom prst="flowChartPunchedCar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640" y="2438280"/>
              <a:ext cx="1111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Ke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P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076400" y="1886040"/>
            <a:ext cx="1361880" cy="541080"/>
          </a:xfrm>
          <a:custGeom>
            <a:avLst/>
            <a:gdLst/>
            <a:ahLst/>
            <a:rect l="l" t="t" r="r" b="b"/>
            <a:pathLst>
              <a:path w="858" h="341">
                <a:moveTo>
                  <a:pt x="858" y="3"/>
                </a:moveTo>
                <a:lnTo>
                  <a:pt x="0" y="0"/>
                </a:lnTo>
                <a:lnTo>
                  <a:pt x="2" y="341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1905120"/>
            <a:ext cx="1676160" cy="761760"/>
          </a:xfrm>
          <a:custGeom>
            <a:avLst/>
            <a:gdLst/>
            <a:ahLst/>
            <a:rect l="l" t="t" r="r" b="b"/>
            <a:pathLst>
              <a:path w="1056" h="385">
                <a:moveTo>
                  <a:pt x="0" y="1"/>
                </a:moveTo>
                <a:lnTo>
                  <a:pt x="1056" y="0"/>
                </a:lnTo>
                <a:lnTo>
                  <a:pt x="1056" y="385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25080" y="1349280"/>
            <a:ext cx="1916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Penyada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Kepemimpinan </a:t>
            </a:r>
            <a:r>
              <a:rPr b="1" lang="en-US" sz="10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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Vi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Dukung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Komit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3429000"/>
            <a:ext cx="1676160" cy="76212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1056" y="0"/>
                </a:moveTo>
                <a:lnTo>
                  <a:pt x="1056" y="479"/>
                </a:lnTo>
                <a:lnTo>
                  <a:pt x="0" y="48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08440" y="3855960"/>
            <a:ext cx="1209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Persetuj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Komit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1880" y="3733920"/>
            <a:ext cx="1436400" cy="533160"/>
          </a:xfrm>
          <a:custGeom>
            <a:avLst/>
            <a:gdLst/>
            <a:ahLst/>
            <a:rect l="l" t="t" r="r" b="b"/>
            <a:pathLst>
              <a:path w="963" h="288">
                <a:moveTo>
                  <a:pt x="3" y="0"/>
                </a:moveTo>
                <a:lnTo>
                  <a:pt x="0" y="287"/>
                </a:lnTo>
                <a:lnTo>
                  <a:pt x="963" y="288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5120" y="3713040"/>
            <a:ext cx="1099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form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Komit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5680" y="4808520"/>
            <a:ext cx="1182600" cy="677880"/>
          </a:xfrm>
          <a:custGeom>
            <a:avLst/>
            <a:gdLst/>
            <a:ahLst/>
            <a:rect l="l" t="t" r="r" b="b"/>
            <a:pathLst>
              <a:path w="745" h="427">
                <a:moveTo>
                  <a:pt x="0" y="427"/>
                </a:moveTo>
                <a:lnTo>
                  <a:pt x="1" y="3"/>
                </a:lnTo>
                <a:lnTo>
                  <a:pt x="74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20040" y="4807080"/>
            <a:ext cx="11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Kesada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Dukung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95880" y="5334120"/>
            <a:ext cx="2286000" cy="838080"/>
            <a:chOff x="6095880" y="5334120"/>
            <a:chExt cx="2286000" cy="838080"/>
          </a:xfrm>
        </p:grpSpPr>
        <p:sp>
          <p:nvSpPr>
            <p:cNvPr id="128" name=""/>
            <p:cNvSpPr/>
            <p:nvPr/>
          </p:nvSpPr>
          <p:spPr>
            <a:xfrm>
              <a:off x="6095880" y="5334120"/>
              <a:ext cx="2286000" cy="8380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4720" y="54100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nguiat Bk BT"/>
                </a:rPr>
                <a:t>Komitmen (d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nguiat Bk BT"/>
                </a:rPr>
                <a:t>pendamp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638680" y="2438280"/>
            <a:ext cx="911520" cy="2845080"/>
          </a:xfrm>
          <a:custGeom>
            <a:avLst/>
            <a:gdLst/>
            <a:ahLst/>
            <a:rect l="l" t="t" r="r" b="b"/>
            <a:pathLst>
              <a:path w="574" h="1792">
                <a:moveTo>
                  <a:pt x="0" y="0"/>
                </a:moveTo>
                <a:cubicBezTo>
                  <a:pt x="264" y="152"/>
                  <a:pt x="386" y="277"/>
                  <a:pt x="480" y="576"/>
                </a:cubicBezTo>
                <a:cubicBezTo>
                  <a:pt x="574" y="875"/>
                  <a:pt x="568" y="1392"/>
                  <a:pt x="564" y="179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1600200" y="152280"/>
            <a:ext cx="7238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SWOT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51240" y="22017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181840" y="3886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99800" y="53848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035520" y="5916600"/>
            <a:ext cx="17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nguiat Bk BT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nguiat Bk BT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311720" y="197316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0"/>
                </a:moveTo>
                <a:lnTo>
                  <a:pt x="526" y="0"/>
                </a:lnTo>
                <a:lnTo>
                  <a:pt x="528" y="624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11720" y="3801960"/>
            <a:ext cx="838080" cy="9986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528" y="0"/>
                </a:moveTo>
                <a:lnTo>
                  <a:pt x="526" y="525"/>
                </a:lnTo>
                <a:lnTo>
                  <a:pt x="0" y="52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330280" y="3801960"/>
            <a:ext cx="914400" cy="9986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576" y="528"/>
                </a:moveTo>
                <a:lnTo>
                  <a:pt x="0" y="52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330280" y="1973160"/>
            <a:ext cx="914400" cy="990720"/>
          </a:xfrm>
          <a:custGeom>
            <a:avLst/>
            <a:gdLst/>
            <a:ahLst/>
            <a:rect l="l" t="t" r="r" b="b"/>
            <a:pathLst>
              <a:path w="576" h="624">
                <a:moveTo>
                  <a:pt x="0" y="624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3224160" y="1592280"/>
            <a:ext cx="1066680" cy="838080"/>
            <a:chOff x="3224160" y="1592280"/>
            <a:chExt cx="1066680" cy="838080"/>
          </a:xfrm>
        </p:grpSpPr>
        <p:sp>
          <p:nvSpPr>
            <p:cNvPr id="1159" name=""/>
            <p:cNvSpPr/>
            <p:nvPr/>
          </p:nvSpPr>
          <p:spPr>
            <a:xfrm>
              <a:off x="3224160" y="1592280"/>
              <a:ext cx="1066680" cy="8380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295440" y="1596960"/>
              <a:ext cx="97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enguiat Bk BT"/>
                </a:rPr>
                <a:t>W &gt;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enguiat Bk BT"/>
                </a:rPr>
                <a:t>T &gt;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243240" y="4394160"/>
            <a:ext cx="1066680" cy="838080"/>
            <a:chOff x="3243240" y="4394160"/>
            <a:chExt cx="1066680" cy="838080"/>
          </a:xfrm>
        </p:grpSpPr>
        <p:sp>
          <p:nvSpPr>
            <p:cNvPr id="1162" name=""/>
            <p:cNvSpPr/>
            <p:nvPr/>
          </p:nvSpPr>
          <p:spPr>
            <a:xfrm>
              <a:off x="3243240" y="4394160"/>
              <a:ext cx="1066680" cy="8380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314520" y="4398840"/>
              <a:ext cx="97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enguiat Bk BT"/>
                </a:rPr>
                <a:t>W &lt;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enguiat Bk BT"/>
                </a:rPr>
                <a:t>T &lt;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873080" y="2963880"/>
            <a:ext cx="1066680" cy="838080"/>
            <a:chOff x="1873080" y="2963880"/>
            <a:chExt cx="1066680" cy="838080"/>
          </a:xfrm>
        </p:grpSpPr>
        <p:sp>
          <p:nvSpPr>
            <p:cNvPr id="1165" name=""/>
            <p:cNvSpPr/>
            <p:nvPr/>
          </p:nvSpPr>
          <p:spPr>
            <a:xfrm>
              <a:off x="1873080" y="2963880"/>
              <a:ext cx="1066680" cy="8380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44360" y="2968560"/>
              <a:ext cx="97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enguiat Bk BT"/>
                </a:rPr>
                <a:t>W &gt;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enguiat Bk BT"/>
                </a:rPr>
                <a:t>T ~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616280" y="2963880"/>
            <a:ext cx="1066680" cy="838080"/>
            <a:chOff x="4616280" y="2963880"/>
            <a:chExt cx="1066680" cy="838080"/>
          </a:xfrm>
        </p:grpSpPr>
        <p:sp>
          <p:nvSpPr>
            <p:cNvPr id="1168" name=""/>
            <p:cNvSpPr/>
            <p:nvPr/>
          </p:nvSpPr>
          <p:spPr>
            <a:xfrm>
              <a:off x="4616280" y="2963880"/>
              <a:ext cx="1066680" cy="8380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87560" y="2968560"/>
              <a:ext cx="97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enguiat Bk BT"/>
                </a:rPr>
                <a:t>W ~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enguiat Bk BT"/>
                </a:rPr>
                <a:t>T &gt;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3801960" y="530856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914760" y="3886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0000" y="22017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7088040" y="2368440"/>
            <a:ext cx="1929960" cy="2022480"/>
            <a:chOff x="7088040" y="2368440"/>
            <a:chExt cx="1929960" cy="2022480"/>
          </a:xfrm>
        </p:grpSpPr>
        <p:sp>
          <p:nvSpPr>
            <p:cNvPr id="1174" name=""/>
            <p:cNvSpPr/>
            <p:nvPr/>
          </p:nvSpPr>
          <p:spPr>
            <a:xfrm>
              <a:off x="7088040" y="2368440"/>
              <a:ext cx="381240" cy="20224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52560 h 2022480"/>
                <a:gd name="textAreaBottom" fmla="*/ 1969920 h 20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15"/>
                  </a:lnTo>
                  <a:cubicBezTo>
                    <a:pt x="10800" y="9815"/>
                    <a:pt x="16200" y="10715"/>
                    <a:pt x="21600" y="10715"/>
                  </a:cubicBezTo>
                  <a:cubicBezTo>
                    <a:pt x="16200" y="10715"/>
                    <a:pt x="10800" y="11615"/>
                    <a:pt x="10800" y="1251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479360" y="3164040"/>
              <a:ext cx="15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Consolid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438120" y="2604960"/>
            <a:ext cx="6456240" cy="1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33520" y="4267080"/>
            <a:ext cx="6456240" cy="1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rsyaratan Task Force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 Akademis Jurusan/Departemen t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ahami dengan bai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s Pengelolaan Jurusan/Depart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s Pendidika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s Penelit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s Pengabdian pada Masyara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a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rmat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yg seharusny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sedia mengalokasikan waktu untuk kegiatan sebaga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sk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ahami Pandu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engan ba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rsiapan Pelaksanaan Evaluasi Dir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s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dwal Kerja Pelaksanaan Penyusunan Evaluasi Diri/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dwal berakhir pada penyerahan dok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sialisasik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dwal pada semua pihak yg terli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entuan/Pembag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ugas dan janggung jawab, semua pihak yang terlibat (pimpinan institusi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sk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enaga pendukung, ds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apk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rana/fasilitas kerja untuk kegiatan penyusunan Evaluasi Diri/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rsiapan Pelaksanaan Evaluasi Dir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hami Pandu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engan sebaik-baik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a tidak/kurang jelas </a:t>
            </a: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nyakan pada panitia pembuat pandu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dasarkan Pandu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kasi dat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a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butuh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kas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guna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se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kas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ma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sebut dapat diperol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kas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gaima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sebut dapat diperol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238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Lingkungan Eksternal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Jurusan/Departemen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209680"/>
            <a:ext cx="4037040" cy="4038840"/>
          </a:xfrm>
          <a:custGeom>
            <a:avLst/>
            <a:gdLst/>
            <a:ahLst/>
            <a:rect l="l" t="t" r="r" b="b"/>
            <a:pathLst>
              <a:path w="2543" h="2544">
                <a:moveTo>
                  <a:pt x="0" y="1271"/>
                </a:moveTo>
                <a:lnTo>
                  <a:pt x="2" y="1209"/>
                </a:lnTo>
                <a:lnTo>
                  <a:pt x="7" y="1147"/>
                </a:lnTo>
                <a:lnTo>
                  <a:pt x="14" y="1085"/>
                </a:lnTo>
                <a:lnTo>
                  <a:pt x="25" y="1024"/>
                </a:lnTo>
                <a:lnTo>
                  <a:pt x="39" y="963"/>
                </a:lnTo>
                <a:lnTo>
                  <a:pt x="55" y="903"/>
                </a:lnTo>
                <a:lnTo>
                  <a:pt x="75" y="844"/>
                </a:lnTo>
                <a:lnTo>
                  <a:pt x="98" y="785"/>
                </a:lnTo>
                <a:lnTo>
                  <a:pt x="123" y="728"/>
                </a:lnTo>
                <a:lnTo>
                  <a:pt x="151" y="673"/>
                </a:lnTo>
                <a:lnTo>
                  <a:pt x="182" y="618"/>
                </a:lnTo>
                <a:lnTo>
                  <a:pt x="215" y="566"/>
                </a:lnTo>
                <a:lnTo>
                  <a:pt x="251" y="514"/>
                </a:lnTo>
                <a:lnTo>
                  <a:pt x="289" y="465"/>
                </a:lnTo>
                <a:lnTo>
                  <a:pt x="330" y="418"/>
                </a:lnTo>
                <a:lnTo>
                  <a:pt x="373" y="373"/>
                </a:lnTo>
                <a:lnTo>
                  <a:pt x="418" y="330"/>
                </a:lnTo>
                <a:lnTo>
                  <a:pt x="466" y="289"/>
                </a:lnTo>
                <a:lnTo>
                  <a:pt x="514" y="251"/>
                </a:lnTo>
                <a:lnTo>
                  <a:pt x="566" y="214"/>
                </a:lnTo>
                <a:lnTo>
                  <a:pt x="618" y="181"/>
                </a:lnTo>
                <a:lnTo>
                  <a:pt x="673" y="150"/>
                </a:lnTo>
                <a:lnTo>
                  <a:pt x="729" y="123"/>
                </a:lnTo>
                <a:lnTo>
                  <a:pt x="786" y="97"/>
                </a:lnTo>
                <a:lnTo>
                  <a:pt x="844" y="75"/>
                </a:lnTo>
                <a:lnTo>
                  <a:pt x="903" y="55"/>
                </a:lnTo>
                <a:lnTo>
                  <a:pt x="963" y="39"/>
                </a:lnTo>
                <a:lnTo>
                  <a:pt x="1024" y="25"/>
                </a:lnTo>
                <a:lnTo>
                  <a:pt x="1085" y="14"/>
                </a:lnTo>
                <a:lnTo>
                  <a:pt x="1148" y="6"/>
                </a:lnTo>
                <a:lnTo>
                  <a:pt x="1209" y="2"/>
                </a:lnTo>
                <a:lnTo>
                  <a:pt x="1272" y="0"/>
                </a:lnTo>
                <a:lnTo>
                  <a:pt x="1334" y="2"/>
                </a:lnTo>
                <a:lnTo>
                  <a:pt x="1396" y="6"/>
                </a:lnTo>
                <a:lnTo>
                  <a:pt x="1458" y="14"/>
                </a:lnTo>
                <a:lnTo>
                  <a:pt x="1519" y="25"/>
                </a:lnTo>
                <a:lnTo>
                  <a:pt x="1580" y="39"/>
                </a:lnTo>
                <a:lnTo>
                  <a:pt x="1640" y="55"/>
                </a:lnTo>
                <a:lnTo>
                  <a:pt x="1699" y="75"/>
                </a:lnTo>
                <a:lnTo>
                  <a:pt x="1758" y="97"/>
                </a:lnTo>
                <a:lnTo>
                  <a:pt x="1815" y="123"/>
                </a:lnTo>
                <a:lnTo>
                  <a:pt x="1871" y="150"/>
                </a:lnTo>
                <a:lnTo>
                  <a:pt x="1925" y="181"/>
                </a:lnTo>
                <a:lnTo>
                  <a:pt x="1978" y="214"/>
                </a:lnTo>
                <a:lnTo>
                  <a:pt x="2028" y="251"/>
                </a:lnTo>
                <a:lnTo>
                  <a:pt x="2078" y="289"/>
                </a:lnTo>
                <a:lnTo>
                  <a:pt x="2125" y="330"/>
                </a:lnTo>
                <a:lnTo>
                  <a:pt x="2170" y="373"/>
                </a:lnTo>
                <a:lnTo>
                  <a:pt x="2213" y="418"/>
                </a:lnTo>
                <a:lnTo>
                  <a:pt x="2254" y="465"/>
                </a:lnTo>
                <a:lnTo>
                  <a:pt x="2293" y="514"/>
                </a:lnTo>
                <a:lnTo>
                  <a:pt x="2328" y="566"/>
                </a:lnTo>
                <a:lnTo>
                  <a:pt x="2362" y="618"/>
                </a:lnTo>
                <a:lnTo>
                  <a:pt x="2393" y="673"/>
                </a:lnTo>
                <a:lnTo>
                  <a:pt x="2421" y="728"/>
                </a:lnTo>
                <a:lnTo>
                  <a:pt x="2446" y="785"/>
                </a:lnTo>
                <a:lnTo>
                  <a:pt x="2468" y="844"/>
                </a:lnTo>
                <a:lnTo>
                  <a:pt x="2488" y="903"/>
                </a:lnTo>
                <a:lnTo>
                  <a:pt x="2505" y="963"/>
                </a:lnTo>
                <a:lnTo>
                  <a:pt x="2519" y="1024"/>
                </a:lnTo>
                <a:lnTo>
                  <a:pt x="2529" y="1085"/>
                </a:lnTo>
                <a:lnTo>
                  <a:pt x="2536" y="1147"/>
                </a:lnTo>
                <a:lnTo>
                  <a:pt x="2541" y="1209"/>
                </a:lnTo>
                <a:lnTo>
                  <a:pt x="2542" y="1271"/>
                </a:lnTo>
                <a:lnTo>
                  <a:pt x="2541" y="1333"/>
                </a:lnTo>
                <a:lnTo>
                  <a:pt x="2536" y="1396"/>
                </a:lnTo>
                <a:lnTo>
                  <a:pt x="2529" y="1458"/>
                </a:lnTo>
                <a:lnTo>
                  <a:pt x="2519" y="1519"/>
                </a:lnTo>
                <a:lnTo>
                  <a:pt x="2505" y="1580"/>
                </a:lnTo>
                <a:lnTo>
                  <a:pt x="2488" y="1640"/>
                </a:lnTo>
                <a:lnTo>
                  <a:pt x="2468" y="1700"/>
                </a:lnTo>
                <a:lnTo>
                  <a:pt x="2446" y="1758"/>
                </a:lnTo>
                <a:lnTo>
                  <a:pt x="2421" y="1815"/>
                </a:lnTo>
                <a:lnTo>
                  <a:pt x="2393" y="1871"/>
                </a:lnTo>
                <a:lnTo>
                  <a:pt x="2362" y="1925"/>
                </a:lnTo>
                <a:lnTo>
                  <a:pt x="2328" y="1978"/>
                </a:lnTo>
                <a:lnTo>
                  <a:pt x="2293" y="2029"/>
                </a:lnTo>
                <a:lnTo>
                  <a:pt x="2254" y="2078"/>
                </a:lnTo>
                <a:lnTo>
                  <a:pt x="2213" y="2125"/>
                </a:lnTo>
                <a:lnTo>
                  <a:pt x="2170" y="2171"/>
                </a:lnTo>
                <a:lnTo>
                  <a:pt x="2125" y="2214"/>
                </a:lnTo>
                <a:lnTo>
                  <a:pt x="2078" y="2255"/>
                </a:lnTo>
                <a:lnTo>
                  <a:pt x="2028" y="2293"/>
                </a:lnTo>
                <a:lnTo>
                  <a:pt x="1978" y="2329"/>
                </a:lnTo>
                <a:lnTo>
                  <a:pt x="1925" y="2363"/>
                </a:lnTo>
                <a:lnTo>
                  <a:pt x="1871" y="2393"/>
                </a:lnTo>
                <a:lnTo>
                  <a:pt x="1815" y="2421"/>
                </a:lnTo>
                <a:lnTo>
                  <a:pt x="1758" y="2447"/>
                </a:lnTo>
                <a:lnTo>
                  <a:pt x="1699" y="2469"/>
                </a:lnTo>
                <a:lnTo>
                  <a:pt x="1640" y="2488"/>
                </a:lnTo>
                <a:lnTo>
                  <a:pt x="1580" y="2505"/>
                </a:lnTo>
                <a:lnTo>
                  <a:pt x="1519" y="2519"/>
                </a:lnTo>
                <a:lnTo>
                  <a:pt x="1458" y="2530"/>
                </a:lnTo>
                <a:lnTo>
                  <a:pt x="1396" y="2537"/>
                </a:lnTo>
                <a:lnTo>
                  <a:pt x="1334" y="2541"/>
                </a:lnTo>
                <a:lnTo>
                  <a:pt x="1272" y="2543"/>
                </a:lnTo>
                <a:lnTo>
                  <a:pt x="1209" y="2541"/>
                </a:lnTo>
                <a:lnTo>
                  <a:pt x="1148" y="2537"/>
                </a:lnTo>
                <a:lnTo>
                  <a:pt x="1085" y="2530"/>
                </a:lnTo>
                <a:lnTo>
                  <a:pt x="1024" y="2519"/>
                </a:lnTo>
                <a:lnTo>
                  <a:pt x="963" y="2505"/>
                </a:lnTo>
                <a:lnTo>
                  <a:pt x="903" y="2488"/>
                </a:lnTo>
                <a:lnTo>
                  <a:pt x="844" y="2469"/>
                </a:lnTo>
                <a:lnTo>
                  <a:pt x="786" y="2447"/>
                </a:lnTo>
                <a:lnTo>
                  <a:pt x="729" y="2421"/>
                </a:lnTo>
                <a:lnTo>
                  <a:pt x="673" y="2393"/>
                </a:lnTo>
                <a:lnTo>
                  <a:pt x="618" y="2363"/>
                </a:lnTo>
                <a:lnTo>
                  <a:pt x="566" y="2329"/>
                </a:lnTo>
                <a:lnTo>
                  <a:pt x="514" y="2293"/>
                </a:lnTo>
                <a:lnTo>
                  <a:pt x="466" y="2255"/>
                </a:lnTo>
                <a:lnTo>
                  <a:pt x="418" y="2214"/>
                </a:lnTo>
                <a:lnTo>
                  <a:pt x="373" y="2171"/>
                </a:lnTo>
                <a:lnTo>
                  <a:pt x="330" y="2125"/>
                </a:lnTo>
                <a:lnTo>
                  <a:pt x="289" y="2078"/>
                </a:lnTo>
                <a:lnTo>
                  <a:pt x="251" y="2029"/>
                </a:lnTo>
                <a:lnTo>
                  <a:pt x="215" y="1978"/>
                </a:lnTo>
                <a:lnTo>
                  <a:pt x="182" y="1925"/>
                </a:lnTo>
                <a:lnTo>
                  <a:pt x="151" y="1871"/>
                </a:lnTo>
                <a:lnTo>
                  <a:pt x="123" y="1815"/>
                </a:lnTo>
                <a:lnTo>
                  <a:pt x="98" y="1758"/>
                </a:lnTo>
                <a:lnTo>
                  <a:pt x="75" y="1700"/>
                </a:lnTo>
                <a:lnTo>
                  <a:pt x="55" y="1640"/>
                </a:lnTo>
                <a:lnTo>
                  <a:pt x="39" y="1580"/>
                </a:lnTo>
                <a:lnTo>
                  <a:pt x="25" y="1519"/>
                </a:lnTo>
                <a:lnTo>
                  <a:pt x="14" y="1458"/>
                </a:lnTo>
                <a:lnTo>
                  <a:pt x="7" y="1396"/>
                </a:lnTo>
                <a:lnTo>
                  <a:pt x="2" y="1333"/>
                </a:lnTo>
                <a:lnTo>
                  <a:pt x="0" y="1271"/>
                </a:lnTo>
              </a:path>
            </a:pathLst>
          </a:custGeom>
          <a:solidFill>
            <a:srgbClr val="e1e1b7"/>
          </a:solidFill>
          <a:ln cap="rnd" w="2844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113000" y="3710160"/>
            <a:ext cx="1172160" cy="1101600"/>
            <a:chOff x="4113000" y="3710160"/>
            <a:chExt cx="1172160" cy="1101600"/>
          </a:xfrm>
        </p:grpSpPr>
        <p:sp>
          <p:nvSpPr>
            <p:cNvPr id="140" name=""/>
            <p:cNvSpPr/>
            <p:nvPr/>
          </p:nvSpPr>
          <p:spPr>
            <a:xfrm>
              <a:off x="4149720" y="3710160"/>
              <a:ext cx="1092240" cy="1091880"/>
            </a:xfrm>
            <a:custGeom>
              <a:avLst/>
              <a:gdLst/>
              <a:ahLst/>
              <a:rect l="l" t="t" r="r" b="b"/>
              <a:pathLst>
                <a:path w="688" h="688">
                  <a:moveTo>
                    <a:pt x="0" y="351"/>
                  </a:moveTo>
                  <a:lnTo>
                    <a:pt x="1" y="318"/>
                  </a:lnTo>
                  <a:lnTo>
                    <a:pt x="5" y="287"/>
                  </a:lnTo>
                  <a:lnTo>
                    <a:pt x="12" y="256"/>
                  </a:lnTo>
                  <a:lnTo>
                    <a:pt x="21" y="226"/>
                  </a:lnTo>
                  <a:lnTo>
                    <a:pt x="33" y="196"/>
                  </a:lnTo>
                  <a:lnTo>
                    <a:pt x="49" y="168"/>
                  </a:lnTo>
                  <a:lnTo>
                    <a:pt x="65" y="143"/>
                  </a:lnTo>
                  <a:lnTo>
                    <a:pt x="86" y="118"/>
                  </a:lnTo>
                  <a:lnTo>
                    <a:pt x="107" y="95"/>
                  </a:lnTo>
                  <a:lnTo>
                    <a:pt x="132" y="74"/>
                  </a:lnTo>
                  <a:lnTo>
                    <a:pt x="158" y="56"/>
                  </a:lnTo>
                  <a:lnTo>
                    <a:pt x="184" y="40"/>
                  </a:lnTo>
                  <a:lnTo>
                    <a:pt x="213" y="26"/>
                  </a:lnTo>
                  <a:lnTo>
                    <a:pt x="243" y="15"/>
                  </a:lnTo>
                  <a:lnTo>
                    <a:pt x="274" y="8"/>
                  </a:lnTo>
                  <a:lnTo>
                    <a:pt x="305" y="2"/>
                  </a:lnTo>
                  <a:lnTo>
                    <a:pt x="337" y="0"/>
                  </a:lnTo>
                  <a:lnTo>
                    <a:pt x="369" y="1"/>
                  </a:lnTo>
                  <a:lnTo>
                    <a:pt x="400" y="5"/>
                  </a:lnTo>
                  <a:lnTo>
                    <a:pt x="431" y="12"/>
                  </a:lnTo>
                  <a:lnTo>
                    <a:pt x="461" y="21"/>
                  </a:lnTo>
                  <a:lnTo>
                    <a:pt x="491" y="33"/>
                  </a:lnTo>
                  <a:lnTo>
                    <a:pt x="517" y="49"/>
                  </a:lnTo>
                  <a:lnTo>
                    <a:pt x="545" y="65"/>
                  </a:lnTo>
                  <a:lnTo>
                    <a:pt x="570" y="85"/>
                  </a:lnTo>
                  <a:lnTo>
                    <a:pt x="593" y="107"/>
                  </a:lnTo>
                  <a:lnTo>
                    <a:pt x="614" y="132"/>
                  </a:lnTo>
                  <a:lnTo>
                    <a:pt x="631" y="158"/>
                  </a:lnTo>
                  <a:lnTo>
                    <a:pt x="648" y="183"/>
                  </a:lnTo>
                  <a:lnTo>
                    <a:pt x="661" y="212"/>
                  </a:lnTo>
                  <a:lnTo>
                    <a:pt x="672" y="242"/>
                  </a:lnTo>
                  <a:lnTo>
                    <a:pt x="680" y="273"/>
                  </a:lnTo>
                  <a:lnTo>
                    <a:pt x="685" y="305"/>
                  </a:lnTo>
                  <a:lnTo>
                    <a:pt x="687" y="336"/>
                  </a:lnTo>
                  <a:lnTo>
                    <a:pt x="686" y="368"/>
                  </a:lnTo>
                  <a:lnTo>
                    <a:pt x="682" y="400"/>
                  </a:lnTo>
                  <a:lnTo>
                    <a:pt x="676" y="431"/>
                  </a:lnTo>
                  <a:lnTo>
                    <a:pt x="666" y="461"/>
                  </a:lnTo>
                  <a:lnTo>
                    <a:pt x="654" y="491"/>
                  </a:lnTo>
                  <a:lnTo>
                    <a:pt x="639" y="518"/>
                  </a:lnTo>
                  <a:lnTo>
                    <a:pt x="622" y="545"/>
                  </a:lnTo>
                  <a:lnTo>
                    <a:pt x="602" y="570"/>
                  </a:lnTo>
                  <a:lnTo>
                    <a:pt x="580" y="593"/>
                  </a:lnTo>
                  <a:lnTo>
                    <a:pt x="556" y="614"/>
                  </a:lnTo>
                  <a:lnTo>
                    <a:pt x="530" y="631"/>
                  </a:lnTo>
                  <a:lnTo>
                    <a:pt x="503" y="648"/>
                  </a:lnTo>
                  <a:lnTo>
                    <a:pt x="475" y="661"/>
                  </a:lnTo>
                  <a:lnTo>
                    <a:pt x="445" y="672"/>
                  </a:lnTo>
                  <a:lnTo>
                    <a:pt x="413" y="680"/>
                  </a:lnTo>
                  <a:lnTo>
                    <a:pt x="382" y="685"/>
                  </a:lnTo>
                  <a:lnTo>
                    <a:pt x="352" y="687"/>
                  </a:lnTo>
                  <a:lnTo>
                    <a:pt x="319" y="686"/>
                  </a:lnTo>
                  <a:lnTo>
                    <a:pt x="288" y="682"/>
                  </a:lnTo>
                  <a:lnTo>
                    <a:pt x="257" y="676"/>
                  </a:lnTo>
                  <a:lnTo>
                    <a:pt x="227" y="666"/>
                  </a:lnTo>
                  <a:lnTo>
                    <a:pt x="197" y="654"/>
                  </a:lnTo>
                  <a:lnTo>
                    <a:pt x="170" y="639"/>
                  </a:lnTo>
                  <a:lnTo>
                    <a:pt x="143" y="622"/>
                  </a:lnTo>
                  <a:lnTo>
                    <a:pt x="118" y="602"/>
                  </a:lnTo>
                  <a:lnTo>
                    <a:pt x="95" y="580"/>
                  </a:lnTo>
                  <a:lnTo>
                    <a:pt x="74" y="556"/>
                  </a:lnTo>
                  <a:lnTo>
                    <a:pt x="56" y="530"/>
                  </a:lnTo>
                  <a:lnTo>
                    <a:pt x="40" y="503"/>
                  </a:lnTo>
                  <a:lnTo>
                    <a:pt x="26" y="474"/>
                  </a:lnTo>
                  <a:lnTo>
                    <a:pt x="16" y="445"/>
                  </a:lnTo>
                  <a:lnTo>
                    <a:pt x="8" y="413"/>
                  </a:lnTo>
                  <a:lnTo>
                    <a:pt x="2" y="382"/>
                  </a:lnTo>
                  <a:lnTo>
                    <a:pt x="0" y="3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49720" y="3710160"/>
              <a:ext cx="1101600" cy="1101600"/>
            </a:xfrm>
            <a:custGeom>
              <a:avLst/>
              <a:gdLst/>
              <a:ahLst/>
              <a:rect l="l" t="t" r="r" b="b"/>
              <a:pathLst>
                <a:path w="694" h="694">
                  <a:moveTo>
                    <a:pt x="0" y="354"/>
                  </a:moveTo>
                  <a:lnTo>
                    <a:pt x="1" y="321"/>
                  </a:lnTo>
                  <a:lnTo>
                    <a:pt x="5" y="290"/>
                  </a:lnTo>
                  <a:lnTo>
                    <a:pt x="12" y="258"/>
                  </a:lnTo>
                  <a:lnTo>
                    <a:pt x="21" y="228"/>
                  </a:lnTo>
                  <a:lnTo>
                    <a:pt x="33" y="198"/>
                  </a:lnTo>
                  <a:lnTo>
                    <a:pt x="49" y="169"/>
                  </a:lnTo>
                  <a:lnTo>
                    <a:pt x="66" y="144"/>
                  </a:lnTo>
                  <a:lnTo>
                    <a:pt x="87" y="119"/>
                  </a:lnTo>
                  <a:lnTo>
                    <a:pt x="108" y="96"/>
                  </a:lnTo>
                  <a:lnTo>
                    <a:pt x="133" y="75"/>
                  </a:lnTo>
                  <a:lnTo>
                    <a:pt x="159" y="56"/>
                  </a:lnTo>
                  <a:lnTo>
                    <a:pt x="186" y="40"/>
                  </a:lnTo>
                  <a:lnTo>
                    <a:pt x="215" y="26"/>
                  </a:lnTo>
                  <a:lnTo>
                    <a:pt x="245" y="15"/>
                  </a:lnTo>
                  <a:lnTo>
                    <a:pt x="276" y="8"/>
                  </a:lnTo>
                  <a:lnTo>
                    <a:pt x="308" y="2"/>
                  </a:lnTo>
                  <a:lnTo>
                    <a:pt x="340" y="0"/>
                  </a:lnTo>
                  <a:lnTo>
                    <a:pt x="372" y="1"/>
                  </a:lnTo>
                  <a:lnTo>
                    <a:pt x="403" y="5"/>
                  </a:lnTo>
                  <a:lnTo>
                    <a:pt x="435" y="12"/>
                  </a:lnTo>
                  <a:lnTo>
                    <a:pt x="465" y="21"/>
                  </a:lnTo>
                  <a:lnTo>
                    <a:pt x="495" y="33"/>
                  </a:lnTo>
                  <a:lnTo>
                    <a:pt x="522" y="49"/>
                  </a:lnTo>
                  <a:lnTo>
                    <a:pt x="550" y="66"/>
                  </a:lnTo>
                  <a:lnTo>
                    <a:pt x="575" y="86"/>
                  </a:lnTo>
                  <a:lnTo>
                    <a:pt x="598" y="108"/>
                  </a:lnTo>
                  <a:lnTo>
                    <a:pt x="619" y="133"/>
                  </a:lnTo>
                  <a:lnTo>
                    <a:pt x="637" y="159"/>
                  </a:lnTo>
                  <a:lnTo>
                    <a:pt x="654" y="185"/>
                  </a:lnTo>
                  <a:lnTo>
                    <a:pt x="667" y="214"/>
                  </a:lnTo>
                  <a:lnTo>
                    <a:pt x="678" y="244"/>
                  </a:lnTo>
                  <a:lnTo>
                    <a:pt x="686" y="275"/>
                  </a:lnTo>
                  <a:lnTo>
                    <a:pt x="691" y="308"/>
                  </a:lnTo>
                  <a:lnTo>
                    <a:pt x="693" y="339"/>
                  </a:lnTo>
                  <a:lnTo>
                    <a:pt x="692" y="371"/>
                  </a:lnTo>
                  <a:lnTo>
                    <a:pt x="688" y="403"/>
                  </a:lnTo>
                  <a:lnTo>
                    <a:pt x="682" y="435"/>
                  </a:lnTo>
                  <a:lnTo>
                    <a:pt x="672" y="465"/>
                  </a:lnTo>
                  <a:lnTo>
                    <a:pt x="660" y="495"/>
                  </a:lnTo>
                  <a:lnTo>
                    <a:pt x="645" y="523"/>
                  </a:lnTo>
                  <a:lnTo>
                    <a:pt x="627" y="550"/>
                  </a:lnTo>
                  <a:lnTo>
                    <a:pt x="607" y="575"/>
                  </a:lnTo>
                  <a:lnTo>
                    <a:pt x="585" y="598"/>
                  </a:lnTo>
                  <a:lnTo>
                    <a:pt x="561" y="619"/>
                  </a:lnTo>
                  <a:lnTo>
                    <a:pt x="535" y="637"/>
                  </a:lnTo>
                  <a:lnTo>
                    <a:pt x="507" y="654"/>
                  </a:lnTo>
                  <a:lnTo>
                    <a:pt x="479" y="667"/>
                  </a:lnTo>
                  <a:lnTo>
                    <a:pt x="449" y="678"/>
                  </a:lnTo>
                  <a:lnTo>
                    <a:pt x="417" y="686"/>
                  </a:lnTo>
                  <a:lnTo>
                    <a:pt x="385" y="691"/>
                  </a:lnTo>
                  <a:lnTo>
                    <a:pt x="355" y="693"/>
                  </a:lnTo>
                  <a:lnTo>
                    <a:pt x="322" y="692"/>
                  </a:lnTo>
                  <a:lnTo>
                    <a:pt x="291" y="688"/>
                  </a:lnTo>
                  <a:lnTo>
                    <a:pt x="259" y="682"/>
                  </a:lnTo>
                  <a:lnTo>
                    <a:pt x="229" y="672"/>
                  </a:lnTo>
                  <a:lnTo>
                    <a:pt x="199" y="660"/>
                  </a:lnTo>
                  <a:lnTo>
                    <a:pt x="171" y="645"/>
                  </a:lnTo>
                  <a:lnTo>
                    <a:pt x="144" y="627"/>
                  </a:lnTo>
                  <a:lnTo>
                    <a:pt x="119" y="607"/>
                  </a:lnTo>
                  <a:lnTo>
                    <a:pt x="96" y="585"/>
                  </a:lnTo>
                  <a:lnTo>
                    <a:pt x="75" y="561"/>
                  </a:lnTo>
                  <a:lnTo>
                    <a:pt x="56" y="535"/>
                  </a:lnTo>
                  <a:lnTo>
                    <a:pt x="40" y="507"/>
                  </a:lnTo>
                  <a:lnTo>
                    <a:pt x="26" y="478"/>
                  </a:lnTo>
                  <a:lnTo>
                    <a:pt x="16" y="449"/>
                  </a:lnTo>
                  <a:lnTo>
                    <a:pt x="8" y="417"/>
                  </a:lnTo>
                  <a:lnTo>
                    <a:pt x="2" y="385"/>
                  </a:lnTo>
                  <a:lnTo>
                    <a:pt x="0" y="3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113000" y="3936960"/>
              <a:ext cx="1172160" cy="738720"/>
              <a:chOff x="4113000" y="3936960"/>
              <a:chExt cx="1172160" cy="738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230720" y="3936960"/>
                <a:ext cx="85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urusan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13000" y="4160520"/>
                <a:ext cx="117216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partemen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4149720" y="2057400"/>
            <a:ext cx="1101600" cy="552600"/>
            <a:chOff x="4149720" y="2057400"/>
            <a:chExt cx="1101600" cy="552600"/>
          </a:xfrm>
        </p:grpSpPr>
        <p:sp>
          <p:nvSpPr>
            <p:cNvPr id="146" name=""/>
            <p:cNvSpPr/>
            <p:nvPr/>
          </p:nvSpPr>
          <p:spPr>
            <a:xfrm>
              <a:off x="4149720" y="2057400"/>
              <a:ext cx="1092240" cy="542880"/>
            </a:xfrm>
            <a:custGeom>
              <a:avLst/>
              <a:gdLst/>
              <a:ahLst/>
              <a:rect l="l" t="t" r="r" b="b"/>
              <a:pathLst>
                <a:path w="688" h="342">
                  <a:moveTo>
                    <a:pt x="630" y="341"/>
                  </a:moveTo>
                  <a:lnTo>
                    <a:pt x="642" y="340"/>
                  </a:lnTo>
                  <a:lnTo>
                    <a:pt x="655" y="336"/>
                  </a:lnTo>
                  <a:lnTo>
                    <a:pt x="665" y="329"/>
                  </a:lnTo>
                  <a:lnTo>
                    <a:pt x="674" y="320"/>
                  </a:lnTo>
                  <a:lnTo>
                    <a:pt x="681" y="310"/>
                  </a:lnTo>
                  <a:lnTo>
                    <a:pt x="685" y="297"/>
                  </a:lnTo>
                  <a:lnTo>
                    <a:pt x="687" y="285"/>
                  </a:lnTo>
                  <a:lnTo>
                    <a:pt x="687" y="57"/>
                  </a:lnTo>
                  <a:lnTo>
                    <a:pt x="685" y="45"/>
                  </a:lnTo>
                  <a:lnTo>
                    <a:pt x="681" y="33"/>
                  </a:lnTo>
                  <a:lnTo>
                    <a:pt x="674" y="23"/>
                  </a:lnTo>
                  <a:lnTo>
                    <a:pt x="665" y="14"/>
                  </a:lnTo>
                  <a:lnTo>
                    <a:pt x="655" y="7"/>
                  </a:lnTo>
                  <a:lnTo>
                    <a:pt x="642" y="2"/>
                  </a:lnTo>
                  <a:lnTo>
                    <a:pt x="630" y="0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3" y="7"/>
                  </a:lnTo>
                  <a:lnTo>
                    <a:pt x="22" y="14"/>
                  </a:lnTo>
                  <a:lnTo>
                    <a:pt x="13" y="23"/>
                  </a:lnTo>
                  <a:lnTo>
                    <a:pt x="6" y="33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285"/>
                  </a:lnTo>
                  <a:lnTo>
                    <a:pt x="2" y="297"/>
                  </a:lnTo>
                  <a:lnTo>
                    <a:pt x="6" y="310"/>
                  </a:lnTo>
                  <a:lnTo>
                    <a:pt x="13" y="320"/>
                  </a:lnTo>
                  <a:lnTo>
                    <a:pt x="22" y="329"/>
                  </a:lnTo>
                  <a:lnTo>
                    <a:pt x="33" y="336"/>
                  </a:lnTo>
                  <a:lnTo>
                    <a:pt x="46" y="340"/>
                  </a:lnTo>
                  <a:lnTo>
                    <a:pt x="57" y="341"/>
                  </a:lnTo>
                  <a:lnTo>
                    <a:pt x="630" y="3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49720" y="2057400"/>
              <a:ext cx="1101600" cy="552600"/>
            </a:xfrm>
            <a:custGeom>
              <a:avLst/>
              <a:gdLst/>
              <a:ahLst/>
              <a:rect l="l" t="t" r="r" b="b"/>
              <a:pathLst>
                <a:path w="694" h="348">
                  <a:moveTo>
                    <a:pt x="635" y="347"/>
                  </a:moveTo>
                  <a:lnTo>
                    <a:pt x="648" y="346"/>
                  </a:lnTo>
                  <a:lnTo>
                    <a:pt x="661" y="342"/>
                  </a:lnTo>
                  <a:lnTo>
                    <a:pt x="671" y="335"/>
                  </a:lnTo>
                  <a:lnTo>
                    <a:pt x="680" y="326"/>
                  </a:lnTo>
                  <a:lnTo>
                    <a:pt x="687" y="315"/>
                  </a:lnTo>
                  <a:lnTo>
                    <a:pt x="691" y="302"/>
                  </a:lnTo>
                  <a:lnTo>
                    <a:pt x="693" y="290"/>
                  </a:lnTo>
                  <a:lnTo>
                    <a:pt x="693" y="58"/>
                  </a:lnTo>
                  <a:lnTo>
                    <a:pt x="691" y="46"/>
                  </a:lnTo>
                  <a:lnTo>
                    <a:pt x="687" y="34"/>
                  </a:lnTo>
                  <a:lnTo>
                    <a:pt x="680" y="23"/>
                  </a:lnTo>
                  <a:lnTo>
                    <a:pt x="671" y="14"/>
                  </a:lnTo>
                  <a:lnTo>
                    <a:pt x="661" y="7"/>
                  </a:lnTo>
                  <a:lnTo>
                    <a:pt x="648" y="2"/>
                  </a:lnTo>
                  <a:lnTo>
                    <a:pt x="635" y="0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3" y="7"/>
                  </a:lnTo>
                  <a:lnTo>
                    <a:pt x="22" y="14"/>
                  </a:lnTo>
                  <a:lnTo>
                    <a:pt x="13" y="23"/>
                  </a:lnTo>
                  <a:lnTo>
                    <a:pt x="6" y="34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0" y="290"/>
                  </a:lnTo>
                  <a:lnTo>
                    <a:pt x="2" y="302"/>
                  </a:lnTo>
                  <a:lnTo>
                    <a:pt x="6" y="315"/>
                  </a:lnTo>
                  <a:lnTo>
                    <a:pt x="13" y="326"/>
                  </a:lnTo>
                  <a:lnTo>
                    <a:pt x="22" y="335"/>
                  </a:lnTo>
                  <a:lnTo>
                    <a:pt x="33" y="342"/>
                  </a:lnTo>
                  <a:lnTo>
                    <a:pt x="46" y="346"/>
                  </a:lnTo>
                  <a:lnTo>
                    <a:pt x="58" y="347"/>
                  </a:lnTo>
                  <a:lnTo>
                    <a:pt x="635" y="3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0040" y="2192400"/>
              <a:ext cx="1001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over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590920" y="5361120"/>
            <a:ext cx="919080" cy="460080"/>
            <a:chOff x="2590920" y="5361120"/>
            <a:chExt cx="919080" cy="460080"/>
          </a:xfrm>
        </p:grpSpPr>
        <p:grpSp>
          <p:nvGrpSpPr>
            <p:cNvPr id="150" name=""/>
            <p:cNvGrpSpPr/>
            <p:nvPr/>
          </p:nvGrpSpPr>
          <p:grpSpPr>
            <a:xfrm>
              <a:off x="2590920" y="5361120"/>
              <a:ext cx="919080" cy="460080"/>
              <a:chOff x="2590920" y="5361120"/>
              <a:chExt cx="919080" cy="460080"/>
            </a:xfrm>
          </p:grpSpPr>
          <p:sp>
            <p:nvSpPr>
              <p:cNvPr id="151" name=""/>
              <p:cNvSpPr/>
              <p:nvPr/>
            </p:nvSpPr>
            <p:spPr>
              <a:xfrm>
                <a:off x="2590920" y="5361120"/>
                <a:ext cx="919080" cy="460080"/>
              </a:xfrm>
              <a:custGeom>
                <a:avLst/>
                <a:gdLst/>
                <a:ahLst/>
                <a:rect l="l" t="t" r="r" b="b"/>
                <a:pathLst>
                  <a:path w="579" h="290">
                    <a:moveTo>
                      <a:pt x="520" y="289"/>
                    </a:moveTo>
                    <a:lnTo>
                      <a:pt x="533" y="287"/>
                    </a:lnTo>
                    <a:lnTo>
                      <a:pt x="545" y="283"/>
                    </a:lnTo>
                    <a:lnTo>
                      <a:pt x="556" y="276"/>
                    </a:lnTo>
                    <a:lnTo>
                      <a:pt x="565" y="267"/>
                    </a:lnTo>
                    <a:lnTo>
                      <a:pt x="572" y="256"/>
                    </a:lnTo>
                    <a:lnTo>
                      <a:pt x="576" y="244"/>
                    </a:lnTo>
                    <a:lnTo>
                      <a:pt x="578" y="231"/>
                    </a:lnTo>
                    <a:lnTo>
                      <a:pt x="578" y="57"/>
                    </a:lnTo>
                    <a:lnTo>
                      <a:pt x="576" y="45"/>
                    </a:lnTo>
                    <a:lnTo>
                      <a:pt x="572" y="33"/>
                    </a:lnTo>
                    <a:lnTo>
                      <a:pt x="565" y="22"/>
                    </a:lnTo>
                    <a:lnTo>
                      <a:pt x="556" y="13"/>
                    </a:lnTo>
                    <a:lnTo>
                      <a:pt x="545" y="6"/>
                    </a:lnTo>
                    <a:lnTo>
                      <a:pt x="533" y="1"/>
                    </a:lnTo>
                    <a:lnTo>
                      <a:pt x="520" y="0"/>
                    </a:lnTo>
                    <a:lnTo>
                      <a:pt x="57" y="0"/>
                    </a:lnTo>
                    <a:lnTo>
                      <a:pt x="45" y="1"/>
                    </a:lnTo>
                    <a:lnTo>
                      <a:pt x="33" y="6"/>
                    </a:lnTo>
                    <a:lnTo>
                      <a:pt x="22" y="13"/>
                    </a:lnTo>
                    <a:lnTo>
                      <a:pt x="13" y="22"/>
                    </a:lnTo>
                    <a:lnTo>
                      <a:pt x="6" y="33"/>
                    </a:lnTo>
                    <a:lnTo>
                      <a:pt x="1" y="45"/>
                    </a:lnTo>
                    <a:lnTo>
                      <a:pt x="0" y="57"/>
                    </a:lnTo>
                    <a:lnTo>
                      <a:pt x="0" y="231"/>
                    </a:lnTo>
                    <a:lnTo>
                      <a:pt x="1" y="244"/>
                    </a:lnTo>
                    <a:lnTo>
                      <a:pt x="6" y="256"/>
                    </a:lnTo>
                    <a:lnTo>
                      <a:pt x="13" y="267"/>
                    </a:lnTo>
                    <a:lnTo>
                      <a:pt x="22" y="276"/>
                    </a:lnTo>
                    <a:lnTo>
                      <a:pt x="33" y="283"/>
                    </a:lnTo>
                    <a:lnTo>
                      <a:pt x="45" y="287"/>
                    </a:lnTo>
                    <a:lnTo>
                      <a:pt x="57" y="289"/>
                    </a:lnTo>
                    <a:lnTo>
                      <a:pt x="520" y="28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95600" y="5365800"/>
                <a:ext cx="909720" cy="450720"/>
              </a:xfrm>
              <a:custGeom>
                <a:avLst/>
                <a:gdLst/>
                <a:ahLst/>
                <a:rect l="l" t="t" r="r" b="b"/>
                <a:pathLst>
                  <a:path w="573" h="284">
                    <a:moveTo>
                      <a:pt x="515" y="283"/>
                    </a:moveTo>
                    <a:lnTo>
                      <a:pt x="527" y="281"/>
                    </a:lnTo>
                    <a:lnTo>
                      <a:pt x="539" y="277"/>
                    </a:lnTo>
                    <a:lnTo>
                      <a:pt x="550" y="270"/>
                    </a:lnTo>
                    <a:lnTo>
                      <a:pt x="559" y="261"/>
                    </a:lnTo>
                    <a:lnTo>
                      <a:pt x="566" y="251"/>
                    </a:lnTo>
                    <a:lnTo>
                      <a:pt x="570" y="239"/>
                    </a:lnTo>
                    <a:lnTo>
                      <a:pt x="572" y="226"/>
                    </a:lnTo>
                    <a:lnTo>
                      <a:pt x="572" y="56"/>
                    </a:lnTo>
                    <a:lnTo>
                      <a:pt x="570" y="44"/>
                    </a:lnTo>
                    <a:lnTo>
                      <a:pt x="566" y="32"/>
                    </a:lnTo>
                    <a:lnTo>
                      <a:pt x="559" y="22"/>
                    </a:lnTo>
                    <a:lnTo>
                      <a:pt x="550" y="13"/>
                    </a:lnTo>
                    <a:lnTo>
                      <a:pt x="539" y="6"/>
                    </a:lnTo>
                    <a:lnTo>
                      <a:pt x="527" y="1"/>
                    </a:lnTo>
                    <a:lnTo>
                      <a:pt x="515" y="0"/>
                    </a:lnTo>
                    <a:lnTo>
                      <a:pt x="56" y="0"/>
                    </a:lnTo>
                    <a:lnTo>
                      <a:pt x="45" y="1"/>
                    </a:lnTo>
                    <a:lnTo>
                      <a:pt x="33" y="6"/>
                    </a:lnTo>
                    <a:lnTo>
                      <a:pt x="22" y="13"/>
                    </a:lnTo>
                    <a:lnTo>
                      <a:pt x="13" y="22"/>
                    </a:lnTo>
                    <a:lnTo>
                      <a:pt x="6" y="32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0" y="226"/>
                    </a:lnTo>
                    <a:lnTo>
                      <a:pt x="1" y="239"/>
                    </a:lnTo>
                    <a:lnTo>
                      <a:pt x="6" y="251"/>
                    </a:lnTo>
                    <a:lnTo>
                      <a:pt x="13" y="261"/>
                    </a:lnTo>
                    <a:lnTo>
                      <a:pt x="22" y="270"/>
                    </a:lnTo>
                    <a:lnTo>
                      <a:pt x="33" y="277"/>
                    </a:lnTo>
                    <a:lnTo>
                      <a:pt x="45" y="281"/>
                    </a:lnTo>
                    <a:lnTo>
                      <a:pt x="56" y="283"/>
                    </a:lnTo>
                    <a:lnTo>
                      <a:pt x="515" y="2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608200" y="5397480"/>
              <a:ext cx="885600" cy="387360"/>
              <a:chOff x="2608200" y="5397480"/>
              <a:chExt cx="885600" cy="387360"/>
            </a:xfrm>
          </p:grpSpPr>
          <p:sp>
            <p:nvSpPr>
              <p:cNvPr id="154" name=""/>
              <p:cNvSpPr/>
              <p:nvPr/>
            </p:nvSpPr>
            <p:spPr>
              <a:xfrm>
                <a:off x="2736720" y="5397480"/>
                <a:ext cx="6249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08200" y="5543640"/>
                <a:ext cx="88560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takehold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209680" y="4025880"/>
            <a:ext cx="919440" cy="460440"/>
            <a:chOff x="2209680" y="4025880"/>
            <a:chExt cx="919440" cy="460440"/>
          </a:xfrm>
        </p:grpSpPr>
        <p:sp>
          <p:nvSpPr>
            <p:cNvPr id="157" name=""/>
            <p:cNvSpPr/>
            <p:nvPr/>
          </p:nvSpPr>
          <p:spPr>
            <a:xfrm>
              <a:off x="2209680" y="4025880"/>
              <a:ext cx="909720" cy="450720"/>
            </a:xfrm>
            <a:custGeom>
              <a:avLst/>
              <a:gdLst/>
              <a:ahLst/>
              <a:rect l="l" t="t" r="r" b="b"/>
              <a:pathLst>
                <a:path w="573" h="284">
                  <a:moveTo>
                    <a:pt x="515" y="283"/>
                  </a:moveTo>
                  <a:lnTo>
                    <a:pt x="527" y="281"/>
                  </a:lnTo>
                  <a:lnTo>
                    <a:pt x="539" y="277"/>
                  </a:lnTo>
                  <a:lnTo>
                    <a:pt x="550" y="270"/>
                  </a:lnTo>
                  <a:lnTo>
                    <a:pt x="559" y="261"/>
                  </a:lnTo>
                  <a:lnTo>
                    <a:pt x="566" y="251"/>
                  </a:lnTo>
                  <a:lnTo>
                    <a:pt x="570" y="239"/>
                  </a:lnTo>
                  <a:lnTo>
                    <a:pt x="572" y="226"/>
                  </a:lnTo>
                  <a:lnTo>
                    <a:pt x="572" y="56"/>
                  </a:lnTo>
                  <a:lnTo>
                    <a:pt x="570" y="44"/>
                  </a:lnTo>
                  <a:lnTo>
                    <a:pt x="566" y="32"/>
                  </a:lnTo>
                  <a:lnTo>
                    <a:pt x="559" y="22"/>
                  </a:lnTo>
                  <a:lnTo>
                    <a:pt x="550" y="13"/>
                  </a:lnTo>
                  <a:lnTo>
                    <a:pt x="539" y="6"/>
                  </a:lnTo>
                  <a:lnTo>
                    <a:pt x="527" y="1"/>
                  </a:lnTo>
                  <a:lnTo>
                    <a:pt x="515" y="0"/>
                  </a:lnTo>
                  <a:lnTo>
                    <a:pt x="56" y="0"/>
                  </a:lnTo>
                  <a:lnTo>
                    <a:pt x="45" y="1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6" y="32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0" y="226"/>
                  </a:lnTo>
                  <a:lnTo>
                    <a:pt x="1" y="239"/>
                  </a:lnTo>
                  <a:lnTo>
                    <a:pt x="6" y="251"/>
                  </a:lnTo>
                  <a:lnTo>
                    <a:pt x="13" y="261"/>
                  </a:lnTo>
                  <a:lnTo>
                    <a:pt x="22" y="270"/>
                  </a:lnTo>
                  <a:lnTo>
                    <a:pt x="33" y="277"/>
                  </a:lnTo>
                  <a:lnTo>
                    <a:pt x="45" y="281"/>
                  </a:lnTo>
                  <a:lnTo>
                    <a:pt x="56" y="283"/>
                  </a:lnTo>
                  <a:lnTo>
                    <a:pt x="515" y="2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09680" y="4025880"/>
              <a:ext cx="919440" cy="460440"/>
            </a:xfrm>
            <a:custGeom>
              <a:avLst/>
              <a:gdLst/>
              <a:ahLst/>
              <a:rect l="l" t="t" r="r" b="b"/>
              <a:pathLst>
                <a:path w="579" h="290">
                  <a:moveTo>
                    <a:pt x="520" y="289"/>
                  </a:moveTo>
                  <a:lnTo>
                    <a:pt x="533" y="287"/>
                  </a:lnTo>
                  <a:lnTo>
                    <a:pt x="545" y="283"/>
                  </a:lnTo>
                  <a:lnTo>
                    <a:pt x="556" y="276"/>
                  </a:lnTo>
                  <a:lnTo>
                    <a:pt x="565" y="267"/>
                  </a:lnTo>
                  <a:lnTo>
                    <a:pt x="572" y="256"/>
                  </a:lnTo>
                  <a:lnTo>
                    <a:pt x="576" y="244"/>
                  </a:lnTo>
                  <a:lnTo>
                    <a:pt x="578" y="231"/>
                  </a:lnTo>
                  <a:lnTo>
                    <a:pt x="578" y="57"/>
                  </a:lnTo>
                  <a:lnTo>
                    <a:pt x="576" y="45"/>
                  </a:lnTo>
                  <a:lnTo>
                    <a:pt x="572" y="33"/>
                  </a:lnTo>
                  <a:lnTo>
                    <a:pt x="565" y="22"/>
                  </a:lnTo>
                  <a:lnTo>
                    <a:pt x="556" y="13"/>
                  </a:lnTo>
                  <a:lnTo>
                    <a:pt x="545" y="6"/>
                  </a:lnTo>
                  <a:lnTo>
                    <a:pt x="533" y="1"/>
                  </a:lnTo>
                  <a:lnTo>
                    <a:pt x="520" y="0"/>
                  </a:lnTo>
                  <a:lnTo>
                    <a:pt x="57" y="0"/>
                  </a:lnTo>
                  <a:lnTo>
                    <a:pt x="45" y="1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6" y="33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231"/>
                  </a:lnTo>
                  <a:lnTo>
                    <a:pt x="1" y="244"/>
                  </a:lnTo>
                  <a:lnTo>
                    <a:pt x="6" y="256"/>
                  </a:lnTo>
                  <a:lnTo>
                    <a:pt x="13" y="267"/>
                  </a:lnTo>
                  <a:lnTo>
                    <a:pt x="22" y="276"/>
                  </a:lnTo>
                  <a:lnTo>
                    <a:pt x="33" y="283"/>
                  </a:lnTo>
                  <a:lnTo>
                    <a:pt x="45" y="287"/>
                  </a:lnTo>
                  <a:lnTo>
                    <a:pt x="57" y="289"/>
                  </a:lnTo>
                  <a:lnTo>
                    <a:pt x="520" y="2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49640" y="4062240"/>
              <a:ext cx="841320" cy="387360"/>
              <a:chOff x="2249640" y="4062240"/>
              <a:chExt cx="841320" cy="387360"/>
            </a:xfrm>
          </p:grpSpPr>
          <p:sp>
            <p:nvSpPr>
              <p:cNvPr id="160" name=""/>
              <p:cNvSpPr/>
              <p:nvPr/>
            </p:nvSpPr>
            <p:spPr>
              <a:xfrm>
                <a:off x="2249640" y="4062240"/>
                <a:ext cx="8413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High Scho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93200" y="4208400"/>
                <a:ext cx="753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adua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6248520" y="4025880"/>
            <a:ext cx="919080" cy="460080"/>
            <a:chOff x="6248520" y="4025880"/>
            <a:chExt cx="919080" cy="460080"/>
          </a:xfrm>
        </p:grpSpPr>
        <p:sp>
          <p:nvSpPr>
            <p:cNvPr id="163" name=""/>
            <p:cNvSpPr/>
            <p:nvPr/>
          </p:nvSpPr>
          <p:spPr>
            <a:xfrm>
              <a:off x="6248520" y="4025880"/>
              <a:ext cx="909360" cy="450720"/>
            </a:xfrm>
            <a:custGeom>
              <a:avLst/>
              <a:gdLst/>
              <a:ahLst/>
              <a:rect l="l" t="t" r="r" b="b"/>
              <a:pathLst>
                <a:path w="573" h="284">
                  <a:moveTo>
                    <a:pt x="515" y="283"/>
                  </a:moveTo>
                  <a:lnTo>
                    <a:pt x="527" y="281"/>
                  </a:lnTo>
                  <a:lnTo>
                    <a:pt x="539" y="277"/>
                  </a:lnTo>
                  <a:lnTo>
                    <a:pt x="550" y="270"/>
                  </a:lnTo>
                  <a:lnTo>
                    <a:pt x="559" y="261"/>
                  </a:lnTo>
                  <a:lnTo>
                    <a:pt x="566" y="251"/>
                  </a:lnTo>
                  <a:lnTo>
                    <a:pt x="570" y="239"/>
                  </a:lnTo>
                  <a:lnTo>
                    <a:pt x="572" y="226"/>
                  </a:lnTo>
                  <a:lnTo>
                    <a:pt x="572" y="56"/>
                  </a:lnTo>
                  <a:lnTo>
                    <a:pt x="570" y="44"/>
                  </a:lnTo>
                  <a:lnTo>
                    <a:pt x="566" y="32"/>
                  </a:lnTo>
                  <a:lnTo>
                    <a:pt x="559" y="22"/>
                  </a:lnTo>
                  <a:lnTo>
                    <a:pt x="550" y="13"/>
                  </a:lnTo>
                  <a:lnTo>
                    <a:pt x="539" y="6"/>
                  </a:lnTo>
                  <a:lnTo>
                    <a:pt x="527" y="1"/>
                  </a:lnTo>
                  <a:lnTo>
                    <a:pt x="515" y="0"/>
                  </a:lnTo>
                  <a:lnTo>
                    <a:pt x="56" y="0"/>
                  </a:lnTo>
                  <a:lnTo>
                    <a:pt x="45" y="1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6" y="32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0" y="226"/>
                  </a:lnTo>
                  <a:lnTo>
                    <a:pt x="1" y="239"/>
                  </a:lnTo>
                  <a:lnTo>
                    <a:pt x="6" y="251"/>
                  </a:lnTo>
                  <a:lnTo>
                    <a:pt x="13" y="261"/>
                  </a:lnTo>
                  <a:lnTo>
                    <a:pt x="22" y="270"/>
                  </a:lnTo>
                  <a:lnTo>
                    <a:pt x="33" y="277"/>
                  </a:lnTo>
                  <a:lnTo>
                    <a:pt x="45" y="281"/>
                  </a:lnTo>
                  <a:lnTo>
                    <a:pt x="56" y="283"/>
                  </a:lnTo>
                  <a:lnTo>
                    <a:pt x="515" y="2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4025880"/>
              <a:ext cx="919080" cy="460080"/>
            </a:xfrm>
            <a:custGeom>
              <a:avLst/>
              <a:gdLst/>
              <a:ahLst/>
              <a:rect l="l" t="t" r="r" b="b"/>
              <a:pathLst>
                <a:path w="579" h="290">
                  <a:moveTo>
                    <a:pt x="520" y="289"/>
                  </a:moveTo>
                  <a:lnTo>
                    <a:pt x="533" y="287"/>
                  </a:lnTo>
                  <a:lnTo>
                    <a:pt x="545" y="283"/>
                  </a:lnTo>
                  <a:lnTo>
                    <a:pt x="556" y="276"/>
                  </a:lnTo>
                  <a:lnTo>
                    <a:pt x="565" y="267"/>
                  </a:lnTo>
                  <a:lnTo>
                    <a:pt x="572" y="256"/>
                  </a:lnTo>
                  <a:lnTo>
                    <a:pt x="576" y="244"/>
                  </a:lnTo>
                  <a:lnTo>
                    <a:pt x="578" y="231"/>
                  </a:lnTo>
                  <a:lnTo>
                    <a:pt x="578" y="57"/>
                  </a:lnTo>
                  <a:lnTo>
                    <a:pt x="576" y="45"/>
                  </a:lnTo>
                  <a:lnTo>
                    <a:pt x="572" y="33"/>
                  </a:lnTo>
                  <a:lnTo>
                    <a:pt x="565" y="22"/>
                  </a:lnTo>
                  <a:lnTo>
                    <a:pt x="556" y="13"/>
                  </a:lnTo>
                  <a:lnTo>
                    <a:pt x="545" y="6"/>
                  </a:lnTo>
                  <a:lnTo>
                    <a:pt x="533" y="1"/>
                  </a:lnTo>
                  <a:lnTo>
                    <a:pt x="520" y="0"/>
                  </a:lnTo>
                  <a:lnTo>
                    <a:pt x="57" y="0"/>
                  </a:lnTo>
                  <a:lnTo>
                    <a:pt x="45" y="1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6" y="33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231"/>
                  </a:lnTo>
                  <a:lnTo>
                    <a:pt x="1" y="244"/>
                  </a:lnTo>
                  <a:lnTo>
                    <a:pt x="6" y="256"/>
                  </a:lnTo>
                  <a:lnTo>
                    <a:pt x="13" y="267"/>
                  </a:lnTo>
                  <a:lnTo>
                    <a:pt x="22" y="276"/>
                  </a:lnTo>
                  <a:lnTo>
                    <a:pt x="33" y="283"/>
                  </a:lnTo>
                  <a:lnTo>
                    <a:pt x="45" y="287"/>
                  </a:lnTo>
                  <a:lnTo>
                    <a:pt x="57" y="289"/>
                  </a:lnTo>
                  <a:lnTo>
                    <a:pt x="520" y="2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7200" y="4046400"/>
              <a:ext cx="51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ab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75960" y="4192560"/>
              <a:ext cx="590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r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57640" y="2730600"/>
            <a:ext cx="2889000" cy="3114720"/>
            <a:chOff x="3257640" y="2730600"/>
            <a:chExt cx="2889000" cy="3114720"/>
          </a:xfrm>
        </p:grpSpPr>
        <p:sp>
          <p:nvSpPr>
            <p:cNvPr id="168" name=""/>
            <p:cNvSpPr/>
            <p:nvPr/>
          </p:nvSpPr>
          <p:spPr>
            <a:xfrm>
              <a:off x="4695840" y="4940280"/>
              <a:ext cx="0" cy="9050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95840" y="2730600"/>
              <a:ext cx="0" cy="9046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4120" y="4149720"/>
              <a:ext cx="8125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57640" y="4149720"/>
              <a:ext cx="8128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6360" y="4632480"/>
              <a:ext cx="537840" cy="6300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501720" y="4632480"/>
              <a:ext cx="561960" cy="6300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152680" y="3263760"/>
              <a:ext cx="563400" cy="6303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29160" y="3340080"/>
              <a:ext cx="60948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24240" y="41781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81640" y="417816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90920" y="2743200"/>
            <a:ext cx="946080" cy="460440"/>
            <a:chOff x="2590920" y="2743200"/>
            <a:chExt cx="946080" cy="460440"/>
          </a:xfrm>
        </p:grpSpPr>
        <p:sp>
          <p:nvSpPr>
            <p:cNvPr id="179" name=""/>
            <p:cNvSpPr/>
            <p:nvPr/>
          </p:nvSpPr>
          <p:spPr>
            <a:xfrm>
              <a:off x="2590920" y="2743200"/>
              <a:ext cx="907920" cy="450720"/>
            </a:xfrm>
            <a:custGeom>
              <a:avLst/>
              <a:gdLst/>
              <a:ahLst/>
              <a:rect l="l" t="t" r="r" b="b"/>
              <a:pathLst>
                <a:path w="572" h="284">
                  <a:moveTo>
                    <a:pt x="515" y="283"/>
                  </a:moveTo>
                  <a:lnTo>
                    <a:pt x="527" y="282"/>
                  </a:lnTo>
                  <a:lnTo>
                    <a:pt x="539" y="277"/>
                  </a:lnTo>
                  <a:lnTo>
                    <a:pt x="550" y="271"/>
                  </a:lnTo>
                  <a:lnTo>
                    <a:pt x="559" y="262"/>
                  </a:lnTo>
                  <a:lnTo>
                    <a:pt x="566" y="251"/>
                  </a:lnTo>
                  <a:lnTo>
                    <a:pt x="570" y="240"/>
                  </a:lnTo>
                  <a:lnTo>
                    <a:pt x="571" y="227"/>
                  </a:lnTo>
                  <a:lnTo>
                    <a:pt x="571" y="57"/>
                  </a:lnTo>
                  <a:lnTo>
                    <a:pt x="570" y="44"/>
                  </a:lnTo>
                  <a:lnTo>
                    <a:pt x="566" y="32"/>
                  </a:lnTo>
                  <a:lnTo>
                    <a:pt x="559" y="22"/>
                  </a:lnTo>
                  <a:lnTo>
                    <a:pt x="550" y="13"/>
                  </a:lnTo>
                  <a:lnTo>
                    <a:pt x="539" y="6"/>
                  </a:lnTo>
                  <a:lnTo>
                    <a:pt x="527" y="2"/>
                  </a:lnTo>
                  <a:lnTo>
                    <a:pt x="515" y="0"/>
                  </a:lnTo>
                  <a:lnTo>
                    <a:pt x="56" y="0"/>
                  </a:lnTo>
                  <a:lnTo>
                    <a:pt x="45" y="2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6" y="32"/>
                  </a:lnTo>
                  <a:lnTo>
                    <a:pt x="1" y="44"/>
                  </a:lnTo>
                  <a:lnTo>
                    <a:pt x="0" y="57"/>
                  </a:lnTo>
                  <a:lnTo>
                    <a:pt x="0" y="227"/>
                  </a:lnTo>
                  <a:lnTo>
                    <a:pt x="1" y="240"/>
                  </a:lnTo>
                  <a:lnTo>
                    <a:pt x="6" y="251"/>
                  </a:lnTo>
                  <a:lnTo>
                    <a:pt x="13" y="262"/>
                  </a:lnTo>
                  <a:lnTo>
                    <a:pt x="22" y="271"/>
                  </a:lnTo>
                  <a:lnTo>
                    <a:pt x="33" y="277"/>
                  </a:lnTo>
                  <a:lnTo>
                    <a:pt x="45" y="282"/>
                  </a:lnTo>
                  <a:lnTo>
                    <a:pt x="56" y="283"/>
                  </a:lnTo>
                  <a:lnTo>
                    <a:pt x="515" y="2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2743200"/>
              <a:ext cx="917640" cy="460440"/>
            </a:xfrm>
            <a:custGeom>
              <a:avLst/>
              <a:gdLst/>
              <a:ahLst/>
              <a:rect l="l" t="t" r="r" b="b"/>
              <a:pathLst>
                <a:path w="578" h="290">
                  <a:moveTo>
                    <a:pt x="520" y="289"/>
                  </a:moveTo>
                  <a:lnTo>
                    <a:pt x="533" y="288"/>
                  </a:lnTo>
                  <a:lnTo>
                    <a:pt x="545" y="283"/>
                  </a:lnTo>
                  <a:lnTo>
                    <a:pt x="556" y="277"/>
                  </a:lnTo>
                  <a:lnTo>
                    <a:pt x="565" y="268"/>
                  </a:lnTo>
                  <a:lnTo>
                    <a:pt x="572" y="256"/>
                  </a:lnTo>
                  <a:lnTo>
                    <a:pt x="576" y="245"/>
                  </a:lnTo>
                  <a:lnTo>
                    <a:pt x="577" y="232"/>
                  </a:lnTo>
                  <a:lnTo>
                    <a:pt x="577" y="58"/>
                  </a:lnTo>
                  <a:lnTo>
                    <a:pt x="576" y="45"/>
                  </a:lnTo>
                  <a:lnTo>
                    <a:pt x="572" y="33"/>
                  </a:lnTo>
                  <a:lnTo>
                    <a:pt x="565" y="22"/>
                  </a:lnTo>
                  <a:lnTo>
                    <a:pt x="556" y="13"/>
                  </a:lnTo>
                  <a:lnTo>
                    <a:pt x="545" y="6"/>
                  </a:lnTo>
                  <a:lnTo>
                    <a:pt x="533" y="2"/>
                  </a:lnTo>
                  <a:lnTo>
                    <a:pt x="520" y="0"/>
                  </a:lnTo>
                  <a:lnTo>
                    <a:pt x="57" y="0"/>
                  </a:lnTo>
                  <a:lnTo>
                    <a:pt x="45" y="2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6" y="33"/>
                  </a:lnTo>
                  <a:lnTo>
                    <a:pt x="1" y="45"/>
                  </a:lnTo>
                  <a:lnTo>
                    <a:pt x="0" y="58"/>
                  </a:lnTo>
                  <a:lnTo>
                    <a:pt x="0" y="232"/>
                  </a:lnTo>
                  <a:lnTo>
                    <a:pt x="1" y="245"/>
                  </a:lnTo>
                  <a:lnTo>
                    <a:pt x="6" y="256"/>
                  </a:lnTo>
                  <a:lnTo>
                    <a:pt x="13" y="268"/>
                  </a:lnTo>
                  <a:lnTo>
                    <a:pt x="22" y="277"/>
                  </a:lnTo>
                  <a:lnTo>
                    <a:pt x="33" y="283"/>
                  </a:lnTo>
                  <a:lnTo>
                    <a:pt x="45" y="288"/>
                  </a:lnTo>
                  <a:lnTo>
                    <a:pt x="57" y="289"/>
                  </a:lnTo>
                  <a:lnTo>
                    <a:pt x="520" y="2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2920" y="2771640"/>
              <a:ext cx="677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44920" y="2919240"/>
              <a:ext cx="892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mun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1320" y="2743200"/>
            <a:ext cx="917280" cy="460440"/>
            <a:chOff x="5791320" y="2743200"/>
            <a:chExt cx="917280" cy="460440"/>
          </a:xfrm>
        </p:grpSpPr>
        <p:sp>
          <p:nvSpPr>
            <p:cNvPr id="184" name=""/>
            <p:cNvSpPr/>
            <p:nvPr/>
          </p:nvSpPr>
          <p:spPr>
            <a:xfrm>
              <a:off x="5794200" y="2747880"/>
              <a:ext cx="907560" cy="451080"/>
            </a:xfrm>
            <a:custGeom>
              <a:avLst/>
              <a:gdLst/>
              <a:ahLst/>
              <a:rect l="l" t="t" r="r" b="b"/>
              <a:pathLst>
                <a:path w="572" h="284">
                  <a:moveTo>
                    <a:pt x="515" y="283"/>
                  </a:moveTo>
                  <a:lnTo>
                    <a:pt x="527" y="282"/>
                  </a:lnTo>
                  <a:lnTo>
                    <a:pt x="539" y="277"/>
                  </a:lnTo>
                  <a:lnTo>
                    <a:pt x="550" y="271"/>
                  </a:lnTo>
                  <a:lnTo>
                    <a:pt x="559" y="262"/>
                  </a:lnTo>
                  <a:lnTo>
                    <a:pt x="566" y="251"/>
                  </a:lnTo>
                  <a:lnTo>
                    <a:pt x="570" y="240"/>
                  </a:lnTo>
                  <a:lnTo>
                    <a:pt x="571" y="226"/>
                  </a:lnTo>
                  <a:lnTo>
                    <a:pt x="571" y="57"/>
                  </a:lnTo>
                  <a:lnTo>
                    <a:pt x="570" y="44"/>
                  </a:lnTo>
                  <a:lnTo>
                    <a:pt x="566" y="32"/>
                  </a:lnTo>
                  <a:lnTo>
                    <a:pt x="559" y="22"/>
                  </a:lnTo>
                  <a:lnTo>
                    <a:pt x="550" y="12"/>
                  </a:lnTo>
                  <a:lnTo>
                    <a:pt x="539" y="6"/>
                  </a:lnTo>
                  <a:lnTo>
                    <a:pt x="527" y="2"/>
                  </a:lnTo>
                  <a:lnTo>
                    <a:pt x="515" y="0"/>
                  </a:lnTo>
                  <a:lnTo>
                    <a:pt x="56" y="0"/>
                  </a:lnTo>
                  <a:lnTo>
                    <a:pt x="45" y="2"/>
                  </a:lnTo>
                  <a:lnTo>
                    <a:pt x="33" y="6"/>
                  </a:lnTo>
                  <a:lnTo>
                    <a:pt x="22" y="12"/>
                  </a:lnTo>
                  <a:lnTo>
                    <a:pt x="13" y="22"/>
                  </a:lnTo>
                  <a:lnTo>
                    <a:pt x="6" y="32"/>
                  </a:lnTo>
                  <a:lnTo>
                    <a:pt x="1" y="44"/>
                  </a:lnTo>
                  <a:lnTo>
                    <a:pt x="0" y="57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6" y="251"/>
                  </a:lnTo>
                  <a:lnTo>
                    <a:pt x="13" y="262"/>
                  </a:lnTo>
                  <a:lnTo>
                    <a:pt x="22" y="271"/>
                  </a:lnTo>
                  <a:lnTo>
                    <a:pt x="33" y="277"/>
                  </a:lnTo>
                  <a:lnTo>
                    <a:pt x="45" y="282"/>
                  </a:lnTo>
                  <a:lnTo>
                    <a:pt x="56" y="283"/>
                  </a:lnTo>
                  <a:lnTo>
                    <a:pt x="515" y="2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1320" y="2743200"/>
              <a:ext cx="917280" cy="460440"/>
            </a:xfrm>
            <a:custGeom>
              <a:avLst/>
              <a:gdLst/>
              <a:ahLst/>
              <a:rect l="l" t="t" r="r" b="b"/>
              <a:pathLst>
                <a:path w="578" h="290">
                  <a:moveTo>
                    <a:pt x="520" y="289"/>
                  </a:moveTo>
                  <a:lnTo>
                    <a:pt x="533" y="288"/>
                  </a:lnTo>
                  <a:lnTo>
                    <a:pt x="545" y="283"/>
                  </a:lnTo>
                  <a:lnTo>
                    <a:pt x="556" y="277"/>
                  </a:lnTo>
                  <a:lnTo>
                    <a:pt x="565" y="268"/>
                  </a:lnTo>
                  <a:lnTo>
                    <a:pt x="572" y="256"/>
                  </a:lnTo>
                  <a:lnTo>
                    <a:pt x="576" y="245"/>
                  </a:lnTo>
                  <a:lnTo>
                    <a:pt x="577" y="231"/>
                  </a:lnTo>
                  <a:lnTo>
                    <a:pt x="577" y="58"/>
                  </a:lnTo>
                  <a:lnTo>
                    <a:pt x="576" y="45"/>
                  </a:lnTo>
                  <a:lnTo>
                    <a:pt x="572" y="33"/>
                  </a:lnTo>
                  <a:lnTo>
                    <a:pt x="565" y="22"/>
                  </a:lnTo>
                  <a:lnTo>
                    <a:pt x="556" y="12"/>
                  </a:lnTo>
                  <a:lnTo>
                    <a:pt x="545" y="6"/>
                  </a:lnTo>
                  <a:lnTo>
                    <a:pt x="533" y="2"/>
                  </a:lnTo>
                  <a:lnTo>
                    <a:pt x="520" y="0"/>
                  </a:lnTo>
                  <a:lnTo>
                    <a:pt x="57" y="0"/>
                  </a:lnTo>
                  <a:lnTo>
                    <a:pt x="45" y="2"/>
                  </a:lnTo>
                  <a:lnTo>
                    <a:pt x="33" y="6"/>
                  </a:lnTo>
                  <a:lnTo>
                    <a:pt x="22" y="12"/>
                  </a:lnTo>
                  <a:lnTo>
                    <a:pt x="13" y="22"/>
                  </a:lnTo>
                  <a:lnTo>
                    <a:pt x="6" y="33"/>
                  </a:lnTo>
                  <a:lnTo>
                    <a:pt x="1" y="45"/>
                  </a:lnTo>
                  <a:lnTo>
                    <a:pt x="0" y="58"/>
                  </a:lnTo>
                  <a:lnTo>
                    <a:pt x="0" y="231"/>
                  </a:lnTo>
                  <a:lnTo>
                    <a:pt x="1" y="245"/>
                  </a:lnTo>
                  <a:lnTo>
                    <a:pt x="6" y="256"/>
                  </a:lnTo>
                  <a:lnTo>
                    <a:pt x="13" y="268"/>
                  </a:lnTo>
                  <a:lnTo>
                    <a:pt x="22" y="277"/>
                  </a:lnTo>
                  <a:lnTo>
                    <a:pt x="33" y="283"/>
                  </a:lnTo>
                  <a:lnTo>
                    <a:pt x="45" y="288"/>
                  </a:lnTo>
                  <a:lnTo>
                    <a:pt x="57" y="289"/>
                  </a:lnTo>
                  <a:lnTo>
                    <a:pt x="520" y="2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73040" y="2836800"/>
              <a:ext cx="749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dus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191840" y="6019920"/>
            <a:ext cx="992160" cy="460080"/>
            <a:chOff x="4191840" y="6019920"/>
            <a:chExt cx="992160" cy="460080"/>
          </a:xfrm>
        </p:grpSpPr>
        <p:sp>
          <p:nvSpPr>
            <p:cNvPr id="188" name=""/>
            <p:cNvSpPr/>
            <p:nvPr/>
          </p:nvSpPr>
          <p:spPr>
            <a:xfrm>
              <a:off x="4230720" y="6019920"/>
              <a:ext cx="907920" cy="450360"/>
            </a:xfrm>
            <a:custGeom>
              <a:avLst/>
              <a:gdLst/>
              <a:ahLst/>
              <a:rect l="l" t="t" r="r" b="b"/>
              <a:pathLst>
                <a:path w="572" h="284">
                  <a:moveTo>
                    <a:pt x="515" y="283"/>
                  </a:moveTo>
                  <a:lnTo>
                    <a:pt x="527" y="282"/>
                  </a:lnTo>
                  <a:lnTo>
                    <a:pt x="539" y="277"/>
                  </a:lnTo>
                  <a:lnTo>
                    <a:pt x="550" y="271"/>
                  </a:lnTo>
                  <a:lnTo>
                    <a:pt x="559" y="262"/>
                  </a:lnTo>
                  <a:lnTo>
                    <a:pt x="566" y="251"/>
                  </a:lnTo>
                  <a:lnTo>
                    <a:pt x="570" y="240"/>
                  </a:lnTo>
                  <a:lnTo>
                    <a:pt x="571" y="226"/>
                  </a:lnTo>
                  <a:lnTo>
                    <a:pt x="571" y="57"/>
                  </a:lnTo>
                  <a:lnTo>
                    <a:pt x="570" y="44"/>
                  </a:lnTo>
                  <a:lnTo>
                    <a:pt x="566" y="32"/>
                  </a:lnTo>
                  <a:lnTo>
                    <a:pt x="559" y="22"/>
                  </a:lnTo>
                  <a:lnTo>
                    <a:pt x="550" y="12"/>
                  </a:lnTo>
                  <a:lnTo>
                    <a:pt x="539" y="6"/>
                  </a:lnTo>
                  <a:lnTo>
                    <a:pt x="527" y="2"/>
                  </a:lnTo>
                  <a:lnTo>
                    <a:pt x="515" y="0"/>
                  </a:lnTo>
                  <a:lnTo>
                    <a:pt x="56" y="0"/>
                  </a:lnTo>
                  <a:lnTo>
                    <a:pt x="45" y="2"/>
                  </a:lnTo>
                  <a:lnTo>
                    <a:pt x="33" y="6"/>
                  </a:lnTo>
                  <a:lnTo>
                    <a:pt x="22" y="12"/>
                  </a:lnTo>
                  <a:lnTo>
                    <a:pt x="13" y="22"/>
                  </a:lnTo>
                  <a:lnTo>
                    <a:pt x="6" y="32"/>
                  </a:lnTo>
                  <a:lnTo>
                    <a:pt x="1" y="44"/>
                  </a:lnTo>
                  <a:lnTo>
                    <a:pt x="0" y="57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6" y="251"/>
                  </a:lnTo>
                  <a:lnTo>
                    <a:pt x="13" y="262"/>
                  </a:lnTo>
                  <a:lnTo>
                    <a:pt x="22" y="271"/>
                  </a:lnTo>
                  <a:lnTo>
                    <a:pt x="33" y="277"/>
                  </a:lnTo>
                  <a:lnTo>
                    <a:pt x="45" y="282"/>
                  </a:lnTo>
                  <a:lnTo>
                    <a:pt x="56" y="283"/>
                  </a:lnTo>
                  <a:lnTo>
                    <a:pt x="515" y="2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30720" y="6019920"/>
              <a:ext cx="917640" cy="460080"/>
            </a:xfrm>
            <a:custGeom>
              <a:avLst/>
              <a:gdLst/>
              <a:ahLst/>
              <a:rect l="l" t="t" r="r" b="b"/>
              <a:pathLst>
                <a:path w="578" h="290">
                  <a:moveTo>
                    <a:pt x="520" y="289"/>
                  </a:moveTo>
                  <a:lnTo>
                    <a:pt x="533" y="288"/>
                  </a:lnTo>
                  <a:lnTo>
                    <a:pt x="545" y="283"/>
                  </a:lnTo>
                  <a:lnTo>
                    <a:pt x="556" y="277"/>
                  </a:lnTo>
                  <a:lnTo>
                    <a:pt x="565" y="268"/>
                  </a:lnTo>
                  <a:lnTo>
                    <a:pt x="572" y="256"/>
                  </a:lnTo>
                  <a:lnTo>
                    <a:pt x="576" y="245"/>
                  </a:lnTo>
                  <a:lnTo>
                    <a:pt x="577" y="231"/>
                  </a:lnTo>
                  <a:lnTo>
                    <a:pt x="577" y="58"/>
                  </a:lnTo>
                  <a:lnTo>
                    <a:pt x="576" y="45"/>
                  </a:lnTo>
                  <a:lnTo>
                    <a:pt x="572" y="33"/>
                  </a:lnTo>
                  <a:lnTo>
                    <a:pt x="565" y="22"/>
                  </a:lnTo>
                  <a:lnTo>
                    <a:pt x="556" y="12"/>
                  </a:lnTo>
                  <a:lnTo>
                    <a:pt x="545" y="6"/>
                  </a:lnTo>
                  <a:lnTo>
                    <a:pt x="533" y="2"/>
                  </a:lnTo>
                  <a:lnTo>
                    <a:pt x="520" y="0"/>
                  </a:lnTo>
                  <a:lnTo>
                    <a:pt x="57" y="0"/>
                  </a:lnTo>
                  <a:lnTo>
                    <a:pt x="45" y="2"/>
                  </a:lnTo>
                  <a:lnTo>
                    <a:pt x="33" y="6"/>
                  </a:lnTo>
                  <a:lnTo>
                    <a:pt x="22" y="12"/>
                  </a:lnTo>
                  <a:lnTo>
                    <a:pt x="13" y="22"/>
                  </a:lnTo>
                  <a:lnTo>
                    <a:pt x="6" y="33"/>
                  </a:lnTo>
                  <a:lnTo>
                    <a:pt x="1" y="45"/>
                  </a:lnTo>
                  <a:lnTo>
                    <a:pt x="0" y="58"/>
                  </a:lnTo>
                  <a:lnTo>
                    <a:pt x="0" y="231"/>
                  </a:lnTo>
                  <a:lnTo>
                    <a:pt x="1" y="245"/>
                  </a:lnTo>
                  <a:lnTo>
                    <a:pt x="6" y="256"/>
                  </a:lnTo>
                  <a:lnTo>
                    <a:pt x="13" y="268"/>
                  </a:lnTo>
                  <a:lnTo>
                    <a:pt x="22" y="277"/>
                  </a:lnTo>
                  <a:lnTo>
                    <a:pt x="33" y="283"/>
                  </a:lnTo>
                  <a:lnTo>
                    <a:pt x="45" y="288"/>
                  </a:lnTo>
                  <a:lnTo>
                    <a:pt x="57" y="289"/>
                  </a:lnTo>
                  <a:lnTo>
                    <a:pt x="520" y="2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1840" y="6111360"/>
              <a:ext cx="992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eti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791320" y="5334120"/>
            <a:ext cx="919080" cy="460080"/>
            <a:chOff x="5791320" y="5334120"/>
            <a:chExt cx="919080" cy="460080"/>
          </a:xfrm>
        </p:grpSpPr>
        <p:grpSp>
          <p:nvGrpSpPr>
            <p:cNvPr id="192" name=""/>
            <p:cNvGrpSpPr/>
            <p:nvPr/>
          </p:nvGrpSpPr>
          <p:grpSpPr>
            <a:xfrm>
              <a:off x="5791320" y="5334120"/>
              <a:ext cx="919080" cy="460080"/>
              <a:chOff x="5791320" y="5334120"/>
              <a:chExt cx="919080" cy="460080"/>
            </a:xfrm>
          </p:grpSpPr>
          <p:sp>
            <p:nvSpPr>
              <p:cNvPr id="193" name=""/>
              <p:cNvSpPr/>
              <p:nvPr/>
            </p:nvSpPr>
            <p:spPr>
              <a:xfrm>
                <a:off x="5791320" y="5334120"/>
                <a:ext cx="919080" cy="460080"/>
              </a:xfrm>
              <a:custGeom>
                <a:avLst/>
                <a:gdLst/>
                <a:ahLst/>
                <a:rect l="l" t="t" r="r" b="b"/>
                <a:pathLst>
                  <a:path w="579" h="290">
                    <a:moveTo>
                      <a:pt x="520" y="289"/>
                    </a:moveTo>
                    <a:lnTo>
                      <a:pt x="533" y="287"/>
                    </a:lnTo>
                    <a:lnTo>
                      <a:pt x="545" y="283"/>
                    </a:lnTo>
                    <a:lnTo>
                      <a:pt x="556" y="276"/>
                    </a:lnTo>
                    <a:lnTo>
                      <a:pt x="565" y="267"/>
                    </a:lnTo>
                    <a:lnTo>
                      <a:pt x="572" y="256"/>
                    </a:lnTo>
                    <a:lnTo>
                      <a:pt x="576" y="244"/>
                    </a:lnTo>
                    <a:lnTo>
                      <a:pt x="578" y="231"/>
                    </a:lnTo>
                    <a:lnTo>
                      <a:pt x="578" y="57"/>
                    </a:lnTo>
                    <a:lnTo>
                      <a:pt x="576" y="45"/>
                    </a:lnTo>
                    <a:lnTo>
                      <a:pt x="572" y="33"/>
                    </a:lnTo>
                    <a:lnTo>
                      <a:pt x="565" y="22"/>
                    </a:lnTo>
                    <a:lnTo>
                      <a:pt x="556" y="13"/>
                    </a:lnTo>
                    <a:lnTo>
                      <a:pt x="545" y="6"/>
                    </a:lnTo>
                    <a:lnTo>
                      <a:pt x="533" y="1"/>
                    </a:lnTo>
                    <a:lnTo>
                      <a:pt x="520" y="0"/>
                    </a:lnTo>
                    <a:lnTo>
                      <a:pt x="57" y="0"/>
                    </a:lnTo>
                    <a:lnTo>
                      <a:pt x="45" y="1"/>
                    </a:lnTo>
                    <a:lnTo>
                      <a:pt x="33" y="6"/>
                    </a:lnTo>
                    <a:lnTo>
                      <a:pt x="22" y="13"/>
                    </a:lnTo>
                    <a:lnTo>
                      <a:pt x="13" y="22"/>
                    </a:lnTo>
                    <a:lnTo>
                      <a:pt x="6" y="33"/>
                    </a:lnTo>
                    <a:lnTo>
                      <a:pt x="1" y="45"/>
                    </a:lnTo>
                    <a:lnTo>
                      <a:pt x="0" y="57"/>
                    </a:lnTo>
                    <a:lnTo>
                      <a:pt x="0" y="231"/>
                    </a:lnTo>
                    <a:lnTo>
                      <a:pt x="1" y="244"/>
                    </a:lnTo>
                    <a:lnTo>
                      <a:pt x="6" y="256"/>
                    </a:lnTo>
                    <a:lnTo>
                      <a:pt x="13" y="267"/>
                    </a:lnTo>
                    <a:lnTo>
                      <a:pt x="22" y="276"/>
                    </a:lnTo>
                    <a:lnTo>
                      <a:pt x="33" y="283"/>
                    </a:lnTo>
                    <a:lnTo>
                      <a:pt x="45" y="287"/>
                    </a:lnTo>
                    <a:lnTo>
                      <a:pt x="57" y="289"/>
                    </a:lnTo>
                    <a:lnTo>
                      <a:pt x="520" y="28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96000" y="5338800"/>
                <a:ext cx="909720" cy="450720"/>
              </a:xfrm>
              <a:custGeom>
                <a:avLst/>
                <a:gdLst/>
                <a:ahLst/>
                <a:rect l="l" t="t" r="r" b="b"/>
                <a:pathLst>
                  <a:path w="573" h="284">
                    <a:moveTo>
                      <a:pt x="515" y="283"/>
                    </a:moveTo>
                    <a:lnTo>
                      <a:pt x="527" y="281"/>
                    </a:lnTo>
                    <a:lnTo>
                      <a:pt x="539" y="277"/>
                    </a:lnTo>
                    <a:lnTo>
                      <a:pt x="550" y="270"/>
                    </a:lnTo>
                    <a:lnTo>
                      <a:pt x="559" y="261"/>
                    </a:lnTo>
                    <a:lnTo>
                      <a:pt x="566" y="251"/>
                    </a:lnTo>
                    <a:lnTo>
                      <a:pt x="570" y="239"/>
                    </a:lnTo>
                    <a:lnTo>
                      <a:pt x="572" y="226"/>
                    </a:lnTo>
                    <a:lnTo>
                      <a:pt x="572" y="56"/>
                    </a:lnTo>
                    <a:lnTo>
                      <a:pt x="570" y="44"/>
                    </a:lnTo>
                    <a:lnTo>
                      <a:pt x="566" y="32"/>
                    </a:lnTo>
                    <a:lnTo>
                      <a:pt x="559" y="22"/>
                    </a:lnTo>
                    <a:lnTo>
                      <a:pt x="550" y="13"/>
                    </a:lnTo>
                    <a:lnTo>
                      <a:pt x="539" y="6"/>
                    </a:lnTo>
                    <a:lnTo>
                      <a:pt x="527" y="1"/>
                    </a:lnTo>
                    <a:lnTo>
                      <a:pt x="515" y="0"/>
                    </a:lnTo>
                    <a:lnTo>
                      <a:pt x="56" y="0"/>
                    </a:lnTo>
                    <a:lnTo>
                      <a:pt x="45" y="1"/>
                    </a:lnTo>
                    <a:lnTo>
                      <a:pt x="33" y="6"/>
                    </a:lnTo>
                    <a:lnTo>
                      <a:pt x="22" y="13"/>
                    </a:lnTo>
                    <a:lnTo>
                      <a:pt x="13" y="22"/>
                    </a:lnTo>
                    <a:lnTo>
                      <a:pt x="6" y="32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0" y="226"/>
                    </a:lnTo>
                    <a:lnTo>
                      <a:pt x="1" y="239"/>
                    </a:lnTo>
                    <a:lnTo>
                      <a:pt x="6" y="251"/>
                    </a:lnTo>
                    <a:lnTo>
                      <a:pt x="13" y="261"/>
                    </a:lnTo>
                    <a:lnTo>
                      <a:pt x="22" y="270"/>
                    </a:lnTo>
                    <a:lnTo>
                      <a:pt x="33" y="277"/>
                    </a:lnTo>
                    <a:lnTo>
                      <a:pt x="45" y="281"/>
                    </a:lnTo>
                    <a:lnTo>
                      <a:pt x="56" y="283"/>
                    </a:lnTo>
                    <a:lnTo>
                      <a:pt x="515" y="2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808600" y="5370480"/>
              <a:ext cx="885600" cy="387360"/>
              <a:chOff x="5808600" y="5370480"/>
              <a:chExt cx="885600" cy="387360"/>
            </a:xfrm>
          </p:grpSpPr>
          <p:sp>
            <p:nvSpPr>
              <p:cNvPr id="196" name=""/>
              <p:cNvSpPr/>
              <p:nvPr/>
            </p:nvSpPr>
            <p:spPr>
              <a:xfrm>
                <a:off x="5937120" y="5370480"/>
                <a:ext cx="6537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08600" y="5516640"/>
                <a:ext cx="88560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takehold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4724280" y="1905120"/>
            <a:ext cx="3124440" cy="2361960"/>
            <a:chOff x="4724280" y="1905120"/>
            <a:chExt cx="3124440" cy="2361960"/>
          </a:xfrm>
        </p:grpSpPr>
        <p:sp>
          <p:nvSpPr>
            <p:cNvPr id="199" name=""/>
            <p:cNvSpPr/>
            <p:nvPr/>
          </p:nvSpPr>
          <p:spPr>
            <a:xfrm>
              <a:off x="4724280" y="1905120"/>
              <a:ext cx="3124440" cy="2361960"/>
            </a:xfrm>
            <a:custGeom>
              <a:avLst/>
              <a:gdLst/>
              <a:ahLst/>
              <a:rect l="l" t="t" r="r" b="b"/>
              <a:pathLst>
                <a:path w="1872" h="1488">
                  <a:moveTo>
                    <a:pt x="1824" y="1488"/>
                  </a:moveTo>
                  <a:lnTo>
                    <a:pt x="0" y="1488"/>
                  </a:lnTo>
                  <a:lnTo>
                    <a:pt x="0" y="0"/>
                  </a:lnTo>
                  <a:lnTo>
                    <a:pt x="1872" y="0"/>
                  </a:lnTo>
                  <a:lnTo>
                    <a:pt x="1872" y="1488"/>
                  </a:lnTo>
                  <a:lnTo>
                    <a:pt x="1824" y="1488"/>
                  </a:lnTo>
                  <a:close/>
                </a:path>
              </a:pathLst>
            </a:custGeom>
            <a:solidFill>
              <a:srgbClr val="ff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2360" y="1930320"/>
              <a:ext cx="201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UATE COMPET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LOBAL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600200" y="4267080"/>
            <a:ext cx="3124080" cy="2302920"/>
            <a:chOff x="1600200" y="4267080"/>
            <a:chExt cx="3124080" cy="2302920"/>
          </a:xfrm>
        </p:grpSpPr>
        <p:sp>
          <p:nvSpPr>
            <p:cNvPr id="202" name=""/>
            <p:cNvSpPr/>
            <p:nvPr/>
          </p:nvSpPr>
          <p:spPr>
            <a:xfrm>
              <a:off x="1600200" y="4267080"/>
              <a:ext cx="3124080" cy="2286000"/>
            </a:xfrm>
            <a:prstGeom prst="rect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3440" y="5410080"/>
              <a:ext cx="124776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ADEMI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RE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OLVE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L EL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724280" y="4267080"/>
            <a:ext cx="3124440" cy="2303280"/>
            <a:chOff x="4724280" y="4267080"/>
            <a:chExt cx="3124440" cy="2303280"/>
          </a:xfrm>
        </p:grpSpPr>
        <p:sp>
          <p:nvSpPr>
            <p:cNvPr id="205" name=""/>
            <p:cNvSpPr/>
            <p:nvPr/>
          </p:nvSpPr>
          <p:spPr>
            <a:xfrm>
              <a:off x="4724280" y="4267080"/>
              <a:ext cx="3124440" cy="2286000"/>
            </a:xfrm>
            <a:prstGeom prst="rect">
              <a:avLst/>
            </a:prstGeom>
            <a:solidFill>
              <a:srgbClr val="9cf0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04400" y="5715000"/>
              <a:ext cx="1377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OUNTA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00200" y="1905120"/>
            <a:ext cx="3124080" cy="2361960"/>
            <a:chOff x="1600200" y="1905120"/>
            <a:chExt cx="3124080" cy="2361960"/>
          </a:xfrm>
        </p:grpSpPr>
        <p:sp>
          <p:nvSpPr>
            <p:cNvPr id="208" name=""/>
            <p:cNvSpPr/>
            <p:nvPr/>
          </p:nvSpPr>
          <p:spPr>
            <a:xfrm>
              <a:off x="1600200" y="1905120"/>
              <a:ext cx="3124080" cy="2361960"/>
            </a:xfrm>
            <a:custGeom>
              <a:avLst/>
              <a:gdLst/>
              <a:ahLst/>
              <a:rect l="l" t="t" r="r" b="b"/>
              <a:pathLst>
                <a:path w="1872" h="1488">
                  <a:moveTo>
                    <a:pt x="1824" y="1488"/>
                  </a:moveTo>
                  <a:lnTo>
                    <a:pt x="0" y="1488"/>
                  </a:lnTo>
                  <a:lnTo>
                    <a:pt x="0" y="0"/>
                  </a:lnTo>
                  <a:lnTo>
                    <a:pt x="1872" y="0"/>
                  </a:lnTo>
                  <a:lnTo>
                    <a:pt x="1872" y="1488"/>
                  </a:lnTo>
                  <a:lnTo>
                    <a:pt x="1824" y="1488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1930320"/>
              <a:ext cx="180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DUCATION 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ANCIAL POLI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VERNANC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Sumber Data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562000" y="1957320"/>
            <a:ext cx="2716560" cy="2691000"/>
            <a:chOff x="5562000" y="1957320"/>
            <a:chExt cx="2716560" cy="269100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5791320" y="373392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5638680" y="2666880"/>
              <a:ext cx="1219320" cy="87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"/>
            <p:cNvGrpSpPr/>
            <p:nvPr/>
          </p:nvGrpSpPr>
          <p:grpSpPr>
            <a:xfrm>
              <a:off x="7162920" y="2666880"/>
              <a:ext cx="774360" cy="933480"/>
              <a:chOff x="7162920" y="2666880"/>
              <a:chExt cx="774360" cy="933480"/>
            </a:xfrm>
          </p:grpSpPr>
          <p:sp>
            <p:nvSpPr>
              <p:cNvPr id="215" name=""/>
              <p:cNvSpPr/>
              <p:nvPr/>
            </p:nvSpPr>
            <p:spPr>
              <a:xfrm>
                <a:off x="7566120" y="2815920"/>
                <a:ext cx="195120" cy="82800"/>
              </a:xfrm>
              <a:custGeom>
                <a:avLst/>
                <a:gdLst/>
                <a:ahLst/>
                <a:rect l="l" t="t" r="r" b="b"/>
                <a:pathLst>
                  <a:path w="2215" h="939">
                    <a:moveTo>
                      <a:pt x="87" y="125"/>
                    </a:moveTo>
                    <a:lnTo>
                      <a:pt x="142" y="60"/>
                    </a:lnTo>
                    <a:lnTo>
                      <a:pt x="506" y="244"/>
                    </a:lnTo>
                    <a:lnTo>
                      <a:pt x="676" y="0"/>
                    </a:lnTo>
                    <a:lnTo>
                      <a:pt x="1299" y="423"/>
                    </a:lnTo>
                    <a:lnTo>
                      <a:pt x="1924" y="423"/>
                    </a:lnTo>
                    <a:lnTo>
                      <a:pt x="2215" y="618"/>
                    </a:lnTo>
                    <a:lnTo>
                      <a:pt x="567" y="847"/>
                    </a:lnTo>
                    <a:lnTo>
                      <a:pt x="469" y="939"/>
                    </a:lnTo>
                    <a:lnTo>
                      <a:pt x="308" y="661"/>
                    </a:lnTo>
                    <a:lnTo>
                      <a:pt x="335" y="558"/>
                    </a:lnTo>
                    <a:lnTo>
                      <a:pt x="0" y="289"/>
                    </a:lnTo>
                    <a:lnTo>
                      <a:pt x="87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45320" y="2909520"/>
                <a:ext cx="290520" cy="408240"/>
              </a:xfrm>
              <a:custGeom>
                <a:avLst/>
                <a:gdLst/>
                <a:ahLst/>
                <a:rect l="l" t="t" r="r" b="b"/>
                <a:pathLst>
                  <a:path w="3291" h="4611">
                    <a:moveTo>
                      <a:pt x="0" y="0"/>
                    </a:moveTo>
                    <a:lnTo>
                      <a:pt x="3098" y="0"/>
                    </a:lnTo>
                    <a:lnTo>
                      <a:pt x="3291" y="123"/>
                    </a:lnTo>
                    <a:lnTo>
                      <a:pt x="3291" y="4227"/>
                    </a:lnTo>
                    <a:lnTo>
                      <a:pt x="3059" y="4227"/>
                    </a:lnTo>
                    <a:lnTo>
                      <a:pt x="3059" y="4611"/>
                    </a:lnTo>
                    <a:lnTo>
                      <a:pt x="1458" y="4611"/>
                    </a:lnTo>
                    <a:lnTo>
                      <a:pt x="1458" y="2809"/>
                    </a:lnTo>
                    <a:lnTo>
                      <a:pt x="1160" y="1924"/>
                    </a:lnTo>
                    <a:lnTo>
                      <a:pt x="1440" y="1924"/>
                    </a:lnTo>
                    <a:lnTo>
                      <a:pt x="1655" y="2507"/>
                    </a:lnTo>
                    <a:lnTo>
                      <a:pt x="1655" y="1343"/>
                    </a:lnTo>
                    <a:lnTo>
                      <a:pt x="41" y="934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13640" y="3039840"/>
                <a:ext cx="93600" cy="71280"/>
              </a:xfrm>
              <a:custGeom>
                <a:avLst/>
                <a:gdLst/>
                <a:ahLst/>
                <a:rect l="l" t="t" r="r" b="b"/>
                <a:pathLst>
                  <a:path w="1065" h="812">
                    <a:moveTo>
                      <a:pt x="0" y="309"/>
                    </a:moveTo>
                    <a:lnTo>
                      <a:pt x="415" y="0"/>
                    </a:lnTo>
                    <a:lnTo>
                      <a:pt x="831" y="0"/>
                    </a:lnTo>
                    <a:lnTo>
                      <a:pt x="1065" y="281"/>
                    </a:lnTo>
                    <a:lnTo>
                      <a:pt x="572" y="482"/>
                    </a:lnTo>
                    <a:lnTo>
                      <a:pt x="237" y="812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62920" y="2906640"/>
                <a:ext cx="641160" cy="693720"/>
              </a:xfrm>
              <a:custGeom>
                <a:avLst/>
                <a:gdLst/>
                <a:ahLst/>
                <a:rect l="l" t="t" r="r" b="b"/>
                <a:pathLst>
                  <a:path w="7258" h="7875">
                    <a:moveTo>
                      <a:pt x="3413" y="253"/>
                    </a:moveTo>
                    <a:lnTo>
                      <a:pt x="3608" y="809"/>
                    </a:lnTo>
                    <a:lnTo>
                      <a:pt x="3489" y="1495"/>
                    </a:lnTo>
                    <a:lnTo>
                      <a:pt x="3511" y="1848"/>
                    </a:lnTo>
                    <a:lnTo>
                      <a:pt x="3530" y="2027"/>
                    </a:lnTo>
                    <a:lnTo>
                      <a:pt x="3667" y="1925"/>
                    </a:lnTo>
                    <a:lnTo>
                      <a:pt x="3708" y="1902"/>
                    </a:lnTo>
                    <a:lnTo>
                      <a:pt x="3843" y="2000"/>
                    </a:lnTo>
                    <a:lnTo>
                      <a:pt x="5084" y="1772"/>
                    </a:lnTo>
                    <a:lnTo>
                      <a:pt x="5379" y="2154"/>
                    </a:lnTo>
                    <a:lnTo>
                      <a:pt x="4105" y="2714"/>
                    </a:lnTo>
                    <a:lnTo>
                      <a:pt x="4338" y="2890"/>
                    </a:lnTo>
                    <a:lnTo>
                      <a:pt x="4377" y="3015"/>
                    </a:lnTo>
                    <a:lnTo>
                      <a:pt x="4556" y="3113"/>
                    </a:lnTo>
                    <a:lnTo>
                      <a:pt x="4593" y="3370"/>
                    </a:lnTo>
                    <a:lnTo>
                      <a:pt x="4770" y="3370"/>
                    </a:lnTo>
                    <a:lnTo>
                      <a:pt x="4930" y="3444"/>
                    </a:lnTo>
                    <a:lnTo>
                      <a:pt x="5264" y="3522"/>
                    </a:lnTo>
                    <a:lnTo>
                      <a:pt x="5425" y="3472"/>
                    </a:lnTo>
                    <a:lnTo>
                      <a:pt x="5540" y="3495"/>
                    </a:lnTo>
                    <a:lnTo>
                      <a:pt x="6291" y="3140"/>
                    </a:lnTo>
                    <a:lnTo>
                      <a:pt x="6843" y="3092"/>
                    </a:lnTo>
                    <a:lnTo>
                      <a:pt x="7119" y="3242"/>
                    </a:lnTo>
                    <a:lnTo>
                      <a:pt x="7258" y="4002"/>
                    </a:lnTo>
                    <a:lnTo>
                      <a:pt x="7156" y="4230"/>
                    </a:lnTo>
                    <a:lnTo>
                      <a:pt x="6468" y="4663"/>
                    </a:lnTo>
                    <a:lnTo>
                      <a:pt x="4969" y="5041"/>
                    </a:lnTo>
                    <a:lnTo>
                      <a:pt x="4076" y="4887"/>
                    </a:lnTo>
                    <a:lnTo>
                      <a:pt x="3575" y="4663"/>
                    </a:lnTo>
                    <a:lnTo>
                      <a:pt x="3179" y="3831"/>
                    </a:lnTo>
                    <a:lnTo>
                      <a:pt x="3041" y="6330"/>
                    </a:lnTo>
                    <a:lnTo>
                      <a:pt x="2780" y="7875"/>
                    </a:lnTo>
                    <a:lnTo>
                      <a:pt x="2088" y="7875"/>
                    </a:lnTo>
                    <a:lnTo>
                      <a:pt x="1577" y="7571"/>
                    </a:lnTo>
                    <a:lnTo>
                      <a:pt x="1499" y="7396"/>
                    </a:lnTo>
                    <a:lnTo>
                      <a:pt x="136" y="6330"/>
                    </a:lnTo>
                    <a:lnTo>
                      <a:pt x="0" y="5875"/>
                    </a:lnTo>
                    <a:lnTo>
                      <a:pt x="17" y="5041"/>
                    </a:lnTo>
                    <a:lnTo>
                      <a:pt x="236" y="3698"/>
                    </a:lnTo>
                    <a:lnTo>
                      <a:pt x="471" y="3219"/>
                    </a:lnTo>
                    <a:lnTo>
                      <a:pt x="651" y="2634"/>
                    </a:lnTo>
                    <a:lnTo>
                      <a:pt x="708" y="2127"/>
                    </a:lnTo>
                    <a:lnTo>
                      <a:pt x="885" y="1318"/>
                    </a:lnTo>
                    <a:lnTo>
                      <a:pt x="1144" y="733"/>
                    </a:lnTo>
                    <a:lnTo>
                      <a:pt x="1737" y="128"/>
                    </a:lnTo>
                    <a:lnTo>
                      <a:pt x="3019" y="0"/>
                    </a:lnTo>
                    <a:lnTo>
                      <a:pt x="3413" y="253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solidFill>
                  <a:srgbClr val="00e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88200" y="2666880"/>
                <a:ext cx="330120" cy="290520"/>
              </a:xfrm>
              <a:custGeom>
                <a:avLst/>
                <a:gdLst/>
                <a:ahLst/>
                <a:rect l="l" t="t" r="r" b="b"/>
                <a:pathLst>
                  <a:path w="3741" h="3302">
                    <a:moveTo>
                      <a:pt x="2189" y="2655"/>
                    </a:moveTo>
                    <a:lnTo>
                      <a:pt x="2199" y="2833"/>
                    </a:lnTo>
                    <a:lnTo>
                      <a:pt x="1998" y="2958"/>
                    </a:lnTo>
                    <a:lnTo>
                      <a:pt x="1893" y="2944"/>
                    </a:lnTo>
                    <a:lnTo>
                      <a:pt x="1817" y="3048"/>
                    </a:lnTo>
                    <a:lnTo>
                      <a:pt x="1862" y="3175"/>
                    </a:lnTo>
                    <a:lnTo>
                      <a:pt x="1796" y="3302"/>
                    </a:lnTo>
                    <a:lnTo>
                      <a:pt x="1238" y="3252"/>
                    </a:lnTo>
                    <a:lnTo>
                      <a:pt x="1109" y="3012"/>
                    </a:lnTo>
                    <a:lnTo>
                      <a:pt x="952" y="2958"/>
                    </a:lnTo>
                    <a:lnTo>
                      <a:pt x="667" y="2973"/>
                    </a:lnTo>
                    <a:lnTo>
                      <a:pt x="589" y="2821"/>
                    </a:lnTo>
                    <a:lnTo>
                      <a:pt x="216" y="3022"/>
                    </a:lnTo>
                    <a:lnTo>
                      <a:pt x="0" y="2645"/>
                    </a:lnTo>
                    <a:lnTo>
                      <a:pt x="156" y="2517"/>
                    </a:lnTo>
                    <a:lnTo>
                      <a:pt x="275" y="2341"/>
                    </a:lnTo>
                    <a:lnTo>
                      <a:pt x="234" y="2228"/>
                    </a:lnTo>
                    <a:lnTo>
                      <a:pt x="285" y="2079"/>
                    </a:lnTo>
                    <a:lnTo>
                      <a:pt x="596" y="1889"/>
                    </a:lnTo>
                    <a:lnTo>
                      <a:pt x="930" y="1347"/>
                    </a:lnTo>
                    <a:lnTo>
                      <a:pt x="1156" y="581"/>
                    </a:lnTo>
                    <a:lnTo>
                      <a:pt x="1481" y="214"/>
                    </a:lnTo>
                    <a:lnTo>
                      <a:pt x="1706" y="47"/>
                    </a:lnTo>
                    <a:lnTo>
                      <a:pt x="2176" y="0"/>
                    </a:lnTo>
                    <a:lnTo>
                      <a:pt x="2706" y="99"/>
                    </a:lnTo>
                    <a:lnTo>
                      <a:pt x="3090" y="355"/>
                    </a:lnTo>
                    <a:lnTo>
                      <a:pt x="3461" y="554"/>
                    </a:lnTo>
                    <a:lnTo>
                      <a:pt x="3610" y="706"/>
                    </a:lnTo>
                    <a:lnTo>
                      <a:pt x="3710" y="872"/>
                    </a:lnTo>
                    <a:lnTo>
                      <a:pt x="3741" y="1032"/>
                    </a:lnTo>
                    <a:lnTo>
                      <a:pt x="3741" y="1287"/>
                    </a:lnTo>
                    <a:lnTo>
                      <a:pt x="3618" y="1460"/>
                    </a:lnTo>
                    <a:lnTo>
                      <a:pt x="3499" y="1523"/>
                    </a:lnTo>
                    <a:lnTo>
                      <a:pt x="3495" y="1460"/>
                    </a:lnTo>
                    <a:lnTo>
                      <a:pt x="2982" y="1626"/>
                    </a:lnTo>
                    <a:lnTo>
                      <a:pt x="2189" y="2655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39040" y="2779560"/>
                <a:ext cx="147600" cy="141120"/>
              </a:xfrm>
              <a:custGeom>
                <a:avLst/>
                <a:gdLst/>
                <a:ahLst/>
                <a:rect l="l" t="t" r="r" b="b"/>
                <a:pathLst>
                  <a:path w="1663" h="1604">
                    <a:moveTo>
                      <a:pt x="209" y="11"/>
                    </a:moveTo>
                    <a:lnTo>
                      <a:pt x="78" y="113"/>
                    </a:lnTo>
                    <a:lnTo>
                      <a:pt x="64" y="201"/>
                    </a:lnTo>
                    <a:lnTo>
                      <a:pt x="107" y="471"/>
                    </a:lnTo>
                    <a:lnTo>
                      <a:pt x="0" y="702"/>
                    </a:lnTo>
                    <a:lnTo>
                      <a:pt x="156" y="984"/>
                    </a:lnTo>
                    <a:lnTo>
                      <a:pt x="201" y="1273"/>
                    </a:lnTo>
                    <a:lnTo>
                      <a:pt x="209" y="1604"/>
                    </a:lnTo>
                    <a:lnTo>
                      <a:pt x="327" y="1311"/>
                    </a:lnTo>
                    <a:lnTo>
                      <a:pt x="446" y="1311"/>
                    </a:lnTo>
                    <a:lnTo>
                      <a:pt x="765" y="1581"/>
                    </a:lnTo>
                    <a:lnTo>
                      <a:pt x="871" y="1581"/>
                    </a:lnTo>
                    <a:lnTo>
                      <a:pt x="976" y="1538"/>
                    </a:lnTo>
                    <a:lnTo>
                      <a:pt x="1000" y="1444"/>
                    </a:lnTo>
                    <a:lnTo>
                      <a:pt x="996" y="1317"/>
                    </a:lnTo>
                    <a:lnTo>
                      <a:pt x="1041" y="1224"/>
                    </a:lnTo>
                    <a:lnTo>
                      <a:pt x="1193" y="1158"/>
                    </a:lnTo>
                    <a:lnTo>
                      <a:pt x="1266" y="1015"/>
                    </a:lnTo>
                    <a:lnTo>
                      <a:pt x="1487" y="984"/>
                    </a:lnTo>
                    <a:lnTo>
                      <a:pt x="1501" y="943"/>
                    </a:lnTo>
                    <a:lnTo>
                      <a:pt x="1391" y="524"/>
                    </a:lnTo>
                    <a:lnTo>
                      <a:pt x="1594" y="403"/>
                    </a:lnTo>
                    <a:lnTo>
                      <a:pt x="1663" y="201"/>
                    </a:lnTo>
                    <a:lnTo>
                      <a:pt x="1530" y="201"/>
                    </a:lnTo>
                    <a:lnTo>
                      <a:pt x="1446" y="140"/>
                    </a:lnTo>
                    <a:lnTo>
                      <a:pt x="1380" y="230"/>
                    </a:lnTo>
                    <a:lnTo>
                      <a:pt x="1327" y="154"/>
                    </a:lnTo>
                    <a:lnTo>
                      <a:pt x="1205" y="263"/>
                    </a:lnTo>
                    <a:lnTo>
                      <a:pt x="1097" y="95"/>
                    </a:lnTo>
                    <a:lnTo>
                      <a:pt x="853" y="154"/>
                    </a:lnTo>
                    <a:lnTo>
                      <a:pt x="292" y="0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48400" y="283500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73" h="141">
                    <a:moveTo>
                      <a:pt x="55" y="14"/>
                    </a:moveTo>
                    <a:lnTo>
                      <a:pt x="125" y="0"/>
                    </a:lnTo>
                    <a:lnTo>
                      <a:pt x="173" y="29"/>
                    </a:lnTo>
                    <a:lnTo>
                      <a:pt x="161" y="82"/>
                    </a:lnTo>
                    <a:lnTo>
                      <a:pt x="110" y="135"/>
                    </a:lnTo>
                    <a:lnTo>
                      <a:pt x="41" y="141"/>
                    </a:lnTo>
                    <a:lnTo>
                      <a:pt x="0" y="82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86800" y="3130200"/>
                <a:ext cx="114120" cy="128880"/>
              </a:xfrm>
              <a:custGeom>
                <a:avLst/>
                <a:gdLst/>
                <a:ahLst/>
                <a:rect l="l" t="t" r="r" b="b"/>
                <a:pathLst>
                  <a:path w="1284" h="1474">
                    <a:moveTo>
                      <a:pt x="0" y="712"/>
                    </a:moveTo>
                    <a:lnTo>
                      <a:pt x="164" y="1474"/>
                    </a:lnTo>
                    <a:lnTo>
                      <a:pt x="636" y="1474"/>
                    </a:lnTo>
                    <a:lnTo>
                      <a:pt x="781" y="1349"/>
                    </a:lnTo>
                    <a:lnTo>
                      <a:pt x="1124" y="1315"/>
                    </a:lnTo>
                    <a:lnTo>
                      <a:pt x="1184" y="1228"/>
                    </a:lnTo>
                    <a:lnTo>
                      <a:pt x="1284" y="749"/>
                    </a:lnTo>
                    <a:lnTo>
                      <a:pt x="1090" y="452"/>
                    </a:lnTo>
                    <a:lnTo>
                      <a:pt x="854" y="354"/>
                    </a:lnTo>
                    <a:lnTo>
                      <a:pt x="597" y="234"/>
                    </a:lnTo>
                    <a:lnTo>
                      <a:pt x="509" y="0"/>
                    </a:lnTo>
                    <a:lnTo>
                      <a:pt x="369" y="23"/>
                    </a:lnTo>
                    <a:lnTo>
                      <a:pt x="291" y="313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02400" y="26715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963" h="637">
                    <a:moveTo>
                      <a:pt x="963" y="464"/>
                    </a:moveTo>
                    <a:lnTo>
                      <a:pt x="834" y="401"/>
                    </a:lnTo>
                    <a:lnTo>
                      <a:pt x="877" y="464"/>
                    </a:lnTo>
                    <a:lnTo>
                      <a:pt x="784" y="507"/>
                    </a:lnTo>
                    <a:lnTo>
                      <a:pt x="694" y="596"/>
                    </a:lnTo>
                    <a:lnTo>
                      <a:pt x="663" y="568"/>
                    </a:lnTo>
                    <a:lnTo>
                      <a:pt x="466" y="637"/>
                    </a:lnTo>
                    <a:lnTo>
                      <a:pt x="706" y="507"/>
                    </a:lnTo>
                    <a:lnTo>
                      <a:pt x="614" y="464"/>
                    </a:lnTo>
                    <a:lnTo>
                      <a:pt x="784" y="429"/>
                    </a:lnTo>
                    <a:lnTo>
                      <a:pt x="631" y="296"/>
                    </a:lnTo>
                    <a:lnTo>
                      <a:pt x="421" y="366"/>
                    </a:lnTo>
                    <a:lnTo>
                      <a:pt x="515" y="415"/>
                    </a:lnTo>
                    <a:lnTo>
                      <a:pt x="521" y="493"/>
                    </a:lnTo>
                    <a:lnTo>
                      <a:pt x="320" y="529"/>
                    </a:lnTo>
                    <a:lnTo>
                      <a:pt x="396" y="568"/>
                    </a:lnTo>
                    <a:lnTo>
                      <a:pt x="185" y="582"/>
                    </a:lnTo>
                    <a:lnTo>
                      <a:pt x="103" y="479"/>
                    </a:lnTo>
                    <a:lnTo>
                      <a:pt x="173" y="464"/>
                    </a:lnTo>
                    <a:lnTo>
                      <a:pt x="103" y="347"/>
                    </a:lnTo>
                    <a:lnTo>
                      <a:pt x="263" y="452"/>
                    </a:lnTo>
                    <a:lnTo>
                      <a:pt x="433" y="464"/>
                    </a:lnTo>
                    <a:lnTo>
                      <a:pt x="273" y="347"/>
                    </a:lnTo>
                    <a:lnTo>
                      <a:pt x="443" y="296"/>
                    </a:lnTo>
                    <a:lnTo>
                      <a:pt x="355" y="259"/>
                    </a:lnTo>
                    <a:lnTo>
                      <a:pt x="515" y="222"/>
                    </a:lnTo>
                    <a:lnTo>
                      <a:pt x="294" y="143"/>
                    </a:lnTo>
                    <a:lnTo>
                      <a:pt x="226" y="56"/>
                    </a:lnTo>
                    <a:lnTo>
                      <a:pt x="0" y="0"/>
                    </a:lnTo>
                    <a:lnTo>
                      <a:pt x="240" y="30"/>
                    </a:lnTo>
                    <a:lnTo>
                      <a:pt x="480" y="108"/>
                    </a:lnTo>
                    <a:lnTo>
                      <a:pt x="651" y="259"/>
                    </a:lnTo>
                    <a:lnTo>
                      <a:pt x="801" y="366"/>
                    </a:lnTo>
                    <a:lnTo>
                      <a:pt x="96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43800" y="272232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522" h="685">
                    <a:moveTo>
                      <a:pt x="370" y="0"/>
                    </a:moveTo>
                    <a:lnTo>
                      <a:pt x="313" y="231"/>
                    </a:lnTo>
                    <a:lnTo>
                      <a:pt x="262" y="155"/>
                    </a:lnTo>
                    <a:lnTo>
                      <a:pt x="198" y="324"/>
                    </a:lnTo>
                    <a:lnTo>
                      <a:pt x="0" y="531"/>
                    </a:lnTo>
                    <a:lnTo>
                      <a:pt x="299" y="324"/>
                    </a:lnTo>
                    <a:lnTo>
                      <a:pt x="340" y="399"/>
                    </a:lnTo>
                    <a:lnTo>
                      <a:pt x="340" y="685"/>
                    </a:lnTo>
                    <a:lnTo>
                      <a:pt x="501" y="480"/>
                    </a:lnTo>
                    <a:lnTo>
                      <a:pt x="522" y="182"/>
                    </a:lnTo>
                    <a:lnTo>
                      <a:pt x="473" y="464"/>
                    </a:lnTo>
                    <a:lnTo>
                      <a:pt x="381" y="544"/>
                    </a:lnTo>
                    <a:lnTo>
                      <a:pt x="381" y="336"/>
                    </a:lnTo>
                    <a:lnTo>
                      <a:pt x="348" y="297"/>
                    </a:lnTo>
                    <a:lnTo>
                      <a:pt x="401" y="9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47040" y="27795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92" h="254">
                    <a:moveTo>
                      <a:pt x="130" y="0"/>
                    </a:moveTo>
                    <a:lnTo>
                      <a:pt x="21" y="148"/>
                    </a:lnTo>
                    <a:lnTo>
                      <a:pt x="0" y="254"/>
                    </a:lnTo>
                    <a:lnTo>
                      <a:pt x="130" y="179"/>
                    </a:lnTo>
                    <a:lnTo>
                      <a:pt x="169" y="242"/>
                    </a:lnTo>
                    <a:lnTo>
                      <a:pt x="192" y="101"/>
                    </a:lnTo>
                    <a:lnTo>
                      <a:pt x="130" y="138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72240" y="2755800"/>
                <a:ext cx="49320" cy="47520"/>
              </a:xfrm>
              <a:custGeom>
                <a:avLst/>
                <a:gdLst/>
                <a:ahLst/>
                <a:rect l="l" t="t" r="r" b="b"/>
                <a:pathLst>
                  <a:path w="552" h="536">
                    <a:moveTo>
                      <a:pt x="0" y="525"/>
                    </a:moveTo>
                    <a:lnTo>
                      <a:pt x="0" y="419"/>
                    </a:lnTo>
                    <a:lnTo>
                      <a:pt x="84" y="372"/>
                    </a:lnTo>
                    <a:lnTo>
                      <a:pt x="84" y="437"/>
                    </a:lnTo>
                    <a:lnTo>
                      <a:pt x="170" y="343"/>
                    </a:lnTo>
                    <a:lnTo>
                      <a:pt x="253" y="179"/>
                    </a:lnTo>
                    <a:lnTo>
                      <a:pt x="211" y="419"/>
                    </a:lnTo>
                    <a:lnTo>
                      <a:pt x="294" y="343"/>
                    </a:lnTo>
                    <a:lnTo>
                      <a:pt x="304" y="409"/>
                    </a:lnTo>
                    <a:lnTo>
                      <a:pt x="351" y="372"/>
                    </a:lnTo>
                    <a:lnTo>
                      <a:pt x="382" y="409"/>
                    </a:lnTo>
                    <a:lnTo>
                      <a:pt x="474" y="308"/>
                    </a:lnTo>
                    <a:lnTo>
                      <a:pt x="517" y="167"/>
                    </a:lnTo>
                    <a:lnTo>
                      <a:pt x="517" y="0"/>
                    </a:lnTo>
                    <a:lnTo>
                      <a:pt x="552" y="154"/>
                    </a:lnTo>
                    <a:lnTo>
                      <a:pt x="517" y="396"/>
                    </a:lnTo>
                    <a:lnTo>
                      <a:pt x="351" y="525"/>
                    </a:lnTo>
                    <a:lnTo>
                      <a:pt x="229" y="536"/>
                    </a:lnTo>
                    <a:lnTo>
                      <a:pt x="253" y="460"/>
                    </a:lnTo>
                    <a:lnTo>
                      <a:pt x="133" y="525"/>
                    </a:lnTo>
                    <a:lnTo>
                      <a:pt x="0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62880" y="2817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0" y="0"/>
                    </a:moveTo>
                    <a:lnTo>
                      <a:pt x="0" y="90"/>
                    </a:lnTo>
                    <a:lnTo>
                      <a:pt x="39" y="90"/>
                    </a:lnTo>
                    <a:lnTo>
                      <a:pt x="98" y="16"/>
                    </a:ln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48480" y="28256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59" h="194">
                    <a:moveTo>
                      <a:pt x="159" y="0"/>
                    </a:moveTo>
                    <a:lnTo>
                      <a:pt x="159" y="69"/>
                    </a:lnTo>
                    <a:lnTo>
                      <a:pt x="116" y="69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39120" y="28414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13" y="0"/>
                    </a:moveTo>
                    <a:lnTo>
                      <a:pt x="0" y="142"/>
                    </a:lnTo>
                    <a:lnTo>
                      <a:pt x="113" y="142"/>
                    </a:lnTo>
                    <a:lnTo>
                      <a:pt x="143" y="51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32640" y="2866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33" h="244">
                    <a:moveTo>
                      <a:pt x="212" y="0"/>
                    </a:moveTo>
                    <a:lnTo>
                      <a:pt x="120" y="166"/>
                    </a:lnTo>
                    <a:lnTo>
                      <a:pt x="0" y="229"/>
                    </a:lnTo>
                    <a:lnTo>
                      <a:pt x="40" y="244"/>
                    </a:lnTo>
                    <a:lnTo>
                      <a:pt x="161" y="180"/>
                    </a:lnTo>
                    <a:lnTo>
                      <a:pt x="220" y="51"/>
                    </a:lnTo>
                    <a:lnTo>
                      <a:pt x="419" y="14"/>
                    </a:lnTo>
                    <a:lnTo>
                      <a:pt x="433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53080" y="2842920"/>
                <a:ext cx="71640" cy="77760"/>
              </a:xfrm>
              <a:custGeom>
                <a:avLst/>
                <a:gdLst/>
                <a:ahLst/>
                <a:rect l="l" t="t" r="r" b="b"/>
                <a:pathLst>
                  <a:path w="801" h="888">
                    <a:moveTo>
                      <a:pt x="801" y="824"/>
                    </a:moveTo>
                    <a:lnTo>
                      <a:pt x="705" y="863"/>
                    </a:lnTo>
                    <a:lnTo>
                      <a:pt x="627" y="863"/>
                    </a:lnTo>
                    <a:lnTo>
                      <a:pt x="263" y="516"/>
                    </a:lnTo>
                    <a:lnTo>
                      <a:pt x="92" y="0"/>
                    </a:lnTo>
                    <a:lnTo>
                      <a:pt x="53" y="39"/>
                    </a:lnTo>
                    <a:lnTo>
                      <a:pt x="130" y="299"/>
                    </a:lnTo>
                    <a:lnTo>
                      <a:pt x="92" y="337"/>
                    </a:lnTo>
                    <a:lnTo>
                      <a:pt x="0" y="272"/>
                    </a:lnTo>
                    <a:lnTo>
                      <a:pt x="101" y="493"/>
                    </a:lnTo>
                    <a:lnTo>
                      <a:pt x="101" y="617"/>
                    </a:lnTo>
                    <a:lnTo>
                      <a:pt x="53" y="888"/>
                    </a:lnTo>
                    <a:lnTo>
                      <a:pt x="181" y="646"/>
                    </a:lnTo>
                    <a:lnTo>
                      <a:pt x="253" y="646"/>
                    </a:lnTo>
                    <a:lnTo>
                      <a:pt x="603" y="888"/>
                    </a:lnTo>
                    <a:lnTo>
                      <a:pt x="693" y="888"/>
                    </a:lnTo>
                    <a:lnTo>
                      <a:pt x="801" y="8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26160" y="28969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1" h="131">
                    <a:moveTo>
                      <a:pt x="0" y="0"/>
                    </a:moveTo>
                    <a:lnTo>
                      <a:pt x="0" y="131"/>
                    </a:lnTo>
                    <a:lnTo>
                      <a:pt x="21" y="107"/>
                    </a:lnTo>
                    <a:lnTo>
                      <a:pt x="2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00960" y="2723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423" h="385">
                    <a:moveTo>
                      <a:pt x="423" y="195"/>
                    </a:moveTo>
                    <a:lnTo>
                      <a:pt x="284" y="168"/>
                    </a:lnTo>
                    <a:lnTo>
                      <a:pt x="194" y="64"/>
                    </a:lnTo>
                    <a:lnTo>
                      <a:pt x="63" y="0"/>
                    </a:lnTo>
                    <a:lnTo>
                      <a:pt x="153" y="141"/>
                    </a:lnTo>
                    <a:lnTo>
                      <a:pt x="0" y="64"/>
                    </a:lnTo>
                    <a:lnTo>
                      <a:pt x="106" y="244"/>
                    </a:lnTo>
                    <a:lnTo>
                      <a:pt x="315" y="385"/>
                    </a:lnTo>
                    <a:lnTo>
                      <a:pt x="194" y="258"/>
                    </a:lnTo>
                    <a:lnTo>
                      <a:pt x="323" y="244"/>
                    </a:lnTo>
                    <a:lnTo>
                      <a:pt x="423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78640" y="2725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05" h="401">
                    <a:moveTo>
                      <a:pt x="505" y="401"/>
                    </a:moveTo>
                    <a:lnTo>
                      <a:pt x="411" y="401"/>
                    </a:lnTo>
                    <a:lnTo>
                      <a:pt x="180" y="346"/>
                    </a:lnTo>
                    <a:lnTo>
                      <a:pt x="0" y="192"/>
                    </a:lnTo>
                    <a:lnTo>
                      <a:pt x="219" y="219"/>
                    </a:lnTo>
                    <a:lnTo>
                      <a:pt x="151" y="75"/>
                    </a:lnTo>
                    <a:lnTo>
                      <a:pt x="31" y="0"/>
                    </a:lnTo>
                    <a:lnTo>
                      <a:pt x="193" y="90"/>
                    </a:lnTo>
                    <a:lnTo>
                      <a:pt x="345" y="323"/>
                    </a:lnTo>
                    <a:lnTo>
                      <a:pt x="505" y="4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35800" y="2723760"/>
                <a:ext cx="90360" cy="78120"/>
              </a:xfrm>
              <a:custGeom>
                <a:avLst/>
                <a:gdLst/>
                <a:ahLst/>
                <a:rect l="l" t="t" r="r" b="b"/>
                <a:pathLst>
                  <a:path w="1041" h="874">
                    <a:moveTo>
                      <a:pt x="969" y="473"/>
                    </a:moveTo>
                    <a:lnTo>
                      <a:pt x="853" y="473"/>
                    </a:lnTo>
                    <a:lnTo>
                      <a:pt x="651" y="426"/>
                    </a:lnTo>
                    <a:lnTo>
                      <a:pt x="470" y="308"/>
                    </a:lnTo>
                    <a:lnTo>
                      <a:pt x="319" y="269"/>
                    </a:lnTo>
                    <a:lnTo>
                      <a:pt x="438" y="388"/>
                    </a:lnTo>
                    <a:lnTo>
                      <a:pt x="419" y="473"/>
                    </a:lnTo>
                    <a:lnTo>
                      <a:pt x="267" y="371"/>
                    </a:lnTo>
                    <a:lnTo>
                      <a:pt x="176" y="0"/>
                    </a:lnTo>
                    <a:lnTo>
                      <a:pt x="129" y="11"/>
                    </a:lnTo>
                    <a:lnTo>
                      <a:pt x="97" y="101"/>
                    </a:lnTo>
                    <a:lnTo>
                      <a:pt x="0" y="230"/>
                    </a:lnTo>
                    <a:lnTo>
                      <a:pt x="0" y="396"/>
                    </a:lnTo>
                    <a:lnTo>
                      <a:pt x="156" y="735"/>
                    </a:lnTo>
                    <a:lnTo>
                      <a:pt x="260" y="643"/>
                    </a:lnTo>
                    <a:lnTo>
                      <a:pt x="407" y="786"/>
                    </a:lnTo>
                    <a:lnTo>
                      <a:pt x="479" y="786"/>
                    </a:lnTo>
                    <a:lnTo>
                      <a:pt x="407" y="643"/>
                    </a:lnTo>
                    <a:lnTo>
                      <a:pt x="579" y="786"/>
                    </a:lnTo>
                    <a:lnTo>
                      <a:pt x="682" y="799"/>
                    </a:lnTo>
                    <a:lnTo>
                      <a:pt x="571" y="874"/>
                    </a:lnTo>
                    <a:lnTo>
                      <a:pt x="861" y="874"/>
                    </a:lnTo>
                    <a:lnTo>
                      <a:pt x="747" y="735"/>
                    </a:lnTo>
                    <a:lnTo>
                      <a:pt x="900" y="786"/>
                    </a:lnTo>
                    <a:lnTo>
                      <a:pt x="1041" y="745"/>
                    </a:lnTo>
                    <a:lnTo>
                      <a:pt x="912" y="745"/>
                    </a:lnTo>
                    <a:lnTo>
                      <a:pt x="798" y="657"/>
                    </a:lnTo>
                    <a:lnTo>
                      <a:pt x="892" y="643"/>
                    </a:lnTo>
                    <a:lnTo>
                      <a:pt x="953" y="604"/>
                    </a:lnTo>
                    <a:lnTo>
                      <a:pt x="861" y="592"/>
                    </a:lnTo>
                    <a:lnTo>
                      <a:pt x="759" y="551"/>
                    </a:lnTo>
                    <a:lnTo>
                      <a:pt x="881" y="551"/>
                    </a:lnTo>
                    <a:lnTo>
                      <a:pt x="822" y="503"/>
                    </a:lnTo>
                    <a:lnTo>
                      <a:pt x="969" y="4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56320" y="279360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9" h="307">
                    <a:moveTo>
                      <a:pt x="27" y="0"/>
                    </a:moveTo>
                    <a:lnTo>
                      <a:pt x="27" y="51"/>
                    </a:lnTo>
                    <a:lnTo>
                      <a:pt x="0" y="129"/>
                    </a:lnTo>
                    <a:lnTo>
                      <a:pt x="97" y="307"/>
                    </a:lnTo>
                    <a:lnTo>
                      <a:pt x="108" y="231"/>
                    </a:lnTo>
                    <a:lnTo>
                      <a:pt x="87" y="184"/>
                    </a:lnTo>
                    <a:lnTo>
                      <a:pt x="179" y="99"/>
                    </a:lnTo>
                    <a:lnTo>
                      <a:pt x="9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3240" y="2860560"/>
                <a:ext cx="24120" cy="47520"/>
              </a:xfrm>
              <a:custGeom>
                <a:avLst/>
                <a:gdLst/>
                <a:ahLst/>
                <a:rect l="l" t="t" r="r" b="b"/>
                <a:pathLst>
                  <a:path w="267" h="540">
                    <a:moveTo>
                      <a:pt x="95" y="64"/>
                    </a:moveTo>
                    <a:lnTo>
                      <a:pt x="39" y="105"/>
                    </a:lnTo>
                    <a:lnTo>
                      <a:pt x="29" y="180"/>
                    </a:lnTo>
                    <a:lnTo>
                      <a:pt x="86" y="166"/>
                    </a:lnTo>
                    <a:lnTo>
                      <a:pt x="47" y="258"/>
                    </a:lnTo>
                    <a:lnTo>
                      <a:pt x="95" y="283"/>
                    </a:lnTo>
                    <a:lnTo>
                      <a:pt x="8" y="413"/>
                    </a:lnTo>
                    <a:lnTo>
                      <a:pt x="66" y="377"/>
                    </a:lnTo>
                    <a:lnTo>
                      <a:pt x="0" y="540"/>
                    </a:lnTo>
                    <a:lnTo>
                      <a:pt x="189" y="359"/>
                    </a:lnTo>
                    <a:lnTo>
                      <a:pt x="267" y="111"/>
                    </a:lnTo>
                    <a:lnTo>
                      <a:pt x="205" y="111"/>
                    </a:lnTo>
                    <a:lnTo>
                      <a:pt x="117" y="129"/>
                    </a:lnTo>
                    <a:lnTo>
                      <a:pt x="136" y="0"/>
                    </a:lnTo>
                    <a:lnTo>
                      <a:pt x="9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15280" y="266832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0" y="811"/>
                    </a:moveTo>
                    <a:lnTo>
                      <a:pt x="124" y="607"/>
                    </a:lnTo>
                    <a:lnTo>
                      <a:pt x="333" y="513"/>
                    </a:lnTo>
                    <a:lnTo>
                      <a:pt x="204" y="513"/>
                    </a:lnTo>
                    <a:lnTo>
                      <a:pt x="563" y="298"/>
                    </a:lnTo>
                    <a:lnTo>
                      <a:pt x="402" y="298"/>
                    </a:lnTo>
                    <a:lnTo>
                      <a:pt x="574" y="179"/>
                    </a:lnTo>
                    <a:lnTo>
                      <a:pt x="723" y="179"/>
                    </a:lnTo>
                    <a:lnTo>
                      <a:pt x="493" y="105"/>
                    </a:lnTo>
                    <a:lnTo>
                      <a:pt x="834" y="39"/>
                    </a:lnTo>
                    <a:lnTo>
                      <a:pt x="737" y="0"/>
                    </a:lnTo>
                    <a:lnTo>
                      <a:pt x="355" y="105"/>
                    </a:lnTo>
                    <a:lnTo>
                      <a:pt x="62" y="386"/>
                    </a:lnTo>
                    <a:lnTo>
                      <a:pt x="355" y="208"/>
                    </a:lnTo>
                    <a:lnTo>
                      <a:pt x="103" y="478"/>
                    </a:lnTo>
                    <a:lnTo>
                      <a:pt x="0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316640" y="2673000"/>
                <a:ext cx="120600" cy="201600"/>
              </a:xfrm>
              <a:custGeom>
                <a:avLst/>
                <a:gdLst/>
                <a:ahLst/>
                <a:rect l="l" t="t" r="r" b="b"/>
                <a:pathLst>
                  <a:path w="1364" h="2279">
                    <a:moveTo>
                      <a:pt x="1364" y="0"/>
                    </a:moveTo>
                    <a:lnTo>
                      <a:pt x="1165" y="115"/>
                    </a:lnTo>
                    <a:lnTo>
                      <a:pt x="793" y="543"/>
                    </a:lnTo>
                    <a:lnTo>
                      <a:pt x="562" y="1289"/>
                    </a:lnTo>
                    <a:lnTo>
                      <a:pt x="276" y="1803"/>
                    </a:lnTo>
                    <a:lnTo>
                      <a:pt x="27" y="1999"/>
                    </a:lnTo>
                    <a:lnTo>
                      <a:pt x="0" y="2113"/>
                    </a:lnTo>
                    <a:lnTo>
                      <a:pt x="57" y="2242"/>
                    </a:lnTo>
                    <a:lnTo>
                      <a:pt x="190" y="2279"/>
                    </a:lnTo>
                    <a:lnTo>
                      <a:pt x="107" y="2218"/>
                    </a:lnTo>
                    <a:lnTo>
                      <a:pt x="88" y="2113"/>
                    </a:lnTo>
                    <a:lnTo>
                      <a:pt x="231" y="2007"/>
                    </a:lnTo>
                    <a:lnTo>
                      <a:pt x="310" y="2007"/>
                    </a:lnTo>
                    <a:lnTo>
                      <a:pt x="360" y="2154"/>
                    </a:lnTo>
                    <a:lnTo>
                      <a:pt x="503" y="2049"/>
                    </a:lnTo>
                    <a:lnTo>
                      <a:pt x="599" y="1842"/>
                    </a:lnTo>
                    <a:lnTo>
                      <a:pt x="752" y="1674"/>
                    </a:lnTo>
                    <a:lnTo>
                      <a:pt x="509" y="1803"/>
                    </a:lnTo>
                    <a:lnTo>
                      <a:pt x="579" y="1557"/>
                    </a:lnTo>
                    <a:lnTo>
                      <a:pt x="772" y="1316"/>
                    </a:lnTo>
                    <a:lnTo>
                      <a:pt x="900" y="811"/>
                    </a:lnTo>
                    <a:lnTo>
                      <a:pt x="731" y="1261"/>
                    </a:lnTo>
                    <a:lnTo>
                      <a:pt x="721" y="1084"/>
                    </a:lnTo>
                    <a:lnTo>
                      <a:pt x="871" y="528"/>
                    </a:lnTo>
                    <a:lnTo>
                      <a:pt x="1181" y="128"/>
                    </a:lnTo>
                    <a:lnTo>
                      <a:pt x="13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97560" y="2863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272" h="308">
                    <a:moveTo>
                      <a:pt x="272" y="129"/>
                    </a:moveTo>
                    <a:lnTo>
                      <a:pt x="200" y="115"/>
                    </a:lnTo>
                    <a:lnTo>
                      <a:pt x="131" y="0"/>
                    </a:lnTo>
                    <a:lnTo>
                      <a:pt x="71" y="138"/>
                    </a:lnTo>
                    <a:lnTo>
                      <a:pt x="71" y="217"/>
                    </a:lnTo>
                    <a:lnTo>
                      <a:pt x="0" y="308"/>
                    </a:lnTo>
                    <a:lnTo>
                      <a:pt x="182" y="232"/>
                    </a:lnTo>
                    <a:lnTo>
                      <a:pt x="272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73880" y="2761920"/>
                <a:ext cx="38160" cy="106560"/>
              </a:xfrm>
              <a:custGeom>
                <a:avLst/>
                <a:gdLst/>
                <a:ahLst/>
                <a:rect l="l" t="t" r="r" b="b"/>
                <a:pathLst>
                  <a:path w="432" h="1198">
                    <a:moveTo>
                      <a:pt x="432" y="0"/>
                    </a:moveTo>
                    <a:lnTo>
                      <a:pt x="241" y="667"/>
                    </a:lnTo>
                    <a:lnTo>
                      <a:pt x="19" y="992"/>
                    </a:lnTo>
                    <a:lnTo>
                      <a:pt x="112" y="939"/>
                    </a:lnTo>
                    <a:lnTo>
                      <a:pt x="81" y="1069"/>
                    </a:lnTo>
                    <a:lnTo>
                      <a:pt x="0" y="1198"/>
                    </a:lnTo>
                    <a:lnTo>
                      <a:pt x="251" y="912"/>
                    </a:lnTo>
                    <a:lnTo>
                      <a:pt x="354" y="679"/>
                    </a:lnTo>
                    <a:lnTo>
                      <a:pt x="143" y="925"/>
                    </a:lnTo>
                    <a:lnTo>
                      <a:pt x="268" y="667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445160" y="283500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74" h="196">
                    <a:moveTo>
                      <a:pt x="49" y="25"/>
                    </a:moveTo>
                    <a:lnTo>
                      <a:pt x="0" y="103"/>
                    </a:lnTo>
                    <a:lnTo>
                      <a:pt x="100" y="196"/>
                    </a:lnTo>
                    <a:lnTo>
                      <a:pt x="174" y="103"/>
                    </a:lnTo>
                    <a:lnTo>
                      <a:pt x="100" y="103"/>
                    </a:lnTo>
                    <a:lnTo>
                      <a:pt x="70" y="78"/>
                    </a:lnTo>
                    <a:lnTo>
                      <a:pt x="90" y="0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419960" y="2784240"/>
                <a:ext cx="30240" cy="57240"/>
              </a:xfrm>
              <a:custGeom>
                <a:avLst/>
                <a:gdLst/>
                <a:ahLst/>
                <a:rect l="l" t="t" r="r" b="b"/>
                <a:pathLst>
                  <a:path w="346" h="646">
                    <a:moveTo>
                      <a:pt x="139" y="0"/>
                    </a:moveTo>
                    <a:lnTo>
                      <a:pt x="287" y="119"/>
                    </a:lnTo>
                    <a:lnTo>
                      <a:pt x="346" y="273"/>
                    </a:lnTo>
                    <a:lnTo>
                      <a:pt x="346" y="400"/>
                    </a:lnTo>
                    <a:lnTo>
                      <a:pt x="227" y="646"/>
                    </a:lnTo>
                    <a:lnTo>
                      <a:pt x="248" y="439"/>
                    </a:lnTo>
                    <a:lnTo>
                      <a:pt x="117" y="235"/>
                    </a:lnTo>
                    <a:lnTo>
                      <a:pt x="117" y="390"/>
                    </a:lnTo>
                    <a:lnTo>
                      <a:pt x="0" y="0"/>
                    </a:lnTo>
                    <a:lnTo>
                      <a:pt x="258" y="337"/>
                    </a:lnTo>
                    <a:lnTo>
                      <a:pt x="238" y="194"/>
                    </a:lnTo>
                    <a:lnTo>
                      <a:pt x="149" y="6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402320" y="2804760"/>
                <a:ext cx="28800" cy="46080"/>
              </a:xfrm>
              <a:custGeom>
                <a:avLst/>
                <a:gdLst/>
                <a:ahLst/>
                <a:rect l="l" t="t" r="r" b="b"/>
                <a:pathLst>
                  <a:path w="323" h="511">
                    <a:moveTo>
                      <a:pt x="200" y="0"/>
                    </a:moveTo>
                    <a:lnTo>
                      <a:pt x="323" y="374"/>
                    </a:lnTo>
                    <a:lnTo>
                      <a:pt x="138" y="473"/>
                    </a:lnTo>
                    <a:lnTo>
                      <a:pt x="152" y="358"/>
                    </a:lnTo>
                    <a:lnTo>
                      <a:pt x="0" y="511"/>
                    </a:lnTo>
                    <a:lnTo>
                      <a:pt x="119" y="298"/>
                    </a:lnTo>
                    <a:lnTo>
                      <a:pt x="128" y="114"/>
                    </a:lnTo>
                    <a:lnTo>
                      <a:pt x="200" y="282"/>
                    </a:lnTo>
                    <a:lnTo>
                      <a:pt x="241" y="229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99440" y="282384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115" h="192">
                    <a:moveTo>
                      <a:pt x="72" y="0"/>
                    </a:moveTo>
                    <a:lnTo>
                      <a:pt x="0" y="192"/>
                    </a:lnTo>
                    <a:lnTo>
                      <a:pt x="115" y="88"/>
                    </a:lnTo>
                    <a:lnTo>
                      <a:pt x="115" y="2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85040" y="2876400"/>
                <a:ext cx="69840" cy="127080"/>
              </a:xfrm>
              <a:custGeom>
                <a:avLst/>
                <a:gdLst/>
                <a:ahLst/>
                <a:rect l="l" t="t" r="r" b="b"/>
                <a:pathLst>
                  <a:path w="790" h="1433">
                    <a:moveTo>
                      <a:pt x="651" y="39"/>
                    </a:moveTo>
                    <a:lnTo>
                      <a:pt x="614" y="94"/>
                    </a:lnTo>
                    <a:lnTo>
                      <a:pt x="499" y="378"/>
                    </a:lnTo>
                    <a:lnTo>
                      <a:pt x="460" y="94"/>
                    </a:lnTo>
                    <a:lnTo>
                      <a:pt x="409" y="378"/>
                    </a:lnTo>
                    <a:lnTo>
                      <a:pt x="289" y="607"/>
                    </a:lnTo>
                    <a:lnTo>
                      <a:pt x="306" y="351"/>
                    </a:lnTo>
                    <a:lnTo>
                      <a:pt x="209" y="521"/>
                    </a:lnTo>
                    <a:lnTo>
                      <a:pt x="222" y="713"/>
                    </a:lnTo>
                    <a:lnTo>
                      <a:pt x="87" y="494"/>
                    </a:lnTo>
                    <a:lnTo>
                      <a:pt x="72" y="698"/>
                    </a:lnTo>
                    <a:lnTo>
                      <a:pt x="150" y="971"/>
                    </a:lnTo>
                    <a:lnTo>
                      <a:pt x="0" y="879"/>
                    </a:lnTo>
                    <a:lnTo>
                      <a:pt x="119" y="1059"/>
                    </a:lnTo>
                    <a:lnTo>
                      <a:pt x="300" y="1110"/>
                    </a:lnTo>
                    <a:lnTo>
                      <a:pt x="499" y="1433"/>
                    </a:lnTo>
                    <a:lnTo>
                      <a:pt x="542" y="1316"/>
                    </a:lnTo>
                    <a:lnTo>
                      <a:pt x="542" y="1188"/>
                    </a:lnTo>
                    <a:lnTo>
                      <a:pt x="760" y="958"/>
                    </a:lnTo>
                    <a:lnTo>
                      <a:pt x="790" y="792"/>
                    </a:lnTo>
                    <a:lnTo>
                      <a:pt x="721" y="673"/>
                    </a:lnTo>
                    <a:lnTo>
                      <a:pt x="749" y="792"/>
                    </a:lnTo>
                    <a:lnTo>
                      <a:pt x="711" y="879"/>
                    </a:lnTo>
                    <a:lnTo>
                      <a:pt x="532" y="879"/>
                    </a:lnTo>
                    <a:lnTo>
                      <a:pt x="520" y="815"/>
                    </a:lnTo>
                    <a:lnTo>
                      <a:pt x="641" y="644"/>
                    </a:lnTo>
                    <a:lnTo>
                      <a:pt x="702" y="441"/>
                    </a:lnTo>
                    <a:lnTo>
                      <a:pt x="532" y="658"/>
                    </a:lnTo>
                    <a:lnTo>
                      <a:pt x="542" y="466"/>
                    </a:lnTo>
                    <a:lnTo>
                      <a:pt x="641" y="170"/>
                    </a:lnTo>
                    <a:lnTo>
                      <a:pt x="614" y="441"/>
                    </a:lnTo>
                    <a:lnTo>
                      <a:pt x="739" y="0"/>
                    </a:lnTo>
                    <a:lnTo>
                      <a:pt x="670" y="118"/>
                    </a:lnTo>
                    <a:lnTo>
                      <a:pt x="65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64240" y="29113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03" h="193">
                    <a:moveTo>
                      <a:pt x="41" y="115"/>
                    </a:moveTo>
                    <a:lnTo>
                      <a:pt x="0" y="193"/>
                    </a:lnTo>
                    <a:lnTo>
                      <a:pt x="92" y="180"/>
                    </a:lnTo>
                    <a:lnTo>
                      <a:pt x="152" y="104"/>
                    </a:lnTo>
                    <a:lnTo>
                      <a:pt x="203" y="139"/>
                    </a:lnTo>
                    <a:lnTo>
                      <a:pt x="193" y="0"/>
                    </a:lnTo>
                    <a:lnTo>
                      <a:pt x="152" y="67"/>
                    </a:lnTo>
                    <a:lnTo>
                      <a:pt x="123" y="39"/>
                    </a:lnTo>
                    <a:lnTo>
                      <a:pt x="70" y="104"/>
                    </a:lnTo>
                    <a:lnTo>
                      <a:pt x="4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31040" y="288108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643" h="674">
                    <a:moveTo>
                      <a:pt x="643" y="402"/>
                    </a:moveTo>
                    <a:lnTo>
                      <a:pt x="549" y="528"/>
                    </a:lnTo>
                    <a:lnTo>
                      <a:pt x="431" y="552"/>
                    </a:lnTo>
                    <a:lnTo>
                      <a:pt x="290" y="552"/>
                    </a:lnTo>
                    <a:lnTo>
                      <a:pt x="50" y="674"/>
                    </a:lnTo>
                    <a:lnTo>
                      <a:pt x="109" y="425"/>
                    </a:lnTo>
                    <a:lnTo>
                      <a:pt x="30" y="466"/>
                    </a:lnTo>
                    <a:lnTo>
                      <a:pt x="99" y="232"/>
                    </a:lnTo>
                    <a:lnTo>
                      <a:pt x="0" y="271"/>
                    </a:lnTo>
                    <a:lnTo>
                      <a:pt x="191" y="0"/>
                    </a:lnTo>
                    <a:lnTo>
                      <a:pt x="140" y="169"/>
                    </a:lnTo>
                    <a:lnTo>
                      <a:pt x="220" y="139"/>
                    </a:lnTo>
                    <a:lnTo>
                      <a:pt x="140" y="374"/>
                    </a:lnTo>
                    <a:lnTo>
                      <a:pt x="241" y="323"/>
                    </a:lnTo>
                    <a:lnTo>
                      <a:pt x="241" y="425"/>
                    </a:lnTo>
                    <a:lnTo>
                      <a:pt x="472" y="474"/>
                    </a:lnTo>
                    <a:lnTo>
                      <a:pt x="549" y="487"/>
                    </a:lnTo>
                    <a:lnTo>
                      <a:pt x="643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53280" y="2890440"/>
                <a:ext cx="71280" cy="115920"/>
              </a:xfrm>
              <a:custGeom>
                <a:avLst/>
                <a:gdLst/>
                <a:ahLst/>
                <a:rect l="l" t="t" r="r" b="b"/>
                <a:pathLst>
                  <a:path w="824" h="1325">
                    <a:moveTo>
                      <a:pt x="824" y="0"/>
                    </a:moveTo>
                    <a:lnTo>
                      <a:pt x="574" y="155"/>
                    </a:lnTo>
                    <a:lnTo>
                      <a:pt x="484" y="143"/>
                    </a:lnTo>
                    <a:lnTo>
                      <a:pt x="373" y="77"/>
                    </a:lnTo>
                    <a:lnTo>
                      <a:pt x="325" y="309"/>
                    </a:lnTo>
                    <a:lnTo>
                      <a:pt x="433" y="541"/>
                    </a:lnTo>
                    <a:lnTo>
                      <a:pt x="235" y="487"/>
                    </a:lnTo>
                    <a:lnTo>
                      <a:pt x="266" y="635"/>
                    </a:lnTo>
                    <a:lnTo>
                      <a:pt x="221" y="748"/>
                    </a:lnTo>
                    <a:lnTo>
                      <a:pt x="157" y="773"/>
                    </a:lnTo>
                    <a:lnTo>
                      <a:pt x="51" y="980"/>
                    </a:lnTo>
                    <a:lnTo>
                      <a:pt x="0" y="1325"/>
                    </a:lnTo>
                    <a:lnTo>
                      <a:pt x="141" y="967"/>
                    </a:lnTo>
                    <a:lnTo>
                      <a:pt x="373" y="736"/>
                    </a:lnTo>
                    <a:lnTo>
                      <a:pt x="663" y="450"/>
                    </a:lnTo>
                    <a:lnTo>
                      <a:pt x="714" y="284"/>
                    </a:lnTo>
                    <a:lnTo>
                      <a:pt x="703" y="169"/>
                    </a:lnTo>
                    <a:lnTo>
                      <a:pt x="8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392960" y="3006360"/>
                <a:ext cx="65160" cy="59040"/>
              </a:xfrm>
              <a:custGeom>
                <a:avLst/>
                <a:gdLst/>
                <a:ahLst/>
                <a:rect l="l" t="t" r="r" b="b"/>
                <a:pathLst>
                  <a:path w="738" h="665">
                    <a:moveTo>
                      <a:pt x="738" y="665"/>
                    </a:moveTo>
                    <a:lnTo>
                      <a:pt x="738" y="552"/>
                    </a:lnTo>
                    <a:lnTo>
                      <a:pt x="333" y="114"/>
                    </a:lnTo>
                    <a:lnTo>
                      <a:pt x="0" y="0"/>
                    </a:lnTo>
                    <a:lnTo>
                      <a:pt x="290" y="178"/>
                    </a:lnTo>
                    <a:lnTo>
                      <a:pt x="349" y="345"/>
                    </a:lnTo>
                    <a:lnTo>
                      <a:pt x="659" y="552"/>
                    </a:lnTo>
                    <a:lnTo>
                      <a:pt x="738" y="6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61280" y="302076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1247" h="1183">
                    <a:moveTo>
                      <a:pt x="1247" y="1183"/>
                    </a:moveTo>
                    <a:lnTo>
                      <a:pt x="988" y="774"/>
                    </a:lnTo>
                    <a:lnTo>
                      <a:pt x="0" y="0"/>
                    </a:lnTo>
                    <a:lnTo>
                      <a:pt x="88" y="158"/>
                    </a:lnTo>
                    <a:lnTo>
                      <a:pt x="427" y="492"/>
                    </a:lnTo>
                    <a:lnTo>
                      <a:pt x="466" y="618"/>
                    </a:lnTo>
                    <a:lnTo>
                      <a:pt x="347" y="706"/>
                    </a:lnTo>
                    <a:lnTo>
                      <a:pt x="606" y="838"/>
                    </a:lnTo>
                    <a:lnTo>
                      <a:pt x="957" y="940"/>
                    </a:lnTo>
                    <a:lnTo>
                      <a:pt x="1247" y="1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67400" y="3097080"/>
                <a:ext cx="120960" cy="110880"/>
              </a:xfrm>
              <a:custGeom>
                <a:avLst/>
                <a:gdLst/>
                <a:ahLst/>
                <a:rect l="l" t="t" r="r" b="b"/>
                <a:pathLst>
                  <a:path w="1378" h="1260">
                    <a:moveTo>
                      <a:pt x="1378" y="1127"/>
                    </a:moveTo>
                    <a:lnTo>
                      <a:pt x="1208" y="963"/>
                    </a:lnTo>
                    <a:lnTo>
                      <a:pt x="1087" y="1013"/>
                    </a:lnTo>
                    <a:lnTo>
                      <a:pt x="752" y="643"/>
                    </a:lnTo>
                    <a:lnTo>
                      <a:pt x="240" y="333"/>
                    </a:lnTo>
                    <a:lnTo>
                      <a:pt x="0" y="0"/>
                    </a:lnTo>
                    <a:lnTo>
                      <a:pt x="257" y="461"/>
                    </a:lnTo>
                    <a:lnTo>
                      <a:pt x="633" y="857"/>
                    </a:lnTo>
                    <a:lnTo>
                      <a:pt x="1378" y="1260"/>
                    </a:lnTo>
                    <a:lnTo>
                      <a:pt x="1378" y="1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02320" y="3112920"/>
                <a:ext cx="150840" cy="69840"/>
              </a:xfrm>
              <a:custGeom>
                <a:avLst/>
                <a:gdLst/>
                <a:ahLst/>
                <a:rect l="l" t="t" r="r" b="b"/>
                <a:pathLst>
                  <a:path w="1709" h="794">
                    <a:moveTo>
                      <a:pt x="0" y="0"/>
                    </a:moveTo>
                    <a:lnTo>
                      <a:pt x="810" y="295"/>
                    </a:lnTo>
                    <a:lnTo>
                      <a:pt x="1058" y="330"/>
                    </a:lnTo>
                    <a:lnTo>
                      <a:pt x="1598" y="601"/>
                    </a:lnTo>
                    <a:lnTo>
                      <a:pt x="1481" y="652"/>
                    </a:lnTo>
                    <a:lnTo>
                      <a:pt x="1709" y="794"/>
                    </a:lnTo>
                    <a:lnTo>
                      <a:pt x="1577" y="794"/>
                    </a:lnTo>
                    <a:lnTo>
                      <a:pt x="1078" y="640"/>
                    </a:lnTo>
                    <a:lnTo>
                      <a:pt x="949" y="743"/>
                    </a:lnTo>
                    <a:lnTo>
                      <a:pt x="798" y="446"/>
                    </a:lnTo>
                    <a:lnTo>
                      <a:pt x="720" y="538"/>
                    </a:lnTo>
                    <a:lnTo>
                      <a:pt x="409" y="360"/>
                    </a:lnTo>
                    <a:lnTo>
                      <a:pt x="280" y="188"/>
                    </a:lnTo>
                    <a:lnTo>
                      <a:pt x="31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58120" y="2971440"/>
                <a:ext cx="28440" cy="98640"/>
              </a:xfrm>
              <a:custGeom>
                <a:avLst/>
                <a:gdLst/>
                <a:ahLst/>
                <a:rect l="l" t="t" r="r" b="b"/>
                <a:pathLst>
                  <a:path w="321" h="1116">
                    <a:moveTo>
                      <a:pt x="249" y="0"/>
                    </a:moveTo>
                    <a:lnTo>
                      <a:pt x="303" y="89"/>
                    </a:lnTo>
                    <a:lnTo>
                      <a:pt x="303" y="266"/>
                    </a:lnTo>
                    <a:lnTo>
                      <a:pt x="239" y="549"/>
                    </a:lnTo>
                    <a:lnTo>
                      <a:pt x="321" y="744"/>
                    </a:lnTo>
                    <a:lnTo>
                      <a:pt x="170" y="1116"/>
                    </a:lnTo>
                    <a:lnTo>
                      <a:pt x="151" y="976"/>
                    </a:lnTo>
                    <a:lnTo>
                      <a:pt x="83" y="884"/>
                    </a:lnTo>
                    <a:lnTo>
                      <a:pt x="0" y="526"/>
                    </a:lnTo>
                    <a:lnTo>
                      <a:pt x="233" y="204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67600" y="3022200"/>
                <a:ext cx="557280" cy="451080"/>
              </a:xfrm>
              <a:custGeom>
                <a:avLst/>
                <a:gdLst/>
                <a:ahLst/>
                <a:rect l="l" t="t" r="r" b="b"/>
                <a:pathLst>
                  <a:path w="6327" h="5107">
                    <a:moveTo>
                      <a:pt x="6327" y="3485"/>
                    </a:moveTo>
                    <a:lnTo>
                      <a:pt x="5506" y="3914"/>
                    </a:lnTo>
                    <a:lnTo>
                      <a:pt x="4543" y="4048"/>
                    </a:lnTo>
                    <a:lnTo>
                      <a:pt x="3642" y="4647"/>
                    </a:lnTo>
                    <a:lnTo>
                      <a:pt x="3333" y="4647"/>
                    </a:lnTo>
                    <a:lnTo>
                      <a:pt x="2989" y="5040"/>
                    </a:lnTo>
                    <a:lnTo>
                      <a:pt x="2748" y="5107"/>
                    </a:lnTo>
                    <a:lnTo>
                      <a:pt x="2954" y="4854"/>
                    </a:lnTo>
                    <a:lnTo>
                      <a:pt x="2830" y="4444"/>
                    </a:lnTo>
                    <a:lnTo>
                      <a:pt x="2367" y="4647"/>
                    </a:lnTo>
                    <a:lnTo>
                      <a:pt x="2178" y="4867"/>
                    </a:lnTo>
                    <a:lnTo>
                      <a:pt x="2377" y="4425"/>
                    </a:lnTo>
                    <a:lnTo>
                      <a:pt x="2110" y="4425"/>
                    </a:lnTo>
                    <a:lnTo>
                      <a:pt x="1605" y="4596"/>
                    </a:lnTo>
                    <a:lnTo>
                      <a:pt x="2020" y="4271"/>
                    </a:lnTo>
                    <a:lnTo>
                      <a:pt x="2427" y="4169"/>
                    </a:lnTo>
                    <a:lnTo>
                      <a:pt x="2309" y="4081"/>
                    </a:lnTo>
                    <a:lnTo>
                      <a:pt x="2087" y="4032"/>
                    </a:lnTo>
                    <a:lnTo>
                      <a:pt x="2020" y="3809"/>
                    </a:lnTo>
                    <a:lnTo>
                      <a:pt x="1763" y="3635"/>
                    </a:lnTo>
                    <a:lnTo>
                      <a:pt x="1872" y="3570"/>
                    </a:lnTo>
                    <a:lnTo>
                      <a:pt x="2020" y="3553"/>
                    </a:lnTo>
                    <a:lnTo>
                      <a:pt x="2192" y="3366"/>
                    </a:lnTo>
                    <a:lnTo>
                      <a:pt x="2272" y="3060"/>
                    </a:lnTo>
                    <a:lnTo>
                      <a:pt x="2096" y="3060"/>
                    </a:lnTo>
                    <a:lnTo>
                      <a:pt x="1791" y="3294"/>
                    </a:lnTo>
                    <a:lnTo>
                      <a:pt x="1472" y="3294"/>
                    </a:lnTo>
                    <a:lnTo>
                      <a:pt x="1377" y="3503"/>
                    </a:lnTo>
                    <a:lnTo>
                      <a:pt x="1338" y="3503"/>
                    </a:lnTo>
                    <a:lnTo>
                      <a:pt x="1286" y="3349"/>
                    </a:lnTo>
                    <a:lnTo>
                      <a:pt x="913" y="3979"/>
                    </a:lnTo>
                    <a:lnTo>
                      <a:pt x="1114" y="3431"/>
                    </a:lnTo>
                    <a:lnTo>
                      <a:pt x="1032" y="3366"/>
                    </a:lnTo>
                    <a:lnTo>
                      <a:pt x="885" y="3397"/>
                    </a:lnTo>
                    <a:lnTo>
                      <a:pt x="531" y="3961"/>
                    </a:lnTo>
                    <a:lnTo>
                      <a:pt x="303" y="4081"/>
                    </a:lnTo>
                    <a:lnTo>
                      <a:pt x="806" y="3382"/>
                    </a:lnTo>
                    <a:lnTo>
                      <a:pt x="834" y="3280"/>
                    </a:lnTo>
                    <a:lnTo>
                      <a:pt x="0" y="4017"/>
                    </a:lnTo>
                    <a:lnTo>
                      <a:pt x="141" y="3590"/>
                    </a:lnTo>
                    <a:lnTo>
                      <a:pt x="791" y="3128"/>
                    </a:lnTo>
                    <a:lnTo>
                      <a:pt x="474" y="3091"/>
                    </a:lnTo>
                    <a:lnTo>
                      <a:pt x="806" y="3006"/>
                    </a:lnTo>
                    <a:lnTo>
                      <a:pt x="1061" y="2836"/>
                    </a:lnTo>
                    <a:lnTo>
                      <a:pt x="1073" y="2988"/>
                    </a:lnTo>
                    <a:lnTo>
                      <a:pt x="1315" y="2750"/>
                    </a:lnTo>
                    <a:lnTo>
                      <a:pt x="1621" y="2732"/>
                    </a:lnTo>
                    <a:lnTo>
                      <a:pt x="1712" y="2644"/>
                    </a:lnTo>
                    <a:lnTo>
                      <a:pt x="1712" y="2409"/>
                    </a:lnTo>
                    <a:lnTo>
                      <a:pt x="2578" y="2887"/>
                    </a:lnTo>
                    <a:lnTo>
                      <a:pt x="2761" y="2869"/>
                    </a:lnTo>
                    <a:lnTo>
                      <a:pt x="2775" y="2732"/>
                    </a:lnTo>
                    <a:lnTo>
                      <a:pt x="2578" y="2511"/>
                    </a:lnTo>
                    <a:lnTo>
                      <a:pt x="2392" y="2580"/>
                    </a:lnTo>
                    <a:lnTo>
                      <a:pt x="2215" y="2151"/>
                    </a:lnTo>
                    <a:lnTo>
                      <a:pt x="1832" y="1879"/>
                    </a:lnTo>
                    <a:lnTo>
                      <a:pt x="1979" y="1795"/>
                    </a:lnTo>
                    <a:lnTo>
                      <a:pt x="1621" y="1405"/>
                    </a:lnTo>
                    <a:lnTo>
                      <a:pt x="1486" y="1415"/>
                    </a:lnTo>
                    <a:lnTo>
                      <a:pt x="1408" y="1570"/>
                    </a:lnTo>
                    <a:lnTo>
                      <a:pt x="1180" y="648"/>
                    </a:lnTo>
                    <a:lnTo>
                      <a:pt x="1897" y="1432"/>
                    </a:lnTo>
                    <a:lnTo>
                      <a:pt x="1582" y="871"/>
                    </a:lnTo>
                    <a:lnTo>
                      <a:pt x="1408" y="0"/>
                    </a:lnTo>
                    <a:lnTo>
                      <a:pt x="1699" y="888"/>
                    </a:lnTo>
                    <a:lnTo>
                      <a:pt x="2897" y="2304"/>
                    </a:lnTo>
                    <a:lnTo>
                      <a:pt x="2724" y="2304"/>
                    </a:lnTo>
                    <a:lnTo>
                      <a:pt x="3016" y="2617"/>
                    </a:lnTo>
                    <a:lnTo>
                      <a:pt x="3363" y="2668"/>
                    </a:lnTo>
                    <a:lnTo>
                      <a:pt x="3467" y="2732"/>
                    </a:lnTo>
                    <a:lnTo>
                      <a:pt x="3416" y="2939"/>
                    </a:lnTo>
                    <a:lnTo>
                      <a:pt x="3562" y="2988"/>
                    </a:lnTo>
                    <a:lnTo>
                      <a:pt x="3627" y="3263"/>
                    </a:lnTo>
                    <a:lnTo>
                      <a:pt x="3775" y="3431"/>
                    </a:lnTo>
                    <a:lnTo>
                      <a:pt x="3268" y="3245"/>
                    </a:lnTo>
                    <a:lnTo>
                      <a:pt x="3204" y="3725"/>
                    </a:lnTo>
                    <a:lnTo>
                      <a:pt x="3627" y="3809"/>
                    </a:lnTo>
                    <a:lnTo>
                      <a:pt x="4161" y="3623"/>
                    </a:lnTo>
                    <a:lnTo>
                      <a:pt x="3895" y="3518"/>
                    </a:lnTo>
                    <a:lnTo>
                      <a:pt x="4907" y="3707"/>
                    </a:lnTo>
                    <a:lnTo>
                      <a:pt x="6114" y="3417"/>
                    </a:lnTo>
                    <a:lnTo>
                      <a:pt x="6089" y="3518"/>
                    </a:lnTo>
                    <a:lnTo>
                      <a:pt x="6327" y="3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26280" y="3103200"/>
                <a:ext cx="74520" cy="128880"/>
              </a:xfrm>
              <a:custGeom>
                <a:avLst/>
                <a:gdLst/>
                <a:ahLst/>
                <a:rect l="l" t="t" r="r" b="b"/>
                <a:pathLst>
                  <a:path w="840" h="1468">
                    <a:moveTo>
                      <a:pt x="253" y="0"/>
                    </a:moveTo>
                    <a:lnTo>
                      <a:pt x="721" y="1025"/>
                    </a:lnTo>
                    <a:lnTo>
                      <a:pt x="589" y="920"/>
                    </a:lnTo>
                    <a:lnTo>
                      <a:pt x="589" y="1059"/>
                    </a:lnTo>
                    <a:lnTo>
                      <a:pt x="840" y="1382"/>
                    </a:lnTo>
                    <a:lnTo>
                      <a:pt x="324" y="1175"/>
                    </a:lnTo>
                    <a:lnTo>
                      <a:pt x="0" y="1468"/>
                    </a:lnTo>
                    <a:lnTo>
                      <a:pt x="214" y="936"/>
                    </a:lnTo>
                    <a:lnTo>
                      <a:pt x="374" y="766"/>
                    </a:lnTo>
                    <a:lnTo>
                      <a:pt x="390" y="562"/>
                    </a:lnTo>
                    <a:lnTo>
                      <a:pt x="269" y="304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89560" y="3250800"/>
                <a:ext cx="74880" cy="32040"/>
              </a:xfrm>
              <a:custGeom>
                <a:avLst/>
                <a:gdLst/>
                <a:ahLst/>
                <a:rect l="l" t="t" r="r" b="b"/>
                <a:pathLst>
                  <a:path w="853" h="359">
                    <a:moveTo>
                      <a:pt x="853" y="102"/>
                    </a:moveTo>
                    <a:lnTo>
                      <a:pt x="493" y="0"/>
                    </a:lnTo>
                    <a:lnTo>
                      <a:pt x="346" y="0"/>
                    </a:lnTo>
                    <a:lnTo>
                      <a:pt x="54" y="170"/>
                    </a:lnTo>
                    <a:lnTo>
                      <a:pt x="0" y="359"/>
                    </a:lnTo>
                    <a:lnTo>
                      <a:pt x="438" y="102"/>
                    </a:lnTo>
                    <a:lnTo>
                      <a:pt x="85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75400" y="3079440"/>
                <a:ext cx="163440" cy="65160"/>
              </a:xfrm>
              <a:custGeom>
                <a:avLst/>
                <a:gdLst/>
                <a:ahLst/>
                <a:rect l="l" t="t" r="r" b="b"/>
                <a:pathLst>
                  <a:path w="1852" h="751">
                    <a:moveTo>
                      <a:pt x="0" y="35"/>
                    </a:moveTo>
                    <a:lnTo>
                      <a:pt x="0" y="289"/>
                    </a:lnTo>
                    <a:lnTo>
                      <a:pt x="162" y="391"/>
                    </a:lnTo>
                    <a:lnTo>
                      <a:pt x="162" y="579"/>
                    </a:lnTo>
                    <a:lnTo>
                      <a:pt x="573" y="751"/>
                    </a:lnTo>
                    <a:lnTo>
                      <a:pt x="986" y="751"/>
                    </a:lnTo>
                    <a:lnTo>
                      <a:pt x="1852" y="391"/>
                    </a:lnTo>
                    <a:lnTo>
                      <a:pt x="1837" y="189"/>
                    </a:lnTo>
                    <a:lnTo>
                      <a:pt x="1640" y="0"/>
                    </a:lnTo>
                    <a:lnTo>
                      <a:pt x="1556" y="189"/>
                    </a:lnTo>
                    <a:lnTo>
                      <a:pt x="1399" y="0"/>
                    </a:lnTo>
                    <a:lnTo>
                      <a:pt x="733" y="82"/>
                    </a:lnTo>
                    <a:lnTo>
                      <a:pt x="561" y="238"/>
                    </a:lnTo>
                    <a:lnTo>
                      <a:pt x="360" y="119"/>
                    </a:lnTo>
                    <a:lnTo>
                      <a:pt x="281" y="119"/>
                    </a:lnTo>
                    <a:lnTo>
                      <a:pt x="199" y="205"/>
                    </a:lnTo>
                    <a:lnTo>
                      <a:pt x="82" y="20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04200" y="3180960"/>
                <a:ext cx="66600" cy="115920"/>
              </a:xfrm>
              <a:custGeom>
                <a:avLst/>
                <a:gdLst/>
                <a:ahLst/>
                <a:rect l="l" t="t" r="r" b="b"/>
                <a:pathLst>
                  <a:path w="750" h="1313">
                    <a:moveTo>
                      <a:pt x="695" y="0"/>
                    </a:moveTo>
                    <a:lnTo>
                      <a:pt x="695" y="239"/>
                    </a:lnTo>
                    <a:lnTo>
                      <a:pt x="97" y="955"/>
                    </a:lnTo>
                    <a:lnTo>
                      <a:pt x="0" y="1313"/>
                    </a:lnTo>
                    <a:lnTo>
                      <a:pt x="188" y="1125"/>
                    </a:lnTo>
                    <a:lnTo>
                      <a:pt x="335" y="801"/>
                    </a:lnTo>
                    <a:lnTo>
                      <a:pt x="507" y="748"/>
                    </a:lnTo>
                    <a:lnTo>
                      <a:pt x="750" y="288"/>
                    </a:lnTo>
                    <a:lnTo>
                      <a:pt x="750" y="17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62920" y="3139920"/>
                <a:ext cx="58680" cy="214200"/>
              </a:xfrm>
              <a:custGeom>
                <a:avLst/>
                <a:gdLst/>
                <a:ahLst/>
                <a:rect l="l" t="t" r="r" b="b"/>
                <a:pathLst>
                  <a:path w="655" h="2441">
                    <a:moveTo>
                      <a:pt x="0" y="51"/>
                    </a:moveTo>
                    <a:lnTo>
                      <a:pt x="0" y="2441"/>
                    </a:lnTo>
                    <a:lnTo>
                      <a:pt x="158" y="1875"/>
                    </a:lnTo>
                    <a:lnTo>
                      <a:pt x="293" y="1178"/>
                    </a:lnTo>
                    <a:lnTo>
                      <a:pt x="491" y="799"/>
                    </a:lnTo>
                    <a:lnTo>
                      <a:pt x="655" y="0"/>
                    </a:lnTo>
                    <a:lnTo>
                      <a:pt x="454" y="597"/>
                    </a:lnTo>
                    <a:lnTo>
                      <a:pt x="265" y="579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9000" y="320328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184" h="392">
                    <a:moveTo>
                      <a:pt x="18" y="17"/>
                    </a:moveTo>
                    <a:lnTo>
                      <a:pt x="18" y="392"/>
                    </a:lnTo>
                    <a:lnTo>
                      <a:pt x="184" y="207"/>
                    </a:lnTo>
                    <a:lnTo>
                      <a:pt x="135" y="33"/>
                    </a:lnTo>
                    <a:lnTo>
                      <a:pt x="0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227720" y="3357360"/>
                <a:ext cx="108000" cy="76320"/>
              </a:xfrm>
              <a:custGeom>
                <a:avLst/>
                <a:gdLst/>
                <a:ahLst/>
                <a:rect l="l" t="t" r="r" b="b"/>
                <a:pathLst>
                  <a:path w="1226" h="856">
                    <a:moveTo>
                      <a:pt x="1226" y="276"/>
                    </a:moveTo>
                    <a:lnTo>
                      <a:pt x="1226" y="123"/>
                    </a:lnTo>
                    <a:lnTo>
                      <a:pt x="1039" y="0"/>
                    </a:lnTo>
                    <a:lnTo>
                      <a:pt x="482" y="341"/>
                    </a:lnTo>
                    <a:lnTo>
                      <a:pt x="374" y="579"/>
                    </a:lnTo>
                    <a:lnTo>
                      <a:pt x="0" y="856"/>
                    </a:lnTo>
                    <a:lnTo>
                      <a:pt x="280" y="856"/>
                    </a:lnTo>
                    <a:lnTo>
                      <a:pt x="1226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64360" y="3393720"/>
                <a:ext cx="244440" cy="176400"/>
              </a:xfrm>
              <a:custGeom>
                <a:avLst/>
                <a:gdLst/>
                <a:ahLst/>
                <a:rect l="l" t="t" r="r" b="b"/>
                <a:pathLst>
                  <a:path w="2767" h="2006">
                    <a:moveTo>
                      <a:pt x="558" y="147"/>
                    </a:moveTo>
                    <a:lnTo>
                      <a:pt x="352" y="147"/>
                    </a:lnTo>
                    <a:lnTo>
                      <a:pt x="221" y="0"/>
                    </a:lnTo>
                    <a:lnTo>
                      <a:pt x="67" y="229"/>
                    </a:lnTo>
                    <a:lnTo>
                      <a:pt x="29" y="92"/>
                    </a:lnTo>
                    <a:lnTo>
                      <a:pt x="0" y="345"/>
                    </a:lnTo>
                    <a:lnTo>
                      <a:pt x="90" y="646"/>
                    </a:lnTo>
                    <a:lnTo>
                      <a:pt x="170" y="581"/>
                    </a:lnTo>
                    <a:lnTo>
                      <a:pt x="221" y="815"/>
                    </a:lnTo>
                    <a:lnTo>
                      <a:pt x="108" y="815"/>
                    </a:lnTo>
                    <a:lnTo>
                      <a:pt x="154" y="930"/>
                    </a:lnTo>
                    <a:lnTo>
                      <a:pt x="425" y="1124"/>
                    </a:lnTo>
                    <a:lnTo>
                      <a:pt x="595" y="1480"/>
                    </a:lnTo>
                    <a:lnTo>
                      <a:pt x="857" y="1679"/>
                    </a:lnTo>
                    <a:lnTo>
                      <a:pt x="992" y="1648"/>
                    </a:lnTo>
                    <a:lnTo>
                      <a:pt x="1515" y="1930"/>
                    </a:lnTo>
                    <a:lnTo>
                      <a:pt x="1806" y="1930"/>
                    </a:lnTo>
                    <a:lnTo>
                      <a:pt x="1983" y="2006"/>
                    </a:lnTo>
                    <a:lnTo>
                      <a:pt x="2229" y="1920"/>
                    </a:lnTo>
                    <a:lnTo>
                      <a:pt x="2325" y="1961"/>
                    </a:lnTo>
                    <a:lnTo>
                      <a:pt x="2718" y="1858"/>
                    </a:lnTo>
                    <a:lnTo>
                      <a:pt x="2443" y="1815"/>
                    </a:lnTo>
                    <a:lnTo>
                      <a:pt x="2529" y="1722"/>
                    </a:lnTo>
                    <a:lnTo>
                      <a:pt x="2317" y="1785"/>
                    </a:lnTo>
                    <a:lnTo>
                      <a:pt x="1714" y="1785"/>
                    </a:lnTo>
                    <a:lnTo>
                      <a:pt x="1244" y="1562"/>
                    </a:lnTo>
                    <a:lnTo>
                      <a:pt x="1618" y="1607"/>
                    </a:lnTo>
                    <a:lnTo>
                      <a:pt x="1861" y="1607"/>
                    </a:lnTo>
                    <a:lnTo>
                      <a:pt x="2344" y="1396"/>
                    </a:lnTo>
                    <a:lnTo>
                      <a:pt x="2548" y="1386"/>
                    </a:lnTo>
                    <a:lnTo>
                      <a:pt x="2767" y="1304"/>
                    </a:lnTo>
                    <a:lnTo>
                      <a:pt x="2535" y="1359"/>
                    </a:lnTo>
                    <a:lnTo>
                      <a:pt x="2285" y="1345"/>
                    </a:lnTo>
                    <a:lnTo>
                      <a:pt x="1857" y="1472"/>
                    </a:lnTo>
                    <a:lnTo>
                      <a:pt x="1100" y="1460"/>
                    </a:lnTo>
                    <a:lnTo>
                      <a:pt x="949" y="1376"/>
                    </a:lnTo>
                    <a:lnTo>
                      <a:pt x="905" y="1231"/>
                    </a:lnTo>
                    <a:lnTo>
                      <a:pt x="747" y="1249"/>
                    </a:lnTo>
                    <a:lnTo>
                      <a:pt x="683" y="1012"/>
                    </a:lnTo>
                    <a:lnTo>
                      <a:pt x="820" y="999"/>
                    </a:lnTo>
                    <a:lnTo>
                      <a:pt x="1020" y="887"/>
                    </a:lnTo>
                    <a:lnTo>
                      <a:pt x="1402" y="875"/>
                    </a:lnTo>
                    <a:lnTo>
                      <a:pt x="2000" y="660"/>
                    </a:lnTo>
                    <a:lnTo>
                      <a:pt x="2131" y="456"/>
                    </a:lnTo>
                    <a:lnTo>
                      <a:pt x="1868" y="622"/>
                    </a:lnTo>
                    <a:lnTo>
                      <a:pt x="1462" y="622"/>
                    </a:lnTo>
                    <a:lnTo>
                      <a:pt x="1276" y="509"/>
                    </a:lnTo>
                    <a:lnTo>
                      <a:pt x="777" y="677"/>
                    </a:lnTo>
                    <a:lnTo>
                      <a:pt x="546" y="468"/>
                    </a:lnTo>
                    <a:lnTo>
                      <a:pt x="505" y="519"/>
                    </a:lnTo>
                    <a:lnTo>
                      <a:pt x="562" y="660"/>
                    </a:lnTo>
                    <a:lnTo>
                      <a:pt x="482" y="854"/>
                    </a:lnTo>
                    <a:lnTo>
                      <a:pt x="344" y="897"/>
                    </a:lnTo>
                    <a:lnTo>
                      <a:pt x="299" y="844"/>
                    </a:lnTo>
                    <a:lnTo>
                      <a:pt x="425" y="699"/>
                    </a:lnTo>
                    <a:lnTo>
                      <a:pt x="262" y="414"/>
                    </a:lnTo>
                    <a:lnTo>
                      <a:pt x="139" y="519"/>
                    </a:lnTo>
                    <a:lnTo>
                      <a:pt x="108" y="386"/>
                    </a:lnTo>
                    <a:lnTo>
                      <a:pt x="170" y="237"/>
                    </a:lnTo>
                    <a:lnTo>
                      <a:pt x="391" y="248"/>
                    </a:lnTo>
                    <a:lnTo>
                      <a:pt x="558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72360" y="3477960"/>
                <a:ext cx="119160" cy="38160"/>
              </a:xfrm>
              <a:custGeom>
                <a:avLst/>
                <a:gdLst/>
                <a:ahLst/>
                <a:rect l="l" t="t" r="r" b="b"/>
                <a:pathLst>
                  <a:path w="1351" h="425">
                    <a:moveTo>
                      <a:pt x="1351" y="0"/>
                    </a:moveTo>
                    <a:lnTo>
                      <a:pt x="772" y="82"/>
                    </a:lnTo>
                    <a:lnTo>
                      <a:pt x="0" y="425"/>
                    </a:lnTo>
                    <a:lnTo>
                      <a:pt x="1125" y="153"/>
                    </a:lnTo>
                    <a:lnTo>
                      <a:pt x="13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1960" y="3578040"/>
                <a:ext cx="82440" cy="22320"/>
              </a:xfrm>
              <a:custGeom>
                <a:avLst/>
                <a:gdLst/>
                <a:ahLst/>
                <a:rect l="l" t="t" r="r" b="b"/>
                <a:pathLst>
                  <a:path w="930" h="251">
                    <a:moveTo>
                      <a:pt x="930" y="251"/>
                    </a:moveTo>
                    <a:lnTo>
                      <a:pt x="392" y="251"/>
                    </a:lnTo>
                    <a:lnTo>
                      <a:pt x="0" y="0"/>
                    </a:lnTo>
                    <a:lnTo>
                      <a:pt x="731" y="168"/>
                    </a:lnTo>
                    <a:lnTo>
                      <a:pt x="93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59480" y="3563640"/>
                <a:ext cx="55800" cy="2088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0"/>
                    </a:moveTo>
                    <a:lnTo>
                      <a:pt x="0" y="198"/>
                    </a:lnTo>
                    <a:lnTo>
                      <a:pt x="595" y="231"/>
                    </a:lnTo>
                    <a:lnTo>
                      <a:pt x="6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418160" y="3455280"/>
                <a:ext cx="1620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7222680" y="3024000"/>
                <a:ext cx="1908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56400" y="282708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620" h="460">
                    <a:moveTo>
                      <a:pt x="178" y="0"/>
                    </a:moveTo>
                    <a:lnTo>
                      <a:pt x="0" y="199"/>
                    </a:lnTo>
                    <a:lnTo>
                      <a:pt x="450" y="460"/>
                    </a:lnTo>
                    <a:lnTo>
                      <a:pt x="620" y="250"/>
                    </a:lnTo>
                    <a:lnTo>
                      <a:pt x="466" y="127"/>
                    </a:lnTo>
                    <a:lnTo>
                      <a:pt x="318" y="270"/>
                    </a:lnTo>
                    <a:lnTo>
                      <a:pt x="344" y="82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88080" y="28256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298" h="215">
                    <a:moveTo>
                      <a:pt x="0" y="0"/>
                    </a:moveTo>
                    <a:lnTo>
                      <a:pt x="298" y="215"/>
                    </a:lnTo>
                    <a:lnTo>
                      <a:pt x="298" y="157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01040" y="285408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332" h="264">
                    <a:moveTo>
                      <a:pt x="0" y="73"/>
                    </a:moveTo>
                    <a:lnTo>
                      <a:pt x="268" y="264"/>
                    </a:lnTo>
                    <a:lnTo>
                      <a:pt x="332" y="182"/>
                    </a:lnTo>
                    <a:lnTo>
                      <a:pt x="84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07160" y="2838240"/>
                <a:ext cx="328680" cy="112680"/>
              </a:xfrm>
              <a:custGeom>
                <a:avLst/>
                <a:gdLst/>
                <a:ahLst/>
                <a:rect l="l" t="t" r="r" b="b"/>
                <a:pathLst>
                  <a:path w="3722" h="1284">
                    <a:moveTo>
                      <a:pt x="0" y="687"/>
                    </a:moveTo>
                    <a:lnTo>
                      <a:pt x="394" y="0"/>
                    </a:lnTo>
                    <a:lnTo>
                      <a:pt x="914" y="370"/>
                    </a:lnTo>
                    <a:lnTo>
                      <a:pt x="1738" y="370"/>
                    </a:lnTo>
                    <a:lnTo>
                      <a:pt x="1738" y="986"/>
                    </a:lnTo>
                    <a:lnTo>
                      <a:pt x="3699" y="986"/>
                    </a:lnTo>
                    <a:lnTo>
                      <a:pt x="3699" y="939"/>
                    </a:lnTo>
                    <a:lnTo>
                      <a:pt x="3535" y="834"/>
                    </a:lnTo>
                    <a:lnTo>
                      <a:pt x="3722" y="926"/>
                    </a:lnTo>
                    <a:lnTo>
                      <a:pt x="3722" y="1284"/>
                    </a:lnTo>
                    <a:lnTo>
                      <a:pt x="536" y="1284"/>
                    </a:lnTo>
                    <a:lnTo>
                      <a:pt x="536" y="926"/>
                    </a:lnTo>
                    <a:lnTo>
                      <a:pt x="192" y="678"/>
                    </a:lnTo>
                    <a:lnTo>
                      <a:pt x="145" y="770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680240" y="2809800"/>
                <a:ext cx="41400" cy="47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11840" y="28159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140" h="197">
                    <a:moveTo>
                      <a:pt x="29" y="197"/>
                    </a:moveTo>
                    <a:lnTo>
                      <a:pt x="140" y="19"/>
                    </a:lnTo>
                    <a:lnTo>
                      <a:pt x="111" y="0"/>
                    </a:lnTo>
                    <a:lnTo>
                      <a:pt x="0" y="162"/>
                    </a:lnTo>
                    <a:lnTo>
                      <a:pt x="29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29480" y="2817720"/>
                <a:ext cx="4608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29480" y="2822400"/>
                <a:ext cx="936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594560" y="2877840"/>
                <a:ext cx="936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23080" y="2971440"/>
                <a:ext cx="33480" cy="33480"/>
              </a:xfrm>
              <a:custGeom>
                <a:avLst/>
                <a:gdLst/>
                <a:ahLst/>
                <a:rect l="l" t="t" r="r" b="b"/>
                <a:pathLst>
                  <a:path w="384" h="380">
                    <a:moveTo>
                      <a:pt x="384" y="192"/>
                    </a:moveTo>
                    <a:lnTo>
                      <a:pt x="380" y="172"/>
                    </a:lnTo>
                    <a:lnTo>
                      <a:pt x="378" y="155"/>
                    </a:lnTo>
                    <a:lnTo>
                      <a:pt x="370" y="137"/>
                    </a:lnTo>
                    <a:lnTo>
                      <a:pt x="366" y="120"/>
                    </a:lnTo>
                    <a:lnTo>
                      <a:pt x="358" y="101"/>
                    </a:lnTo>
                    <a:lnTo>
                      <a:pt x="348" y="84"/>
                    </a:lnTo>
                    <a:lnTo>
                      <a:pt x="339" y="70"/>
                    </a:lnTo>
                    <a:lnTo>
                      <a:pt x="325" y="56"/>
                    </a:lnTo>
                    <a:lnTo>
                      <a:pt x="307" y="43"/>
                    </a:lnTo>
                    <a:lnTo>
                      <a:pt x="298" y="29"/>
                    </a:lnTo>
                    <a:lnTo>
                      <a:pt x="280" y="23"/>
                    </a:lnTo>
                    <a:lnTo>
                      <a:pt x="264" y="15"/>
                    </a:lnTo>
                    <a:lnTo>
                      <a:pt x="247" y="9"/>
                    </a:lnTo>
                    <a:lnTo>
                      <a:pt x="229" y="5"/>
                    </a:lnTo>
                    <a:lnTo>
                      <a:pt x="212" y="2"/>
                    </a:lnTo>
                    <a:lnTo>
                      <a:pt x="192" y="0"/>
                    </a:lnTo>
                    <a:lnTo>
                      <a:pt x="171" y="2"/>
                    </a:lnTo>
                    <a:lnTo>
                      <a:pt x="153" y="5"/>
                    </a:lnTo>
                    <a:lnTo>
                      <a:pt x="137" y="7"/>
                    </a:lnTo>
                    <a:lnTo>
                      <a:pt x="118" y="15"/>
                    </a:lnTo>
                    <a:lnTo>
                      <a:pt x="104" y="23"/>
                    </a:lnTo>
                    <a:lnTo>
                      <a:pt x="89" y="29"/>
                    </a:lnTo>
                    <a:lnTo>
                      <a:pt x="73" y="43"/>
                    </a:lnTo>
                    <a:lnTo>
                      <a:pt x="57" y="56"/>
                    </a:lnTo>
                    <a:lnTo>
                      <a:pt x="46" y="66"/>
                    </a:lnTo>
                    <a:lnTo>
                      <a:pt x="34" y="84"/>
                    </a:lnTo>
                    <a:lnTo>
                      <a:pt x="21" y="97"/>
                    </a:lnTo>
                    <a:lnTo>
                      <a:pt x="15" y="116"/>
                    </a:lnTo>
                    <a:lnTo>
                      <a:pt x="8" y="135"/>
                    </a:lnTo>
                    <a:lnTo>
                      <a:pt x="2" y="153"/>
                    </a:lnTo>
                    <a:lnTo>
                      <a:pt x="0" y="171"/>
                    </a:lnTo>
                    <a:lnTo>
                      <a:pt x="0" y="190"/>
                    </a:lnTo>
                    <a:lnTo>
                      <a:pt x="0" y="204"/>
                    </a:lnTo>
                    <a:lnTo>
                      <a:pt x="2" y="223"/>
                    </a:lnTo>
                    <a:lnTo>
                      <a:pt x="8" y="245"/>
                    </a:lnTo>
                    <a:lnTo>
                      <a:pt x="11" y="260"/>
                    </a:lnTo>
                    <a:lnTo>
                      <a:pt x="21" y="278"/>
                    </a:lnTo>
                    <a:lnTo>
                      <a:pt x="32" y="296"/>
                    </a:lnTo>
                    <a:lnTo>
                      <a:pt x="42" y="311"/>
                    </a:lnTo>
                    <a:lnTo>
                      <a:pt x="57" y="321"/>
                    </a:lnTo>
                    <a:lnTo>
                      <a:pt x="65" y="337"/>
                    </a:lnTo>
                    <a:lnTo>
                      <a:pt x="81" y="346"/>
                    </a:lnTo>
                    <a:lnTo>
                      <a:pt x="100" y="356"/>
                    </a:lnTo>
                    <a:lnTo>
                      <a:pt x="114" y="362"/>
                    </a:lnTo>
                    <a:lnTo>
                      <a:pt x="132" y="374"/>
                    </a:lnTo>
                    <a:lnTo>
                      <a:pt x="151" y="378"/>
                    </a:lnTo>
                    <a:lnTo>
                      <a:pt x="169" y="380"/>
                    </a:lnTo>
                    <a:lnTo>
                      <a:pt x="186" y="380"/>
                    </a:lnTo>
                    <a:lnTo>
                      <a:pt x="206" y="380"/>
                    </a:lnTo>
                    <a:lnTo>
                      <a:pt x="225" y="378"/>
                    </a:lnTo>
                    <a:lnTo>
                      <a:pt x="243" y="374"/>
                    </a:lnTo>
                    <a:lnTo>
                      <a:pt x="260" y="366"/>
                    </a:lnTo>
                    <a:lnTo>
                      <a:pt x="274" y="360"/>
                    </a:lnTo>
                    <a:lnTo>
                      <a:pt x="294" y="350"/>
                    </a:lnTo>
                    <a:lnTo>
                      <a:pt x="307" y="342"/>
                    </a:lnTo>
                    <a:lnTo>
                      <a:pt x="325" y="333"/>
                    </a:lnTo>
                    <a:lnTo>
                      <a:pt x="337" y="315"/>
                    </a:lnTo>
                    <a:lnTo>
                      <a:pt x="348" y="297"/>
                    </a:lnTo>
                    <a:lnTo>
                      <a:pt x="354" y="282"/>
                    </a:lnTo>
                    <a:lnTo>
                      <a:pt x="362" y="266"/>
                    </a:lnTo>
                    <a:lnTo>
                      <a:pt x="370" y="251"/>
                    </a:lnTo>
                    <a:lnTo>
                      <a:pt x="376" y="233"/>
                    </a:lnTo>
                    <a:lnTo>
                      <a:pt x="380" y="217"/>
                    </a:lnTo>
                    <a:lnTo>
                      <a:pt x="384" y="194"/>
                    </a:lnTo>
                    <a:lnTo>
                      <a:pt x="38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34240" y="2844720"/>
                <a:ext cx="17640" cy="18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45320" y="2928600"/>
                <a:ext cx="3240" cy="49320"/>
              </a:xfrm>
              <a:custGeom>
                <a:avLst/>
                <a:gdLst/>
                <a:ahLst/>
                <a:rect l="l" t="t" r="r" b="b"/>
                <a:pathLst>
                  <a:path w="43" h="568">
                    <a:moveTo>
                      <a:pt x="0" y="0"/>
                    </a:moveTo>
                    <a:lnTo>
                      <a:pt x="43" y="177"/>
                    </a:lnTo>
                    <a:lnTo>
                      <a:pt x="43" y="568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48560" y="2995560"/>
                <a:ext cx="108000" cy="72720"/>
              </a:xfrm>
              <a:custGeom>
                <a:avLst/>
                <a:gdLst/>
                <a:ahLst/>
                <a:rect l="l" t="t" r="r" b="b"/>
                <a:pathLst>
                  <a:path w="1215" h="841">
                    <a:moveTo>
                      <a:pt x="105" y="415"/>
                    </a:moveTo>
                    <a:lnTo>
                      <a:pt x="105" y="287"/>
                    </a:lnTo>
                    <a:lnTo>
                      <a:pt x="60" y="287"/>
                    </a:lnTo>
                    <a:lnTo>
                      <a:pt x="0" y="0"/>
                    </a:lnTo>
                    <a:lnTo>
                      <a:pt x="1215" y="287"/>
                    </a:lnTo>
                    <a:lnTo>
                      <a:pt x="743" y="287"/>
                    </a:lnTo>
                    <a:lnTo>
                      <a:pt x="743" y="511"/>
                    </a:lnTo>
                    <a:lnTo>
                      <a:pt x="743" y="716"/>
                    </a:lnTo>
                    <a:lnTo>
                      <a:pt x="737" y="720"/>
                    </a:lnTo>
                    <a:lnTo>
                      <a:pt x="731" y="736"/>
                    </a:lnTo>
                    <a:lnTo>
                      <a:pt x="725" y="744"/>
                    </a:lnTo>
                    <a:lnTo>
                      <a:pt x="712" y="757"/>
                    </a:lnTo>
                    <a:lnTo>
                      <a:pt x="700" y="767"/>
                    </a:lnTo>
                    <a:lnTo>
                      <a:pt x="686" y="777"/>
                    </a:lnTo>
                    <a:lnTo>
                      <a:pt x="671" y="783"/>
                    </a:lnTo>
                    <a:lnTo>
                      <a:pt x="653" y="796"/>
                    </a:lnTo>
                    <a:lnTo>
                      <a:pt x="639" y="800"/>
                    </a:lnTo>
                    <a:lnTo>
                      <a:pt x="618" y="814"/>
                    </a:lnTo>
                    <a:lnTo>
                      <a:pt x="598" y="818"/>
                    </a:lnTo>
                    <a:lnTo>
                      <a:pt x="575" y="822"/>
                    </a:lnTo>
                    <a:lnTo>
                      <a:pt x="557" y="831"/>
                    </a:lnTo>
                    <a:lnTo>
                      <a:pt x="534" y="831"/>
                    </a:lnTo>
                    <a:lnTo>
                      <a:pt x="511" y="837"/>
                    </a:lnTo>
                    <a:lnTo>
                      <a:pt x="487" y="841"/>
                    </a:lnTo>
                    <a:lnTo>
                      <a:pt x="464" y="841"/>
                    </a:lnTo>
                    <a:lnTo>
                      <a:pt x="440" y="841"/>
                    </a:lnTo>
                    <a:lnTo>
                      <a:pt x="419" y="841"/>
                    </a:lnTo>
                    <a:lnTo>
                      <a:pt x="391" y="841"/>
                    </a:lnTo>
                    <a:lnTo>
                      <a:pt x="365" y="841"/>
                    </a:lnTo>
                    <a:lnTo>
                      <a:pt x="342" y="839"/>
                    </a:lnTo>
                    <a:lnTo>
                      <a:pt x="318" y="833"/>
                    </a:lnTo>
                    <a:lnTo>
                      <a:pt x="295" y="831"/>
                    </a:lnTo>
                    <a:lnTo>
                      <a:pt x="275" y="828"/>
                    </a:lnTo>
                    <a:lnTo>
                      <a:pt x="252" y="822"/>
                    </a:lnTo>
                    <a:lnTo>
                      <a:pt x="234" y="814"/>
                    </a:lnTo>
                    <a:lnTo>
                      <a:pt x="215" y="808"/>
                    </a:lnTo>
                    <a:lnTo>
                      <a:pt x="193" y="798"/>
                    </a:lnTo>
                    <a:lnTo>
                      <a:pt x="179" y="790"/>
                    </a:lnTo>
                    <a:lnTo>
                      <a:pt x="166" y="781"/>
                    </a:lnTo>
                    <a:lnTo>
                      <a:pt x="152" y="769"/>
                    </a:lnTo>
                    <a:lnTo>
                      <a:pt x="138" y="759"/>
                    </a:lnTo>
                    <a:lnTo>
                      <a:pt x="127" y="751"/>
                    </a:lnTo>
                    <a:lnTo>
                      <a:pt x="117" y="740"/>
                    </a:lnTo>
                    <a:lnTo>
                      <a:pt x="109" y="726"/>
                    </a:lnTo>
                    <a:lnTo>
                      <a:pt x="105" y="716"/>
                    </a:lnTo>
                    <a:lnTo>
                      <a:pt x="10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757640" y="2909520"/>
                <a:ext cx="149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57920" y="3027240"/>
                <a:ext cx="157320" cy="183960"/>
              </a:xfrm>
              <a:custGeom>
                <a:avLst/>
                <a:gdLst/>
                <a:ahLst/>
                <a:rect l="l" t="t" r="r" b="b"/>
                <a:pathLst>
                  <a:path w="1795" h="2087">
                    <a:moveTo>
                      <a:pt x="1520" y="0"/>
                    </a:moveTo>
                    <a:lnTo>
                      <a:pt x="1727" y="51"/>
                    </a:lnTo>
                    <a:lnTo>
                      <a:pt x="1727" y="1354"/>
                    </a:lnTo>
                    <a:lnTo>
                      <a:pt x="1795" y="1428"/>
                    </a:lnTo>
                    <a:lnTo>
                      <a:pt x="1795" y="1634"/>
                    </a:lnTo>
                    <a:lnTo>
                      <a:pt x="1622" y="1838"/>
                    </a:lnTo>
                    <a:lnTo>
                      <a:pt x="1497" y="1869"/>
                    </a:lnTo>
                    <a:lnTo>
                      <a:pt x="1181" y="1744"/>
                    </a:lnTo>
                    <a:lnTo>
                      <a:pt x="643" y="1806"/>
                    </a:lnTo>
                    <a:lnTo>
                      <a:pt x="0" y="2087"/>
                    </a:lnTo>
                    <a:lnTo>
                      <a:pt x="596" y="1773"/>
                    </a:lnTo>
                    <a:lnTo>
                      <a:pt x="804" y="1572"/>
                    </a:lnTo>
                    <a:lnTo>
                      <a:pt x="1105" y="1460"/>
                    </a:lnTo>
                    <a:lnTo>
                      <a:pt x="1105" y="1036"/>
                    </a:lnTo>
                    <a:lnTo>
                      <a:pt x="1021" y="773"/>
                    </a:lnTo>
                    <a:lnTo>
                      <a:pt x="1021" y="630"/>
                    </a:lnTo>
                    <a:lnTo>
                      <a:pt x="1303" y="1428"/>
                    </a:lnTo>
                    <a:lnTo>
                      <a:pt x="1622" y="1428"/>
                    </a:lnTo>
                    <a:lnTo>
                      <a:pt x="1520" y="11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08880" y="3252600"/>
                <a:ext cx="141120" cy="79200"/>
              </a:xfrm>
              <a:custGeom>
                <a:avLst/>
                <a:gdLst/>
                <a:ahLst/>
                <a:rect l="l" t="t" r="r" b="b"/>
                <a:pathLst>
                  <a:path w="1599" h="905">
                    <a:moveTo>
                      <a:pt x="12" y="905"/>
                    </a:moveTo>
                    <a:lnTo>
                      <a:pt x="0" y="639"/>
                    </a:lnTo>
                    <a:lnTo>
                      <a:pt x="82" y="532"/>
                    </a:lnTo>
                    <a:lnTo>
                      <a:pt x="281" y="594"/>
                    </a:lnTo>
                    <a:lnTo>
                      <a:pt x="400" y="594"/>
                    </a:lnTo>
                    <a:lnTo>
                      <a:pt x="632" y="234"/>
                    </a:lnTo>
                    <a:lnTo>
                      <a:pt x="843" y="234"/>
                    </a:lnTo>
                    <a:lnTo>
                      <a:pt x="718" y="0"/>
                    </a:lnTo>
                    <a:lnTo>
                      <a:pt x="962" y="0"/>
                    </a:lnTo>
                    <a:lnTo>
                      <a:pt x="1389" y="312"/>
                    </a:lnTo>
                    <a:lnTo>
                      <a:pt x="1511" y="312"/>
                    </a:lnTo>
                    <a:lnTo>
                      <a:pt x="1599" y="357"/>
                    </a:lnTo>
                    <a:lnTo>
                      <a:pt x="1548" y="456"/>
                    </a:lnTo>
                    <a:lnTo>
                      <a:pt x="1076" y="782"/>
                    </a:lnTo>
                    <a:lnTo>
                      <a:pt x="1168" y="626"/>
                    </a:lnTo>
                    <a:lnTo>
                      <a:pt x="1266" y="575"/>
                    </a:lnTo>
                    <a:lnTo>
                      <a:pt x="1340" y="456"/>
                    </a:lnTo>
                    <a:lnTo>
                      <a:pt x="1037" y="123"/>
                    </a:lnTo>
                    <a:lnTo>
                      <a:pt x="1037" y="373"/>
                    </a:lnTo>
                    <a:lnTo>
                      <a:pt x="747" y="860"/>
                    </a:lnTo>
                    <a:lnTo>
                      <a:pt x="620" y="860"/>
                    </a:lnTo>
                    <a:lnTo>
                      <a:pt x="575" y="782"/>
                    </a:lnTo>
                    <a:lnTo>
                      <a:pt x="671" y="813"/>
                    </a:lnTo>
                    <a:lnTo>
                      <a:pt x="852" y="456"/>
                    </a:lnTo>
                    <a:lnTo>
                      <a:pt x="755" y="357"/>
                    </a:lnTo>
                    <a:lnTo>
                      <a:pt x="412" y="796"/>
                    </a:lnTo>
                    <a:lnTo>
                      <a:pt x="195" y="686"/>
                    </a:lnTo>
                    <a:lnTo>
                      <a:pt x="12" y="9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94560" y="322092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289" h="501">
                    <a:moveTo>
                      <a:pt x="0" y="139"/>
                    </a:moveTo>
                    <a:lnTo>
                      <a:pt x="46" y="0"/>
                    </a:lnTo>
                    <a:lnTo>
                      <a:pt x="146" y="0"/>
                    </a:lnTo>
                    <a:lnTo>
                      <a:pt x="216" y="107"/>
                    </a:lnTo>
                    <a:lnTo>
                      <a:pt x="289" y="501"/>
                    </a:lnTo>
                    <a:lnTo>
                      <a:pt x="119" y="96"/>
                    </a:lnTo>
                    <a:lnTo>
                      <a:pt x="74" y="96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24800" y="3225600"/>
                <a:ext cx="14040" cy="44280"/>
              </a:xfrm>
              <a:custGeom>
                <a:avLst/>
                <a:gdLst/>
                <a:ahLst/>
                <a:rect l="l" t="t" r="r" b="b"/>
                <a:pathLst>
                  <a:path w="160" h="503">
                    <a:moveTo>
                      <a:pt x="59" y="0"/>
                    </a:moveTo>
                    <a:lnTo>
                      <a:pt x="0" y="282"/>
                    </a:lnTo>
                    <a:lnTo>
                      <a:pt x="59" y="503"/>
                    </a:lnTo>
                    <a:lnTo>
                      <a:pt x="160" y="440"/>
                    </a:lnTo>
                    <a:lnTo>
                      <a:pt x="108" y="23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96000" y="3206520"/>
                <a:ext cx="59040" cy="22320"/>
              </a:xfrm>
              <a:custGeom>
                <a:avLst/>
                <a:gdLst/>
                <a:ahLst/>
                <a:rect l="l" t="t" r="r" b="b"/>
                <a:pathLst>
                  <a:path w="675" h="248">
                    <a:moveTo>
                      <a:pt x="0" y="63"/>
                    </a:moveTo>
                    <a:lnTo>
                      <a:pt x="182" y="0"/>
                    </a:lnTo>
                    <a:lnTo>
                      <a:pt x="321" y="94"/>
                    </a:lnTo>
                    <a:lnTo>
                      <a:pt x="505" y="31"/>
                    </a:lnTo>
                    <a:lnTo>
                      <a:pt x="675" y="127"/>
                    </a:lnTo>
                    <a:lnTo>
                      <a:pt x="613" y="248"/>
                    </a:lnTo>
                    <a:lnTo>
                      <a:pt x="492" y="94"/>
                    </a:lnTo>
                    <a:lnTo>
                      <a:pt x="260" y="188"/>
                    </a:lnTo>
                    <a:lnTo>
                      <a:pt x="207" y="145"/>
                    </a:lnTo>
                    <a:lnTo>
                      <a:pt x="172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73760" y="3195360"/>
                <a:ext cx="38160" cy="54000"/>
              </a:xfrm>
              <a:custGeom>
                <a:avLst/>
                <a:gdLst/>
                <a:ahLst/>
                <a:rect l="l" t="t" r="r" b="b"/>
                <a:pathLst>
                  <a:path w="427" h="611">
                    <a:moveTo>
                      <a:pt x="427" y="0"/>
                    </a:moveTo>
                    <a:lnTo>
                      <a:pt x="171" y="300"/>
                    </a:lnTo>
                    <a:lnTo>
                      <a:pt x="37" y="611"/>
                    </a:lnTo>
                    <a:lnTo>
                      <a:pt x="0" y="532"/>
                    </a:lnTo>
                    <a:lnTo>
                      <a:pt x="23" y="300"/>
                    </a:lnTo>
                    <a:lnTo>
                      <a:pt x="87" y="144"/>
                    </a:lnTo>
                    <a:lnTo>
                      <a:pt x="87" y="374"/>
                    </a:lnTo>
                    <a:lnTo>
                      <a:pt x="134" y="271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80240" y="3230280"/>
                <a:ext cx="108000" cy="81000"/>
              </a:xfrm>
              <a:custGeom>
                <a:avLst/>
                <a:gdLst/>
                <a:ahLst/>
                <a:rect l="l" t="t" r="r" b="b"/>
                <a:pathLst>
                  <a:path w="1220" h="918">
                    <a:moveTo>
                      <a:pt x="545" y="101"/>
                    </a:moveTo>
                    <a:lnTo>
                      <a:pt x="0" y="354"/>
                    </a:lnTo>
                    <a:lnTo>
                      <a:pt x="134" y="510"/>
                    </a:lnTo>
                    <a:lnTo>
                      <a:pt x="488" y="622"/>
                    </a:lnTo>
                    <a:lnTo>
                      <a:pt x="329" y="405"/>
                    </a:lnTo>
                    <a:lnTo>
                      <a:pt x="574" y="249"/>
                    </a:lnTo>
                    <a:lnTo>
                      <a:pt x="914" y="249"/>
                    </a:lnTo>
                    <a:lnTo>
                      <a:pt x="709" y="405"/>
                    </a:lnTo>
                    <a:lnTo>
                      <a:pt x="754" y="575"/>
                    </a:lnTo>
                    <a:lnTo>
                      <a:pt x="501" y="918"/>
                    </a:lnTo>
                    <a:lnTo>
                      <a:pt x="1183" y="387"/>
                    </a:lnTo>
                    <a:lnTo>
                      <a:pt x="1220" y="198"/>
                    </a:lnTo>
                    <a:lnTo>
                      <a:pt x="1097" y="249"/>
                    </a:lnTo>
                    <a:lnTo>
                      <a:pt x="1050" y="186"/>
                    </a:lnTo>
                    <a:lnTo>
                      <a:pt x="1113" y="0"/>
                    </a:lnTo>
                    <a:lnTo>
                      <a:pt x="682" y="166"/>
                    </a:lnTo>
                    <a:lnTo>
                      <a:pt x="54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19920" y="31255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755" h="425">
                    <a:moveTo>
                      <a:pt x="0" y="66"/>
                    </a:moveTo>
                    <a:lnTo>
                      <a:pt x="146" y="66"/>
                    </a:lnTo>
                    <a:lnTo>
                      <a:pt x="228" y="281"/>
                    </a:lnTo>
                    <a:lnTo>
                      <a:pt x="549" y="425"/>
                    </a:lnTo>
                    <a:lnTo>
                      <a:pt x="755" y="425"/>
                    </a:lnTo>
                    <a:lnTo>
                      <a:pt x="534" y="346"/>
                    </a:lnTo>
                    <a:lnTo>
                      <a:pt x="339" y="33"/>
                    </a:lnTo>
                    <a:lnTo>
                      <a:pt x="207" y="0"/>
                    </a:lnTo>
                    <a:lnTo>
                      <a:pt x="9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35680" y="3219120"/>
                <a:ext cx="101880" cy="98640"/>
              </a:xfrm>
              <a:custGeom>
                <a:avLst/>
                <a:gdLst/>
                <a:ahLst/>
                <a:rect l="l" t="t" r="r" b="b"/>
                <a:pathLst>
                  <a:path w="1161" h="1111">
                    <a:moveTo>
                      <a:pt x="0" y="1111"/>
                    </a:moveTo>
                    <a:lnTo>
                      <a:pt x="708" y="591"/>
                    </a:lnTo>
                    <a:lnTo>
                      <a:pt x="746" y="466"/>
                    </a:lnTo>
                    <a:lnTo>
                      <a:pt x="632" y="29"/>
                    </a:lnTo>
                    <a:lnTo>
                      <a:pt x="792" y="0"/>
                    </a:lnTo>
                    <a:lnTo>
                      <a:pt x="893" y="88"/>
                    </a:lnTo>
                    <a:lnTo>
                      <a:pt x="1100" y="0"/>
                    </a:lnTo>
                    <a:lnTo>
                      <a:pt x="1161" y="88"/>
                    </a:lnTo>
                    <a:lnTo>
                      <a:pt x="1012" y="466"/>
                    </a:lnTo>
                    <a:lnTo>
                      <a:pt x="893" y="479"/>
                    </a:lnTo>
                    <a:lnTo>
                      <a:pt x="833" y="530"/>
                    </a:lnTo>
                    <a:lnTo>
                      <a:pt x="876" y="624"/>
                    </a:lnTo>
                    <a:lnTo>
                      <a:pt x="734" y="671"/>
                    </a:lnTo>
                    <a:lnTo>
                      <a:pt x="599" y="949"/>
                    </a:lnTo>
                    <a:lnTo>
                      <a:pt x="462" y="888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53400" y="320004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356" h="376">
                    <a:moveTo>
                      <a:pt x="0" y="344"/>
                    </a:moveTo>
                    <a:lnTo>
                      <a:pt x="0" y="251"/>
                    </a:lnTo>
                    <a:lnTo>
                      <a:pt x="126" y="126"/>
                    </a:lnTo>
                    <a:lnTo>
                      <a:pt x="126" y="237"/>
                    </a:lnTo>
                    <a:lnTo>
                      <a:pt x="268" y="112"/>
                    </a:lnTo>
                    <a:lnTo>
                      <a:pt x="268" y="0"/>
                    </a:lnTo>
                    <a:lnTo>
                      <a:pt x="356" y="63"/>
                    </a:lnTo>
                    <a:lnTo>
                      <a:pt x="356" y="280"/>
                    </a:lnTo>
                    <a:lnTo>
                      <a:pt x="268" y="376"/>
                    </a:lnTo>
                    <a:lnTo>
                      <a:pt x="147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824600" y="3238200"/>
                <a:ext cx="61920" cy="28800"/>
              </a:xfrm>
              <a:custGeom>
                <a:avLst/>
                <a:gdLst/>
                <a:ahLst/>
                <a:rect l="l" t="t" r="r" b="b"/>
                <a:pathLst>
                  <a:path w="705" h="318">
                    <a:moveTo>
                      <a:pt x="0" y="240"/>
                    </a:moveTo>
                    <a:lnTo>
                      <a:pt x="178" y="318"/>
                    </a:lnTo>
                    <a:lnTo>
                      <a:pt x="364" y="148"/>
                    </a:lnTo>
                    <a:lnTo>
                      <a:pt x="630" y="148"/>
                    </a:lnTo>
                    <a:lnTo>
                      <a:pt x="705" y="85"/>
                    </a:lnTo>
                    <a:lnTo>
                      <a:pt x="630" y="0"/>
                    </a:lnTo>
                    <a:lnTo>
                      <a:pt x="289" y="65"/>
                    </a:lnTo>
                    <a:lnTo>
                      <a:pt x="207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889760" y="3182760"/>
                <a:ext cx="14400" cy="57240"/>
              </a:xfrm>
              <a:custGeom>
                <a:avLst/>
                <a:gdLst/>
                <a:ahLst/>
                <a:rect l="l" t="t" r="r" b="b"/>
                <a:pathLst>
                  <a:path w="159" h="656">
                    <a:moveTo>
                      <a:pt x="23" y="0"/>
                    </a:moveTo>
                    <a:lnTo>
                      <a:pt x="99" y="127"/>
                    </a:lnTo>
                    <a:lnTo>
                      <a:pt x="99" y="202"/>
                    </a:lnTo>
                    <a:lnTo>
                      <a:pt x="0" y="453"/>
                    </a:lnTo>
                    <a:lnTo>
                      <a:pt x="11" y="656"/>
                    </a:lnTo>
                    <a:lnTo>
                      <a:pt x="159" y="314"/>
                    </a:lnTo>
                    <a:lnTo>
                      <a:pt x="159" y="1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891560" y="320004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280" h="519">
                    <a:moveTo>
                      <a:pt x="82" y="519"/>
                    </a:moveTo>
                    <a:lnTo>
                      <a:pt x="243" y="217"/>
                    </a:lnTo>
                    <a:lnTo>
                      <a:pt x="280" y="0"/>
                    </a:lnTo>
                    <a:lnTo>
                      <a:pt x="189" y="237"/>
                    </a:lnTo>
                    <a:lnTo>
                      <a:pt x="0" y="454"/>
                    </a:lnTo>
                    <a:lnTo>
                      <a:pt x="82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73840" y="3282840"/>
                <a:ext cx="162000" cy="34920"/>
              </a:xfrm>
              <a:custGeom>
                <a:avLst/>
                <a:gdLst/>
                <a:ahLst/>
                <a:rect l="l" t="t" r="r" b="b"/>
                <a:pathLst>
                  <a:path w="1831" h="394">
                    <a:moveTo>
                      <a:pt x="0" y="394"/>
                    </a:moveTo>
                    <a:lnTo>
                      <a:pt x="503" y="201"/>
                    </a:lnTo>
                    <a:lnTo>
                      <a:pt x="1554" y="201"/>
                    </a:lnTo>
                    <a:lnTo>
                      <a:pt x="1554" y="0"/>
                    </a:lnTo>
                    <a:lnTo>
                      <a:pt x="1831" y="0"/>
                    </a:lnTo>
                    <a:lnTo>
                      <a:pt x="1831" y="201"/>
                    </a:lnTo>
                    <a:lnTo>
                      <a:pt x="1640" y="201"/>
                    </a:lnTo>
                    <a:lnTo>
                      <a:pt x="1640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35840" y="2958840"/>
                <a:ext cx="1440" cy="31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75400" y="3076200"/>
                <a:ext cx="50760" cy="6480"/>
              </a:xfrm>
              <a:custGeom>
                <a:avLst/>
                <a:gdLst/>
                <a:ahLst/>
                <a:rect l="l" t="t" r="r" b="b"/>
                <a:pathLst>
                  <a:path w="573" h="65">
                    <a:moveTo>
                      <a:pt x="0" y="65"/>
                    </a:moveTo>
                    <a:lnTo>
                      <a:pt x="101" y="0"/>
                    </a:lnTo>
                    <a:lnTo>
                      <a:pt x="166" y="0"/>
                    </a:lnTo>
                    <a:lnTo>
                      <a:pt x="258" y="65"/>
                    </a:lnTo>
                    <a:lnTo>
                      <a:pt x="573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94480" y="2955600"/>
                <a:ext cx="66600" cy="111240"/>
              </a:xfrm>
              <a:custGeom>
                <a:avLst/>
                <a:gdLst/>
                <a:ahLst/>
                <a:rect l="l" t="t" r="r" b="b"/>
                <a:pathLst>
                  <a:path w="758" h="1256">
                    <a:moveTo>
                      <a:pt x="173" y="1256"/>
                    </a:moveTo>
                    <a:lnTo>
                      <a:pt x="227" y="639"/>
                    </a:lnTo>
                    <a:lnTo>
                      <a:pt x="78" y="639"/>
                    </a:lnTo>
                    <a:lnTo>
                      <a:pt x="0" y="567"/>
                    </a:lnTo>
                    <a:lnTo>
                      <a:pt x="0" y="281"/>
                    </a:lnTo>
                    <a:lnTo>
                      <a:pt x="356" y="0"/>
                    </a:lnTo>
                    <a:lnTo>
                      <a:pt x="460" y="86"/>
                    </a:lnTo>
                    <a:lnTo>
                      <a:pt x="758" y="86"/>
                    </a:lnTo>
                    <a:lnTo>
                      <a:pt x="758" y="317"/>
                    </a:lnTo>
                    <a:lnTo>
                      <a:pt x="487" y="317"/>
                    </a:lnTo>
                    <a:lnTo>
                      <a:pt x="341" y="452"/>
                    </a:lnTo>
                    <a:lnTo>
                      <a:pt x="173" y="1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16880" y="30445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378" h="217">
                    <a:moveTo>
                      <a:pt x="325" y="0"/>
                    </a:moveTo>
                    <a:lnTo>
                      <a:pt x="0" y="217"/>
                    </a:lnTo>
                    <a:lnTo>
                      <a:pt x="378" y="105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467480" y="3657600"/>
              <a:ext cx="811080" cy="914400"/>
              <a:chOff x="7467480" y="3657600"/>
              <a:chExt cx="811080" cy="914400"/>
            </a:xfrm>
          </p:grpSpPr>
          <p:sp>
            <p:nvSpPr>
              <p:cNvPr id="302" name=""/>
              <p:cNvSpPr/>
              <p:nvPr/>
            </p:nvSpPr>
            <p:spPr>
              <a:xfrm>
                <a:off x="7467480" y="3657600"/>
                <a:ext cx="811080" cy="914400"/>
              </a:xfrm>
              <a:custGeom>
                <a:avLst/>
                <a:gdLst/>
                <a:ahLst/>
                <a:rect l="l" t="t" r="r" b="b"/>
                <a:pathLst>
                  <a:path w="2042" h="2302">
                    <a:moveTo>
                      <a:pt x="1720" y="205"/>
                    </a:moveTo>
                    <a:lnTo>
                      <a:pt x="1960" y="192"/>
                    </a:lnTo>
                    <a:lnTo>
                      <a:pt x="1961" y="192"/>
                    </a:lnTo>
                    <a:lnTo>
                      <a:pt x="1962" y="190"/>
                    </a:lnTo>
                    <a:lnTo>
                      <a:pt x="1962" y="189"/>
                    </a:lnTo>
                    <a:lnTo>
                      <a:pt x="1963" y="189"/>
                    </a:lnTo>
                    <a:lnTo>
                      <a:pt x="1963" y="188"/>
                    </a:lnTo>
                    <a:lnTo>
                      <a:pt x="1963" y="187"/>
                    </a:lnTo>
                    <a:lnTo>
                      <a:pt x="1963" y="186"/>
                    </a:lnTo>
                    <a:lnTo>
                      <a:pt x="1963" y="185"/>
                    </a:lnTo>
                    <a:lnTo>
                      <a:pt x="1963" y="184"/>
                    </a:lnTo>
                    <a:lnTo>
                      <a:pt x="1963" y="183"/>
                    </a:lnTo>
                    <a:lnTo>
                      <a:pt x="1963" y="182"/>
                    </a:lnTo>
                    <a:lnTo>
                      <a:pt x="1963" y="181"/>
                    </a:lnTo>
                    <a:lnTo>
                      <a:pt x="1963" y="180"/>
                    </a:lnTo>
                    <a:lnTo>
                      <a:pt x="1962" y="180"/>
                    </a:lnTo>
                    <a:lnTo>
                      <a:pt x="1962" y="179"/>
                    </a:lnTo>
                    <a:lnTo>
                      <a:pt x="1962" y="178"/>
                    </a:lnTo>
                    <a:lnTo>
                      <a:pt x="1961" y="178"/>
                    </a:lnTo>
                    <a:lnTo>
                      <a:pt x="1961" y="177"/>
                    </a:lnTo>
                    <a:lnTo>
                      <a:pt x="1960" y="177"/>
                    </a:lnTo>
                    <a:lnTo>
                      <a:pt x="1082" y="6"/>
                    </a:lnTo>
                    <a:lnTo>
                      <a:pt x="139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1"/>
                    </a:lnTo>
                    <a:lnTo>
                      <a:pt x="136" y="1"/>
                    </a:lnTo>
                    <a:lnTo>
                      <a:pt x="136" y="2"/>
                    </a:lnTo>
                    <a:lnTo>
                      <a:pt x="136" y="3"/>
                    </a:lnTo>
                    <a:lnTo>
                      <a:pt x="135" y="4"/>
                    </a:lnTo>
                    <a:lnTo>
                      <a:pt x="135" y="5"/>
                    </a:lnTo>
                    <a:lnTo>
                      <a:pt x="135" y="6"/>
                    </a:lnTo>
                    <a:lnTo>
                      <a:pt x="135" y="7"/>
                    </a:lnTo>
                    <a:lnTo>
                      <a:pt x="135" y="8"/>
                    </a:lnTo>
                    <a:lnTo>
                      <a:pt x="135" y="9"/>
                    </a:lnTo>
                    <a:lnTo>
                      <a:pt x="135" y="10"/>
                    </a:lnTo>
                    <a:lnTo>
                      <a:pt x="135" y="11"/>
                    </a:lnTo>
                    <a:lnTo>
                      <a:pt x="135" y="12"/>
                    </a:lnTo>
                    <a:lnTo>
                      <a:pt x="135" y="13"/>
                    </a:lnTo>
                    <a:lnTo>
                      <a:pt x="136" y="14"/>
                    </a:lnTo>
                    <a:lnTo>
                      <a:pt x="136" y="15"/>
                    </a:lnTo>
                    <a:lnTo>
                      <a:pt x="136" y="16"/>
                    </a:lnTo>
                    <a:lnTo>
                      <a:pt x="137" y="17"/>
                    </a:lnTo>
                    <a:lnTo>
                      <a:pt x="137" y="18"/>
                    </a:lnTo>
                    <a:lnTo>
                      <a:pt x="138" y="18"/>
                    </a:lnTo>
                    <a:lnTo>
                      <a:pt x="139" y="18"/>
                    </a:lnTo>
                    <a:lnTo>
                      <a:pt x="637" y="156"/>
                    </a:lnTo>
                    <a:lnTo>
                      <a:pt x="635" y="161"/>
                    </a:lnTo>
                    <a:lnTo>
                      <a:pt x="633" y="167"/>
                    </a:lnTo>
                    <a:lnTo>
                      <a:pt x="631" y="172"/>
                    </a:lnTo>
                    <a:lnTo>
                      <a:pt x="628" y="178"/>
                    </a:lnTo>
                    <a:lnTo>
                      <a:pt x="626" y="184"/>
                    </a:lnTo>
                    <a:lnTo>
                      <a:pt x="624" y="192"/>
                    </a:lnTo>
                    <a:lnTo>
                      <a:pt x="621" y="198"/>
                    </a:lnTo>
                    <a:lnTo>
                      <a:pt x="619" y="205"/>
                    </a:lnTo>
                    <a:lnTo>
                      <a:pt x="617" y="211"/>
                    </a:lnTo>
                    <a:lnTo>
                      <a:pt x="614" y="218"/>
                    </a:lnTo>
                    <a:lnTo>
                      <a:pt x="612" y="225"/>
                    </a:lnTo>
                    <a:lnTo>
                      <a:pt x="609" y="232"/>
                    </a:lnTo>
                    <a:lnTo>
                      <a:pt x="607" y="239"/>
                    </a:lnTo>
                    <a:lnTo>
                      <a:pt x="605" y="246"/>
                    </a:lnTo>
                    <a:lnTo>
                      <a:pt x="602" y="253"/>
                    </a:lnTo>
                    <a:lnTo>
                      <a:pt x="600" y="260"/>
                    </a:lnTo>
                    <a:lnTo>
                      <a:pt x="598" y="268"/>
                    </a:lnTo>
                    <a:lnTo>
                      <a:pt x="595" y="275"/>
                    </a:lnTo>
                    <a:lnTo>
                      <a:pt x="593" y="282"/>
                    </a:lnTo>
                    <a:lnTo>
                      <a:pt x="591" y="289"/>
                    </a:lnTo>
                    <a:lnTo>
                      <a:pt x="589" y="296"/>
                    </a:lnTo>
                    <a:lnTo>
                      <a:pt x="587" y="303"/>
                    </a:lnTo>
                    <a:lnTo>
                      <a:pt x="585" y="310"/>
                    </a:lnTo>
                    <a:lnTo>
                      <a:pt x="583" y="317"/>
                    </a:lnTo>
                    <a:lnTo>
                      <a:pt x="581" y="324"/>
                    </a:lnTo>
                    <a:lnTo>
                      <a:pt x="579" y="331"/>
                    </a:lnTo>
                    <a:lnTo>
                      <a:pt x="578" y="338"/>
                    </a:lnTo>
                    <a:lnTo>
                      <a:pt x="576" y="344"/>
                    </a:lnTo>
                    <a:lnTo>
                      <a:pt x="575" y="351"/>
                    </a:lnTo>
                    <a:lnTo>
                      <a:pt x="574" y="357"/>
                    </a:lnTo>
                    <a:lnTo>
                      <a:pt x="572" y="363"/>
                    </a:lnTo>
                    <a:lnTo>
                      <a:pt x="571" y="369"/>
                    </a:lnTo>
                    <a:lnTo>
                      <a:pt x="571" y="371"/>
                    </a:lnTo>
                    <a:lnTo>
                      <a:pt x="571" y="372"/>
                    </a:lnTo>
                    <a:lnTo>
                      <a:pt x="571" y="374"/>
                    </a:lnTo>
                    <a:lnTo>
                      <a:pt x="571" y="376"/>
                    </a:lnTo>
                    <a:lnTo>
                      <a:pt x="571" y="378"/>
                    </a:lnTo>
                    <a:lnTo>
                      <a:pt x="571" y="380"/>
                    </a:lnTo>
                    <a:lnTo>
                      <a:pt x="571" y="382"/>
                    </a:lnTo>
                    <a:lnTo>
                      <a:pt x="571" y="384"/>
                    </a:lnTo>
                    <a:lnTo>
                      <a:pt x="571" y="386"/>
                    </a:lnTo>
                    <a:lnTo>
                      <a:pt x="571" y="388"/>
                    </a:lnTo>
                    <a:lnTo>
                      <a:pt x="571" y="389"/>
                    </a:lnTo>
                    <a:lnTo>
                      <a:pt x="571" y="391"/>
                    </a:lnTo>
                    <a:lnTo>
                      <a:pt x="570" y="393"/>
                    </a:lnTo>
                    <a:lnTo>
                      <a:pt x="570" y="395"/>
                    </a:lnTo>
                    <a:lnTo>
                      <a:pt x="570" y="397"/>
                    </a:lnTo>
                    <a:lnTo>
                      <a:pt x="570" y="399"/>
                    </a:lnTo>
                    <a:lnTo>
                      <a:pt x="570" y="401"/>
                    </a:lnTo>
                    <a:lnTo>
                      <a:pt x="570" y="403"/>
                    </a:lnTo>
                    <a:lnTo>
                      <a:pt x="570" y="405"/>
                    </a:lnTo>
                    <a:lnTo>
                      <a:pt x="569" y="406"/>
                    </a:lnTo>
                    <a:lnTo>
                      <a:pt x="569" y="408"/>
                    </a:lnTo>
                    <a:lnTo>
                      <a:pt x="569" y="410"/>
                    </a:lnTo>
                    <a:lnTo>
                      <a:pt x="569" y="412"/>
                    </a:lnTo>
                    <a:lnTo>
                      <a:pt x="568" y="413"/>
                    </a:lnTo>
                    <a:lnTo>
                      <a:pt x="568" y="415"/>
                    </a:lnTo>
                    <a:lnTo>
                      <a:pt x="568" y="417"/>
                    </a:lnTo>
                    <a:lnTo>
                      <a:pt x="568" y="418"/>
                    </a:lnTo>
                    <a:lnTo>
                      <a:pt x="566" y="420"/>
                    </a:lnTo>
                    <a:lnTo>
                      <a:pt x="566" y="421"/>
                    </a:lnTo>
                    <a:lnTo>
                      <a:pt x="566" y="422"/>
                    </a:lnTo>
                    <a:lnTo>
                      <a:pt x="565" y="424"/>
                    </a:lnTo>
                    <a:lnTo>
                      <a:pt x="565" y="425"/>
                    </a:lnTo>
                    <a:lnTo>
                      <a:pt x="563" y="430"/>
                    </a:lnTo>
                    <a:lnTo>
                      <a:pt x="562" y="435"/>
                    </a:lnTo>
                    <a:lnTo>
                      <a:pt x="559" y="441"/>
                    </a:lnTo>
                    <a:lnTo>
                      <a:pt x="557" y="448"/>
                    </a:lnTo>
                    <a:lnTo>
                      <a:pt x="554" y="456"/>
                    </a:lnTo>
                    <a:lnTo>
                      <a:pt x="551" y="464"/>
                    </a:lnTo>
                    <a:lnTo>
                      <a:pt x="548" y="473"/>
                    </a:lnTo>
                    <a:lnTo>
                      <a:pt x="544" y="482"/>
                    </a:lnTo>
                    <a:lnTo>
                      <a:pt x="541" y="492"/>
                    </a:lnTo>
                    <a:lnTo>
                      <a:pt x="537" y="502"/>
                    </a:lnTo>
                    <a:lnTo>
                      <a:pt x="534" y="512"/>
                    </a:lnTo>
                    <a:lnTo>
                      <a:pt x="531" y="523"/>
                    </a:lnTo>
                    <a:lnTo>
                      <a:pt x="527" y="534"/>
                    </a:lnTo>
                    <a:lnTo>
                      <a:pt x="524" y="545"/>
                    </a:lnTo>
                    <a:lnTo>
                      <a:pt x="522" y="556"/>
                    </a:lnTo>
                    <a:lnTo>
                      <a:pt x="519" y="568"/>
                    </a:lnTo>
                    <a:lnTo>
                      <a:pt x="517" y="580"/>
                    </a:lnTo>
                    <a:lnTo>
                      <a:pt x="515" y="591"/>
                    </a:lnTo>
                    <a:lnTo>
                      <a:pt x="514" y="603"/>
                    </a:lnTo>
                    <a:lnTo>
                      <a:pt x="513" y="614"/>
                    </a:lnTo>
                    <a:lnTo>
                      <a:pt x="512" y="625"/>
                    </a:lnTo>
                    <a:lnTo>
                      <a:pt x="513" y="635"/>
                    </a:lnTo>
                    <a:lnTo>
                      <a:pt x="513" y="646"/>
                    </a:lnTo>
                    <a:lnTo>
                      <a:pt x="515" y="655"/>
                    </a:lnTo>
                    <a:lnTo>
                      <a:pt x="517" y="665"/>
                    </a:lnTo>
                    <a:lnTo>
                      <a:pt x="520" y="674"/>
                    </a:lnTo>
                    <a:lnTo>
                      <a:pt x="524" y="682"/>
                    </a:lnTo>
                    <a:lnTo>
                      <a:pt x="529" y="690"/>
                    </a:lnTo>
                    <a:lnTo>
                      <a:pt x="535" y="698"/>
                    </a:lnTo>
                    <a:lnTo>
                      <a:pt x="541" y="704"/>
                    </a:lnTo>
                    <a:lnTo>
                      <a:pt x="549" y="710"/>
                    </a:lnTo>
                    <a:lnTo>
                      <a:pt x="558" y="715"/>
                    </a:lnTo>
                    <a:lnTo>
                      <a:pt x="559" y="718"/>
                    </a:lnTo>
                    <a:lnTo>
                      <a:pt x="560" y="722"/>
                    </a:lnTo>
                    <a:lnTo>
                      <a:pt x="560" y="725"/>
                    </a:lnTo>
                    <a:lnTo>
                      <a:pt x="561" y="728"/>
                    </a:lnTo>
                    <a:lnTo>
                      <a:pt x="561" y="732"/>
                    </a:lnTo>
                    <a:lnTo>
                      <a:pt x="562" y="735"/>
                    </a:lnTo>
                    <a:lnTo>
                      <a:pt x="562" y="738"/>
                    </a:lnTo>
                    <a:lnTo>
                      <a:pt x="562" y="741"/>
                    </a:lnTo>
                    <a:lnTo>
                      <a:pt x="563" y="745"/>
                    </a:lnTo>
                    <a:lnTo>
                      <a:pt x="563" y="748"/>
                    </a:lnTo>
                    <a:lnTo>
                      <a:pt x="563" y="751"/>
                    </a:lnTo>
                    <a:lnTo>
                      <a:pt x="563" y="754"/>
                    </a:lnTo>
                    <a:lnTo>
                      <a:pt x="563" y="757"/>
                    </a:lnTo>
                    <a:lnTo>
                      <a:pt x="563" y="760"/>
                    </a:lnTo>
                    <a:lnTo>
                      <a:pt x="563" y="764"/>
                    </a:lnTo>
                    <a:lnTo>
                      <a:pt x="564" y="767"/>
                    </a:lnTo>
                    <a:lnTo>
                      <a:pt x="564" y="770"/>
                    </a:lnTo>
                    <a:lnTo>
                      <a:pt x="564" y="773"/>
                    </a:lnTo>
                    <a:lnTo>
                      <a:pt x="564" y="777"/>
                    </a:lnTo>
                    <a:lnTo>
                      <a:pt x="564" y="780"/>
                    </a:lnTo>
                    <a:lnTo>
                      <a:pt x="565" y="784"/>
                    </a:lnTo>
                    <a:lnTo>
                      <a:pt x="565" y="787"/>
                    </a:lnTo>
                    <a:lnTo>
                      <a:pt x="566" y="791"/>
                    </a:lnTo>
                    <a:lnTo>
                      <a:pt x="566" y="794"/>
                    </a:lnTo>
                    <a:lnTo>
                      <a:pt x="568" y="798"/>
                    </a:lnTo>
                    <a:lnTo>
                      <a:pt x="569" y="802"/>
                    </a:lnTo>
                    <a:lnTo>
                      <a:pt x="570" y="806"/>
                    </a:lnTo>
                    <a:lnTo>
                      <a:pt x="571" y="810"/>
                    </a:lnTo>
                    <a:lnTo>
                      <a:pt x="572" y="814"/>
                    </a:lnTo>
                    <a:lnTo>
                      <a:pt x="574" y="818"/>
                    </a:lnTo>
                    <a:lnTo>
                      <a:pt x="575" y="823"/>
                    </a:lnTo>
                    <a:lnTo>
                      <a:pt x="577" y="827"/>
                    </a:lnTo>
                    <a:lnTo>
                      <a:pt x="580" y="834"/>
                    </a:lnTo>
                    <a:lnTo>
                      <a:pt x="583" y="841"/>
                    </a:lnTo>
                    <a:lnTo>
                      <a:pt x="586" y="847"/>
                    </a:lnTo>
                    <a:lnTo>
                      <a:pt x="589" y="852"/>
                    </a:lnTo>
                    <a:lnTo>
                      <a:pt x="592" y="857"/>
                    </a:lnTo>
                    <a:lnTo>
                      <a:pt x="594" y="862"/>
                    </a:lnTo>
                    <a:lnTo>
                      <a:pt x="597" y="866"/>
                    </a:lnTo>
                    <a:lnTo>
                      <a:pt x="600" y="869"/>
                    </a:lnTo>
                    <a:lnTo>
                      <a:pt x="602" y="872"/>
                    </a:lnTo>
                    <a:lnTo>
                      <a:pt x="604" y="875"/>
                    </a:lnTo>
                    <a:lnTo>
                      <a:pt x="607" y="877"/>
                    </a:lnTo>
                    <a:lnTo>
                      <a:pt x="609" y="879"/>
                    </a:lnTo>
                    <a:lnTo>
                      <a:pt x="611" y="881"/>
                    </a:lnTo>
                    <a:lnTo>
                      <a:pt x="613" y="882"/>
                    </a:lnTo>
                    <a:lnTo>
                      <a:pt x="616" y="883"/>
                    </a:lnTo>
                    <a:lnTo>
                      <a:pt x="618" y="884"/>
                    </a:lnTo>
                    <a:lnTo>
                      <a:pt x="620" y="884"/>
                    </a:lnTo>
                    <a:lnTo>
                      <a:pt x="622" y="885"/>
                    </a:lnTo>
                    <a:lnTo>
                      <a:pt x="624" y="885"/>
                    </a:lnTo>
                    <a:lnTo>
                      <a:pt x="627" y="885"/>
                    </a:lnTo>
                    <a:lnTo>
                      <a:pt x="629" y="885"/>
                    </a:lnTo>
                    <a:lnTo>
                      <a:pt x="631" y="885"/>
                    </a:lnTo>
                    <a:lnTo>
                      <a:pt x="634" y="885"/>
                    </a:lnTo>
                    <a:lnTo>
                      <a:pt x="636" y="884"/>
                    </a:lnTo>
                    <a:lnTo>
                      <a:pt x="639" y="884"/>
                    </a:lnTo>
                    <a:lnTo>
                      <a:pt x="641" y="884"/>
                    </a:lnTo>
                    <a:lnTo>
                      <a:pt x="644" y="884"/>
                    </a:lnTo>
                    <a:lnTo>
                      <a:pt x="647" y="883"/>
                    </a:lnTo>
                    <a:lnTo>
                      <a:pt x="649" y="883"/>
                    </a:lnTo>
                    <a:lnTo>
                      <a:pt x="652" y="883"/>
                    </a:lnTo>
                    <a:lnTo>
                      <a:pt x="655" y="884"/>
                    </a:lnTo>
                    <a:lnTo>
                      <a:pt x="659" y="884"/>
                    </a:lnTo>
                    <a:lnTo>
                      <a:pt x="675" y="1026"/>
                    </a:lnTo>
                    <a:lnTo>
                      <a:pt x="673" y="1026"/>
                    </a:lnTo>
                    <a:lnTo>
                      <a:pt x="671" y="1026"/>
                    </a:lnTo>
                    <a:lnTo>
                      <a:pt x="669" y="1026"/>
                    </a:lnTo>
                    <a:lnTo>
                      <a:pt x="667" y="1026"/>
                    </a:lnTo>
                    <a:lnTo>
                      <a:pt x="666" y="1026"/>
                    </a:lnTo>
                    <a:lnTo>
                      <a:pt x="664" y="1027"/>
                    </a:lnTo>
                    <a:lnTo>
                      <a:pt x="663" y="1028"/>
                    </a:lnTo>
                    <a:lnTo>
                      <a:pt x="662" y="1029"/>
                    </a:lnTo>
                    <a:lnTo>
                      <a:pt x="661" y="1030"/>
                    </a:lnTo>
                    <a:lnTo>
                      <a:pt x="661" y="1031"/>
                    </a:lnTo>
                    <a:lnTo>
                      <a:pt x="660" y="1033"/>
                    </a:lnTo>
                    <a:lnTo>
                      <a:pt x="660" y="1035"/>
                    </a:lnTo>
                    <a:lnTo>
                      <a:pt x="659" y="1036"/>
                    </a:lnTo>
                    <a:lnTo>
                      <a:pt x="659" y="1039"/>
                    </a:lnTo>
                    <a:lnTo>
                      <a:pt x="659" y="1041"/>
                    </a:lnTo>
                    <a:lnTo>
                      <a:pt x="659" y="1043"/>
                    </a:lnTo>
                    <a:lnTo>
                      <a:pt x="659" y="1046"/>
                    </a:lnTo>
                    <a:lnTo>
                      <a:pt x="659" y="1049"/>
                    </a:lnTo>
                    <a:lnTo>
                      <a:pt x="659" y="1051"/>
                    </a:lnTo>
                    <a:lnTo>
                      <a:pt x="659" y="1055"/>
                    </a:lnTo>
                    <a:lnTo>
                      <a:pt x="659" y="1058"/>
                    </a:lnTo>
                    <a:lnTo>
                      <a:pt x="658" y="1061"/>
                    </a:lnTo>
                    <a:lnTo>
                      <a:pt x="658" y="1065"/>
                    </a:lnTo>
                    <a:lnTo>
                      <a:pt x="658" y="1069"/>
                    </a:lnTo>
                    <a:lnTo>
                      <a:pt x="658" y="1073"/>
                    </a:lnTo>
                    <a:lnTo>
                      <a:pt x="658" y="1077"/>
                    </a:lnTo>
                    <a:lnTo>
                      <a:pt x="657" y="1081"/>
                    </a:lnTo>
                    <a:lnTo>
                      <a:pt x="657" y="1085"/>
                    </a:lnTo>
                    <a:lnTo>
                      <a:pt x="656" y="1090"/>
                    </a:lnTo>
                    <a:lnTo>
                      <a:pt x="656" y="1095"/>
                    </a:lnTo>
                    <a:lnTo>
                      <a:pt x="655" y="1100"/>
                    </a:lnTo>
                    <a:lnTo>
                      <a:pt x="654" y="1105"/>
                    </a:lnTo>
                    <a:lnTo>
                      <a:pt x="653" y="1109"/>
                    </a:lnTo>
                    <a:lnTo>
                      <a:pt x="653" y="1114"/>
                    </a:lnTo>
                    <a:lnTo>
                      <a:pt x="652" y="1118"/>
                    </a:lnTo>
                    <a:lnTo>
                      <a:pt x="652" y="1123"/>
                    </a:lnTo>
                    <a:lnTo>
                      <a:pt x="651" y="1127"/>
                    </a:lnTo>
                    <a:lnTo>
                      <a:pt x="650" y="1132"/>
                    </a:lnTo>
                    <a:lnTo>
                      <a:pt x="650" y="1137"/>
                    </a:lnTo>
                    <a:lnTo>
                      <a:pt x="649" y="1141"/>
                    </a:lnTo>
                    <a:lnTo>
                      <a:pt x="649" y="1146"/>
                    </a:lnTo>
                    <a:lnTo>
                      <a:pt x="648" y="1150"/>
                    </a:lnTo>
                    <a:lnTo>
                      <a:pt x="647" y="1155"/>
                    </a:lnTo>
                    <a:lnTo>
                      <a:pt x="647" y="1159"/>
                    </a:lnTo>
                    <a:lnTo>
                      <a:pt x="646" y="1164"/>
                    </a:lnTo>
                    <a:lnTo>
                      <a:pt x="645" y="1168"/>
                    </a:lnTo>
                    <a:lnTo>
                      <a:pt x="645" y="1173"/>
                    </a:lnTo>
                    <a:lnTo>
                      <a:pt x="644" y="1177"/>
                    </a:lnTo>
                    <a:lnTo>
                      <a:pt x="643" y="1182"/>
                    </a:lnTo>
                    <a:lnTo>
                      <a:pt x="643" y="1186"/>
                    </a:lnTo>
                    <a:lnTo>
                      <a:pt x="642" y="1190"/>
                    </a:lnTo>
                    <a:lnTo>
                      <a:pt x="642" y="1194"/>
                    </a:lnTo>
                    <a:lnTo>
                      <a:pt x="641" y="1199"/>
                    </a:lnTo>
                    <a:lnTo>
                      <a:pt x="641" y="1203"/>
                    </a:lnTo>
                    <a:lnTo>
                      <a:pt x="640" y="1207"/>
                    </a:lnTo>
                    <a:lnTo>
                      <a:pt x="640" y="1211"/>
                    </a:lnTo>
                    <a:lnTo>
                      <a:pt x="639" y="1214"/>
                    </a:lnTo>
                    <a:lnTo>
                      <a:pt x="639" y="1218"/>
                    </a:lnTo>
                    <a:lnTo>
                      <a:pt x="638" y="1222"/>
                    </a:lnTo>
                    <a:lnTo>
                      <a:pt x="638" y="1225"/>
                    </a:lnTo>
                    <a:lnTo>
                      <a:pt x="638" y="1229"/>
                    </a:lnTo>
                    <a:lnTo>
                      <a:pt x="637" y="1232"/>
                    </a:lnTo>
                    <a:lnTo>
                      <a:pt x="637" y="1235"/>
                    </a:lnTo>
                    <a:lnTo>
                      <a:pt x="637" y="1238"/>
                    </a:lnTo>
                    <a:lnTo>
                      <a:pt x="636" y="1238"/>
                    </a:lnTo>
                    <a:lnTo>
                      <a:pt x="634" y="1238"/>
                    </a:lnTo>
                    <a:lnTo>
                      <a:pt x="633" y="1238"/>
                    </a:lnTo>
                    <a:lnTo>
                      <a:pt x="632" y="1237"/>
                    </a:lnTo>
                    <a:lnTo>
                      <a:pt x="631" y="1237"/>
                    </a:lnTo>
                    <a:lnTo>
                      <a:pt x="630" y="1237"/>
                    </a:lnTo>
                    <a:lnTo>
                      <a:pt x="628" y="1237"/>
                    </a:lnTo>
                    <a:lnTo>
                      <a:pt x="627" y="1237"/>
                    </a:lnTo>
                    <a:lnTo>
                      <a:pt x="626" y="1237"/>
                    </a:lnTo>
                    <a:lnTo>
                      <a:pt x="625" y="1237"/>
                    </a:lnTo>
                    <a:lnTo>
                      <a:pt x="624" y="1237"/>
                    </a:lnTo>
                    <a:lnTo>
                      <a:pt x="623" y="1237"/>
                    </a:lnTo>
                    <a:lnTo>
                      <a:pt x="621" y="1237"/>
                    </a:lnTo>
                    <a:lnTo>
                      <a:pt x="620" y="1237"/>
                    </a:lnTo>
                    <a:lnTo>
                      <a:pt x="619" y="1237"/>
                    </a:lnTo>
                    <a:lnTo>
                      <a:pt x="618" y="1237"/>
                    </a:lnTo>
                    <a:lnTo>
                      <a:pt x="617" y="1237"/>
                    </a:lnTo>
                    <a:lnTo>
                      <a:pt x="615" y="1238"/>
                    </a:lnTo>
                    <a:lnTo>
                      <a:pt x="614" y="1238"/>
                    </a:lnTo>
                    <a:lnTo>
                      <a:pt x="613" y="1238"/>
                    </a:lnTo>
                    <a:lnTo>
                      <a:pt x="611" y="1239"/>
                    </a:lnTo>
                    <a:lnTo>
                      <a:pt x="610" y="1239"/>
                    </a:lnTo>
                    <a:lnTo>
                      <a:pt x="608" y="1240"/>
                    </a:lnTo>
                    <a:lnTo>
                      <a:pt x="607" y="1241"/>
                    </a:lnTo>
                    <a:lnTo>
                      <a:pt x="605" y="1241"/>
                    </a:lnTo>
                    <a:lnTo>
                      <a:pt x="604" y="1242"/>
                    </a:lnTo>
                    <a:lnTo>
                      <a:pt x="602" y="1243"/>
                    </a:lnTo>
                    <a:lnTo>
                      <a:pt x="600" y="1244"/>
                    </a:lnTo>
                    <a:lnTo>
                      <a:pt x="598" y="1245"/>
                    </a:lnTo>
                    <a:lnTo>
                      <a:pt x="597" y="1246"/>
                    </a:lnTo>
                    <a:lnTo>
                      <a:pt x="595" y="1247"/>
                    </a:lnTo>
                    <a:lnTo>
                      <a:pt x="593" y="1248"/>
                    </a:lnTo>
                    <a:lnTo>
                      <a:pt x="590" y="1249"/>
                    </a:lnTo>
                    <a:lnTo>
                      <a:pt x="587" y="1251"/>
                    </a:lnTo>
                    <a:lnTo>
                      <a:pt x="584" y="1252"/>
                    </a:lnTo>
                    <a:lnTo>
                      <a:pt x="581" y="1254"/>
                    </a:lnTo>
                    <a:lnTo>
                      <a:pt x="579" y="1256"/>
                    </a:lnTo>
                    <a:lnTo>
                      <a:pt x="576" y="1258"/>
                    </a:lnTo>
                    <a:lnTo>
                      <a:pt x="574" y="1260"/>
                    </a:lnTo>
                    <a:lnTo>
                      <a:pt x="572" y="1262"/>
                    </a:lnTo>
                    <a:lnTo>
                      <a:pt x="569" y="1264"/>
                    </a:lnTo>
                    <a:lnTo>
                      <a:pt x="566" y="1266"/>
                    </a:lnTo>
                    <a:lnTo>
                      <a:pt x="564" y="1268"/>
                    </a:lnTo>
                    <a:lnTo>
                      <a:pt x="562" y="1271"/>
                    </a:lnTo>
                    <a:lnTo>
                      <a:pt x="560" y="1273"/>
                    </a:lnTo>
                    <a:lnTo>
                      <a:pt x="558" y="1276"/>
                    </a:lnTo>
                    <a:lnTo>
                      <a:pt x="556" y="1278"/>
                    </a:lnTo>
                    <a:lnTo>
                      <a:pt x="554" y="1280"/>
                    </a:lnTo>
                    <a:lnTo>
                      <a:pt x="552" y="1283"/>
                    </a:lnTo>
                    <a:lnTo>
                      <a:pt x="550" y="1285"/>
                    </a:lnTo>
                    <a:lnTo>
                      <a:pt x="548" y="1288"/>
                    </a:lnTo>
                    <a:lnTo>
                      <a:pt x="546" y="1290"/>
                    </a:lnTo>
                    <a:lnTo>
                      <a:pt x="543" y="1293"/>
                    </a:lnTo>
                    <a:lnTo>
                      <a:pt x="541" y="1295"/>
                    </a:lnTo>
                    <a:lnTo>
                      <a:pt x="539" y="1297"/>
                    </a:lnTo>
                    <a:lnTo>
                      <a:pt x="537" y="1299"/>
                    </a:lnTo>
                    <a:lnTo>
                      <a:pt x="534" y="1302"/>
                    </a:lnTo>
                    <a:lnTo>
                      <a:pt x="532" y="1304"/>
                    </a:lnTo>
                    <a:lnTo>
                      <a:pt x="530" y="1305"/>
                    </a:lnTo>
                    <a:lnTo>
                      <a:pt x="527" y="1307"/>
                    </a:lnTo>
                    <a:lnTo>
                      <a:pt x="524" y="1309"/>
                    </a:lnTo>
                    <a:lnTo>
                      <a:pt x="522" y="1310"/>
                    </a:lnTo>
                    <a:lnTo>
                      <a:pt x="519" y="1312"/>
                    </a:lnTo>
                    <a:lnTo>
                      <a:pt x="516" y="1313"/>
                    </a:lnTo>
                    <a:lnTo>
                      <a:pt x="505" y="1318"/>
                    </a:lnTo>
                    <a:lnTo>
                      <a:pt x="494" y="1323"/>
                    </a:lnTo>
                    <a:lnTo>
                      <a:pt x="483" y="1328"/>
                    </a:lnTo>
                    <a:lnTo>
                      <a:pt x="471" y="1332"/>
                    </a:lnTo>
                    <a:lnTo>
                      <a:pt x="460" y="1336"/>
                    </a:lnTo>
                    <a:lnTo>
                      <a:pt x="449" y="1340"/>
                    </a:lnTo>
                    <a:lnTo>
                      <a:pt x="437" y="1344"/>
                    </a:lnTo>
                    <a:lnTo>
                      <a:pt x="425" y="1347"/>
                    </a:lnTo>
                    <a:lnTo>
                      <a:pt x="414" y="1351"/>
                    </a:lnTo>
                    <a:lnTo>
                      <a:pt x="402" y="1354"/>
                    </a:lnTo>
                    <a:lnTo>
                      <a:pt x="390" y="1357"/>
                    </a:lnTo>
                    <a:lnTo>
                      <a:pt x="378" y="1360"/>
                    </a:lnTo>
                    <a:lnTo>
                      <a:pt x="366" y="1362"/>
                    </a:lnTo>
                    <a:lnTo>
                      <a:pt x="354" y="1365"/>
                    </a:lnTo>
                    <a:lnTo>
                      <a:pt x="342" y="1368"/>
                    </a:lnTo>
                    <a:lnTo>
                      <a:pt x="329" y="1370"/>
                    </a:lnTo>
                    <a:lnTo>
                      <a:pt x="317" y="1373"/>
                    </a:lnTo>
                    <a:lnTo>
                      <a:pt x="305" y="1376"/>
                    </a:lnTo>
                    <a:lnTo>
                      <a:pt x="293" y="1378"/>
                    </a:lnTo>
                    <a:lnTo>
                      <a:pt x="281" y="1381"/>
                    </a:lnTo>
                    <a:lnTo>
                      <a:pt x="269" y="1384"/>
                    </a:lnTo>
                    <a:lnTo>
                      <a:pt x="257" y="1387"/>
                    </a:lnTo>
                    <a:lnTo>
                      <a:pt x="245" y="1390"/>
                    </a:lnTo>
                    <a:lnTo>
                      <a:pt x="233" y="1393"/>
                    </a:lnTo>
                    <a:lnTo>
                      <a:pt x="222" y="1396"/>
                    </a:lnTo>
                    <a:lnTo>
                      <a:pt x="210" y="1400"/>
                    </a:lnTo>
                    <a:lnTo>
                      <a:pt x="199" y="1404"/>
                    </a:lnTo>
                    <a:lnTo>
                      <a:pt x="187" y="1408"/>
                    </a:lnTo>
                    <a:lnTo>
                      <a:pt x="176" y="1412"/>
                    </a:lnTo>
                    <a:lnTo>
                      <a:pt x="165" y="1417"/>
                    </a:lnTo>
                    <a:lnTo>
                      <a:pt x="154" y="1421"/>
                    </a:lnTo>
                    <a:lnTo>
                      <a:pt x="143" y="1426"/>
                    </a:lnTo>
                    <a:lnTo>
                      <a:pt x="0" y="1495"/>
                    </a:lnTo>
                    <a:lnTo>
                      <a:pt x="0" y="2302"/>
                    </a:lnTo>
                    <a:lnTo>
                      <a:pt x="2041" y="2302"/>
                    </a:lnTo>
                    <a:lnTo>
                      <a:pt x="2042" y="1607"/>
                    </a:lnTo>
                    <a:lnTo>
                      <a:pt x="2041" y="1605"/>
                    </a:lnTo>
                    <a:lnTo>
                      <a:pt x="2039" y="1604"/>
                    </a:lnTo>
                    <a:lnTo>
                      <a:pt x="2037" y="1602"/>
                    </a:lnTo>
                    <a:lnTo>
                      <a:pt x="2036" y="1600"/>
                    </a:lnTo>
                    <a:lnTo>
                      <a:pt x="2034" y="1598"/>
                    </a:lnTo>
                    <a:lnTo>
                      <a:pt x="2032" y="1596"/>
                    </a:lnTo>
                    <a:lnTo>
                      <a:pt x="2030" y="1594"/>
                    </a:lnTo>
                    <a:lnTo>
                      <a:pt x="2028" y="1591"/>
                    </a:lnTo>
                    <a:lnTo>
                      <a:pt x="2026" y="1589"/>
                    </a:lnTo>
                    <a:lnTo>
                      <a:pt x="2024" y="1587"/>
                    </a:lnTo>
                    <a:lnTo>
                      <a:pt x="2022" y="1585"/>
                    </a:lnTo>
                    <a:lnTo>
                      <a:pt x="2020" y="1583"/>
                    </a:lnTo>
                    <a:lnTo>
                      <a:pt x="2018" y="1581"/>
                    </a:lnTo>
                    <a:lnTo>
                      <a:pt x="2016" y="1579"/>
                    </a:lnTo>
                    <a:lnTo>
                      <a:pt x="2014" y="1577"/>
                    </a:lnTo>
                    <a:lnTo>
                      <a:pt x="2012" y="1574"/>
                    </a:lnTo>
                    <a:lnTo>
                      <a:pt x="2009" y="1572"/>
                    </a:lnTo>
                    <a:lnTo>
                      <a:pt x="2007" y="1570"/>
                    </a:lnTo>
                    <a:lnTo>
                      <a:pt x="2005" y="1569"/>
                    </a:lnTo>
                    <a:lnTo>
                      <a:pt x="2003" y="1567"/>
                    </a:lnTo>
                    <a:lnTo>
                      <a:pt x="2001" y="1565"/>
                    </a:lnTo>
                    <a:lnTo>
                      <a:pt x="1998" y="1563"/>
                    </a:lnTo>
                    <a:lnTo>
                      <a:pt x="1996" y="1561"/>
                    </a:lnTo>
                    <a:lnTo>
                      <a:pt x="1994" y="1560"/>
                    </a:lnTo>
                    <a:lnTo>
                      <a:pt x="1992" y="1558"/>
                    </a:lnTo>
                    <a:lnTo>
                      <a:pt x="1990" y="1557"/>
                    </a:lnTo>
                    <a:lnTo>
                      <a:pt x="1987" y="1556"/>
                    </a:lnTo>
                    <a:lnTo>
                      <a:pt x="1985" y="1554"/>
                    </a:lnTo>
                    <a:lnTo>
                      <a:pt x="1983" y="1553"/>
                    </a:lnTo>
                    <a:lnTo>
                      <a:pt x="1981" y="1552"/>
                    </a:lnTo>
                    <a:lnTo>
                      <a:pt x="1979" y="1552"/>
                    </a:lnTo>
                    <a:lnTo>
                      <a:pt x="1977" y="1551"/>
                    </a:lnTo>
                    <a:lnTo>
                      <a:pt x="1592" y="1370"/>
                    </a:lnTo>
                    <a:lnTo>
                      <a:pt x="1510" y="1325"/>
                    </a:lnTo>
                    <a:lnTo>
                      <a:pt x="1505" y="1323"/>
                    </a:lnTo>
                    <a:lnTo>
                      <a:pt x="1501" y="1320"/>
                    </a:lnTo>
                    <a:lnTo>
                      <a:pt x="1496" y="1317"/>
                    </a:lnTo>
                    <a:lnTo>
                      <a:pt x="1491" y="1314"/>
                    </a:lnTo>
                    <a:lnTo>
                      <a:pt x="1486" y="1310"/>
                    </a:lnTo>
                    <a:lnTo>
                      <a:pt x="1481" y="1307"/>
                    </a:lnTo>
                    <a:lnTo>
                      <a:pt x="1476" y="1303"/>
                    </a:lnTo>
                    <a:lnTo>
                      <a:pt x="1470" y="1299"/>
                    </a:lnTo>
                    <a:lnTo>
                      <a:pt x="1465" y="1295"/>
                    </a:lnTo>
                    <a:lnTo>
                      <a:pt x="1460" y="1291"/>
                    </a:lnTo>
                    <a:lnTo>
                      <a:pt x="1455" y="1287"/>
                    </a:lnTo>
                    <a:lnTo>
                      <a:pt x="1449" y="1283"/>
                    </a:lnTo>
                    <a:lnTo>
                      <a:pt x="1444" y="1279"/>
                    </a:lnTo>
                    <a:lnTo>
                      <a:pt x="1439" y="1275"/>
                    </a:lnTo>
                    <a:lnTo>
                      <a:pt x="1433" y="1271"/>
                    </a:lnTo>
                    <a:lnTo>
                      <a:pt x="1428" y="1268"/>
                    </a:lnTo>
                    <a:lnTo>
                      <a:pt x="1422" y="1264"/>
                    </a:lnTo>
                    <a:lnTo>
                      <a:pt x="1417" y="1261"/>
                    </a:lnTo>
                    <a:lnTo>
                      <a:pt x="1411" y="1258"/>
                    </a:lnTo>
                    <a:lnTo>
                      <a:pt x="1405" y="1255"/>
                    </a:lnTo>
                    <a:lnTo>
                      <a:pt x="1400" y="1253"/>
                    </a:lnTo>
                    <a:lnTo>
                      <a:pt x="1394" y="1251"/>
                    </a:lnTo>
                    <a:lnTo>
                      <a:pt x="1388" y="1249"/>
                    </a:lnTo>
                    <a:lnTo>
                      <a:pt x="1382" y="1248"/>
                    </a:lnTo>
                    <a:lnTo>
                      <a:pt x="1376" y="1247"/>
                    </a:lnTo>
                    <a:lnTo>
                      <a:pt x="1371" y="1247"/>
                    </a:lnTo>
                    <a:lnTo>
                      <a:pt x="1365" y="1247"/>
                    </a:lnTo>
                    <a:lnTo>
                      <a:pt x="1359" y="1248"/>
                    </a:lnTo>
                    <a:lnTo>
                      <a:pt x="1353" y="1249"/>
                    </a:lnTo>
                    <a:lnTo>
                      <a:pt x="1346" y="1251"/>
                    </a:lnTo>
                    <a:lnTo>
                      <a:pt x="1340" y="1254"/>
                    </a:lnTo>
                    <a:lnTo>
                      <a:pt x="1334" y="1257"/>
                    </a:lnTo>
                    <a:lnTo>
                      <a:pt x="1332" y="1254"/>
                    </a:lnTo>
                    <a:lnTo>
                      <a:pt x="1331" y="1251"/>
                    </a:lnTo>
                    <a:lnTo>
                      <a:pt x="1329" y="1248"/>
                    </a:lnTo>
                    <a:lnTo>
                      <a:pt x="1328" y="1245"/>
                    </a:lnTo>
                    <a:lnTo>
                      <a:pt x="1326" y="1241"/>
                    </a:lnTo>
                    <a:lnTo>
                      <a:pt x="1325" y="1238"/>
                    </a:lnTo>
                    <a:lnTo>
                      <a:pt x="1323" y="1234"/>
                    </a:lnTo>
                    <a:lnTo>
                      <a:pt x="1322" y="1230"/>
                    </a:lnTo>
                    <a:lnTo>
                      <a:pt x="1321" y="1227"/>
                    </a:lnTo>
                    <a:lnTo>
                      <a:pt x="1320" y="1223"/>
                    </a:lnTo>
                    <a:lnTo>
                      <a:pt x="1318" y="1219"/>
                    </a:lnTo>
                    <a:lnTo>
                      <a:pt x="1317" y="1215"/>
                    </a:lnTo>
                    <a:lnTo>
                      <a:pt x="1316" y="1211"/>
                    </a:lnTo>
                    <a:lnTo>
                      <a:pt x="1315" y="1207"/>
                    </a:lnTo>
                    <a:lnTo>
                      <a:pt x="1314" y="1204"/>
                    </a:lnTo>
                    <a:lnTo>
                      <a:pt x="1313" y="1200"/>
                    </a:lnTo>
                    <a:lnTo>
                      <a:pt x="1312" y="1196"/>
                    </a:lnTo>
                    <a:lnTo>
                      <a:pt x="1311" y="1193"/>
                    </a:lnTo>
                    <a:lnTo>
                      <a:pt x="1310" y="1190"/>
                    </a:lnTo>
                    <a:lnTo>
                      <a:pt x="1309" y="1187"/>
                    </a:lnTo>
                    <a:lnTo>
                      <a:pt x="1308" y="1184"/>
                    </a:lnTo>
                    <a:lnTo>
                      <a:pt x="1307" y="1181"/>
                    </a:lnTo>
                    <a:lnTo>
                      <a:pt x="1306" y="1178"/>
                    </a:lnTo>
                    <a:lnTo>
                      <a:pt x="1305" y="1176"/>
                    </a:lnTo>
                    <a:lnTo>
                      <a:pt x="1304" y="1174"/>
                    </a:lnTo>
                    <a:lnTo>
                      <a:pt x="1303" y="1172"/>
                    </a:lnTo>
                    <a:lnTo>
                      <a:pt x="1302" y="1171"/>
                    </a:lnTo>
                    <a:lnTo>
                      <a:pt x="1301" y="1170"/>
                    </a:lnTo>
                    <a:lnTo>
                      <a:pt x="1300" y="1169"/>
                    </a:lnTo>
                    <a:lnTo>
                      <a:pt x="1299" y="1169"/>
                    </a:lnTo>
                    <a:lnTo>
                      <a:pt x="1298" y="1169"/>
                    </a:lnTo>
                    <a:lnTo>
                      <a:pt x="1297" y="1169"/>
                    </a:lnTo>
                    <a:lnTo>
                      <a:pt x="1301" y="1162"/>
                    </a:lnTo>
                    <a:lnTo>
                      <a:pt x="1306" y="1155"/>
                    </a:lnTo>
                    <a:lnTo>
                      <a:pt x="1310" y="1148"/>
                    </a:lnTo>
                    <a:lnTo>
                      <a:pt x="1314" y="1142"/>
                    </a:lnTo>
                    <a:lnTo>
                      <a:pt x="1317" y="1135"/>
                    </a:lnTo>
                    <a:lnTo>
                      <a:pt x="1321" y="1129"/>
                    </a:lnTo>
                    <a:lnTo>
                      <a:pt x="1324" y="1122"/>
                    </a:lnTo>
                    <a:lnTo>
                      <a:pt x="1328" y="1116"/>
                    </a:lnTo>
                    <a:lnTo>
                      <a:pt x="1331" y="1110"/>
                    </a:lnTo>
                    <a:lnTo>
                      <a:pt x="1334" y="1104"/>
                    </a:lnTo>
                    <a:lnTo>
                      <a:pt x="1336" y="1098"/>
                    </a:lnTo>
                    <a:lnTo>
                      <a:pt x="1339" y="1092"/>
                    </a:lnTo>
                    <a:lnTo>
                      <a:pt x="1342" y="1087"/>
                    </a:lnTo>
                    <a:lnTo>
                      <a:pt x="1344" y="1081"/>
                    </a:lnTo>
                    <a:lnTo>
                      <a:pt x="1347" y="1076"/>
                    </a:lnTo>
                    <a:lnTo>
                      <a:pt x="1349" y="1070"/>
                    </a:lnTo>
                    <a:lnTo>
                      <a:pt x="1351" y="1065"/>
                    </a:lnTo>
                    <a:lnTo>
                      <a:pt x="1353" y="1060"/>
                    </a:lnTo>
                    <a:lnTo>
                      <a:pt x="1356" y="1055"/>
                    </a:lnTo>
                    <a:lnTo>
                      <a:pt x="1358" y="1050"/>
                    </a:lnTo>
                    <a:lnTo>
                      <a:pt x="1360" y="1045"/>
                    </a:lnTo>
                    <a:lnTo>
                      <a:pt x="1362" y="1040"/>
                    </a:lnTo>
                    <a:lnTo>
                      <a:pt x="1364" y="1035"/>
                    </a:lnTo>
                    <a:lnTo>
                      <a:pt x="1366" y="1030"/>
                    </a:lnTo>
                    <a:lnTo>
                      <a:pt x="1368" y="1025"/>
                    </a:lnTo>
                    <a:lnTo>
                      <a:pt x="1370" y="1021"/>
                    </a:lnTo>
                    <a:lnTo>
                      <a:pt x="1372" y="1016"/>
                    </a:lnTo>
                    <a:lnTo>
                      <a:pt x="1374" y="1012"/>
                    </a:lnTo>
                    <a:lnTo>
                      <a:pt x="1376" y="1007"/>
                    </a:lnTo>
                    <a:lnTo>
                      <a:pt x="1378" y="1003"/>
                    </a:lnTo>
                    <a:lnTo>
                      <a:pt x="1380" y="999"/>
                    </a:lnTo>
                    <a:lnTo>
                      <a:pt x="1383" y="995"/>
                    </a:lnTo>
                    <a:lnTo>
                      <a:pt x="1385" y="992"/>
                    </a:lnTo>
                    <a:lnTo>
                      <a:pt x="1388" y="989"/>
                    </a:lnTo>
                    <a:lnTo>
                      <a:pt x="1390" y="987"/>
                    </a:lnTo>
                    <a:lnTo>
                      <a:pt x="1392" y="984"/>
                    </a:lnTo>
                    <a:lnTo>
                      <a:pt x="1394" y="982"/>
                    </a:lnTo>
                    <a:lnTo>
                      <a:pt x="1397" y="980"/>
                    </a:lnTo>
                    <a:lnTo>
                      <a:pt x="1399" y="977"/>
                    </a:lnTo>
                    <a:lnTo>
                      <a:pt x="1400" y="975"/>
                    </a:lnTo>
                    <a:lnTo>
                      <a:pt x="1402" y="973"/>
                    </a:lnTo>
                    <a:lnTo>
                      <a:pt x="1404" y="971"/>
                    </a:lnTo>
                    <a:lnTo>
                      <a:pt x="1406" y="969"/>
                    </a:lnTo>
                    <a:lnTo>
                      <a:pt x="1407" y="967"/>
                    </a:lnTo>
                    <a:lnTo>
                      <a:pt x="1409" y="965"/>
                    </a:lnTo>
                    <a:lnTo>
                      <a:pt x="1410" y="963"/>
                    </a:lnTo>
                    <a:lnTo>
                      <a:pt x="1412" y="962"/>
                    </a:lnTo>
                    <a:lnTo>
                      <a:pt x="1413" y="960"/>
                    </a:lnTo>
                    <a:lnTo>
                      <a:pt x="1414" y="957"/>
                    </a:lnTo>
                    <a:lnTo>
                      <a:pt x="1415" y="956"/>
                    </a:lnTo>
                    <a:lnTo>
                      <a:pt x="1416" y="954"/>
                    </a:lnTo>
                    <a:lnTo>
                      <a:pt x="1417" y="952"/>
                    </a:lnTo>
                    <a:lnTo>
                      <a:pt x="1418" y="951"/>
                    </a:lnTo>
                    <a:lnTo>
                      <a:pt x="1419" y="949"/>
                    </a:lnTo>
                    <a:lnTo>
                      <a:pt x="1420" y="947"/>
                    </a:lnTo>
                    <a:lnTo>
                      <a:pt x="1421" y="946"/>
                    </a:lnTo>
                    <a:lnTo>
                      <a:pt x="1421" y="944"/>
                    </a:lnTo>
                    <a:lnTo>
                      <a:pt x="1422" y="942"/>
                    </a:lnTo>
                    <a:lnTo>
                      <a:pt x="1423" y="941"/>
                    </a:lnTo>
                    <a:lnTo>
                      <a:pt x="1423" y="939"/>
                    </a:lnTo>
                    <a:lnTo>
                      <a:pt x="1424" y="937"/>
                    </a:lnTo>
                    <a:lnTo>
                      <a:pt x="1424" y="936"/>
                    </a:lnTo>
                    <a:lnTo>
                      <a:pt x="1424" y="934"/>
                    </a:lnTo>
                    <a:lnTo>
                      <a:pt x="1425" y="932"/>
                    </a:lnTo>
                    <a:lnTo>
                      <a:pt x="1430" y="929"/>
                    </a:lnTo>
                    <a:lnTo>
                      <a:pt x="1434" y="925"/>
                    </a:lnTo>
                    <a:lnTo>
                      <a:pt x="1439" y="922"/>
                    </a:lnTo>
                    <a:lnTo>
                      <a:pt x="1443" y="918"/>
                    </a:lnTo>
                    <a:lnTo>
                      <a:pt x="1447" y="913"/>
                    </a:lnTo>
                    <a:lnTo>
                      <a:pt x="1450" y="909"/>
                    </a:lnTo>
                    <a:lnTo>
                      <a:pt x="1453" y="904"/>
                    </a:lnTo>
                    <a:lnTo>
                      <a:pt x="1456" y="899"/>
                    </a:lnTo>
                    <a:lnTo>
                      <a:pt x="1459" y="894"/>
                    </a:lnTo>
                    <a:lnTo>
                      <a:pt x="1462" y="889"/>
                    </a:lnTo>
                    <a:lnTo>
                      <a:pt x="1464" y="884"/>
                    </a:lnTo>
                    <a:lnTo>
                      <a:pt x="1467" y="879"/>
                    </a:lnTo>
                    <a:lnTo>
                      <a:pt x="1469" y="873"/>
                    </a:lnTo>
                    <a:lnTo>
                      <a:pt x="1471" y="868"/>
                    </a:lnTo>
                    <a:lnTo>
                      <a:pt x="1473" y="862"/>
                    </a:lnTo>
                    <a:lnTo>
                      <a:pt x="1476" y="857"/>
                    </a:lnTo>
                    <a:lnTo>
                      <a:pt x="1478" y="851"/>
                    </a:lnTo>
                    <a:lnTo>
                      <a:pt x="1481" y="846"/>
                    </a:lnTo>
                    <a:lnTo>
                      <a:pt x="1483" y="840"/>
                    </a:lnTo>
                    <a:lnTo>
                      <a:pt x="1485" y="835"/>
                    </a:lnTo>
                    <a:lnTo>
                      <a:pt x="1487" y="830"/>
                    </a:lnTo>
                    <a:lnTo>
                      <a:pt x="1490" y="824"/>
                    </a:lnTo>
                    <a:lnTo>
                      <a:pt x="1492" y="819"/>
                    </a:lnTo>
                    <a:lnTo>
                      <a:pt x="1495" y="814"/>
                    </a:lnTo>
                    <a:lnTo>
                      <a:pt x="1498" y="809"/>
                    </a:lnTo>
                    <a:lnTo>
                      <a:pt x="1501" y="805"/>
                    </a:lnTo>
                    <a:lnTo>
                      <a:pt x="1505" y="800"/>
                    </a:lnTo>
                    <a:lnTo>
                      <a:pt x="1508" y="796"/>
                    </a:lnTo>
                    <a:lnTo>
                      <a:pt x="1512" y="792"/>
                    </a:lnTo>
                    <a:lnTo>
                      <a:pt x="1517" y="788"/>
                    </a:lnTo>
                    <a:lnTo>
                      <a:pt x="1521" y="785"/>
                    </a:lnTo>
                    <a:lnTo>
                      <a:pt x="1526" y="782"/>
                    </a:lnTo>
                    <a:lnTo>
                      <a:pt x="1527" y="780"/>
                    </a:lnTo>
                    <a:lnTo>
                      <a:pt x="1527" y="778"/>
                    </a:lnTo>
                    <a:lnTo>
                      <a:pt x="1527" y="776"/>
                    </a:lnTo>
                    <a:lnTo>
                      <a:pt x="1528" y="774"/>
                    </a:lnTo>
                    <a:lnTo>
                      <a:pt x="1528" y="772"/>
                    </a:lnTo>
                    <a:lnTo>
                      <a:pt x="1528" y="770"/>
                    </a:lnTo>
                    <a:lnTo>
                      <a:pt x="1529" y="769"/>
                    </a:lnTo>
                    <a:lnTo>
                      <a:pt x="1529" y="767"/>
                    </a:lnTo>
                    <a:lnTo>
                      <a:pt x="1529" y="765"/>
                    </a:lnTo>
                    <a:lnTo>
                      <a:pt x="1529" y="764"/>
                    </a:lnTo>
                    <a:lnTo>
                      <a:pt x="1529" y="762"/>
                    </a:lnTo>
                    <a:lnTo>
                      <a:pt x="1529" y="760"/>
                    </a:lnTo>
                    <a:lnTo>
                      <a:pt x="1529" y="759"/>
                    </a:lnTo>
                    <a:lnTo>
                      <a:pt x="1529" y="757"/>
                    </a:lnTo>
                    <a:lnTo>
                      <a:pt x="1529" y="756"/>
                    </a:lnTo>
                    <a:lnTo>
                      <a:pt x="1529" y="754"/>
                    </a:lnTo>
                    <a:lnTo>
                      <a:pt x="1529" y="753"/>
                    </a:lnTo>
                    <a:lnTo>
                      <a:pt x="1528" y="751"/>
                    </a:lnTo>
                    <a:lnTo>
                      <a:pt x="1528" y="750"/>
                    </a:lnTo>
                    <a:lnTo>
                      <a:pt x="1528" y="748"/>
                    </a:lnTo>
                    <a:lnTo>
                      <a:pt x="1527" y="747"/>
                    </a:lnTo>
                    <a:lnTo>
                      <a:pt x="1527" y="745"/>
                    </a:lnTo>
                    <a:lnTo>
                      <a:pt x="1527" y="744"/>
                    </a:lnTo>
                    <a:lnTo>
                      <a:pt x="1526" y="742"/>
                    </a:lnTo>
                    <a:lnTo>
                      <a:pt x="1525" y="741"/>
                    </a:lnTo>
                    <a:lnTo>
                      <a:pt x="1525" y="739"/>
                    </a:lnTo>
                    <a:lnTo>
                      <a:pt x="1524" y="737"/>
                    </a:lnTo>
                    <a:lnTo>
                      <a:pt x="1523" y="736"/>
                    </a:lnTo>
                    <a:lnTo>
                      <a:pt x="1522" y="734"/>
                    </a:lnTo>
                    <a:lnTo>
                      <a:pt x="1521" y="733"/>
                    </a:lnTo>
                    <a:lnTo>
                      <a:pt x="1520" y="731"/>
                    </a:lnTo>
                    <a:lnTo>
                      <a:pt x="1519" y="729"/>
                    </a:lnTo>
                    <a:lnTo>
                      <a:pt x="1556" y="686"/>
                    </a:lnTo>
                    <a:lnTo>
                      <a:pt x="1556" y="684"/>
                    </a:lnTo>
                    <a:lnTo>
                      <a:pt x="1556" y="682"/>
                    </a:lnTo>
                    <a:lnTo>
                      <a:pt x="1555" y="680"/>
                    </a:lnTo>
                    <a:lnTo>
                      <a:pt x="1555" y="678"/>
                    </a:lnTo>
                    <a:lnTo>
                      <a:pt x="1555" y="676"/>
                    </a:lnTo>
                    <a:lnTo>
                      <a:pt x="1555" y="674"/>
                    </a:lnTo>
                    <a:lnTo>
                      <a:pt x="1554" y="673"/>
                    </a:lnTo>
                    <a:lnTo>
                      <a:pt x="1554" y="671"/>
                    </a:lnTo>
                    <a:lnTo>
                      <a:pt x="1554" y="670"/>
                    </a:lnTo>
                    <a:lnTo>
                      <a:pt x="1553" y="669"/>
                    </a:lnTo>
                    <a:lnTo>
                      <a:pt x="1553" y="667"/>
                    </a:lnTo>
                    <a:lnTo>
                      <a:pt x="1553" y="666"/>
                    </a:lnTo>
                    <a:lnTo>
                      <a:pt x="1553" y="665"/>
                    </a:lnTo>
                    <a:lnTo>
                      <a:pt x="1552" y="664"/>
                    </a:lnTo>
                    <a:lnTo>
                      <a:pt x="1552" y="663"/>
                    </a:lnTo>
                    <a:lnTo>
                      <a:pt x="1552" y="662"/>
                    </a:lnTo>
                    <a:lnTo>
                      <a:pt x="1552" y="661"/>
                    </a:lnTo>
                    <a:lnTo>
                      <a:pt x="1552" y="660"/>
                    </a:lnTo>
                    <a:lnTo>
                      <a:pt x="1552" y="658"/>
                    </a:lnTo>
                    <a:lnTo>
                      <a:pt x="1552" y="657"/>
                    </a:lnTo>
                    <a:lnTo>
                      <a:pt x="1553" y="656"/>
                    </a:lnTo>
                    <a:lnTo>
                      <a:pt x="1553" y="655"/>
                    </a:lnTo>
                    <a:lnTo>
                      <a:pt x="1554" y="654"/>
                    </a:lnTo>
                    <a:lnTo>
                      <a:pt x="1554" y="652"/>
                    </a:lnTo>
                    <a:lnTo>
                      <a:pt x="1555" y="651"/>
                    </a:lnTo>
                    <a:lnTo>
                      <a:pt x="1556" y="649"/>
                    </a:lnTo>
                    <a:lnTo>
                      <a:pt x="1557" y="648"/>
                    </a:lnTo>
                    <a:lnTo>
                      <a:pt x="1558" y="646"/>
                    </a:lnTo>
                    <a:lnTo>
                      <a:pt x="1560" y="644"/>
                    </a:lnTo>
                    <a:lnTo>
                      <a:pt x="1561" y="642"/>
                    </a:lnTo>
                    <a:lnTo>
                      <a:pt x="1563" y="640"/>
                    </a:lnTo>
                    <a:lnTo>
                      <a:pt x="1565" y="638"/>
                    </a:lnTo>
                    <a:lnTo>
                      <a:pt x="1565" y="634"/>
                    </a:lnTo>
                    <a:lnTo>
                      <a:pt x="1564" y="630"/>
                    </a:lnTo>
                    <a:lnTo>
                      <a:pt x="1564" y="626"/>
                    </a:lnTo>
                    <a:lnTo>
                      <a:pt x="1563" y="622"/>
                    </a:lnTo>
                    <a:lnTo>
                      <a:pt x="1562" y="619"/>
                    </a:lnTo>
                    <a:lnTo>
                      <a:pt x="1561" y="615"/>
                    </a:lnTo>
                    <a:lnTo>
                      <a:pt x="1559" y="612"/>
                    </a:lnTo>
                    <a:lnTo>
                      <a:pt x="1558" y="608"/>
                    </a:lnTo>
                    <a:lnTo>
                      <a:pt x="1556" y="605"/>
                    </a:lnTo>
                    <a:lnTo>
                      <a:pt x="1555" y="601"/>
                    </a:lnTo>
                    <a:lnTo>
                      <a:pt x="1553" y="598"/>
                    </a:lnTo>
                    <a:lnTo>
                      <a:pt x="1551" y="595"/>
                    </a:lnTo>
                    <a:lnTo>
                      <a:pt x="1549" y="592"/>
                    </a:lnTo>
                    <a:lnTo>
                      <a:pt x="1547" y="588"/>
                    </a:lnTo>
                    <a:lnTo>
                      <a:pt x="1545" y="585"/>
                    </a:lnTo>
                    <a:lnTo>
                      <a:pt x="1543" y="582"/>
                    </a:lnTo>
                    <a:lnTo>
                      <a:pt x="1541" y="579"/>
                    </a:lnTo>
                    <a:lnTo>
                      <a:pt x="1539" y="576"/>
                    </a:lnTo>
                    <a:lnTo>
                      <a:pt x="1537" y="571"/>
                    </a:lnTo>
                    <a:lnTo>
                      <a:pt x="1535" y="568"/>
                    </a:lnTo>
                    <a:lnTo>
                      <a:pt x="1533" y="565"/>
                    </a:lnTo>
                    <a:lnTo>
                      <a:pt x="1531" y="562"/>
                    </a:lnTo>
                    <a:lnTo>
                      <a:pt x="1529" y="558"/>
                    </a:lnTo>
                    <a:lnTo>
                      <a:pt x="1528" y="555"/>
                    </a:lnTo>
                    <a:lnTo>
                      <a:pt x="1526" y="551"/>
                    </a:lnTo>
                    <a:lnTo>
                      <a:pt x="1525" y="548"/>
                    </a:lnTo>
                    <a:lnTo>
                      <a:pt x="1524" y="544"/>
                    </a:lnTo>
                    <a:lnTo>
                      <a:pt x="1523" y="541"/>
                    </a:lnTo>
                    <a:lnTo>
                      <a:pt x="1522" y="537"/>
                    </a:lnTo>
                    <a:lnTo>
                      <a:pt x="1521" y="533"/>
                    </a:lnTo>
                    <a:lnTo>
                      <a:pt x="1521" y="529"/>
                    </a:lnTo>
                    <a:lnTo>
                      <a:pt x="1521" y="525"/>
                    </a:lnTo>
                    <a:lnTo>
                      <a:pt x="1519" y="524"/>
                    </a:lnTo>
                    <a:lnTo>
                      <a:pt x="1518" y="523"/>
                    </a:lnTo>
                    <a:lnTo>
                      <a:pt x="1516" y="522"/>
                    </a:lnTo>
                    <a:lnTo>
                      <a:pt x="1515" y="520"/>
                    </a:lnTo>
                    <a:lnTo>
                      <a:pt x="1514" y="518"/>
                    </a:lnTo>
                    <a:lnTo>
                      <a:pt x="1512" y="516"/>
                    </a:lnTo>
                    <a:lnTo>
                      <a:pt x="1511" y="513"/>
                    </a:lnTo>
                    <a:lnTo>
                      <a:pt x="1510" y="510"/>
                    </a:lnTo>
                    <a:lnTo>
                      <a:pt x="1508" y="507"/>
                    </a:lnTo>
                    <a:lnTo>
                      <a:pt x="1507" y="504"/>
                    </a:lnTo>
                    <a:lnTo>
                      <a:pt x="1506" y="501"/>
                    </a:lnTo>
                    <a:lnTo>
                      <a:pt x="1505" y="497"/>
                    </a:lnTo>
                    <a:lnTo>
                      <a:pt x="1504" y="494"/>
                    </a:lnTo>
                    <a:lnTo>
                      <a:pt x="1503" y="490"/>
                    </a:lnTo>
                    <a:lnTo>
                      <a:pt x="1502" y="486"/>
                    </a:lnTo>
                    <a:lnTo>
                      <a:pt x="1501" y="482"/>
                    </a:lnTo>
                    <a:lnTo>
                      <a:pt x="1500" y="478"/>
                    </a:lnTo>
                    <a:lnTo>
                      <a:pt x="1499" y="474"/>
                    </a:lnTo>
                    <a:lnTo>
                      <a:pt x="1499" y="470"/>
                    </a:lnTo>
                    <a:lnTo>
                      <a:pt x="1498" y="466"/>
                    </a:lnTo>
                    <a:lnTo>
                      <a:pt x="1497" y="462"/>
                    </a:lnTo>
                    <a:lnTo>
                      <a:pt x="1497" y="458"/>
                    </a:lnTo>
                    <a:lnTo>
                      <a:pt x="1496" y="454"/>
                    </a:lnTo>
                    <a:lnTo>
                      <a:pt x="1496" y="450"/>
                    </a:lnTo>
                    <a:lnTo>
                      <a:pt x="1495" y="447"/>
                    </a:lnTo>
                    <a:lnTo>
                      <a:pt x="1495" y="443"/>
                    </a:lnTo>
                    <a:lnTo>
                      <a:pt x="1494" y="440"/>
                    </a:lnTo>
                    <a:lnTo>
                      <a:pt x="1494" y="436"/>
                    </a:lnTo>
                    <a:lnTo>
                      <a:pt x="1494" y="433"/>
                    </a:lnTo>
                    <a:lnTo>
                      <a:pt x="1494" y="430"/>
                    </a:lnTo>
                    <a:lnTo>
                      <a:pt x="1494" y="427"/>
                    </a:lnTo>
                    <a:lnTo>
                      <a:pt x="1494" y="425"/>
                    </a:lnTo>
                    <a:lnTo>
                      <a:pt x="1460" y="219"/>
                    </a:lnTo>
                    <a:lnTo>
                      <a:pt x="1646" y="209"/>
                    </a:lnTo>
                    <a:lnTo>
                      <a:pt x="1645" y="211"/>
                    </a:lnTo>
                    <a:lnTo>
                      <a:pt x="1645" y="213"/>
                    </a:lnTo>
                    <a:lnTo>
                      <a:pt x="1644" y="215"/>
                    </a:lnTo>
                    <a:lnTo>
                      <a:pt x="1644" y="217"/>
                    </a:lnTo>
                    <a:lnTo>
                      <a:pt x="1643" y="218"/>
                    </a:lnTo>
                    <a:lnTo>
                      <a:pt x="1643" y="220"/>
                    </a:lnTo>
                    <a:lnTo>
                      <a:pt x="1643" y="222"/>
                    </a:lnTo>
                    <a:lnTo>
                      <a:pt x="1643" y="223"/>
                    </a:lnTo>
                    <a:lnTo>
                      <a:pt x="1643" y="225"/>
                    </a:lnTo>
                    <a:lnTo>
                      <a:pt x="1643" y="226"/>
                    </a:lnTo>
                    <a:lnTo>
                      <a:pt x="1643" y="228"/>
                    </a:lnTo>
                    <a:lnTo>
                      <a:pt x="1643" y="229"/>
                    </a:lnTo>
                    <a:lnTo>
                      <a:pt x="1643" y="231"/>
                    </a:lnTo>
                    <a:lnTo>
                      <a:pt x="1643" y="232"/>
                    </a:lnTo>
                    <a:lnTo>
                      <a:pt x="1643" y="234"/>
                    </a:lnTo>
                    <a:lnTo>
                      <a:pt x="1644" y="235"/>
                    </a:lnTo>
                    <a:lnTo>
                      <a:pt x="1644" y="237"/>
                    </a:lnTo>
                    <a:lnTo>
                      <a:pt x="1645" y="238"/>
                    </a:lnTo>
                    <a:lnTo>
                      <a:pt x="1645" y="240"/>
                    </a:lnTo>
                    <a:lnTo>
                      <a:pt x="1646" y="241"/>
                    </a:lnTo>
                    <a:lnTo>
                      <a:pt x="1646" y="243"/>
                    </a:lnTo>
                    <a:lnTo>
                      <a:pt x="1647" y="245"/>
                    </a:lnTo>
                    <a:lnTo>
                      <a:pt x="1647" y="247"/>
                    </a:lnTo>
                    <a:lnTo>
                      <a:pt x="1648" y="248"/>
                    </a:lnTo>
                    <a:lnTo>
                      <a:pt x="1649" y="250"/>
                    </a:lnTo>
                    <a:lnTo>
                      <a:pt x="1650" y="253"/>
                    </a:lnTo>
                    <a:lnTo>
                      <a:pt x="1650" y="255"/>
                    </a:lnTo>
                    <a:lnTo>
                      <a:pt x="1651" y="257"/>
                    </a:lnTo>
                    <a:lnTo>
                      <a:pt x="1652" y="260"/>
                    </a:lnTo>
                    <a:lnTo>
                      <a:pt x="1653" y="262"/>
                    </a:lnTo>
                    <a:lnTo>
                      <a:pt x="1654" y="265"/>
                    </a:lnTo>
                    <a:lnTo>
                      <a:pt x="1655" y="268"/>
                    </a:lnTo>
                    <a:lnTo>
                      <a:pt x="1659" y="369"/>
                    </a:lnTo>
                    <a:lnTo>
                      <a:pt x="1659" y="372"/>
                    </a:lnTo>
                    <a:lnTo>
                      <a:pt x="1659" y="375"/>
                    </a:lnTo>
                    <a:lnTo>
                      <a:pt x="1658" y="378"/>
                    </a:lnTo>
                    <a:lnTo>
                      <a:pt x="1658" y="381"/>
                    </a:lnTo>
                    <a:lnTo>
                      <a:pt x="1658" y="383"/>
                    </a:lnTo>
                    <a:lnTo>
                      <a:pt x="1657" y="386"/>
                    </a:lnTo>
                    <a:lnTo>
                      <a:pt x="1657" y="389"/>
                    </a:lnTo>
                    <a:lnTo>
                      <a:pt x="1656" y="391"/>
                    </a:lnTo>
                    <a:lnTo>
                      <a:pt x="1656" y="394"/>
                    </a:lnTo>
                    <a:lnTo>
                      <a:pt x="1655" y="396"/>
                    </a:lnTo>
                    <a:lnTo>
                      <a:pt x="1654" y="399"/>
                    </a:lnTo>
                    <a:lnTo>
                      <a:pt x="1654" y="402"/>
                    </a:lnTo>
                    <a:lnTo>
                      <a:pt x="1653" y="404"/>
                    </a:lnTo>
                    <a:lnTo>
                      <a:pt x="1652" y="407"/>
                    </a:lnTo>
                    <a:lnTo>
                      <a:pt x="1651" y="409"/>
                    </a:lnTo>
                    <a:lnTo>
                      <a:pt x="1650" y="412"/>
                    </a:lnTo>
                    <a:lnTo>
                      <a:pt x="1650" y="414"/>
                    </a:lnTo>
                    <a:lnTo>
                      <a:pt x="1649" y="417"/>
                    </a:lnTo>
                    <a:lnTo>
                      <a:pt x="1648" y="419"/>
                    </a:lnTo>
                    <a:lnTo>
                      <a:pt x="1647" y="422"/>
                    </a:lnTo>
                    <a:lnTo>
                      <a:pt x="1647" y="425"/>
                    </a:lnTo>
                    <a:lnTo>
                      <a:pt x="1646" y="427"/>
                    </a:lnTo>
                    <a:lnTo>
                      <a:pt x="1645" y="430"/>
                    </a:lnTo>
                    <a:lnTo>
                      <a:pt x="1645" y="433"/>
                    </a:lnTo>
                    <a:lnTo>
                      <a:pt x="1644" y="436"/>
                    </a:lnTo>
                    <a:lnTo>
                      <a:pt x="1644" y="439"/>
                    </a:lnTo>
                    <a:lnTo>
                      <a:pt x="1643" y="442"/>
                    </a:lnTo>
                    <a:lnTo>
                      <a:pt x="1643" y="445"/>
                    </a:lnTo>
                    <a:lnTo>
                      <a:pt x="1642" y="448"/>
                    </a:lnTo>
                    <a:lnTo>
                      <a:pt x="1642" y="451"/>
                    </a:lnTo>
                    <a:lnTo>
                      <a:pt x="1642" y="455"/>
                    </a:lnTo>
                    <a:lnTo>
                      <a:pt x="1642" y="458"/>
                    </a:lnTo>
                    <a:lnTo>
                      <a:pt x="1641" y="467"/>
                    </a:lnTo>
                    <a:lnTo>
                      <a:pt x="1640" y="478"/>
                    </a:lnTo>
                    <a:lnTo>
                      <a:pt x="1639" y="489"/>
                    </a:lnTo>
                    <a:lnTo>
                      <a:pt x="1637" y="502"/>
                    </a:lnTo>
                    <a:lnTo>
                      <a:pt x="1635" y="517"/>
                    </a:lnTo>
                    <a:lnTo>
                      <a:pt x="1632" y="532"/>
                    </a:lnTo>
                    <a:lnTo>
                      <a:pt x="1630" y="549"/>
                    </a:lnTo>
                    <a:lnTo>
                      <a:pt x="1627" y="567"/>
                    </a:lnTo>
                    <a:lnTo>
                      <a:pt x="1623" y="586"/>
                    </a:lnTo>
                    <a:lnTo>
                      <a:pt x="1620" y="606"/>
                    </a:lnTo>
                    <a:lnTo>
                      <a:pt x="1616" y="626"/>
                    </a:lnTo>
                    <a:lnTo>
                      <a:pt x="1612" y="648"/>
                    </a:lnTo>
                    <a:lnTo>
                      <a:pt x="1608" y="670"/>
                    </a:lnTo>
                    <a:lnTo>
                      <a:pt x="1603" y="692"/>
                    </a:lnTo>
                    <a:lnTo>
                      <a:pt x="1599" y="716"/>
                    </a:lnTo>
                    <a:lnTo>
                      <a:pt x="1595" y="740"/>
                    </a:lnTo>
                    <a:lnTo>
                      <a:pt x="1590" y="764"/>
                    </a:lnTo>
                    <a:lnTo>
                      <a:pt x="1586" y="789"/>
                    </a:lnTo>
                    <a:lnTo>
                      <a:pt x="1582" y="814"/>
                    </a:lnTo>
                    <a:lnTo>
                      <a:pt x="1578" y="839"/>
                    </a:lnTo>
                    <a:lnTo>
                      <a:pt x="1573" y="865"/>
                    </a:lnTo>
                    <a:lnTo>
                      <a:pt x="1569" y="890"/>
                    </a:lnTo>
                    <a:lnTo>
                      <a:pt x="1566" y="916"/>
                    </a:lnTo>
                    <a:lnTo>
                      <a:pt x="1562" y="942"/>
                    </a:lnTo>
                    <a:lnTo>
                      <a:pt x="1558" y="969"/>
                    </a:lnTo>
                    <a:lnTo>
                      <a:pt x="1555" y="994"/>
                    </a:lnTo>
                    <a:lnTo>
                      <a:pt x="1552" y="1020"/>
                    </a:lnTo>
                    <a:lnTo>
                      <a:pt x="1550" y="1045"/>
                    </a:lnTo>
                    <a:lnTo>
                      <a:pt x="1548" y="1070"/>
                    </a:lnTo>
                    <a:lnTo>
                      <a:pt x="1546" y="1095"/>
                    </a:lnTo>
                    <a:lnTo>
                      <a:pt x="1544" y="1119"/>
                    </a:lnTo>
                    <a:lnTo>
                      <a:pt x="1543" y="1142"/>
                    </a:lnTo>
                    <a:lnTo>
                      <a:pt x="1542" y="1145"/>
                    </a:lnTo>
                    <a:lnTo>
                      <a:pt x="1542" y="1148"/>
                    </a:lnTo>
                    <a:lnTo>
                      <a:pt x="1543" y="1151"/>
                    </a:lnTo>
                    <a:lnTo>
                      <a:pt x="1544" y="1154"/>
                    </a:lnTo>
                    <a:lnTo>
                      <a:pt x="1546" y="1157"/>
                    </a:lnTo>
                    <a:lnTo>
                      <a:pt x="1548" y="1159"/>
                    </a:lnTo>
                    <a:lnTo>
                      <a:pt x="1550" y="1162"/>
                    </a:lnTo>
                    <a:lnTo>
                      <a:pt x="1553" y="1165"/>
                    </a:lnTo>
                    <a:lnTo>
                      <a:pt x="1556" y="1168"/>
                    </a:lnTo>
                    <a:lnTo>
                      <a:pt x="1560" y="1170"/>
                    </a:lnTo>
                    <a:lnTo>
                      <a:pt x="1564" y="1173"/>
                    </a:lnTo>
                    <a:lnTo>
                      <a:pt x="1569" y="1175"/>
                    </a:lnTo>
                    <a:lnTo>
                      <a:pt x="1573" y="1177"/>
                    </a:lnTo>
                    <a:lnTo>
                      <a:pt x="1578" y="1179"/>
                    </a:lnTo>
                    <a:lnTo>
                      <a:pt x="1584" y="1181"/>
                    </a:lnTo>
                    <a:lnTo>
                      <a:pt x="1589" y="1183"/>
                    </a:lnTo>
                    <a:lnTo>
                      <a:pt x="1594" y="1184"/>
                    </a:lnTo>
                    <a:lnTo>
                      <a:pt x="1600" y="1185"/>
                    </a:lnTo>
                    <a:lnTo>
                      <a:pt x="1606" y="1186"/>
                    </a:lnTo>
                    <a:lnTo>
                      <a:pt x="1612" y="1187"/>
                    </a:lnTo>
                    <a:lnTo>
                      <a:pt x="1618" y="1187"/>
                    </a:lnTo>
                    <a:lnTo>
                      <a:pt x="1624" y="1187"/>
                    </a:lnTo>
                    <a:lnTo>
                      <a:pt x="1630" y="1187"/>
                    </a:lnTo>
                    <a:lnTo>
                      <a:pt x="1636" y="1186"/>
                    </a:lnTo>
                    <a:lnTo>
                      <a:pt x="1641" y="1185"/>
                    </a:lnTo>
                    <a:lnTo>
                      <a:pt x="1647" y="1184"/>
                    </a:lnTo>
                    <a:lnTo>
                      <a:pt x="1653" y="1182"/>
                    </a:lnTo>
                    <a:lnTo>
                      <a:pt x="1658" y="1180"/>
                    </a:lnTo>
                    <a:lnTo>
                      <a:pt x="1664" y="1177"/>
                    </a:lnTo>
                    <a:lnTo>
                      <a:pt x="1669" y="1174"/>
                    </a:lnTo>
                    <a:lnTo>
                      <a:pt x="1674" y="1171"/>
                    </a:lnTo>
                    <a:lnTo>
                      <a:pt x="1679" y="1167"/>
                    </a:lnTo>
                    <a:lnTo>
                      <a:pt x="1680" y="1161"/>
                    </a:lnTo>
                    <a:lnTo>
                      <a:pt x="1682" y="1156"/>
                    </a:lnTo>
                    <a:lnTo>
                      <a:pt x="1684" y="1151"/>
                    </a:lnTo>
                    <a:lnTo>
                      <a:pt x="1685" y="1146"/>
                    </a:lnTo>
                    <a:lnTo>
                      <a:pt x="1687" y="1141"/>
                    </a:lnTo>
                    <a:lnTo>
                      <a:pt x="1689" y="1136"/>
                    </a:lnTo>
                    <a:lnTo>
                      <a:pt x="1690" y="1131"/>
                    </a:lnTo>
                    <a:lnTo>
                      <a:pt x="1692" y="1126"/>
                    </a:lnTo>
                    <a:lnTo>
                      <a:pt x="1694" y="1120"/>
                    </a:lnTo>
                    <a:lnTo>
                      <a:pt x="1695" y="1115"/>
                    </a:lnTo>
                    <a:lnTo>
                      <a:pt x="1697" y="1109"/>
                    </a:lnTo>
                    <a:lnTo>
                      <a:pt x="1698" y="1102"/>
                    </a:lnTo>
                    <a:lnTo>
                      <a:pt x="1700" y="1095"/>
                    </a:lnTo>
                    <a:lnTo>
                      <a:pt x="1701" y="1088"/>
                    </a:lnTo>
                    <a:lnTo>
                      <a:pt x="1703" y="1080"/>
                    </a:lnTo>
                    <a:lnTo>
                      <a:pt x="1705" y="1071"/>
                    </a:lnTo>
                    <a:lnTo>
                      <a:pt x="1706" y="1062"/>
                    </a:lnTo>
                    <a:lnTo>
                      <a:pt x="1707" y="1052"/>
                    </a:lnTo>
                    <a:lnTo>
                      <a:pt x="1708" y="1041"/>
                    </a:lnTo>
                    <a:lnTo>
                      <a:pt x="1709" y="1029"/>
                    </a:lnTo>
                    <a:lnTo>
                      <a:pt x="1710" y="1016"/>
                    </a:lnTo>
                    <a:lnTo>
                      <a:pt x="1711" y="1002"/>
                    </a:lnTo>
                    <a:lnTo>
                      <a:pt x="1711" y="987"/>
                    </a:lnTo>
                    <a:lnTo>
                      <a:pt x="1712" y="970"/>
                    </a:lnTo>
                    <a:lnTo>
                      <a:pt x="1713" y="952"/>
                    </a:lnTo>
                    <a:lnTo>
                      <a:pt x="1713" y="933"/>
                    </a:lnTo>
                    <a:lnTo>
                      <a:pt x="1713" y="912"/>
                    </a:lnTo>
                    <a:lnTo>
                      <a:pt x="1714" y="891"/>
                    </a:lnTo>
                    <a:lnTo>
                      <a:pt x="1714" y="867"/>
                    </a:lnTo>
                    <a:lnTo>
                      <a:pt x="1714" y="843"/>
                    </a:lnTo>
                    <a:lnTo>
                      <a:pt x="1714" y="816"/>
                    </a:lnTo>
                    <a:lnTo>
                      <a:pt x="1713" y="788"/>
                    </a:lnTo>
                    <a:lnTo>
                      <a:pt x="1713" y="775"/>
                    </a:lnTo>
                    <a:lnTo>
                      <a:pt x="1714" y="761"/>
                    </a:lnTo>
                    <a:lnTo>
                      <a:pt x="1714" y="746"/>
                    </a:lnTo>
                    <a:lnTo>
                      <a:pt x="1714" y="731"/>
                    </a:lnTo>
                    <a:lnTo>
                      <a:pt x="1715" y="715"/>
                    </a:lnTo>
                    <a:lnTo>
                      <a:pt x="1716" y="699"/>
                    </a:lnTo>
                    <a:lnTo>
                      <a:pt x="1717" y="683"/>
                    </a:lnTo>
                    <a:lnTo>
                      <a:pt x="1717" y="667"/>
                    </a:lnTo>
                    <a:lnTo>
                      <a:pt x="1718" y="650"/>
                    </a:lnTo>
                    <a:lnTo>
                      <a:pt x="1719" y="633"/>
                    </a:lnTo>
                    <a:lnTo>
                      <a:pt x="1720" y="616"/>
                    </a:lnTo>
                    <a:lnTo>
                      <a:pt x="1721" y="600"/>
                    </a:lnTo>
                    <a:lnTo>
                      <a:pt x="1722" y="583"/>
                    </a:lnTo>
                    <a:lnTo>
                      <a:pt x="1723" y="565"/>
                    </a:lnTo>
                    <a:lnTo>
                      <a:pt x="1724" y="549"/>
                    </a:lnTo>
                    <a:lnTo>
                      <a:pt x="1725" y="533"/>
                    </a:lnTo>
                    <a:lnTo>
                      <a:pt x="1726" y="517"/>
                    </a:lnTo>
                    <a:lnTo>
                      <a:pt x="1726" y="502"/>
                    </a:lnTo>
                    <a:lnTo>
                      <a:pt x="1726" y="487"/>
                    </a:lnTo>
                    <a:lnTo>
                      <a:pt x="1727" y="473"/>
                    </a:lnTo>
                    <a:lnTo>
                      <a:pt x="1727" y="459"/>
                    </a:lnTo>
                    <a:lnTo>
                      <a:pt x="1727" y="446"/>
                    </a:lnTo>
                    <a:lnTo>
                      <a:pt x="1726" y="434"/>
                    </a:lnTo>
                    <a:lnTo>
                      <a:pt x="1725" y="423"/>
                    </a:lnTo>
                    <a:lnTo>
                      <a:pt x="1725" y="412"/>
                    </a:lnTo>
                    <a:lnTo>
                      <a:pt x="1723" y="403"/>
                    </a:lnTo>
                    <a:lnTo>
                      <a:pt x="1722" y="394"/>
                    </a:lnTo>
                    <a:lnTo>
                      <a:pt x="1720" y="386"/>
                    </a:lnTo>
                    <a:lnTo>
                      <a:pt x="1718" y="380"/>
                    </a:lnTo>
                    <a:lnTo>
                      <a:pt x="1715" y="375"/>
                    </a:lnTo>
                    <a:lnTo>
                      <a:pt x="1712" y="371"/>
                    </a:lnTo>
                    <a:lnTo>
                      <a:pt x="1709" y="368"/>
                    </a:lnTo>
                    <a:lnTo>
                      <a:pt x="1704" y="268"/>
                    </a:lnTo>
                    <a:lnTo>
                      <a:pt x="1706" y="265"/>
                    </a:lnTo>
                    <a:lnTo>
                      <a:pt x="1708" y="263"/>
                    </a:lnTo>
                    <a:lnTo>
                      <a:pt x="1710" y="260"/>
                    </a:lnTo>
                    <a:lnTo>
                      <a:pt x="1711" y="258"/>
                    </a:lnTo>
                    <a:lnTo>
                      <a:pt x="1713" y="256"/>
                    </a:lnTo>
                    <a:lnTo>
                      <a:pt x="1714" y="253"/>
                    </a:lnTo>
                    <a:lnTo>
                      <a:pt x="1715" y="251"/>
                    </a:lnTo>
                    <a:lnTo>
                      <a:pt x="1716" y="249"/>
                    </a:lnTo>
                    <a:lnTo>
                      <a:pt x="1717" y="247"/>
                    </a:lnTo>
                    <a:lnTo>
                      <a:pt x="1718" y="245"/>
                    </a:lnTo>
                    <a:lnTo>
                      <a:pt x="1718" y="243"/>
                    </a:lnTo>
                    <a:lnTo>
                      <a:pt x="1719" y="240"/>
                    </a:lnTo>
                    <a:lnTo>
                      <a:pt x="1719" y="238"/>
                    </a:lnTo>
                    <a:lnTo>
                      <a:pt x="1720" y="236"/>
                    </a:lnTo>
                    <a:lnTo>
                      <a:pt x="1720" y="235"/>
                    </a:lnTo>
                    <a:lnTo>
                      <a:pt x="1720" y="233"/>
                    </a:lnTo>
                    <a:lnTo>
                      <a:pt x="1720" y="231"/>
                    </a:lnTo>
                    <a:lnTo>
                      <a:pt x="1721" y="229"/>
                    </a:lnTo>
                    <a:lnTo>
                      <a:pt x="1721" y="227"/>
                    </a:lnTo>
                    <a:lnTo>
                      <a:pt x="1721" y="225"/>
                    </a:lnTo>
                    <a:lnTo>
                      <a:pt x="1721" y="223"/>
                    </a:lnTo>
                    <a:lnTo>
                      <a:pt x="1721" y="222"/>
                    </a:lnTo>
                    <a:lnTo>
                      <a:pt x="1721" y="220"/>
                    </a:lnTo>
                    <a:lnTo>
                      <a:pt x="1720" y="218"/>
                    </a:lnTo>
                    <a:lnTo>
                      <a:pt x="1720" y="216"/>
                    </a:lnTo>
                    <a:lnTo>
                      <a:pt x="1720" y="215"/>
                    </a:lnTo>
                    <a:lnTo>
                      <a:pt x="1720" y="213"/>
                    </a:lnTo>
                    <a:lnTo>
                      <a:pt x="1720" y="211"/>
                    </a:lnTo>
                    <a:lnTo>
                      <a:pt x="1720" y="210"/>
                    </a:lnTo>
                    <a:lnTo>
                      <a:pt x="1720" y="208"/>
                    </a:lnTo>
                    <a:lnTo>
                      <a:pt x="1720" y="207"/>
                    </a:lnTo>
                    <a:lnTo>
                      <a:pt x="1720" y="20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467480" y="3657600"/>
                <a:ext cx="811080" cy="914400"/>
              </a:xfrm>
              <a:custGeom>
                <a:avLst/>
                <a:gdLst/>
                <a:ahLst/>
                <a:rect l="l" t="t" r="r" b="b"/>
                <a:pathLst>
                  <a:path w="2042" h="2302">
                    <a:moveTo>
                      <a:pt x="1720" y="205"/>
                    </a:moveTo>
                    <a:lnTo>
                      <a:pt x="1960" y="192"/>
                    </a:lnTo>
                    <a:lnTo>
                      <a:pt x="1962" y="189"/>
                    </a:lnTo>
                    <a:lnTo>
                      <a:pt x="1963" y="184"/>
                    </a:lnTo>
                    <a:lnTo>
                      <a:pt x="1962" y="180"/>
                    </a:lnTo>
                    <a:lnTo>
                      <a:pt x="1960" y="177"/>
                    </a:lnTo>
                    <a:lnTo>
                      <a:pt x="1082" y="6"/>
                    </a:lnTo>
                    <a:lnTo>
                      <a:pt x="139" y="0"/>
                    </a:lnTo>
                    <a:lnTo>
                      <a:pt x="136" y="3"/>
                    </a:lnTo>
                    <a:lnTo>
                      <a:pt x="135" y="9"/>
                    </a:lnTo>
                    <a:lnTo>
                      <a:pt x="136" y="15"/>
                    </a:lnTo>
                    <a:lnTo>
                      <a:pt x="139" y="18"/>
                    </a:lnTo>
                    <a:lnTo>
                      <a:pt x="637" y="156"/>
                    </a:lnTo>
                    <a:lnTo>
                      <a:pt x="633" y="167"/>
                    </a:lnTo>
                    <a:lnTo>
                      <a:pt x="628" y="178"/>
                    </a:lnTo>
                    <a:lnTo>
                      <a:pt x="624" y="192"/>
                    </a:lnTo>
                    <a:lnTo>
                      <a:pt x="619" y="205"/>
                    </a:lnTo>
                    <a:lnTo>
                      <a:pt x="614" y="218"/>
                    </a:lnTo>
                    <a:lnTo>
                      <a:pt x="609" y="232"/>
                    </a:lnTo>
                    <a:lnTo>
                      <a:pt x="605" y="246"/>
                    </a:lnTo>
                    <a:lnTo>
                      <a:pt x="600" y="260"/>
                    </a:lnTo>
                    <a:lnTo>
                      <a:pt x="595" y="275"/>
                    </a:lnTo>
                    <a:lnTo>
                      <a:pt x="591" y="289"/>
                    </a:lnTo>
                    <a:lnTo>
                      <a:pt x="587" y="303"/>
                    </a:lnTo>
                    <a:lnTo>
                      <a:pt x="583" y="317"/>
                    </a:lnTo>
                    <a:lnTo>
                      <a:pt x="579" y="331"/>
                    </a:lnTo>
                    <a:lnTo>
                      <a:pt x="576" y="344"/>
                    </a:lnTo>
                    <a:lnTo>
                      <a:pt x="574" y="357"/>
                    </a:lnTo>
                    <a:lnTo>
                      <a:pt x="571" y="369"/>
                    </a:lnTo>
                    <a:lnTo>
                      <a:pt x="571" y="376"/>
                    </a:lnTo>
                    <a:lnTo>
                      <a:pt x="571" y="384"/>
                    </a:lnTo>
                    <a:lnTo>
                      <a:pt x="571" y="391"/>
                    </a:lnTo>
                    <a:lnTo>
                      <a:pt x="570" y="399"/>
                    </a:lnTo>
                    <a:lnTo>
                      <a:pt x="569" y="406"/>
                    </a:lnTo>
                    <a:lnTo>
                      <a:pt x="568" y="413"/>
                    </a:lnTo>
                    <a:lnTo>
                      <a:pt x="566" y="420"/>
                    </a:lnTo>
                    <a:lnTo>
                      <a:pt x="565" y="425"/>
                    </a:lnTo>
                    <a:lnTo>
                      <a:pt x="562" y="435"/>
                    </a:lnTo>
                    <a:lnTo>
                      <a:pt x="557" y="448"/>
                    </a:lnTo>
                    <a:lnTo>
                      <a:pt x="551" y="464"/>
                    </a:lnTo>
                    <a:lnTo>
                      <a:pt x="544" y="482"/>
                    </a:lnTo>
                    <a:lnTo>
                      <a:pt x="537" y="502"/>
                    </a:lnTo>
                    <a:lnTo>
                      <a:pt x="531" y="523"/>
                    </a:lnTo>
                    <a:lnTo>
                      <a:pt x="524" y="545"/>
                    </a:lnTo>
                    <a:lnTo>
                      <a:pt x="519" y="568"/>
                    </a:lnTo>
                    <a:lnTo>
                      <a:pt x="515" y="591"/>
                    </a:lnTo>
                    <a:lnTo>
                      <a:pt x="513" y="614"/>
                    </a:lnTo>
                    <a:lnTo>
                      <a:pt x="513" y="635"/>
                    </a:lnTo>
                    <a:lnTo>
                      <a:pt x="515" y="655"/>
                    </a:lnTo>
                    <a:lnTo>
                      <a:pt x="520" y="674"/>
                    </a:lnTo>
                    <a:lnTo>
                      <a:pt x="529" y="690"/>
                    </a:lnTo>
                    <a:lnTo>
                      <a:pt x="541" y="704"/>
                    </a:lnTo>
                    <a:lnTo>
                      <a:pt x="558" y="715"/>
                    </a:lnTo>
                    <a:lnTo>
                      <a:pt x="561" y="728"/>
                    </a:lnTo>
                    <a:lnTo>
                      <a:pt x="562" y="741"/>
                    </a:lnTo>
                    <a:lnTo>
                      <a:pt x="563" y="754"/>
                    </a:lnTo>
                    <a:lnTo>
                      <a:pt x="564" y="767"/>
                    </a:lnTo>
                    <a:lnTo>
                      <a:pt x="564" y="780"/>
                    </a:lnTo>
                    <a:lnTo>
                      <a:pt x="566" y="794"/>
                    </a:lnTo>
                    <a:lnTo>
                      <a:pt x="571" y="810"/>
                    </a:lnTo>
                    <a:lnTo>
                      <a:pt x="577" y="827"/>
                    </a:lnTo>
                    <a:lnTo>
                      <a:pt x="589" y="852"/>
                    </a:lnTo>
                    <a:lnTo>
                      <a:pt x="600" y="869"/>
                    </a:lnTo>
                    <a:lnTo>
                      <a:pt x="609" y="879"/>
                    </a:lnTo>
                    <a:lnTo>
                      <a:pt x="618" y="884"/>
                    </a:lnTo>
                    <a:lnTo>
                      <a:pt x="627" y="885"/>
                    </a:lnTo>
                    <a:lnTo>
                      <a:pt x="636" y="884"/>
                    </a:lnTo>
                    <a:lnTo>
                      <a:pt x="647" y="883"/>
                    </a:lnTo>
                    <a:lnTo>
                      <a:pt x="659" y="884"/>
                    </a:lnTo>
                    <a:lnTo>
                      <a:pt x="675" y="1026"/>
                    </a:lnTo>
                    <a:lnTo>
                      <a:pt x="667" y="1026"/>
                    </a:lnTo>
                    <a:lnTo>
                      <a:pt x="662" y="1029"/>
                    </a:lnTo>
                    <a:lnTo>
                      <a:pt x="660" y="1035"/>
                    </a:lnTo>
                    <a:lnTo>
                      <a:pt x="659" y="1043"/>
                    </a:lnTo>
                    <a:lnTo>
                      <a:pt x="659" y="1055"/>
                    </a:lnTo>
                    <a:lnTo>
                      <a:pt x="658" y="1069"/>
                    </a:lnTo>
                    <a:lnTo>
                      <a:pt x="657" y="1085"/>
                    </a:lnTo>
                    <a:lnTo>
                      <a:pt x="654" y="1105"/>
                    </a:lnTo>
                    <a:lnTo>
                      <a:pt x="652" y="1123"/>
                    </a:lnTo>
                    <a:lnTo>
                      <a:pt x="649" y="1141"/>
                    </a:lnTo>
                    <a:lnTo>
                      <a:pt x="647" y="1159"/>
                    </a:lnTo>
                    <a:lnTo>
                      <a:pt x="644" y="1177"/>
                    </a:lnTo>
                    <a:lnTo>
                      <a:pt x="642" y="1194"/>
                    </a:lnTo>
                    <a:lnTo>
                      <a:pt x="640" y="1211"/>
                    </a:lnTo>
                    <a:lnTo>
                      <a:pt x="638" y="1225"/>
                    </a:lnTo>
                    <a:lnTo>
                      <a:pt x="637" y="1238"/>
                    </a:lnTo>
                    <a:lnTo>
                      <a:pt x="632" y="1237"/>
                    </a:lnTo>
                    <a:lnTo>
                      <a:pt x="627" y="1237"/>
                    </a:lnTo>
                    <a:lnTo>
                      <a:pt x="623" y="1237"/>
                    </a:lnTo>
                    <a:lnTo>
                      <a:pt x="618" y="1237"/>
                    </a:lnTo>
                    <a:lnTo>
                      <a:pt x="613" y="1238"/>
                    </a:lnTo>
                    <a:lnTo>
                      <a:pt x="607" y="1241"/>
                    </a:lnTo>
                    <a:lnTo>
                      <a:pt x="600" y="1244"/>
                    </a:lnTo>
                    <a:lnTo>
                      <a:pt x="593" y="1248"/>
                    </a:lnTo>
                    <a:lnTo>
                      <a:pt x="581" y="1254"/>
                    </a:lnTo>
                    <a:lnTo>
                      <a:pt x="572" y="1262"/>
                    </a:lnTo>
                    <a:lnTo>
                      <a:pt x="562" y="1271"/>
                    </a:lnTo>
                    <a:lnTo>
                      <a:pt x="554" y="1280"/>
                    </a:lnTo>
                    <a:lnTo>
                      <a:pt x="546" y="1290"/>
                    </a:lnTo>
                    <a:lnTo>
                      <a:pt x="537" y="1299"/>
                    </a:lnTo>
                    <a:lnTo>
                      <a:pt x="527" y="1307"/>
                    </a:lnTo>
                    <a:lnTo>
                      <a:pt x="516" y="1313"/>
                    </a:lnTo>
                    <a:lnTo>
                      <a:pt x="494" y="1323"/>
                    </a:lnTo>
                    <a:lnTo>
                      <a:pt x="471" y="1332"/>
                    </a:lnTo>
                    <a:lnTo>
                      <a:pt x="449" y="1340"/>
                    </a:lnTo>
                    <a:lnTo>
                      <a:pt x="425" y="1347"/>
                    </a:lnTo>
                    <a:lnTo>
                      <a:pt x="402" y="1354"/>
                    </a:lnTo>
                    <a:lnTo>
                      <a:pt x="378" y="1360"/>
                    </a:lnTo>
                    <a:lnTo>
                      <a:pt x="354" y="1365"/>
                    </a:lnTo>
                    <a:lnTo>
                      <a:pt x="329" y="1370"/>
                    </a:lnTo>
                    <a:lnTo>
                      <a:pt x="305" y="1376"/>
                    </a:lnTo>
                    <a:lnTo>
                      <a:pt x="281" y="1381"/>
                    </a:lnTo>
                    <a:lnTo>
                      <a:pt x="257" y="1387"/>
                    </a:lnTo>
                    <a:lnTo>
                      <a:pt x="233" y="1393"/>
                    </a:lnTo>
                    <a:lnTo>
                      <a:pt x="210" y="1400"/>
                    </a:lnTo>
                    <a:lnTo>
                      <a:pt x="187" y="1408"/>
                    </a:lnTo>
                    <a:lnTo>
                      <a:pt x="165" y="1417"/>
                    </a:lnTo>
                    <a:lnTo>
                      <a:pt x="143" y="1426"/>
                    </a:lnTo>
                    <a:lnTo>
                      <a:pt x="0" y="1495"/>
                    </a:lnTo>
                    <a:lnTo>
                      <a:pt x="0" y="2302"/>
                    </a:lnTo>
                    <a:lnTo>
                      <a:pt x="2041" y="2302"/>
                    </a:lnTo>
                    <a:lnTo>
                      <a:pt x="2042" y="1607"/>
                    </a:lnTo>
                    <a:lnTo>
                      <a:pt x="2036" y="1600"/>
                    </a:lnTo>
                    <a:lnTo>
                      <a:pt x="2028" y="1591"/>
                    </a:lnTo>
                    <a:lnTo>
                      <a:pt x="2020" y="1583"/>
                    </a:lnTo>
                    <a:lnTo>
                      <a:pt x="2012" y="1574"/>
                    </a:lnTo>
                    <a:lnTo>
                      <a:pt x="2003" y="1567"/>
                    </a:lnTo>
                    <a:lnTo>
                      <a:pt x="1994" y="1560"/>
                    </a:lnTo>
                    <a:lnTo>
                      <a:pt x="1985" y="1554"/>
                    </a:lnTo>
                    <a:lnTo>
                      <a:pt x="1977" y="1551"/>
                    </a:lnTo>
                    <a:lnTo>
                      <a:pt x="1592" y="1370"/>
                    </a:lnTo>
                    <a:lnTo>
                      <a:pt x="1510" y="1325"/>
                    </a:lnTo>
                    <a:lnTo>
                      <a:pt x="1501" y="1320"/>
                    </a:lnTo>
                    <a:lnTo>
                      <a:pt x="1491" y="1314"/>
                    </a:lnTo>
                    <a:lnTo>
                      <a:pt x="1481" y="1307"/>
                    </a:lnTo>
                    <a:lnTo>
                      <a:pt x="1470" y="1299"/>
                    </a:lnTo>
                    <a:lnTo>
                      <a:pt x="1460" y="1291"/>
                    </a:lnTo>
                    <a:lnTo>
                      <a:pt x="1449" y="1283"/>
                    </a:lnTo>
                    <a:lnTo>
                      <a:pt x="1439" y="1275"/>
                    </a:lnTo>
                    <a:lnTo>
                      <a:pt x="1428" y="1268"/>
                    </a:lnTo>
                    <a:lnTo>
                      <a:pt x="1417" y="1261"/>
                    </a:lnTo>
                    <a:lnTo>
                      <a:pt x="1405" y="1255"/>
                    </a:lnTo>
                    <a:lnTo>
                      <a:pt x="1394" y="1251"/>
                    </a:lnTo>
                    <a:lnTo>
                      <a:pt x="1382" y="1248"/>
                    </a:lnTo>
                    <a:lnTo>
                      <a:pt x="1371" y="1247"/>
                    </a:lnTo>
                    <a:lnTo>
                      <a:pt x="1359" y="1248"/>
                    </a:lnTo>
                    <a:lnTo>
                      <a:pt x="1346" y="1251"/>
                    </a:lnTo>
                    <a:lnTo>
                      <a:pt x="1334" y="1257"/>
                    </a:lnTo>
                    <a:lnTo>
                      <a:pt x="1328" y="1245"/>
                    </a:lnTo>
                    <a:lnTo>
                      <a:pt x="1322" y="1230"/>
                    </a:lnTo>
                    <a:lnTo>
                      <a:pt x="1317" y="1215"/>
                    </a:lnTo>
                    <a:lnTo>
                      <a:pt x="1313" y="1200"/>
                    </a:lnTo>
                    <a:lnTo>
                      <a:pt x="1309" y="1187"/>
                    </a:lnTo>
                    <a:lnTo>
                      <a:pt x="1305" y="1176"/>
                    </a:lnTo>
                    <a:lnTo>
                      <a:pt x="1301" y="1170"/>
                    </a:lnTo>
                    <a:lnTo>
                      <a:pt x="1297" y="1169"/>
                    </a:lnTo>
                    <a:lnTo>
                      <a:pt x="1306" y="1155"/>
                    </a:lnTo>
                    <a:lnTo>
                      <a:pt x="1314" y="1142"/>
                    </a:lnTo>
                    <a:lnTo>
                      <a:pt x="1321" y="1129"/>
                    </a:lnTo>
                    <a:lnTo>
                      <a:pt x="1328" y="1116"/>
                    </a:lnTo>
                    <a:lnTo>
                      <a:pt x="1334" y="1104"/>
                    </a:lnTo>
                    <a:lnTo>
                      <a:pt x="1339" y="1092"/>
                    </a:lnTo>
                    <a:lnTo>
                      <a:pt x="1344" y="1081"/>
                    </a:lnTo>
                    <a:lnTo>
                      <a:pt x="1349" y="1070"/>
                    </a:lnTo>
                    <a:lnTo>
                      <a:pt x="1353" y="1060"/>
                    </a:lnTo>
                    <a:lnTo>
                      <a:pt x="1358" y="1050"/>
                    </a:lnTo>
                    <a:lnTo>
                      <a:pt x="1362" y="1040"/>
                    </a:lnTo>
                    <a:lnTo>
                      <a:pt x="1366" y="1030"/>
                    </a:lnTo>
                    <a:lnTo>
                      <a:pt x="1370" y="1021"/>
                    </a:lnTo>
                    <a:lnTo>
                      <a:pt x="1374" y="1012"/>
                    </a:lnTo>
                    <a:lnTo>
                      <a:pt x="1378" y="1003"/>
                    </a:lnTo>
                    <a:lnTo>
                      <a:pt x="1383" y="995"/>
                    </a:lnTo>
                    <a:lnTo>
                      <a:pt x="1392" y="984"/>
                    </a:lnTo>
                    <a:lnTo>
                      <a:pt x="1400" y="975"/>
                    </a:lnTo>
                    <a:lnTo>
                      <a:pt x="1407" y="967"/>
                    </a:lnTo>
                    <a:lnTo>
                      <a:pt x="1413" y="960"/>
                    </a:lnTo>
                    <a:lnTo>
                      <a:pt x="1417" y="952"/>
                    </a:lnTo>
                    <a:lnTo>
                      <a:pt x="1421" y="946"/>
                    </a:lnTo>
                    <a:lnTo>
                      <a:pt x="1423" y="939"/>
                    </a:lnTo>
                    <a:lnTo>
                      <a:pt x="1425" y="932"/>
                    </a:lnTo>
                    <a:lnTo>
                      <a:pt x="1443" y="918"/>
                    </a:lnTo>
                    <a:lnTo>
                      <a:pt x="1456" y="899"/>
                    </a:lnTo>
                    <a:lnTo>
                      <a:pt x="1467" y="879"/>
                    </a:lnTo>
                    <a:lnTo>
                      <a:pt x="1476" y="857"/>
                    </a:lnTo>
                    <a:lnTo>
                      <a:pt x="1485" y="835"/>
                    </a:lnTo>
                    <a:lnTo>
                      <a:pt x="1495" y="814"/>
                    </a:lnTo>
                    <a:lnTo>
                      <a:pt x="1508" y="796"/>
                    </a:lnTo>
                    <a:lnTo>
                      <a:pt x="1526" y="782"/>
                    </a:lnTo>
                    <a:lnTo>
                      <a:pt x="1528" y="774"/>
                    </a:lnTo>
                    <a:lnTo>
                      <a:pt x="1529" y="767"/>
                    </a:lnTo>
                    <a:lnTo>
                      <a:pt x="1529" y="760"/>
                    </a:lnTo>
                    <a:lnTo>
                      <a:pt x="1529" y="754"/>
                    </a:lnTo>
                    <a:lnTo>
                      <a:pt x="1528" y="748"/>
                    </a:lnTo>
                    <a:lnTo>
                      <a:pt x="1526" y="742"/>
                    </a:lnTo>
                    <a:lnTo>
                      <a:pt x="1523" y="736"/>
                    </a:lnTo>
                    <a:lnTo>
                      <a:pt x="1519" y="729"/>
                    </a:lnTo>
                    <a:lnTo>
                      <a:pt x="1556" y="686"/>
                    </a:lnTo>
                    <a:lnTo>
                      <a:pt x="1555" y="678"/>
                    </a:lnTo>
                    <a:lnTo>
                      <a:pt x="1554" y="671"/>
                    </a:lnTo>
                    <a:lnTo>
                      <a:pt x="1553" y="666"/>
                    </a:lnTo>
                    <a:lnTo>
                      <a:pt x="1552" y="662"/>
                    </a:lnTo>
                    <a:lnTo>
                      <a:pt x="1552" y="657"/>
                    </a:lnTo>
                    <a:lnTo>
                      <a:pt x="1554" y="652"/>
                    </a:lnTo>
                    <a:lnTo>
                      <a:pt x="1558" y="646"/>
                    </a:lnTo>
                    <a:lnTo>
                      <a:pt x="1565" y="638"/>
                    </a:lnTo>
                    <a:lnTo>
                      <a:pt x="1563" y="622"/>
                    </a:lnTo>
                    <a:lnTo>
                      <a:pt x="1558" y="608"/>
                    </a:lnTo>
                    <a:lnTo>
                      <a:pt x="1551" y="595"/>
                    </a:lnTo>
                    <a:lnTo>
                      <a:pt x="1543" y="582"/>
                    </a:lnTo>
                    <a:lnTo>
                      <a:pt x="1535" y="568"/>
                    </a:lnTo>
                    <a:lnTo>
                      <a:pt x="1528" y="555"/>
                    </a:lnTo>
                    <a:lnTo>
                      <a:pt x="1523" y="541"/>
                    </a:lnTo>
                    <a:lnTo>
                      <a:pt x="1521" y="525"/>
                    </a:lnTo>
                    <a:lnTo>
                      <a:pt x="1515" y="520"/>
                    </a:lnTo>
                    <a:lnTo>
                      <a:pt x="1510" y="510"/>
                    </a:lnTo>
                    <a:lnTo>
                      <a:pt x="1505" y="497"/>
                    </a:lnTo>
                    <a:lnTo>
                      <a:pt x="1501" y="482"/>
                    </a:lnTo>
                    <a:lnTo>
                      <a:pt x="1498" y="466"/>
                    </a:lnTo>
                    <a:lnTo>
                      <a:pt x="1496" y="450"/>
                    </a:lnTo>
                    <a:lnTo>
                      <a:pt x="1494" y="436"/>
                    </a:lnTo>
                    <a:lnTo>
                      <a:pt x="1494" y="425"/>
                    </a:lnTo>
                    <a:lnTo>
                      <a:pt x="1460" y="219"/>
                    </a:lnTo>
                    <a:lnTo>
                      <a:pt x="1646" y="209"/>
                    </a:lnTo>
                    <a:lnTo>
                      <a:pt x="1644" y="217"/>
                    </a:lnTo>
                    <a:lnTo>
                      <a:pt x="1643" y="223"/>
                    </a:lnTo>
                    <a:lnTo>
                      <a:pt x="1643" y="229"/>
                    </a:lnTo>
                    <a:lnTo>
                      <a:pt x="1644" y="235"/>
                    </a:lnTo>
                    <a:lnTo>
                      <a:pt x="1646" y="241"/>
                    </a:lnTo>
                    <a:lnTo>
                      <a:pt x="1648" y="248"/>
                    </a:lnTo>
                    <a:lnTo>
                      <a:pt x="1651" y="257"/>
                    </a:lnTo>
                    <a:lnTo>
                      <a:pt x="1655" y="268"/>
                    </a:lnTo>
                    <a:lnTo>
                      <a:pt x="1659" y="369"/>
                    </a:lnTo>
                    <a:lnTo>
                      <a:pt x="1658" y="381"/>
                    </a:lnTo>
                    <a:lnTo>
                      <a:pt x="1656" y="391"/>
                    </a:lnTo>
                    <a:lnTo>
                      <a:pt x="1654" y="402"/>
                    </a:lnTo>
                    <a:lnTo>
                      <a:pt x="1650" y="412"/>
                    </a:lnTo>
                    <a:lnTo>
                      <a:pt x="1647" y="422"/>
                    </a:lnTo>
                    <a:lnTo>
                      <a:pt x="1645" y="433"/>
                    </a:lnTo>
                    <a:lnTo>
                      <a:pt x="1643" y="445"/>
                    </a:lnTo>
                    <a:lnTo>
                      <a:pt x="1642" y="458"/>
                    </a:lnTo>
                    <a:lnTo>
                      <a:pt x="1641" y="467"/>
                    </a:lnTo>
                    <a:lnTo>
                      <a:pt x="1640" y="478"/>
                    </a:lnTo>
                    <a:lnTo>
                      <a:pt x="1639" y="489"/>
                    </a:lnTo>
                    <a:lnTo>
                      <a:pt x="1637" y="502"/>
                    </a:lnTo>
                    <a:lnTo>
                      <a:pt x="1635" y="517"/>
                    </a:lnTo>
                    <a:lnTo>
                      <a:pt x="1632" y="532"/>
                    </a:lnTo>
                    <a:lnTo>
                      <a:pt x="1630" y="549"/>
                    </a:lnTo>
                    <a:lnTo>
                      <a:pt x="1627" y="567"/>
                    </a:lnTo>
                    <a:lnTo>
                      <a:pt x="1623" y="586"/>
                    </a:lnTo>
                    <a:lnTo>
                      <a:pt x="1620" y="606"/>
                    </a:lnTo>
                    <a:lnTo>
                      <a:pt x="1616" y="626"/>
                    </a:lnTo>
                    <a:lnTo>
                      <a:pt x="1612" y="648"/>
                    </a:lnTo>
                    <a:lnTo>
                      <a:pt x="1608" y="670"/>
                    </a:lnTo>
                    <a:lnTo>
                      <a:pt x="1603" y="692"/>
                    </a:lnTo>
                    <a:lnTo>
                      <a:pt x="1599" y="716"/>
                    </a:lnTo>
                    <a:lnTo>
                      <a:pt x="1595" y="740"/>
                    </a:lnTo>
                    <a:lnTo>
                      <a:pt x="1590" y="764"/>
                    </a:lnTo>
                    <a:lnTo>
                      <a:pt x="1586" y="789"/>
                    </a:lnTo>
                    <a:lnTo>
                      <a:pt x="1582" y="814"/>
                    </a:lnTo>
                    <a:lnTo>
                      <a:pt x="1578" y="839"/>
                    </a:lnTo>
                    <a:lnTo>
                      <a:pt x="1573" y="865"/>
                    </a:lnTo>
                    <a:lnTo>
                      <a:pt x="1569" y="890"/>
                    </a:lnTo>
                    <a:lnTo>
                      <a:pt x="1566" y="916"/>
                    </a:lnTo>
                    <a:lnTo>
                      <a:pt x="1562" y="942"/>
                    </a:lnTo>
                    <a:lnTo>
                      <a:pt x="1558" y="969"/>
                    </a:lnTo>
                    <a:lnTo>
                      <a:pt x="1555" y="994"/>
                    </a:lnTo>
                    <a:lnTo>
                      <a:pt x="1552" y="1020"/>
                    </a:lnTo>
                    <a:lnTo>
                      <a:pt x="1550" y="1045"/>
                    </a:lnTo>
                    <a:lnTo>
                      <a:pt x="1548" y="1070"/>
                    </a:lnTo>
                    <a:lnTo>
                      <a:pt x="1546" y="1095"/>
                    </a:lnTo>
                    <a:lnTo>
                      <a:pt x="1544" y="1119"/>
                    </a:lnTo>
                    <a:lnTo>
                      <a:pt x="1543" y="1142"/>
                    </a:lnTo>
                    <a:lnTo>
                      <a:pt x="1544" y="1154"/>
                    </a:lnTo>
                    <a:lnTo>
                      <a:pt x="1553" y="1165"/>
                    </a:lnTo>
                    <a:lnTo>
                      <a:pt x="1569" y="1175"/>
                    </a:lnTo>
                    <a:lnTo>
                      <a:pt x="1589" y="1183"/>
                    </a:lnTo>
                    <a:lnTo>
                      <a:pt x="1612" y="1187"/>
                    </a:lnTo>
                    <a:lnTo>
                      <a:pt x="1636" y="1186"/>
                    </a:lnTo>
                    <a:lnTo>
                      <a:pt x="1658" y="1180"/>
                    </a:lnTo>
                    <a:lnTo>
                      <a:pt x="1679" y="1167"/>
                    </a:lnTo>
                    <a:lnTo>
                      <a:pt x="1682" y="1156"/>
                    </a:lnTo>
                    <a:lnTo>
                      <a:pt x="1685" y="1146"/>
                    </a:lnTo>
                    <a:lnTo>
                      <a:pt x="1689" y="1136"/>
                    </a:lnTo>
                    <a:lnTo>
                      <a:pt x="1692" y="1126"/>
                    </a:lnTo>
                    <a:lnTo>
                      <a:pt x="1695" y="1115"/>
                    </a:lnTo>
                    <a:lnTo>
                      <a:pt x="1698" y="1102"/>
                    </a:lnTo>
                    <a:lnTo>
                      <a:pt x="1701" y="1088"/>
                    </a:lnTo>
                    <a:lnTo>
                      <a:pt x="1705" y="1071"/>
                    </a:lnTo>
                    <a:lnTo>
                      <a:pt x="1707" y="1052"/>
                    </a:lnTo>
                    <a:lnTo>
                      <a:pt x="1709" y="1029"/>
                    </a:lnTo>
                    <a:lnTo>
                      <a:pt x="1711" y="1002"/>
                    </a:lnTo>
                    <a:lnTo>
                      <a:pt x="1712" y="970"/>
                    </a:lnTo>
                    <a:lnTo>
                      <a:pt x="1713" y="933"/>
                    </a:lnTo>
                    <a:lnTo>
                      <a:pt x="1714" y="891"/>
                    </a:lnTo>
                    <a:lnTo>
                      <a:pt x="1714" y="843"/>
                    </a:lnTo>
                    <a:lnTo>
                      <a:pt x="1713" y="788"/>
                    </a:lnTo>
                    <a:lnTo>
                      <a:pt x="1714" y="761"/>
                    </a:lnTo>
                    <a:lnTo>
                      <a:pt x="1714" y="731"/>
                    </a:lnTo>
                    <a:lnTo>
                      <a:pt x="1716" y="699"/>
                    </a:lnTo>
                    <a:lnTo>
                      <a:pt x="1717" y="667"/>
                    </a:lnTo>
                    <a:lnTo>
                      <a:pt x="1719" y="633"/>
                    </a:lnTo>
                    <a:lnTo>
                      <a:pt x="1721" y="600"/>
                    </a:lnTo>
                    <a:lnTo>
                      <a:pt x="1723" y="565"/>
                    </a:lnTo>
                    <a:lnTo>
                      <a:pt x="1725" y="533"/>
                    </a:lnTo>
                    <a:lnTo>
                      <a:pt x="1726" y="502"/>
                    </a:lnTo>
                    <a:lnTo>
                      <a:pt x="1727" y="473"/>
                    </a:lnTo>
                    <a:lnTo>
                      <a:pt x="1727" y="446"/>
                    </a:lnTo>
                    <a:lnTo>
                      <a:pt x="1725" y="423"/>
                    </a:lnTo>
                    <a:lnTo>
                      <a:pt x="1723" y="403"/>
                    </a:lnTo>
                    <a:lnTo>
                      <a:pt x="1720" y="386"/>
                    </a:lnTo>
                    <a:lnTo>
                      <a:pt x="1715" y="375"/>
                    </a:lnTo>
                    <a:lnTo>
                      <a:pt x="1709" y="368"/>
                    </a:lnTo>
                    <a:lnTo>
                      <a:pt x="1704" y="268"/>
                    </a:lnTo>
                    <a:lnTo>
                      <a:pt x="1711" y="258"/>
                    </a:lnTo>
                    <a:lnTo>
                      <a:pt x="1716" y="249"/>
                    </a:lnTo>
                    <a:lnTo>
                      <a:pt x="1719" y="240"/>
                    </a:lnTo>
                    <a:lnTo>
                      <a:pt x="1720" y="233"/>
                    </a:lnTo>
                    <a:lnTo>
                      <a:pt x="1721" y="225"/>
                    </a:lnTo>
                    <a:lnTo>
                      <a:pt x="1720" y="218"/>
                    </a:lnTo>
                    <a:lnTo>
                      <a:pt x="1720" y="211"/>
                    </a:lnTo>
                    <a:lnTo>
                      <a:pt x="1720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18040" y="4065480"/>
                <a:ext cx="536760" cy="506520"/>
              </a:xfrm>
              <a:custGeom>
                <a:avLst/>
                <a:gdLst/>
                <a:ahLst/>
                <a:rect l="l" t="t" r="r" b="b"/>
                <a:pathLst>
                  <a:path w="1350" h="1275">
                    <a:moveTo>
                      <a:pt x="5" y="236"/>
                    </a:moveTo>
                    <a:lnTo>
                      <a:pt x="5" y="230"/>
                    </a:lnTo>
                    <a:lnTo>
                      <a:pt x="5" y="223"/>
                    </a:lnTo>
                    <a:lnTo>
                      <a:pt x="6" y="217"/>
                    </a:lnTo>
                    <a:lnTo>
                      <a:pt x="6" y="210"/>
                    </a:lnTo>
                    <a:lnTo>
                      <a:pt x="6" y="203"/>
                    </a:lnTo>
                    <a:lnTo>
                      <a:pt x="7" y="196"/>
                    </a:lnTo>
                    <a:lnTo>
                      <a:pt x="8" y="189"/>
                    </a:lnTo>
                    <a:lnTo>
                      <a:pt x="8" y="182"/>
                    </a:lnTo>
                    <a:lnTo>
                      <a:pt x="9" y="175"/>
                    </a:lnTo>
                    <a:lnTo>
                      <a:pt x="10" y="168"/>
                    </a:lnTo>
                    <a:lnTo>
                      <a:pt x="11" y="160"/>
                    </a:lnTo>
                    <a:lnTo>
                      <a:pt x="12" y="153"/>
                    </a:lnTo>
                    <a:lnTo>
                      <a:pt x="13" y="146"/>
                    </a:lnTo>
                    <a:lnTo>
                      <a:pt x="14" y="138"/>
                    </a:lnTo>
                    <a:lnTo>
                      <a:pt x="15" y="131"/>
                    </a:lnTo>
                    <a:lnTo>
                      <a:pt x="16" y="124"/>
                    </a:lnTo>
                    <a:lnTo>
                      <a:pt x="17" y="116"/>
                    </a:lnTo>
                    <a:lnTo>
                      <a:pt x="18" y="109"/>
                    </a:lnTo>
                    <a:lnTo>
                      <a:pt x="19" y="101"/>
                    </a:lnTo>
                    <a:lnTo>
                      <a:pt x="20" y="94"/>
                    </a:lnTo>
                    <a:lnTo>
                      <a:pt x="21" y="86"/>
                    </a:lnTo>
                    <a:lnTo>
                      <a:pt x="22" y="79"/>
                    </a:lnTo>
                    <a:lnTo>
                      <a:pt x="23" y="71"/>
                    </a:lnTo>
                    <a:lnTo>
                      <a:pt x="23" y="64"/>
                    </a:lnTo>
                    <a:lnTo>
                      <a:pt x="24" y="56"/>
                    </a:lnTo>
                    <a:lnTo>
                      <a:pt x="25" y="49"/>
                    </a:lnTo>
                    <a:lnTo>
                      <a:pt x="25" y="42"/>
                    </a:lnTo>
                    <a:lnTo>
                      <a:pt x="26" y="34"/>
                    </a:lnTo>
                    <a:lnTo>
                      <a:pt x="26" y="27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3" y="4"/>
                    </a:lnTo>
                    <a:lnTo>
                      <a:pt x="43" y="6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5" y="20"/>
                    </a:lnTo>
                    <a:lnTo>
                      <a:pt x="45" y="22"/>
                    </a:lnTo>
                    <a:lnTo>
                      <a:pt x="46" y="25"/>
                    </a:lnTo>
                    <a:lnTo>
                      <a:pt x="46" y="27"/>
                    </a:lnTo>
                    <a:lnTo>
                      <a:pt x="47" y="30"/>
                    </a:lnTo>
                    <a:lnTo>
                      <a:pt x="47" y="32"/>
                    </a:lnTo>
                    <a:lnTo>
                      <a:pt x="48" y="35"/>
                    </a:lnTo>
                    <a:lnTo>
                      <a:pt x="48" y="38"/>
                    </a:lnTo>
                    <a:lnTo>
                      <a:pt x="49" y="40"/>
                    </a:lnTo>
                    <a:lnTo>
                      <a:pt x="49" y="43"/>
                    </a:lnTo>
                    <a:lnTo>
                      <a:pt x="50" y="45"/>
                    </a:lnTo>
                    <a:lnTo>
                      <a:pt x="50" y="48"/>
                    </a:lnTo>
                    <a:lnTo>
                      <a:pt x="51" y="50"/>
                    </a:lnTo>
                    <a:lnTo>
                      <a:pt x="51" y="53"/>
                    </a:lnTo>
                    <a:lnTo>
                      <a:pt x="52" y="55"/>
                    </a:lnTo>
                    <a:lnTo>
                      <a:pt x="52" y="58"/>
                    </a:lnTo>
                    <a:lnTo>
                      <a:pt x="53" y="60"/>
                    </a:lnTo>
                    <a:lnTo>
                      <a:pt x="53" y="62"/>
                    </a:lnTo>
                    <a:lnTo>
                      <a:pt x="53" y="64"/>
                    </a:lnTo>
                    <a:lnTo>
                      <a:pt x="54" y="67"/>
                    </a:lnTo>
                    <a:lnTo>
                      <a:pt x="54" y="69"/>
                    </a:lnTo>
                    <a:lnTo>
                      <a:pt x="54" y="71"/>
                    </a:lnTo>
                    <a:lnTo>
                      <a:pt x="54" y="72"/>
                    </a:lnTo>
                    <a:lnTo>
                      <a:pt x="54" y="74"/>
                    </a:lnTo>
                    <a:lnTo>
                      <a:pt x="55" y="77"/>
                    </a:lnTo>
                    <a:lnTo>
                      <a:pt x="55" y="79"/>
                    </a:lnTo>
                    <a:lnTo>
                      <a:pt x="55" y="82"/>
                    </a:lnTo>
                    <a:lnTo>
                      <a:pt x="56" y="84"/>
                    </a:lnTo>
                    <a:lnTo>
                      <a:pt x="56" y="87"/>
                    </a:lnTo>
                    <a:lnTo>
                      <a:pt x="56" y="89"/>
                    </a:lnTo>
                    <a:lnTo>
                      <a:pt x="56" y="92"/>
                    </a:lnTo>
                    <a:lnTo>
                      <a:pt x="56" y="95"/>
                    </a:lnTo>
                    <a:lnTo>
                      <a:pt x="56" y="98"/>
                    </a:lnTo>
                    <a:lnTo>
                      <a:pt x="55" y="101"/>
                    </a:lnTo>
                    <a:lnTo>
                      <a:pt x="55" y="103"/>
                    </a:lnTo>
                    <a:lnTo>
                      <a:pt x="55" y="106"/>
                    </a:lnTo>
                    <a:lnTo>
                      <a:pt x="55" y="109"/>
                    </a:lnTo>
                    <a:lnTo>
                      <a:pt x="55" y="112"/>
                    </a:lnTo>
                    <a:lnTo>
                      <a:pt x="54" y="115"/>
                    </a:lnTo>
                    <a:lnTo>
                      <a:pt x="54" y="118"/>
                    </a:lnTo>
                    <a:lnTo>
                      <a:pt x="54" y="121"/>
                    </a:lnTo>
                    <a:lnTo>
                      <a:pt x="54" y="124"/>
                    </a:lnTo>
                    <a:lnTo>
                      <a:pt x="53" y="127"/>
                    </a:lnTo>
                    <a:lnTo>
                      <a:pt x="53" y="130"/>
                    </a:lnTo>
                    <a:lnTo>
                      <a:pt x="53" y="132"/>
                    </a:lnTo>
                    <a:lnTo>
                      <a:pt x="53" y="135"/>
                    </a:lnTo>
                    <a:lnTo>
                      <a:pt x="53" y="138"/>
                    </a:lnTo>
                    <a:lnTo>
                      <a:pt x="53" y="141"/>
                    </a:lnTo>
                    <a:lnTo>
                      <a:pt x="53" y="144"/>
                    </a:lnTo>
                    <a:lnTo>
                      <a:pt x="53" y="146"/>
                    </a:lnTo>
                    <a:lnTo>
                      <a:pt x="53" y="149"/>
                    </a:lnTo>
                    <a:lnTo>
                      <a:pt x="53" y="152"/>
                    </a:lnTo>
                    <a:lnTo>
                      <a:pt x="53" y="154"/>
                    </a:lnTo>
                    <a:lnTo>
                      <a:pt x="53" y="157"/>
                    </a:lnTo>
                    <a:lnTo>
                      <a:pt x="54" y="159"/>
                    </a:lnTo>
                    <a:lnTo>
                      <a:pt x="54" y="162"/>
                    </a:lnTo>
                    <a:lnTo>
                      <a:pt x="58" y="174"/>
                    </a:lnTo>
                    <a:lnTo>
                      <a:pt x="62" y="187"/>
                    </a:lnTo>
                    <a:lnTo>
                      <a:pt x="67" y="198"/>
                    </a:lnTo>
                    <a:lnTo>
                      <a:pt x="72" y="210"/>
                    </a:lnTo>
                    <a:lnTo>
                      <a:pt x="78" y="221"/>
                    </a:lnTo>
                    <a:lnTo>
                      <a:pt x="85" y="232"/>
                    </a:lnTo>
                    <a:lnTo>
                      <a:pt x="92" y="242"/>
                    </a:lnTo>
                    <a:lnTo>
                      <a:pt x="99" y="252"/>
                    </a:lnTo>
                    <a:lnTo>
                      <a:pt x="107" y="262"/>
                    </a:lnTo>
                    <a:lnTo>
                      <a:pt x="116" y="272"/>
                    </a:lnTo>
                    <a:lnTo>
                      <a:pt x="125" y="281"/>
                    </a:lnTo>
                    <a:lnTo>
                      <a:pt x="134" y="290"/>
                    </a:lnTo>
                    <a:lnTo>
                      <a:pt x="144" y="298"/>
                    </a:lnTo>
                    <a:lnTo>
                      <a:pt x="153" y="307"/>
                    </a:lnTo>
                    <a:lnTo>
                      <a:pt x="164" y="315"/>
                    </a:lnTo>
                    <a:lnTo>
                      <a:pt x="175" y="323"/>
                    </a:lnTo>
                    <a:lnTo>
                      <a:pt x="185" y="331"/>
                    </a:lnTo>
                    <a:lnTo>
                      <a:pt x="196" y="338"/>
                    </a:lnTo>
                    <a:lnTo>
                      <a:pt x="206" y="345"/>
                    </a:lnTo>
                    <a:lnTo>
                      <a:pt x="217" y="352"/>
                    </a:lnTo>
                    <a:lnTo>
                      <a:pt x="228" y="358"/>
                    </a:lnTo>
                    <a:lnTo>
                      <a:pt x="239" y="365"/>
                    </a:lnTo>
                    <a:lnTo>
                      <a:pt x="250" y="371"/>
                    </a:lnTo>
                    <a:lnTo>
                      <a:pt x="260" y="377"/>
                    </a:lnTo>
                    <a:lnTo>
                      <a:pt x="271" y="382"/>
                    </a:lnTo>
                    <a:lnTo>
                      <a:pt x="281" y="388"/>
                    </a:lnTo>
                    <a:lnTo>
                      <a:pt x="292" y="393"/>
                    </a:lnTo>
                    <a:lnTo>
                      <a:pt x="302" y="399"/>
                    </a:lnTo>
                    <a:lnTo>
                      <a:pt x="312" y="404"/>
                    </a:lnTo>
                    <a:lnTo>
                      <a:pt x="321" y="409"/>
                    </a:lnTo>
                    <a:lnTo>
                      <a:pt x="331" y="414"/>
                    </a:lnTo>
                    <a:lnTo>
                      <a:pt x="339" y="418"/>
                    </a:lnTo>
                    <a:lnTo>
                      <a:pt x="336" y="423"/>
                    </a:lnTo>
                    <a:lnTo>
                      <a:pt x="333" y="427"/>
                    </a:lnTo>
                    <a:lnTo>
                      <a:pt x="329" y="431"/>
                    </a:lnTo>
                    <a:lnTo>
                      <a:pt x="326" y="436"/>
                    </a:lnTo>
                    <a:lnTo>
                      <a:pt x="323" y="440"/>
                    </a:lnTo>
                    <a:lnTo>
                      <a:pt x="321" y="445"/>
                    </a:lnTo>
                    <a:lnTo>
                      <a:pt x="318" y="450"/>
                    </a:lnTo>
                    <a:lnTo>
                      <a:pt x="315" y="455"/>
                    </a:lnTo>
                    <a:lnTo>
                      <a:pt x="313" y="460"/>
                    </a:lnTo>
                    <a:lnTo>
                      <a:pt x="311" y="465"/>
                    </a:lnTo>
                    <a:lnTo>
                      <a:pt x="308" y="471"/>
                    </a:lnTo>
                    <a:lnTo>
                      <a:pt x="306" y="476"/>
                    </a:lnTo>
                    <a:lnTo>
                      <a:pt x="304" y="481"/>
                    </a:lnTo>
                    <a:lnTo>
                      <a:pt x="302" y="487"/>
                    </a:lnTo>
                    <a:lnTo>
                      <a:pt x="300" y="492"/>
                    </a:lnTo>
                    <a:lnTo>
                      <a:pt x="298" y="498"/>
                    </a:lnTo>
                    <a:lnTo>
                      <a:pt x="297" y="503"/>
                    </a:lnTo>
                    <a:lnTo>
                      <a:pt x="295" y="509"/>
                    </a:lnTo>
                    <a:lnTo>
                      <a:pt x="293" y="515"/>
                    </a:lnTo>
                    <a:lnTo>
                      <a:pt x="292" y="520"/>
                    </a:lnTo>
                    <a:lnTo>
                      <a:pt x="290" y="526"/>
                    </a:lnTo>
                    <a:lnTo>
                      <a:pt x="289" y="532"/>
                    </a:lnTo>
                    <a:lnTo>
                      <a:pt x="287" y="537"/>
                    </a:lnTo>
                    <a:lnTo>
                      <a:pt x="286" y="543"/>
                    </a:lnTo>
                    <a:lnTo>
                      <a:pt x="284" y="549"/>
                    </a:lnTo>
                    <a:lnTo>
                      <a:pt x="283" y="554"/>
                    </a:lnTo>
                    <a:lnTo>
                      <a:pt x="281" y="560"/>
                    </a:lnTo>
                    <a:lnTo>
                      <a:pt x="280" y="565"/>
                    </a:lnTo>
                    <a:lnTo>
                      <a:pt x="278" y="571"/>
                    </a:lnTo>
                    <a:lnTo>
                      <a:pt x="277" y="576"/>
                    </a:lnTo>
                    <a:lnTo>
                      <a:pt x="275" y="581"/>
                    </a:lnTo>
                    <a:lnTo>
                      <a:pt x="274" y="587"/>
                    </a:lnTo>
                    <a:lnTo>
                      <a:pt x="273" y="589"/>
                    </a:lnTo>
                    <a:lnTo>
                      <a:pt x="273" y="590"/>
                    </a:lnTo>
                    <a:lnTo>
                      <a:pt x="272" y="592"/>
                    </a:lnTo>
                    <a:lnTo>
                      <a:pt x="271" y="594"/>
                    </a:lnTo>
                    <a:lnTo>
                      <a:pt x="270" y="595"/>
                    </a:lnTo>
                    <a:lnTo>
                      <a:pt x="270" y="597"/>
                    </a:lnTo>
                    <a:lnTo>
                      <a:pt x="269" y="599"/>
                    </a:lnTo>
                    <a:lnTo>
                      <a:pt x="268" y="601"/>
                    </a:lnTo>
                    <a:lnTo>
                      <a:pt x="267" y="602"/>
                    </a:lnTo>
                    <a:lnTo>
                      <a:pt x="266" y="604"/>
                    </a:lnTo>
                    <a:lnTo>
                      <a:pt x="265" y="606"/>
                    </a:lnTo>
                    <a:lnTo>
                      <a:pt x="264" y="608"/>
                    </a:lnTo>
                    <a:lnTo>
                      <a:pt x="263" y="609"/>
                    </a:lnTo>
                    <a:lnTo>
                      <a:pt x="263" y="611"/>
                    </a:lnTo>
                    <a:lnTo>
                      <a:pt x="262" y="613"/>
                    </a:lnTo>
                    <a:lnTo>
                      <a:pt x="261" y="615"/>
                    </a:lnTo>
                    <a:lnTo>
                      <a:pt x="260" y="616"/>
                    </a:lnTo>
                    <a:lnTo>
                      <a:pt x="259" y="618"/>
                    </a:lnTo>
                    <a:lnTo>
                      <a:pt x="258" y="620"/>
                    </a:lnTo>
                    <a:lnTo>
                      <a:pt x="257" y="622"/>
                    </a:lnTo>
                    <a:lnTo>
                      <a:pt x="257" y="623"/>
                    </a:lnTo>
                    <a:lnTo>
                      <a:pt x="256" y="625"/>
                    </a:lnTo>
                    <a:lnTo>
                      <a:pt x="255" y="627"/>
                    </a:lnTo>
                    <a:lnTo>
                      <a:pt x="254" y="629"/>
                    </a:lnTo>
                    <a:lnTo>
                      <a:pt x="254" y="631"/>
                    </a:lnTo>
                    <a:lnTo>
                      <a:pt x="253" y="632"/>
                    </a:lnTo>
                    <a:lnTo>
                      <a:pt x="253" y="634"/>
                    </a:lnTo>
                    <a:lnTo>
                      <a:pt x="253" y="636"/>
                    </a:lnTo>
                    <a:lnTo>
                      <a:pt x="252" y="638"/>
                    </a:lnTo>
                    <a:lnTo>
                      <a:pt x="252" y="639"/>
                    </a:lnTo>
                    <a:lnTo>
                      <a:pt x="252" y="641"/>
                    </a:lnTo>
                    <a:lnTo>
                      <a:pt x="252" y="643"/>
                    </a:lnTo>
                    <a:lnTo>
                      <a:pt x="247" y="639"/>
                    </a:lnTo>
                    <a:lnTo>
                      <a:pt x="242" y="635"/>
                    </a:lnTo>
                    <a:lnTo>
                      <a:pt x="237" y="631"/>
                    </a:lnTo>
                    <a:lnTo>
                      <a:pt x="232" y="627"/>
                    </a:lnTo>
                    <a:lnTo>
                      <a:pt x="227" y="622"/>
                    </a:lnTo>
                    <a:lnTo>
                      <a:pt x="222" y="618"/>
                    </a:lnTo>
                    <a:lnTo>
                      <a:pt x="217" y="613"/>
                    </a:lnTo>
                    <a:lnTo>
                      <a:pt x="212" y="608"/>
                    </a:lnTo>
                    <a:lnTo>
                      <a:pt x="207" y="603"/>
                    </a:lnTo>
                    <a:lnTo>
                      <a:pt x="202" y="597"/>
                    </a:lnTo>
                    <a:lnTo>
                      <a:pt x="197" y="592"/>
                    </a:lnTo>
                    <a:lnTo>
                      <a:pt x="193" y="586"/>
                    </a:lnTo>
                    <a:lnTo>
                      <a:pt x="188" y="581"/>
                    </a:lnTo>
                    <a:lnTo>
                      <a:pt x="183" y="575"/>
                    </a:lnTo>
                    <a:lnTo>
                      <a:pt x="179" y="569"/>
                    </a:lnTo>
                    <a:lnTo>
                      <a:pt x="174" y="563"/>
                    </a:lnTo>
                    <a:lnTo>
                      <a:pt x="169" y="558"/>
                    </a:lnTo>
                    <a:lnTo>
                      <a:pt x="165" y="552"/>
                    </a:lnTo>
                    <a:lnTo>
                      <a:pt x="159" y="546"/>
                    </a:lnTo>
                    <a:lnTo>
                      <a:pt x="155" y="540"/>
                    </a:lnTo>
                    <a:lnTo>
                      <a:pt x="150" y="534"/>
                    </a:lnTo>
                    <a:lnTo>
                      <a:pt x="146" y="528"/>
                    </a:lnTo>
                    <a:lnTo>
                      <a:pt x="142" y="522"/>
                    </a:lnTo>
                    <a:lnTo>
                      <a:pt x="137" y="517"/>
                    </a:lnTo>
                    <a:lnTo>
                      <a:pt x="133" y="511"/>
                    </a:lnTo>
                    <a:lnTo>
                      <a:pt x="129" y="505"/>
                    </a:lnTo>
                    <a:lnTo>
                      <a:pt x="124" y="500"/>
                    </a:lnTo>
                    <a:lnTo>
                      <a:pt x="120" y="495"/>
                    </a:lnTo>
                    <a:lnTo>
                      <a:pt x="116" y="489"/>
                    </a:lnTo>
                    <a:lnTo>
                      <a:pt x="112" y="484"/>
                    </a:lnTo>
                    <a:lnTo>
                      <a:pt x="108" y="479"/>
                    </a:lnTo>
                    <a:lnTo>
                      <a:pt x="103" y="474"/>
                    </a:lnTo>
                    <a:lnTo>
                      <a:pt x="101" y="471"/>
                    </a:lnTo>
                    <a:lnTo>
                      <a:pt x="98" y="468"/>
                    </a:lnTo>
                    <a:lnTo>
                      <a:pt x="95" y="465"/>
                    </a:lnTo>
                    <a:lnTo>
                      <a:pt x="92" y="461"/>
                    </a:lnTo>
                    <a:lnTo>
                      <a:pt x="89" y="457"/>
                    </a:lnTo>
                    <a:lnTo>
                      <a:pt x="86" y="453"/>
                    </a:lnTo>
                    <a:lnTo>
                      <a:pt x="82" y="449"/>
                    </a:lnTo>
                    <a:lnTo>
                      <a:pt x="79" y="445"/>
                    </a:lnTo>
                    <a:lnTo>
                      <a:pt x="75" y="441"/>
                    </a:lnTo>
                    <a:lnTo>
                      <a:pt x="72" y="436"/>
                    </a:lnTo>
                    <a:lnTo>
                      <a:pt x="68" y="432"/>
                    </a:lnTo>
                    <a:lnTo>
                      <a:pt x="65" y="427"/>
                    </a:lnTo>
                    <a:lnTo>
                      <a:pt x="61" y="422"/>
                    </a:lnTo>
                    <a:lnTo>
                      <a:pt x="57" y="417"/>
                    </a:lnTo>
                    <a:lnTo>
                      <a:pt x="54" y="412"/>
                    </a:lnTo>
                    <a:lnTo>
                      <a:pt x="50" y="407"/>
                    </a:lnTo>
                    <a:lnTo>
                      <a:pt x="46" y="402"/>
                    </a:lnTo>
                    <a:lnTo>
                      <a:pt x="43" y="397"/>
                    </a:lnTo>
                    <a:lnTo>
                      <a:pt x="39" y="392"/>
                    </a:lnTo>
                    <a:lnTo>
                      <a:pt x="36" y="387"/>
                    </a:lnTo>
                    <a:lnTo>
                      <a:pt x="33" y="382"/>
                    </a:lnTo>
                    <a:lnTo>
                      <a:pt x="30" y="377"/>
                    </a:lnTo>
                    <a:lnTo>
                      <a:pt x="26" y="372"/>
                    </a:lnTo>
                    <a:lnTo>
                      <a:pt x="23" y="367"/>
                    </a:lnTo>
                    <a:lnTo>
                      <a:pt x="21" y="363"/>
                    </a:lnTo>
                    <a:lnTo>
                      <a:pt x="18" y="358"/>
                    </a:lnTo>
                    <a:lnTo>
                      <a:pt x="15" y="353"/>
                    </a:lnTo>
                    <a:lnTo>
                      <a:pt x="13" y="348"/>
                    </a:lnTo>
                    <a:lnTo>
                      <a:pt x="11" y="344"/>
                    </a:lnTo>
                    <a:lnTo>
                      <a:pt x="8" y="339"/>
                    </a:lnTo>
                    <a:lnTo>
                      <a:pt x="7" y="335"/>
                    </a:lnTo>
                    <a:lnTo>
                      <a:pt x="5" y="331"/>
                    </a:lnTo>
                    <a:lnTo>
                      <a:pt x="4" y="328"/>
                    </a:lnTo>
                    <a:lnTo>
                      <a:pt x="3" y="324"/>
                    </a:lnTo>
                    <a:lnTo>
                      <a:pt x="2" y="321"/>
                    </a:lnTo>
                    <a:lnTo>
                      <a:pt x="2" y="318"/>
                    </a:lnTo>
                    <a:lnTo>
                      <a:pt x="1" y="314"/>
                    </a:lnTo>
                    <a:lnTo>
                      <a:pt x="1" y="311"/>
                    </a:lnTo>
                    <a:lnTo>
                      <a:pt x="1" y="308"/>
                    </a:lnTo>
                    <a:lnTo>
                      <a:pt x="0" y="305"/>
                    </a:lnTo>
                    <a:lnTo>
                      <a:pt x="0" y="302"/>
                    </a:lnTo>
                    <a:lnTo>
                      <a:pt x="0" y="299"/>
                    </a:lnTo>
                    <a:lnTo>
                      <a:pt x="0" y="296"/>
                    </a:lnTo>
                    <a:lnTo>
                      <a:pt x="0" y="294"/>
                    </a:lnTo>
                    <a:lnTo>
                      <a:pt x="0" y="291"/>
                    </a:lnTo>
                    <a:lnTo>
                      <a:pt x="0" y="288"/>
                    </a:lnTo>
                    <a:lnTo>
                      <a:pt x="1" y="286"/>
                    </a:lnTo>
                    <a:lnTo>
                      <a:pt x="1" y="283"/>
                    </a:lnTo>
                    <a:lnTo>
                      <a:pt x="1" y="280"/>
                    </a:lnTo>
                    <a:lnTo>
                      <a:pt x="2" y="278"/>
                    </a:lnTo>
                    <a:lnTo>
                      <a:pt x="2" y="275"/>
                    </a:lnTo>
                    <a:lnTo>
                      <a:pt x="2" y="272"/>
                    </a:lnTo>
                    <a:lnTo>
                      <a:pt x="3" y="270"/>
                    </a:lnTo>
                    <a:lnTo>
                      <a:pt x="3" y="267"/>
                    </a:lnTo>
                    <a:lnTo>
                      <a:pt x="3" y="264"/>
                    </a:lnTo>
                    <a:lnTo>
                      <a:pt x="4" y="261"/>
                    </a:lnTo>
                    <a:lnTo>
                      <a:pt x="4" y="258"/>
                    </a:lnTo>
                    <a:lnTo>
                      <a:pt x="4" y="255"/>
                    </a:lnTo>
                    <a:lnTo>
                      <a:pt x="4" y="252"/>
                    </a:lnTo>
                    <a:lnTo>
                      <a:pt x="5" y="249"/>
                    </a:lnTo>
                    <a:lnTo>
                      <a:pt x="5" y="246"/>
                    </a:lnTo>
                    <a:lnTo>
                      <a:pt x="5" y="243"/>
                    </a:lnTo>
                    <a:lnTo>
                      <a:pt x="5" y="240"/>
                    </a:lnTo>
                    <a:lnTo>
                      <a:pt x="5" y="236"/>
                    </a:lnTo>
                    <a:close/>
                    <a:moveTo>
                      <a:pt x="428" y="400"/>
                    </a:moveTo>
                    <a:lnTo>
                      <a:pt x="436" y="405"/>
                    </a:lnTo>
                    <a:lnTo>
                      <a:pt x="443" y="411"/>
                    </a:lnTo>
                    <a:lnTo>
                      <a:pt x="450" y="417"/>
                    </a:lnTo>
                    <a:lnTo>
                      <a:pt x="456" y="423"/>
                    </a:lnTo>
                    <a:lnTo>
                      <a:pt x="462" y="430"/>
                    </a:lnTo>
                    <a:lnTo>
                      <a:pt x="468" y="437"/>
                    </a:lnTo>
                    <a:lnTo>
                      <a:pt x="473" y="444"/>
                    </a:lnTo>
                    <a:lnTo>
                      <a:pt x="477" y="452"/>
                    </a:lnTo>
                    <a:lnTo>
                      <a:pt x="481" y="460"/>
                    </a:lnTo>
                    <a:lnTo>
                      <a:pt x="485" y="467"/>
                    </a:lnTo>
                    <a:lnTo>
                      <a:pt x="489" y="476"/>
                    </a:lnTo>
                    <a:lnTo>
                      <a:pt x="492" y="484"/>
                    </a:lnTo>
                    <a:lnTo>
                      <a:pt x="495" y="492"/>
                    </a:lnTo>
                    <a:lnTo>
                      <a:pt x="498" y="501"/>
                    </a:lnTo>
                    <a:lnTo>
                      <a:pt x="501" y="509"/>
                    </a:lnTo>
                    <a:lnTo>
                      <a:pt x="503" y="518"/>
                    </a:lnTo>
                    <a:lnTo>
                      <a:pt x="505" y="527"/>
                    </a:lnTo>
                    <a:lnTo>
                      <a:pt x="507" y="536"/>
                    </a:lnTo>
                    <a:lnTo>
                      <a:pt x="509" y="545"/>
                    </a:lnTo>
                    <a:lnTo>
                      <a:pt x="511" y="554"/>
                    </a:lnTo>
                    <a:lnTo>
                      <a:pt x="513" y="563"/>
                    </a:lnTo>
                    <a:lnTo>
                      <a:pt x="515" y="572"/>
                    </a:lnTo>
                    <a:lnTo>
                      <a:pt x="517" y="580"/>
                    </a:lnTo>
                    <a:lnTo>
                      <a:pt x="519" y="589"/>
                    </a:lnTo>
                    <a:lnTo>
                      <a:pt x="520" y="598"/>
                    </a:lnTo>
                    <a:lnTo>
                      <a:pt x="522" y="607"/>
                    </a:lnTo>
                    <a:lnTo>
                      <a:pt x="524" y="615"/>
                    </a:lnTo>
                    <a:lnTo>
                      <a:pt x="527" y="624"/>
                    </a:lnTo>
                    <a:lnTo>
                      <a:pt x="529" y="632"/>
                    </a:lnTo>
                    <a:lnTo>
                      <a:pt x="531" y="640"/>
                    </a:lnTo>
                    <a:lnTo>
                      <a:pt x="534" y="648"/>
                    </a:lnTo>
                    <a:lnTo>
                      <a:pt x="537" y="656"/>
                    </a:lnTo>
                    <a:lnTo>
                      <a:pt x="542" y="649"/>
                    </a:lnTo>
                    <a:lnTo>
                      <a:pt x="547" y="643"/>
                    </a:lnTo>
                    <a:lnTo>
                      <a:pt x="552" y="636"/>
                    </a:lnTo>
                    <a:lnTo>
                      <a:pt x="557" y="629"/>
                    </a:lnTo>
                    <a:lnTo>
                      <a:pt x="561" y="621"/>
                    </a:lnTo>
                    <a:lnTo>
                      <a:pt x="566" y="613"/>
                    </a:lnTo>
                    <a:lnTo>
                      <a:pt x="570" y="605"/>
                    </a:lnTo>
                    <a:lnTo>
                      <a:pt x="574" y="597"/>
                    </a:lnTo>
                    <a:lnTo>
                      <a:pt x="579" y="588"/>
                    </a:lnTo>
                    <a:lnTo>
                      <a:pt x="583" y="579"/>
                    </a:lnTo>
                    <a:lnTo>
                      <a:pt x="587" y="570"/>
                    </a:lnTo>
                    <a:lnTo>
                      <a:pt x="591" y="561"/>
                    </a:lnTo>
                    <a:lnTo>
                      <a:pt x="594" y="551"/>
                    </a:lnTo>
                    <a:lnTo>
                      <a:pt x="598" y="541"/>
                    </a:lnTo>
                    <a:lnTo>
                      <a:pt x="602" y="532"/>
                    </a:lnTo>
                    <a:lnTo>
                      <a:pt x="606" y="522"/>
                    </a:lnTo>
                    <a:lnTo>
                      <a:pt x="609" y="512"/>
                    </a:lnTo>
                    <a:lnTo>
                      <a:pt x="613" y="502"/>
                    </a:lnTo>
                    <a:lnTo>
                      <a:pt x="617" y="492"/>
                    </a:lnTo>
                    <a:lnTo>
                      <a:pt x="620" y="483"/>
                    </a:lnTo>
                    <a:lnTo>
                      <a:pt x="624" y="473"/>
                    </a:lnTo>
                    <a:lnTo>
                      <a:pt x="627" y="463"/>
                    </a:lnTo>
                    <a:lnTo>
                      <a:pt x="630" y="453"/>
                    </a:lnTo>
                    <a:lnTo>
                      <a:pt x="633" y="444"/>
                    </a:lnTo>
                    <a:lnTo>
                      <a:pt x="637" y="434"/>
                    </a:lnTo>
                    <a:lnTo>
                      <a:pt x="640" y="425"/>
                    </a:lnTo>
                    <a:lnTo>
                      <a:pt x="643" y="416"/>
                    </a:lnTo>
                    <a:lnTo>
                      <a:pt x="646" y="407"/>
                    </a:lnTo>
                    <a:lnTo>
                      <a:pt x="649" y="399"/>
                    </a:lnTo>
                    <a:lnTo>
                      <a:pt x="652" y="390"/>
                    </a:lnTo>
                    <a:lnTo>
                      <a:pt x="655" y="382"/>
                    </a:lnTo>
                    <a:lnTo>
                      <a:pt x="658" y="375"/>
                    </a:lnTo>
                    <a:lnTo>
                      <a:pt x="660" y="370"/>
                    </a:lnTo>
                    <a:lnTo>
                      <a:pt x="662" y="366"/>
                    </a:lnTo>
                    <a:lnTo>
                      <a:pt x="663" y="362"/>
                    </a:lnTo>
                    <a:lnTo>
                      <a:pt x="665" y="358"/>
                    </a:lnTo>
                    <a:lnTo>
                      <a:pt x="667" y="354"/>
                    </a:lnTo>
                    <a:lnTo>
                      <a:pt x="669" y="350"/>
                    </a:lnTo>
                    <a:lnTo>
                      <a:pt x="670" y="346"/>
                    </a:lnTo>
                    <a:lnTo>
                      <a:pt x="672" y="342"/>
                    </a:lnTo>
                    <a:lnTo>
                      <a:pt x="674" y="338"/>
                    </a:lnTo>
                    <a:lnTo>
                      <a:pt x="676" y="333"/>
                    </a:lnTo>
                    <a:lnTo>
                      <a:pt x="678" y="329"/>
                    </a:lnTo>
                    <a:lnTo>
                      <a:pt x="680" y="325"/>
                    </a:lnTo>
                    <a:lnTo>
                      <a:pt x="681" y="321"/>
                    </a:lnTo>
                    <a:lnTo>
                      <a:pt x="683" y="315"/>
                    </a:lnTo>
                    <a:lnTo>
                      <a:pt x="685" y="311"/>
                    </a:lnTo>
                    <a:lnTo>
                      <a:pt x="687" y="307"/>
                    </a:lnTo>
                    <a:lnTo>
                      <a:pt x="688" y="302"/>
                    </a:lnTo>
                    <a:lnTo>
                      <a:pt x="690" y="298"/>
                    </a:lnTo>
                    <a:lnTo>
                      <a:pt x="691" y="293"/>
                    </a:lnTo>
                    <a:lnTo>
                      <a:pt x="693" y="289"/>
                    </a:lnTo>
                    <a:lnTo>
                      <a:pt x="694" y="284"/>
                    </a:lnTo>
                    <a:lnTo>
                      <a:pt x="696" y="280"/>
                    </a:lnTo>
                    <a:lnTo>
                      <a:pt x="697" y="275"/>
                    </a:lnTo>
                    <a:lnTo>
                      <a:pt x="698" y="270"/>
                    </a:lnTo>
                    <a:lnTo>
                      <a:pt x="699" y="265"/>
                    </a:lnTo>
                    <a:lnTo>
                      <a:pt x="700" y="261"/>
                    </a:lnTo>
                    <a:lnTo>
                      <a:pt x="701" y="256"/>
                    </a:lnTo>
                    <a:lnTo>
                      <a:pt x="701" y="251"/>
                    </a:lnTo>
                    <a:lnTo>
                      <a:pt x="702" y="246"/>
                    </a:lnTo>
                    <a:lnTo>
                      <a:pt x="702" y="241"/>
                    </a:lnTo>
                    <a:lnTo>
                      <a:pt x="702" y="236"/>
                    </a:lnTo>
                    <a:lnTo>
                      <a:pt x="702" y="230"/>
                    </a:lnTo>
                    <a:lnTo>
                      <a:pt x="701" y="227"/>
                    </a:lnTo>
                    <a:lnTo>
                      <a:pt x="699" y="224"/>
                    </a:lnTo>
                    <a:lnTo>
                      <a:pt x="697" y="221"/>
                    </a:lnTo>
                    <a:lnTo>
                      <a:pt x="695" y="217"/>
                    </a:lnTo>
                    <a:lnTo>
                      <a:pt x="694" y="214"/>
                    </a:lnTo>
                    <a:lnTo>
                      <a:pt x="692" y="210"/>
                    </a:lnTo>
                    <a:lnTo>
                      <a:pt x="691" y="206"/>
                    </a:lnTo>
                    <a:lnTo>
                      <a:pt x="689" y="202"/>
                    </a:lnTo>
                    <a:lnTo>
                      <a:pt x="688" y="198"/>
                    </a:lnTo>
                    <a:lnTo>
                      <a:pt x="687" y="194"/>
                    </a:lnTo>
                    <a:lnTo>
                      <a:pt x="686" y="190"/>
                    </a:lnTo>
                    <a:lnTo>
                      <a:pt x="685" y="187"/>
                    </a:lnTo>
                    <a:lnTo>
                      <a:pt x="683" y="183"/>
                    </a:lnTo>
                    <a:lnTo>
                      <a:pt x="682" y="179"/>
                    </a:lnTo>
                    <a:lnTo>
                      <a:pt x="681" y="175"/>
                    </a:lnTo>
                    <a:lnTo>
                      <a:pt x="680" y="172"/>
                    </a:lnTo>
                    <a:lnTo>
                      <a:pt x="679" y="168"/>
                    </a:lnTo>
                    <a:lnTo>
                      <a:pt x="679" y="165"/>
                    </a:lnTo>
                    <a:lnTo>
                      <a:pt x="678" y="161"/>
                    </a:lnTo>
                    <a:lnTo>
                      <a:pt x="677" y="158"/>
                    </a:lnTo>
                    <a:lnTo>
                      <a:pt x="676" y="156"/>
                    </a:lnTo>
                    <a:lnTo>
                      <a:pt x="675" y="153"/>
                    </a:lnTo>
                    <a:lnTo>
                      <a:pt x="674" y="150"/>
                    </a:lnTo>
                    <a:lnTo>
                      <a:pt x="673" y="148"/>
                    </a:lnTo>
                    <a:lnTo>
                      <a:pt x="672" y="146"/>
                    </a:lnTo>
                    <a:lnTo>
                      <a:pt x="671" y="145"/>
                    </a:lnTo>
                    <a:lnTo>
                      <a:pt x="670" y="143"/>
                    </a:lnTo>
                    <a:lnTo>
                      <a:pt x="669" y="142"/>
                    </a:lnTo>
                    <a:lnTo>
                      <a:pt x="668" y="142"/>
                    </a:lnTo>
                    <a:lnTo>
                      <a:pt x="666" y="141"/>
                    </a:lnTo>
                    <a:lnTo>
                      <a:pt x="665" y="142"/>
                    </a:lnTo>
                    <a:lnTo>
                      <a:pt x="664" y="142"/>
                    </a:lnTo>
                    <a:lnTo>
                      <a:pt x="659" y="152"/>
                    </a:lnTo>
                    <a:lnTo>
                      <a:pt x="654" y="163"/>
                    </a:lnTo>
                    <a:lnTo>
                      <a:pt x="649" y="173"/>
                    </a:lnTo>
                    <a:lnTo>
                      <a:pt x="643" y="183"/>
                    </a:lnTo>
                    <a:lnTo>
                      <a:pt x="638" y="192"/>
                    </a:lnTo>
                    <a:lnTo>
                      <a:pt x="632" y="202"/>
                    </a:lnTo>
                    <a:lnTo>
                      <a:pt x="626" y="211"/>
                    </a:lnTo>
                    <a:lnTo>
                      <a:pt x="619" y="221"/>
                    </a:lnTo>
                    <a:lnTo>
                      <a:pt x="612" y="230"/>
                    </a:lnTo>
                    <a:lnTo>
                      <a:pt x="605" y="239"/>
                    </a:lnTo>
                    <a:lnTo>
                      <a:pt x="598" y="247"/>
                    </a:lnTo>
                    <a:lnTo>
                      <a:pt x="591" y="256"/>
                    </a:lnTo>
                    <a:lnTo>
                      <a:pt x="584" y="264"/>
                    </a:lnTo>
                    <a:lnTo>
                      <a:pt x="577" y="273"/>
                    </a:lnTo>
                    <a:lnTo>
                      <a:pt x="569" y="281"/>
                    </a:lnTo>
                    <a:lnTo>
                      <a:pt x="562" y="289"/>
                    </a:lnTo>
                    <a:lnTo>
                      <a:pt x="554" y="297"/>
                    </a:lnTo>
                    <a:lnTo>
                      <a:pt x="546" y="304"/>
                    </a:lnTo>
                    <a:lnTo>
                      <a:pt x="538" y="312"/>
                    </a:lnTo>
                    <a:lnTo>
                      <a:pt x="530" y="320"/>
                    </a:lnTo>
                    <a:lnTo>
                      <a:pt x="522" y="328"/>
                    </a:lnTo>
                    <a:lnTo>
                      <a:pt x="514" y="335"/>
                    </a:lnTo>
                    <a:lnTo>
                      <a:pt x="505" y="342"/>
                    </a:lnTo>
                    <a:lnTo>
                      <a:pt x="497" y="349"/>
                    </a:lnTo>
                    <a:lnTo>
                      <a:pt x="488" y="356"/>
                    </a:lnTo>
                    <a:lnTo>
                      <a:pt x="480" y="362"/>
                    </a:lnTo>
                    <a:lnTo>
                      <a:pt x="471" y="369"/>
                    </a:lnTo>
                    <a:lnTo>
                      <a:pt x="463" y="375"/>
                    </a:lnTo>
                    <a:lnTo>
                      <a:pt x="454" y="382"/>
                    </a:lnTo>
                    <a:lnTo>
                      <a:pt x="445" y="388"/>
                    </a:lnTo>
                    <a:lnTo>
                      <a:pt x="436" y="394"/>
                    </a:lnTo>
                    <a:lnTo>
                      <a:pt x="428" y="400"/>
                    </a:lnTo>
                    <a:close/>
                    <a:moveTo>
                      <a:pt x="1029" y="1242"/>
                    </a:moveTo>
                    <a:lnTo>
                      <a:pt x="1153" y="787"/>
                    </a:lnTo>
                    <a:lnTo>
                      <a:pt x="1160" y="786"/>
                    </a:lnTo>
                    <a:lnTo>
                      <a:pt x="1167" y="785"/>
                    </a:lnTo>
                    <a:lnTo>
                      <a:pt x="1174" y="784"/>
                    </a:lnTo>
                    <a:lnTo>
                      <a:pt x="1181" y="783"/>
                    </a:lnTo>
                    <a:lnTo>
                      <a:pt x="1188" y="783"/>
                    </a:lnTo>
                    <a:lnTo>
                      <a:pt x="1194" y="782"/>
                    </a:lnTo>
                    <a:lnTo>
                      <a:pt x="1201" y="781"/>
                    </a:lnTo>
                    <a:lnTo>
                      <a:pt x="1208" y="781"/>
                    </a:lnTo>
                    <a:lnTo>
                      <a:pt x="1214" y="781"/>
                    </a:lnTo>
                    <a:lnTo>
                      <a:pt x="1221" y="781"/>
                    </a:lnTo>
                    <a:lnTo>
                      <a:pt x="1227" y="781"/>
                    </a:lnTo>
                    <a:lnTo>
                      <a:pt x="1234" y="781"/>
                    </a:lnTo>
                    <a:lnTo>
                      <a:pt x="1240" y="782"/>
                    </a:lnTo>
                    <a:lnTo>
                      <a:pt x="1247" y="782"/>
                    </a:lnTo>
                    <a:lnTo>
                      <a:pt x="1253" y="783"/>
                    </a:lnTo>
                    <a:lnTo>
                      <a:pt x="1259" y="784"/>
                    </a:lnTo>
                    <a:lnTo>
                      <a:pt x="1265" y="785"/>
                    </a:lnTo>
                    <a:lnTo>
                      <a:pt x="1271" y="787"/>
                    </a:lnTo>
                    <a:lnTo>
                      <a:pt x="1277" y="789"/>
                    </a:lnTo>
                    <a:lnTo>
                      <a:pt x="1283" y="791"/>
                    </a:lnTo>
                    <a:lnTo>
                      <a:pt x="1289" y="793"/>
                    </a:lnTo>
                    <a:lnTo>
                      <a:pt x="1295" y="796"/>
                    </a:lnTo>
                    <a:lnTo>
                      <a:pt x="1301" y="798"/>
                    </a:lnTo>
                    <a:lnTo>
                      <a:pt x="1307" y="801"/>
                    </a:lnTo>
                    <a:lnTo>
                      <a:pt x="1313" y="805"/>
                    </a:lnTo>
                    <a:lnTo>
                      <a:pt x="1318" y="809"/>
                    </a:lnTo>
                    <a:lnTo>
                      <a:pt x="1324" y="813"/>
                    </a:lnTo>
                    <a:lnTo>
                      <a:pt x="1329" y="817"/>
                    </a:lnTo>
                    <a:lnTo>
                      <a:pt x="1334" y="821"/>
                    </a:lnTo>
                    <a:lnTo>
                      <a:pt x="1340" y="826"/>
                    </a:lnTo>
                    <a:lnTo>
                      <a:pt x="1345" y="832"/>
                    </a:lnTo>
                    <a:lnTo>
                      <a:pt x="1350" y="838"/>
                    </a:lnTo>
                    <a:lnTo>
                      <a:pt x="1196" y="1275"/>
                    </a:lnTo>
                    <a:lnTo>
                      <a:pt x="1194" y="1274"/>
                    </a:lnTo>
                    <a:lnTo>
                      <a:pt x="1192" y="1273"/>
                    </a:lnTo>
                    <a:lnTo>
                      <a:pt x="1191" y="1272"/>
                    </a:lnTo>
                    <a:lnTo>
                      <a:pt x="1189" y="1271"/>
                    </a:lnTo>
                    <a:lnTo>
                      <a:pt x="1188" y="1269"/>
                    </a:lnTo>
                    <a:lnTo>
                      <a:pt x="1187" y="1267"/>
                    </a:lnTo>
                    <a:lnTo>
                      <a:pt x="1186" y="1265"/>
                    </a:lnTo>
                    <a:lnTo>
                      <a:pt x="1185" y="1263"/>
                    </a:lnTo>
                    <a:lnTo>
                      <a:pt x="1184" y="1261"/>
                    </a:lnTo>
                    <a:lnTo>
                      <a:pt x="1183" y="1258"/>
                    </a:lnTo>
                    <a:lnTo>
                      <a:pt x="1183" y="1256"/>
                    </a:lnTo>
                    <a:lnTo>
                      <a:pt x="1182" y="1253"/>
                    </a:lnTo>
                    <a:lnTo>
                      <a:pt x="1182" y="1250"/>
                    </a:lnTo>
                    <a:lnTo>
                      <a:pt x="1182" y="1247"/>
                    </a:lnTo>
                    <a:lnTo>
                      <a:pt x="1182" y="1244"/>
                    </a:lnTo>
                    <a:lnTo>
                      <a:pt x="1182" y="1241"/>
                    </a:lnTo>
                    <a:lnTo>
                      <a:pt x="1182" y="1237"/>
                    </a:lnTo>
                    <a:lnTo>
                      <a:pt x="1182" y="1233"/>
                    </a:lnTo>
                    <a:lnTo>
                      <a:pt x="1182" y="1230"/>
                    </a:lnTo>
                    <a:lnTo>
                      <a:pt x="1182" y="1226"/>
                    </a:lnTo>
                    <a:lnTo>
                      <a:pt x="1183" y="1222"/>
                    </a:lnTo>
                    <a:lnTo>
                      <a:pt x="1183" y="1217"/>
                    </a:lnTo>
                    <a:lnTo>
                      <a:pt x="1183" y="1213"/>
                    </a:lnTo>
                    <a:lnTo>
                      <a:pt x="1184" y="1209"/>
                    </a:lnTo>
                    <a:lnTo>
                      <a:pt x="1184" y="1204"/>
                    </a:lnTo>
                    <a:lnTo>
                      <a:pt x="1184" y="1199"/>
                    </a:lnTo>
                    <a:lnTo>
                      <a:pt x="1185" y="1195"/>
                    </a:lnTo>
                    <a:lnTo>
                      <a:pt x="1185" y="1190"/>
                    </a:lnTo>
                    <a:lnTo>
                      <a:pt x="1185" y="1185"/>
                    </a:lnTo>
                    <a:lnTo>
                      <a:pt x="1185" y="1180"/>
                    </a:lnTo>
                    <a:lnTo>
                      <a:pt x="1186" y="1174"/>
                    </a:lnTo>
                    <a:lnTo>
                      <a:pt x="1186" y="1169"/>
                    </a:lnTo>
                    <a:lnTo>
                      <a:pt x="1186" y="1164"/>
                    </a:lnTo>
                    <a:lnTo>
                      <a:pt x="1186" y="1160"/>
                    </a:lnTo>
                    <a:lnTo>
                      <a:pt x="1186" y="1156"/>
                    </a:lnTo>
                    <a:lnTo>
                      <a:pt x="1186" y="1153"/>
                    </a:lnTo>
                    <a:lnTo>
                      <a:pt x="1186" y="1151"/>
                    </a:lnTo>
                    <a:lnTo>
                      <a:pt x="1186" y="1149"/>
                    </a:lnTo>
                    <a:lnTo>
                      <a:pt x="1186" y="1148"/>
                    </a:lnTo>
                    <a:lnTo>
                      <a:pt x="1185" y="1147"/>
                    </a:lnTo>
                    <a:lnTo>
                      <a:pt x="1184" y="1147"/>
                    </a:lnTo>
                    <a:lnTo>
                      <a:pt x="1184" y="1148"/>
                    </a:lnTo>
                    <a:lnTo>
                      <a:pt x="1183" y="1148"/>
                    </a:lnTo>
                    <a:lnTo>
                      <a:pt x="1182" y="1149"/>
                    </a:lnTo>
                    <a:lnTo>
                      <a:pt x="1181" y="1150"/>
                    </a:lnTo>
                    <a:lnTo>
                      <a:pt x="1179" y="1152"/>
                    </a:lnTo>
                    <a:lnTo>
                      <a:pt x="1178" y="1153"/>
                    </a:lnTo>
                    <a:lnTo>
                      <a:pt x="1176" y="1154"/>
                    </a:lnTo>
                    <a:lnTo>
                      <a:pt x="1174" y="1156"/>
                    </a:lnTo>
                    <a:lnTo>
                      <a:pt x="1171" y="1157"/>
                    </a:lnTo>
                    <a:lnTo>
                      <a:pt x="1169" y="1158"/>
                    </a:lnTo>
                    <a:lnTo>
                      <a:pt x="1166" y="1159"/>
                    </a:lnTo>
                    <a:lnTo>
                      <a:pt x="1163" y="1160"/>
                    </a:lnTo>
                    <a:lnTo>
                      <a:pt x="1160" y="1161"/>
                    </a:lnTo>
                    <a:lnTo>
                      <a:pt x="1156" y="1161"/>
                    </a:lnTo>
                    <a:lnTo>
                      <a:pt x="1152" y="1161"/>
                    </a:lnTo>
                    <a:lnTo>
                      <a:pt x="1148" y="1161"/>
                    </a:lnTo>
                    <a:lnTo>
                      <a:pt x="1143" y="1160"/>
                    </a:lnTo>
                    <a:lnTo>
                      <a:pt x="1138" y="1159"/>
                    </a:lnTo>
                    <a:lnTo>
                      <a:pt x="1133" y="1157"/>
                    </a:lnTo>
                    <a:lnTo>
                      <a:pt x="1127" y="1155"/>
                    </a:lnTo>
                    <a:lnTo>
                      <a:pt x="1121" y="1152"/>
                    </a:lnTo>
                    <a:lnTo>
                      <a:pt x="1115" y="1149"/>
                    </a:lnTo>
                    <a:lnTo>
                      <a:pt x="1108" y="1143"/>
                    </a:lnTo>
                    <a:lnTo>
                      <a:pt x="1102" y="1139"/>
                    </a:lnTo>
                    <a:lnTo>
                      <a:pt x="1097" y="1135"/>
                    </a:lnTo>
                    <a:lnTo>
                      <a:pt x="1093" y="1132"/>
                    </a:lnTo>
                    <a:lnTo>
                      <a:pt x="1089" y="1130"/>
                    </a:lnTo>
                    <a:lnTo>
                      <a:pt x="1086" y="1129"/>
                    </a:lnTo>
                    <a:lnTo>
                      <a:pt x="1084" y="1129"/>
                    </a:lnTo>
                    <a:lnTo>
                      <a:pt x="1082" y="1129"/>
                    </a:lnTo>
                    <a:lnTo>
                      <a:pt x="1081" y="1130"/>
                    </a:lnTo>
                    <a:lnTo>
                      <a:pt x="1081" y="1132"/>
                    </a:lnTo>
                    <a:lnTo>
                      <a:pt x="1081" y="1134"/>
                    </a:lnTo>
                    <a:lnTo>
                      <a:pt x="1081" y="1137"/>
                    </a:lnTo>
                    <a:lnTo>
                      <a:pt x="1082" y="1140"/>
                    </a:lnTo>
                    <a:lnTo>
                      <a:pt x="1084" y="1144"/>
                    </a:lnTo>
                    <a:lnTo>
                      <a:pt x="1085" y="1149"/>
                    </a:lnTo>
                    <a:lnTo>
                      <a:pt x="1088" y="1154"/>
                    </a:lnTo>
                    <a:lnTo>
                      <a:pt x="1090" y="1159"/>
                    </a:lnTo>
                    <a:lnTo>
                      <a:pt x="1093" y="1164"/>
                    </a:lnTo>
                    <a:lnTo>
                      <a:pt x="1097" y="1170"/>
                    </a:lnTo>
                    <a:lnTo>
                      <a:pt x="1100" y="1176"/>
                    </a:lnTo>
                    <a:lnTo>
                      <a:pt x="1104" y="1182"/>
                    </a:lnTo>
                    <a:lnTo>
                      <a:pt x="1108" y="1189"/>
                    </a:lnTo>
                    <a:lnTo>
                      <a:pt x="1113" y="1195"/>
                    </a:lnTo>
                    <a:lnTo>
                      <a:pt x="1117" y="1202"/>
                    </a:lnTo>
                    <a:lnTo>
                      <a:pt x="1122" y="1209"/>
                    </a:lnTo>
                    <a:lnTo>
                      <a:pt x="1127" y="1216"/>
                    </a:lnTo>
                    <a:lnTo>
                      <a:pt x="1132" y="1223"/>
                    </a:lnTo>
                    <a:lnTo>
                      <a:pt x="1137" y="1229"/>
                    </a:lnTo>
                    <a:lnTo>
                      <a:pt x="1142" y="1236"/>
                    </a:lnTo>
                    <a:lnTo>
                      <a:pt x="1147" y="1243"/>
                    </a:lnTo>
                    <a:lnTo>
                      <a:pt x="1152" y="1249"/>
                    </a:lnTo>
                    <a:lnTo>
                      <a:pt x="1158" y="1255"/>
                    </a:lnTo>
                    <a:lnTo>
                      <a:pt x="1029" y="1242"/>
                    </a:lnTo>
                    <a:close/>
                    <a:moveTo>
                      <a:pt x="252" y="649"/>
                    </a:moveTo>
                    <a:lnTo>
                      <a:pt x="253" y="646"/>
                    </a:lnTo>
                    <a:lnTo>
                      <a:pt x="254" y="643"/>
                    </a:lnTo>
                    <a:lnTo>
                      <a:pt x="255" y="640"/>
                    </a:lnTo>
                    <a:lnTo>
                      <a:pt x="257" y="638"/>
                    </a:lnTo>
                    <a:lnTo>
                      <a:pt x="258" y="635"/>
                    </a:lnTo>
                    <a:lnTo>
                      <a:pt x="260" y="632"/>
                    </a:lnTo>
                    <a:lnTo>
                      <a:pt x="262" y="629"/>
                    </a:lnTo>
                    <a:lnTo>
                      <a:pt x="264" y="627"/>
                    </a:lnTo>
                    <a:lnTo>
                      <a:pt x="266" y="624"/>
                    </a:lnTo>
                    <a:lnTo>
                      <a:pt x="268" y="621"/>
                    </a:lnTo>
                    <a:lnTo>
                      <a:pt x="270" y="619"/>
                    </a:lnTo>
                    <a:lnTo>
                      <a:pt x="272" y="617"/>
                    </a:lnTo>
                    <a:lnTo>
                      <a:pt x="274" y="614"/>
                    </a:lnTo>
                    <a:lnTo>
                      <a:pt x="277" y="612"/>
                    </a:lnTo>
                    <a:lnTo>
                      <a:pt x="279" y="610"/>
                    </a:lnTo>
                    <a:lnTo>
                      <a:pt x="281" y="609"/>
                    </a:lnTo>
                    <a:lnTo>
                      <a:pt x="284" y="607"/>
                    </a:lnTo>
                    <a:lnTo>
                      <a:pt x="286" y="605"/>
                    </a:lnTo>
                    <a:lnTo>
                      <a:pt x="289" y="604"/>
                    </a:lnTo>
                    <a:lnTo>
                      <a:pt x="291" y="603"/>
                    </a:lnTo>
                    <a:lnTo>
                      <a:pt x="294" y="602"/>
                    </a:lnTo>
                    <a:lnTo>
                      <a:pt x="297" y="601"/>
                    </a:lnTo>
                    <a:lnTo>
                      <a:pt x="299" y="600"/>
                    </a:lnTo>
                    <a:lnTo>
                      <a:pt x="302" y="600"/>
                    </a:lnTo>
                    <a:lnTo>
                      <a:pt x="305" y="600"/>
                    </a:lnTo>
                    <a:lnTo>
                      <a:pt x="307" y="600"/>
                    </a:lnTo>
                    <a:lnTo>
                      <a:pt x="310" y="600"/>
                    </a:lnTo>
                    <a:lnTo>
                      <a:pt x="312" y="601"/>
                    </a:lnTo>
                    <a:lnTo>
                      <a:pt x="315" y="601"/>
                    </a:lnTo>
                    <a:lnTo>
                      <a:pt x="318" y="602"/>
                    </a:lnTo>
                    <a:lnTo>
                      <a:pt x="320" y="604"/>
                    </a:lnTo>
                    <a:lnTo>
                      <a:pt x="323" y="605"/>
                    </a:lnTo>
                    <a:lnTo>
                      <a:pt x="328" y="612"/>
                    </a:lnTo>
                    <a:lnTo>
                      <a:pt x="329" y="613"/>
                    </a:lnTo>
                    <a:lnTo>
                      <a:pt x="329" y="614"/>
                    </a:lnTo>
                    <a:lnTo>
                      <a:pt x="330" y="615"/>
                    </a:lnTo>
                    <a:lnTo>
                      <a:pt x="330" y="617"/>
                    </a:lnTo>
                    <a:lnTo>
                      <a:pt x="331" y="618"/>
                    </a:lnTo>
                    <a:lnTo>
                      <a:pt x="331" y="620"/>
                    </a:lnTo>
                    <a:lnTo>
                      <a:pt x="331" y="621"/>
                    </a:lnTo>
                    <a:lnTo>
                      <a:pt x="332" y="623"/>
                    </a:lnTo>
                    <a:lnTo>
                      <a:pt x="332" y="625"/>
                    </a:lnTo>
                    <a:lnTo>
                      <a:pt x="332" y="626"/>
                    </a:lnTo>
                    <a:lnTo>
                      <a:pt x="332" y="628"/>
                    </a:lnTo>
                    <a:lnTo>
                      <a:pt x="333" y="630"/>
                    </a:lnTo>
                    <a:lnTo>
                      <a:pt x="333" y="631"/>
                    </a:lnTo>
                    <a:lnTo>
                      <a:pt x="333" y="633"/>
                    </a:lnTo>
                    <a:lnTo>
                      <a:pt x="334" y="635"/>
                    </a:lnTo>
                    <a:lnTo>
                      <a:pt x="334" y="637"/>
                    </a:lnTo>
                    <a:lnTo>
                      <a:pt x="334" y="638"/>
                    </a:lnTo>
                    <a:lnTo>
                      <a:pt x="334" y="640"/>
                    </a:lnTo>
                    <a:lnTo>
                      <a:pt x="335" y="642"/>
                    </a:lnTo>
                    <a:lnTo>
                      <a:pt x="335" y="644"/>
                    </a:lnTo>
                    <a:lnTo>
                      <a:pt x="335" y="645"/>
                    </a:lnTo>
                    <a:lnTo>
                      <a:pt x="335" y="647"/>
                    </a:lnTo>
                    <a:lnTo>
                      <a:pt x="336" y="649"/>
                    </a:lnTo>
                    <a:lnTo>
                      <a:pt x="336" y="650"/>
                    </a:lnTo>
                    <a:lnTo>
                      <a:pt x="336" y="652"/>
                    </a:lnTo>
                    <a:lnTo>
                      <a:pt x="337" y="654"/>
                    </a:lnTo>
                    <a:lnTo>
                      <a:pt x="337" y="655"/>
                    </a:lnTo>
                    <a:lnTo>
                      <a:pt x="338" y="657"/>
                    </a:lnTo>
                    <a:lnTo>
                      <a:pt x="338" y="658"/>
                    </a:lnTo>
                    <a:lnTo>
                      <a:pt x="338" y="659"/>
                    </a:lnTo>
                    <a:lnTo>
                      <a:pt x="339" y="661"/>
                    </a:lnTo>
                    <a:lnTo>
                      <a:pt x="339" y="662"/>
                    </a:lnTo>
                    <a:lnTo>
                      <a:pt x="338" y="663"/>
                    </a:lnTo>
                    <a:lnTo>
                      <a:pt x="337" y="664"/>
                    </a:lnTo>
                    <a:lnTo>
                      <a:pt x="336" y="665"/>
                    </a:lnTo>
                    <a:lnTo>
                      <a:pt x="336" y="667"/>
                    </a:lnTo>
                    <a:lnTo>
                      <a:pt x="335" y="668"/>
                    </a:lnTo>
                    <a:lnTo>
                      <a:pt x="334" y="669"/>
                    </a:lnTo>
                    <a:lnTo>
                      <a:pt x="333" y="671"/>
                    </a:lnTo>
                    <a:lnTo>
                      <a:pt x="332" y="672"/>
                    </a:lnTo>
                    <a:lnTo>
                      <a:pt x="331" y="673"/>
                    </a:lnTo>
                    <a:lnTo>
                      <a:pt x="330" y="675"/>
                    </a:lnTo>
                    <a:lnTo>
                      <a:pt x="330" y="676"/>
                    </a:lnTo>
                    <a:lnTo>
                      <a:pt x="329" y="678"/>
                    </a:lnTo>
                    <a:lnTo>
                      <a:pt x="328" y="679"/>
                    </a:lnTo>
                    <a:lnTo>
                      <a:pt x="327" y="681"/>
                    </a:lnTo>
                    <a:lnTo>
                      <a:pt x="326" y="682"/>
                    </a:lnTo>
                    <a:lnTo>
                      <a:pt x="326" y="683"/>
                    </a:lnTo>
                    <a:lnTo>
                      <a:pt x="325" y="685"/>
                    </a:lnTo>
                    <a:lnTo>
                      <a:pt x="324" y="686"/>
                    </a:lnTo>
                    <a:lnTo>
                      <a:pt x="323" y="688"/>
                    </a:lnTo>
                    <a:lnTo>
                      <a:pt x="323" y="689"/>
                    </a:lnTo>
                    <a:lnTo>
                      <a:pt x="322" y="691"/>
                    </a:lnTo>
                    <a:lnTo>
                      <a:pt x="321" y="692"/>
                    </a:lnTo>
                    <a:lnTo>
                      <a:pt x="320" y="694"/>
                    </a:lnTo>
                    <a:lnTo>
                      <a:pt x="319" y="695"/>
                    </a:lnTo>
                    <a:lnTo>
                      <a:pt x="318" y="696"/>
                    </a:lnTo>
                    <a:lnTo>
                      <a:pt x="318" y="698"/>
                    </a:lnTo>
                    <a:lnTo>
                      <a:pt x="317" y="699"/>
                    </a:lnTo>
                    <a:lnTo>
                      <a:pt x="316" y="701"/>
                    </a:lnTo>
                    <a:lnTo>
                      <a:pt x="315" y="703"/>
                    </a:lnTo>
                    <a:lnTo>
                      <a:pt x="314" y="704"/>
                    </a:lnTo>
                    <a:lnTo>
                      <a:pt x="313" y="705"/>
                    </a:lnTo>
                    <a:lnTo>
                      <a:pt x="312" y="706"/>
                    </a:lnTo>
                    <a:lnTo>
                      <a:pt x="252" y="6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718040" y="4065480"/>
                <a:ext cx="135000" cy="255600"/>
              </a:xfrm>
              <a:custGeom>
                <a:avLst/>
                <a:gdLst/>
                <a:ahLst/>
                <a:rect l="l" t="t" r="r" b="b"/>
                <a:pathLst>
                  <a:path w="339" h="643">
                    <a:moveTo>
                      <a:pt x="5" y="236"/>
                    </a:moveTo>
                    <a:lnTo>
                      <a:pt x="5" y="223"/>
                    </a:lnTo>
                    <a:lnTo>
                      <a:pt x="6" y="210"/>
                    </a:lnTo>
                    <a:lnTo>
                      <a:pt x="7" y="196"/>
                    </a:lnTo>
                    <a:lnTo>
                      <a:pt x="8" y="182"/>
                    </a:lnTo>
                    <a:lnTo>
                      <a:pt x="10" y="168"/>
                    </a:lnTo>
                    <a:lnTo>
                      <a:pt x="12" y="153"/>
                    </a:lnTo>
                    <a:lnTo>
                      <a:pt x="14" y="138"/>
                    </a:lnTo>
                    <a:lnTo>
                      <a:pt x="16" y="124"/>
                    </a:lnTo>
                    <a:lnTo>
                      <a:pt x="18" y="109"/>
                    </a:lnTo>
                    <a:lnTo>
                      <a:pt x="20" y="94"/>
                    </a:lnTo>
                    <a:lnTo>
                      <a:pt x="22" y="79"/>
                    </a:lnTo>
                    <a:lnTo>
                      <a:pt x="23" y="64"/>
                    </a:lnTo>
                    <a:lnTo>
                      <a:pt x="25" y="49"/>
                    </a:lnTo>
                    <a:lnTo>
                      <a:pt x="26" y="34"/>
                    </a:lnTo>
                    <a:lnTo>
                      <a:pt x="27" y="20"/>
                    </a:lnTo>
                    <a:lnTo>
                      <a:pt x="27" y="6"/>
                    </a:lnTo>
                    <a:lnTo>
                      <a:pt x="30" y="2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44" y="8"/>
                    </a:lnTo>
                    <a:lnTo>
                      <a:pt x="44" y="17"/>
                    </a:lnTo>
                    <a:lnTo>
                      <a:pt x="46" y="27"/>
                    </a:lnTo>
                    <a:lnTo>
                      <a:pt x="48" y="38"/>
                    </a:lnTo>
                    <a:lnTo>
                      <a:pt x="50" y="48"/>
                    </a:lnTo>
                    <a:lnTo>
                      <a:pt x="52" y="58"/>
                    </a:lnTo>
                    <a:lnTo>
                      <a:pt x="54" y="67"/>
                    </a:lnTo>
                    <a:lnTo>
                      <a:pt x="54" y="74"/>
                    </a:lnTo>
                    <a:lnTo>
                      <a:pt x="56" y="84"/>
                    </a:lnTo>
                    <a:lnTo>
                      <a:pt x="56" y="95"/>
                    </a:lnTo>
                    <a:lnTo>
                      <a:pt x="55" y="106"/>
                    </a:lnTo>
                    <a:lnTo>
                      <a:pt x="54" y="118"/>
                    </a:lnTo>
                    <a:lnTo>
                      <a:pt x="53" y="130"/>
                    </a:lnTo>
                    <a:lnTo>
                      <a:pt x="53" y="141"/>
                    </a:lnTo>
                    <a:lnTo>
                      <a:pt x="53" y="152"/>
                    </a:lnTo>
                    <a:lnTo>
                      <a:pt x="54" y="162"/>
                    </a:lnTo>
                    <a:lnTo>
                      <a:pt x="62" y="187"/>
                    </a:lnTo>
                    <a:lnTo>
                      <a:pt x="72" y="210"/>
                    </a:lnTo>
                    <a:lnTo>
                      <a:pt x="85" y="232"/>
                    </a:lnTo>
                    <a:lnTo>
                      <a:pt x="99" y="252"/>
                    </a:lnTo>
                    <a:lnTo>
                      <a:pt x="116" y="272"/>
                    </a:lnTo>
                    <a:lnTo>
                      <a:pt x="134" y="290"/>
                    </a:lnTo>
                    <a:lnTo>
                      <a:pt x="153" y="307"/>
                    </a:lnTo>
                    <a:lnTo>
                      <a:pt x="175" y="323"/>
                    </a:lnTo>
                    <a:lnTo>
                      <a:pt x="196" y="338"/>
                    </a:lnTo>
                    <a:lnTo>
                      <a:pt x="217" y="352"/>
                    </a:lnTo>
                    <a:lnTo>
                      <a:pt x="239" y="365"/>
                    </a:lnTo>
                    <a:lnTo>
                      <a:pt x="260" y="377"/>
                    </a:lnTo>
                    <a:lnTo>
                      <a:pt x="281" y="388"/>
                    </a:lnTo>
                    <a:lnTo>
                      <a:pt x="302" y="399"/>
                    </a:lnTo>
                    <a:lnTo>
                      <a:pt x="321" y="409"/>
                    </a:lnTo>
                    <a:lnTo>
                      <a:pt x="339" y="418"/>
                    </a:lnTo>
                    <a:lnTo>
                      <a:pt x="333" y="427"/>
                    </a:lnTo>
                    <a:lnTo>
                      <a:pt x="326" y="436"/>
                    </a:lnTo>
                    <a:lnTo>
                      <a:pt x="321" y="445"/>
                    </a:lnTo>
                    <a:lnTo>
                      <a:pt x="315" y="455"/>
                    </a:lnTo>
                    <a:lnTo>
                      <a:pt x="311" y="465"/>
                    </a:lnTo>
                    <a:lnTo>
                      <a:pt x="306" y="476"/>
                    </a:lnTo>
                    <a:lnTo>
                      <a:pt x="302" y="487"/>
                    </a:lnTo>
                    <a:lnTo>
                      <a:pt x="298" y="498"/>
                    </a:lnTo>
                    <a:lnTo>
                      <a:pt x="295" y="509"/>
                    </a:lnTo>
                    <a:lnTo>
                      <a:pt x="292" y="520"/>
                    </a:lnTo>
                    <a:lnTo>
                      <a:pt x="289" y="532"/>
                    </a:lnTo>
                    <a:lnTo>
                      <a:pt x="286" y="543"/>
                    </a:lnTo>
                    <a:lnTo>
                      <a:pt x="283" y="554"/>
                    </a:lnTo>
                    <a:lnTo>
                      <a:pt x="280" y="565"/>
                    </a:lnTo>
                    <a:lnTo>
                      <a:pt x="277" y="576"/>
                    </a:lnTo>
                    <a:lnTo>
                      <a:pt x="274" y="587"/>
                    </a:lnTo>
                    <a:lnTo>
                      <a:pt x="271" y="594"/>
                    </a:lnTo>
                    <a:lnTo>
                      <a:pt x="268" y="601"/>
                    </a:lnTo>
                    <a:lnTo>
                      <a:pt x="264" y="608"/>
                    </a:lnTo>
                    <a:lnTo>
                      <a:pt x="261" y="615"/>
                    </a:lnTo>
                    <a:lnTo>
                      <a:pt x="257" y="622"/>
                    </a:lnTo>
                    <a:lnTo>
                      <a:pt x="254" y="629"/>
                    </a:lnTo>
                    <a:lnTo>
                      <a:pt x="253" y="636"/>
                    </a:lnTo>
                    <a:lnTo>
                      <a:pt x="252" y="643"/>
                    </a:lnTo>
                    <a:lnTo>
                      <a:pt x="242" y="635"/>
                    </a:lnTo>
                    <a:lnTo>
                      <a:pt x="232" y="627"/>
                    </a:lnTo>
                    <a:lnTo>
                      <a:pt x="222" y="618"/>
                    </a:lnTo>
                    <a:lnTo>
                      <a:pt x="212" y="608"/>
                    </a:lnTo>
                    <a:lnTo>
                      <a:pt x="202" y="597"/>
                    </a:lnTo>
                    <a:lnTo>
                      <a:pt x="193" y="586"/>
                    </a:lnTo>
                    <a:lnTo>
                      <a:pt x="183" y="575"/>
                    </a:lnTo>
                    <a:lnTo>
                      <a:pt x="174" y="563"/>
                    </a:lnTo>
                    <a:lnTo>
                      <a:pt x="165" y="552"/>
                    </a:lnTo>
                    <a:lnTo>
                      <a:pt x="155" y="540"/>
                    </a:lnTo>
                    <a:lnTo>
                      <a:pt x="146" y="528"/>
                    </a:lnTo>
                    <a:lnTo>
                      <a:pt x="137" y="517"/>
                    </a:lnTo>
                    <a:lnTo>
                      <a:pt x="129" y="505"/>
                    </a:lnTo>
                    <a:lnTo>
                      <a:pt x="120" y="495"/>
                    </a:lnTo>
                    <a:lnTo>
                      <a:pt x="112" y="484"/>
                    </a:lnTo>
                    <a:lnTo>
                      <a:pt x="103" y="474"/>
                    </a:lnTo>
                    <a:lnTo>
                      <a:pt x="92" y="461"/>
                    </a:lnTo>
                    <a:lnTo>
                      <a:pt x="79" y="445"/>
                    </a:lnTo>
                    <a:lnTo>
                      <a:pt x="65" y="427"/>
                    </a:lnTo>
                    <a:lnTo>
                      <a:pt x="50" y="407"/>
                    </a:lnTo>
                    <a:lnTo>
                      <a:pt x="36" y="387"/>
                    </a:lnTo>
                    <a:lnTo>
                      <a:pt x="23" y="367"/>
                    </a:lnTo>
                    <a:lnTo>
                      <a:pt x="13" y="348"/>
                    </a:lnTo>
                    <a:lnTo>
                      <a:pt x="5" y="331"/>
                    </a:lnTo>
                    <a:lnTo>
                      <a:pt x="2" y="318"/>
                    </a:lnTo>
                    <a:lnTo>
                      <a:pt x="0" y="305"/>
                    </a:lnTo>
                    <a:lnTo>
                      <a:pt x="0" y="294"/>
                    </a:lnTo>
                    <a:lnTo>
                      <a:pt x="1" y="283"/>
                    </a:lnTo>
                    <a:lnTo>
                      <a:pt x="2" y="272"/>
                    </a:lnTo>
                    <a:lnTo>
                      <a:pt x="4" y="261"/>
                    </a:lnTo>
                    <a:lnTo>
                      <a:pt x="5" y="249"/>
                    </a:lnTo>
                    <a:lnTo>
                      <a:pt x="5" y="2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887960" y="4122720"/>
                <a:ext cx="109800" cy="203040"/>
              </a:xfrm>
              <a:custGeom>
                <a:avLst/>
                <a:gdLst/>
                <a:ahLst/>
                <a:rect l="l" t="t" r="r" b="b"/>
                <a:pathLst>
                  <a:path w="274" h="514">
                    <a:moveTo>
                      <a:pt x="0" y="258"/>
                    </a:moveTo>
                    <a:lnTo>
                      <a:pt x="15" y="269"/>
                    </a:lnTo>
                    <a:lnTo>
                      <a:pt x="28" y="281"/>
                    </a:lnTo>
                    <a:lnTo>
                      <a:pt x="40" y="295"/>
                    </a:lnTo>
                    <a:lnTo>
                      <a:pt x="49" y="310"/>
                    </a:lnTo>
                    <a:lnTo>
                      <a:pt x="57" y="325"/>
                    </a:lnTo>
                    <a:lnTo>
                      <a:pt x="64" y="342"/>
                    </a:lnTo>
                    <a:lnTo>
                      <a:pt x="70" y="359"/>
                    </a:lnTo>
                    <a:lnTo>
                      <a:pt x="75" y="376"/>
                    </a:lnTo>
                    <a:lnTo>
                      <a:pt x="79" y="394"/>
                    </a:lnTo>
                    <a:lnTo>
                      <a:pt x="83" y="412"/>
                    </a:lnTo>
                    <a:lnTo>
                      <a:pt x="87" y="430"/>
                    </a:lnTo>
                    <a:lnTo>
                      <a:pt x="91" y="447"/>
                    </a:lnTo>
                    <a:lnTo>
                      <a:pt x="94" y="465"/>
                    </a:lnTo>
                    <a:lnTo>
                      <a:pt x="99" y="482"/>
                    </a:lnTo>
                    <a:lnTo>
                      <a:pt x="103" y="498"/>
                    </a:lnTo>
                    <a:lnTo>
                      <a:pt x="109" y="514"/>
                    </a:lnTo>
                    <a:lnTo>
                      <a:pt x="119" y="501"/>
                    </a:lnTo>
                    <a:lnTo>
                      <a:pt x="129" y="487"/>
                    </a:lnTo>
                    <a:lnTo>
                      <a:pt x="138" y="471"/>
                    </a:lnTo>
                    <a:lnTo>
                      <a:pt x="146" y="455"/>
                    </a:lnTo>
                    <a:lnTo>
                      <a:pt x="155" y="437"/>
                    </a:lnTo>
                    <a:lnTo>
                      <a:pt x="163" y="419"/>
                    </a:lnTo>
                    <a:lnTo>
                      <a:pt x="170" y="399"/>
                    </a:lnTo>
                    <a:lnTo>
                      <a:pt x="178" y="380"/>
                    </a:lnTo>
                    <a:lnTo>
                      <a:pt x="185" y="360"/>
                    </a:lnTo>
                    <a:lnTo>
                      <a:pt x="192" y="341"/>
                    </a:lnTo>
                    <a:lnTo>
                      <a:pt x="199" y="321"/>
                    </a:lnTo>
                    <a:lnTo>
                      <a:pt x="205" y="302"/>
                    </a:lnTo>
                    <a:lnTo>
                      <a:pt x="212" y="283"/>
                    </a:lnTo>
                    <a:lnTo>
                      <a:pt x="218" y="265"/>
                    </a:lnTo>
                    <a:lnTo>
                      <a:pt x="224" y="248"/>
                    </a:lnTo>
                    <a:lnTo>
                      <a:pt x="230" y="233"/>
                    </a:lnTo>
                    <a:lnTo>
                      <a:pt x="237" y="216"/>
                    </a:lnTo>
                    <a:lnTo>
                      <a:pt x="244" y="200"/>
                    </a:lnTo>
                    <a:lnTo>
                      <a:pt x="252" y="183"/>
                    </a:lnTo>
                    <a:lnTo>
                      <a:pt x="259" y="165"/>
                    </a:lnTo>
                    <a:lnTo>
                      <a:pt x="265" y="147"/>
                    </a:lnTo>
                    <a:lnTo>
                      <a:pt x="270" y="128"/>
                    </a:lnTo>
                    <a:lnTo>
                      <a:pt x="273" y="109"/>
                    </a:lnTo>
                    <a:lnTo>
                      <a:pt x="274" y="88"/>
                    </a:lnTo>
                    <a:lnTo>
                      <a:pt x="267" y="75"/>
                    </a:lnTo>
                    <a:lnTo>
                      <a:pt x="261" y="60"/>
                    </a:lnTo>
                    <a:lnTo>
                      <a:pt x="257" y="45"/>
                    </a:lnTo>
                    <a:lnTo>
                      <a:pt x="252" y="30"/>
                    </a:lnTo>
                    <a:lnTo>
                      <a:pt x="249" y="16"/>
                    </a:lnTo>
                    <a:lnTo>
                      <a:pt x="245" y="6"/>
                    </a:lnTo>
                    <a:lnTo>
                      <a:pt x="241" y="0"/>
                    </a:lnTo>
                    <a:lnTo>
                      <a:pt x="236" y="0"/>
                    </a:lnTo>
                    <a:lnTo>
                      <a:pt x="226" y="21"/>
                    </a:lnTo>
                    <a:lnTo>
                      <a:pt x="215" y="41"/>
                    </a:lnTo>
                    <a:lnTo>
                      <a:pt x="204" y="60"/>
                    </a:lnTo>
                    <a:lnTo>
                      <a:pt x="191" y="79"/>
                    </a:lnTo>
                    <a:lnTo>
                      <a:pt x="177" y="97"/>
                    </a:lnTo>
                    <a:lnTo>
                      <a:pt x="163" y="114"/>
                    </a:lnTo>
                    <a:lnTo>
                      <a:pt x="149" y="131"/>
                    </a:lnTo>
                    <a:lnTo>
                      <a:pt x="134" y="147"/>
                    </a:lnTo>
                    <a:lnTo>
                      <a:pt x="118" y="162"/>
                    </a:lnTo>
                    <a:lnTo>
                      <a:pt x="102" y="178"/>
                    </a:lnTo>
                    <a:lnTo>
                      <a:pt x="86" y="193"/>
                    </a:lnTo>
                    <a:lnTo>
                      <a:pt x="69" y="207"/>
                    </a:lnTo>
                    <a:lnTo>
                      <a:pt x="52" y="220"/>
                    </a:lnTo>
                    <a:lnTo>
                      <a:pt x="35" y="233"/>
                    </a:lnTo>
                    <a:lnTo>
                      <a:pt x="17" y="246"/>
                    </a:lnTo>
                    <a:lnTo>
                      <a:pt x="0" y="2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127720" y="4375080"/>
                <a:ext cx="127080" cy="196920"/>
              </a:xfrm>
              <a:custGeom>
                <a:avLst/>
                <a:gdLst/>
                <a:ahLst/>
                <a:rect l="l" t="t" r="r" b="b"/>
                <a:pathLst>
                  <a:path w="321" h="494">
                    <a:moveTo>
                      <a:pt x="0" y="461"/>
                    </a:moveTo>
                    <a:lnTo>
                      <a:pt x="124" y="6"/>
                    </a:lnTo>
                    <a:lnTo>
                      <a:pt x="138" y="4"/>
                    </a:lnTo>
                    <a:lnTo>
                      <a:pt x="152" y="2"/>
                    </a:lnTo>
                    <a:lnTo>
                      <a:pt x="165" y="1"/>
                    </a:lnTo>
                    <a:lnTo>
                      <a:pt x="179" y="0"/>
                    </a:lnTo>
                    <a:lnTo>
                      <a:pt x="192" y="0"/>
                    </a:lnTo>
                    <a:lnTo>
                      <a:pt x="205" y="0"/>
                    </a:lnTo>
                    <a:lnTo>
                      <a:pt x="218" y="1"/>
                    </a:lnTo>
                    <a:lnTo>
                      <a:pt x="230" y="3"/>
                    </a:lnTo>
                    <a:lnTo>
                      <a:pt x="242" y="6"/>
                    </a:lnTo>
                    <a:lnTo>
                      <a:pt x="254" y="10"/>
                    </a:lnTo>
                    <a:lnTo>
                      <a:pt x="266" y="15"/>
                    </a:lnTo>
                    <a:lnTo>
                      <a:pt x="278" y="20"/>
                    </a:lnTo>
                    <a:lnTo>
                      <a:pt x="289" y="28"/>
                    </a:lnTo>
                    <a:lnTo>
                      <a:pt x="300" y="36"/>
                    </a:lnTo>
                    <a:lnTo>
                      <a:pt x="311" y="45"/>
                    </a:lnTo>
                    <a:lnTo>
                      <a:pt x="321" y="57"/>
                    </a:lnTo>
                    <a:lnTo>
                      <a:pt x="167" y="494"/>
                    </a:lnTo>
                    <a:lnTo>
                      <a:pt x="160" y="490"/>
                    </a:lnTo>
                    <a:lnTo>
                      <a:pt x="156" y="482"/>
                    </a:lnTo>
                    <a:lnTo>
                      <a:pt x="153" y="472"/>
                    </a:lnTo>
                    <a:lnTo>
                      <a:pt x="153" y="460"/>
                    </a:lnTo>
                    <a:lnTo>
                      <a:pt x="153" y="445"/>
                    </a:lnTo>
                    <a:lnTo>
                      <a:pt x="155" y="428"/>
                    </a:lnTo>
                    <a:lnTo>
                      <a:pt x="156" y="409"/>
                    </a:lnTo>
                    <a:lnTo>
                      <a:pt x="157" y="388"/>
                    </a:lnTo>
                    <a:lnTo>
                      <a:pt x="157" y="372"/>
                    </a:lnTo>
                    <a:lnTo>
                      <a:pt x="156" y="366"/>
                    </a:lnTo>
                    <a:lnTo>
                      <a:pt x="154" y="367"/>
                    </a:lnTo>
                    <a:lnTo>
                      <a:pt x="149" y="372"/>
                    </a:lnTo>
                    <a:lnTo>
                      <a:pt x="140" y="377"/>
                    </a:lnTo>
                    <a:lnTo>
                      <a:pt x="127" y="380"/>
                    </a:lnTo>
                    <a:lnTo>
                      <a:pt x="109" y="378"/>
                    </a:lnTo>
                    <a:lnTo>
                      <a:pt x="86" y="368"/>
                    </a:lnTo>
                    <a:lnTo>
                      <a:pt x="73" y="358"/>
                    </a:lnTo>
                    <a:lnTo>
                      <a:pt x="64" y="351"/>
                    </a:lnTo>
                    <a:lnTo>
                      <a:pt x="57" y="348"/>
                    </a:lnTo>
                    <a:lnTo>
                      <a:pt x="53" y="348"/>
                    </a:lnTo>
                    <a:lnTo>
                      <a:pt x="52" y="351"/>
                    </a:lnTo>
                    <a:lnTo>
                      <a:pt x="52" y="356"/>
                    </a:lnTo>
                    <a:lnTo>
                      <a:pt x="55" y="363"/>
                    </a:lnTo>
                    <a:lnTo>
                      <a:pt x="59" y="373"/>
                    </a:lnTo>
                    <a:lnTo>
                      <a:pt x="64" y="383"/>
                    </a:lnTo>
                    <a:lnTo>
                      <a:pt x="71" y="395"/>
                    </a:lnTo>
                    <a:lnTo>
                      <a:pt x="79" y="408"/>
                    </a:lnTo>
                    <a:lnTo>
                      <a:pt x="88" y="421"/>
                    </a:lnTo>
                    <a:lnTo>
                      <a:pt x="98" y="435"/>
                    </a:lnTo>
                    <a:lnTo>
                      <a:pt x="108" y="448"/>
                    </a:lnTo>
                    <a:lnTo>
                      <a:pt x="118" y="462"/>
                    </a:lnTo>
                    <a:lnTo>
                      <a:pt x="129" y="474"/>
                    </a:lnTo>
                    <a:lnTo>
                      <a:pt x="0" y="4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18120" y="430380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87" h="106">
                    <a:moveTo>
                      <a:pt x="0" y="49"/>
                    </a:moveTo>
                    <a:lnTo>
                      <a:pt x="5" y="38"/>
                    </a:lnTo>
                    <a:lnTo>
                      <a:pt x="12" y="27"/>
                    </a:lnTo>
                    <a:lnTo>
                      <a:pt x="20" y="17"/>
                    </a:lnTo>
                    <a:lnTo>
                      <a:pt x="29" y="9"/>
                    </a:lnTo>
                    <a:lnTo>
                      <a:pt x="39" y="3"/>
                    </a:lnTo>
                    <a:lnTo>
                      <a:pt x="50" y="0"/>
                    </a:lnTo>
                    <a:lnTo>
                      <a:pt x="60" y="1"/>
                    </a:lnTo>
                    <a:lnTo>
                      <a:pt x="71" y="5"/>
                    </a:lnTo>
                    <a:lnTo>
                      <a:pt x="76" y="12"/>
                    </a:lnTo>
                    <a:lnTo>
                      <a:pt x="78" y="17"/>
                    </a:lnTo>
                    <a:lnTo>
                      <a:pt x="80" y="23"/>
                    </a:lnTo>
                    <a:lnTo>
                      <a:pt x="81" y="30"/>
                    </a:lnTo>
                    <a:lnTo>
                      <a:pt x="82" y="37"/>
                    </a:lnTo>
                    <a:lnTo>
                      <a:pt x="83" y="44"/>
                    </a:lnTo>
                    <a:lnTo>
                      <a:pt x="84" y="50"/>
                    </a:lnTo>
                    <a:lnTo>
                      <a:pt x="86" y="57"/>
                    </a:lnTo>
                    <a:lnTo>
                      <a:pt x="87" y="62"/>
                    </a:lnTo>
                    <a:lnTo>
                      <a:pt x="84" y="67"/>
                    </a:lnTo>
                    <a:lnTo>
                      <a:pt x="80" y="72"/>
                    </a:lnTo>
                    <a:lnTo>
                      <a:pt x="77" y="78"/>
                    </a:lnTo>
                    <a:lnTo>
                      <a:pt x="74" y="83"/>
                    </a:lnTo>
                    <a:lnTo>
                      <a:pt x="71" y="89"/>
                    </a:lnTo>
                    <a:lnTo>
                      <a:pt x="67" y="95"/>
                    </a:lnTo>
                    <a:lnTo>
                      <a:pt x="64" y="101"/>
                    </a:lnTo>
                    <a:lnTo>
                      <a:pt x="60" y="106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710120" y="4151160"/>
                <a:ext cx="297000" cy="257400"/>
              </a:xfrm>
              <a:custGeom>
                <a:avLst/>
                <a:gdLst/>
                <a:ahLst/>
                <a:rect l="l" t="t" r="r" b="b"/>
                <a:pathLst>
                  <a:path w="748" h="648">
                    <a:moveTo>
                      <a:pt x="10" y="0"/>
                    </a:moveTo>
                    <a:lnTo>
                      <a:pt x="7" y="14"/>
                    </a:lnTo>
                    <a:lnTo>
                      <a:pt x="4" y="27"/>
                    </a:lnTo>
                    <a:lnTo>
                      <a:pt x="2" y="39"/>
                    </a:lnTo>
                    <a:lnTo>
                      <a:pt x="1" y="50"/>
                    </a:lnTo>
                    <a:lnTo>
                      <a:pt x="0" y="62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0" y="101"/>
                    </a:lnTo>
                    <a:lnTo>
                      <a:pt x="1" y="110"/>
                    </a:lnTo>
                    <a:lnTo>
                      <a:pt x="5" y="121"/>
                    </a:lnTo>
                    <a:lnTo>
                      <a:pt x="10" y="133"/>
                    </a:lnTo>
                    <a:lnTo>
                      <a:pt x="17" y="145"/>
                    </a:lnTo>
                    <a:lnTo>
                      <a:pt x="25" y="159"/>
                    </a:lnTo>
                    <a:lnTo>
                      <a:pt x="33" y="173"/>
                    </a:lnTo>
                    <a:lnTo>
                      <a:pt x="42" y="187"/>
                    </a:lnTo>
                    <a:lnTo>
                      <a:pt x="51" y="200"/>
                    </a:lnTo>
                    <a:lnTo>
                      <a:pt x="61" y="213"/>
                    </a:lnTo>
                    <a:lnTo>
                      <a:pt x="69" y="225"/>
                    </a:lnTo>
                    <a:lnTo>
                      <a:pt x="78" y="236"/>
                    </a:lnTo>
                    <a:lnTo>
                      <a:pt x="85" y="245"/>
                    </a:lnTo>
                    <a:lnTo>
                      <a:pt x="91" y="252"/>
                    </a:lnTo>
                    <a:lnTo>
                      <a:pt x="95" y="256"/>
                    </a:lnTo>
                    <a:lnTo>
                      <a:pt x="98" y="258"/>
                    </a:lnTo>
                    <a:lnTo>
                      <a:pt x="98" y="257"/>
                    </a:lnTo>
                    <a:lnTo>
                      <a:pt x="100" y="260"/>
                    </a:lnTo>
                    <a:lnTo>
                      <a:pt x="103" y="267"/>
                    </a:lnTo>
                    <a:lnTo>
                      <a:pt x="109" y="276"/>
                    </a:lnTo>
                    <a:lnTo>
                      <a:pt x="116" y="289"/>
                    </a:lnTo>
                    <a:lnTo>
                      <a:pt x="124" y="304"/>
                    </a:lnTo>
                    <a:lnTo>
                      <a:pt x="135" y="320"/>
                    </a:lnTo>
                    <a:lnTo>
                      <a:pt x="146" y="337"/>
                    </a:lnTo>
                    <a:lnTo>
                      <a:pt x="158" y="356"/>
                    </a:lnTo>
                    <a:lnTo>
                      <a:pt x="171" y="374"/>
                    </a:lnTo>
                    <a:lnTo>
                      <a:pt x="185" y="392"/>
                    </a:lnTo>
                    <a:lnTo>
                      <a:pt x="199" y="409"/>
                    </a:lnTo>
                    <a:lnTo>
                      <a:pt x="213" y="425"/>
                    </a:lnTo>
                    <a:lnTo>
                      <a:pt x="227" y="439"/>
                    </a:lnTo>
                    <a:lnTo>
                      <a:pt x="240" y="450"/>
                    </a:lnTo>
                    <a:lnTo>
                      <a:pt x="253" y="458"/>
                    </a:lnTo>
                    <a:lnTo>
                      <a:pt x="266" y="463"/>
                    </a:lnTo>
                    <a:lnTo>
                      <a:pt x="279" y="469"/>
                    </a:lnTo>
                    <a:lnTo>
                      <a:pt x="293" y="480"/>
                    </a:lnTo>
                    <a:lnTo>
                      <a:pt x="308" y="494"/>
                    </a:lnTo>
                    <a:lnTo>
                      <a:pt x="322" y="510"/>
                    </a:lnTo>
                    <a:lnTo>
                      <a:pt x="337" y="527"/>
                    </a:lnTo>
                    <a:lnTo>
                      <a:pt x="350" y="543"/>
                    </a:lnTo>
                    <a:lnTo>
                      <a:pt x="362" y="558"/>
                    </a:lnTo>
                    <a:lnTo>
                      <a:pt x="373" y="570"/>
                    </a:lnTo>
                    <a:lnTo>
                      <a:pt x="384" y="584"/>
                    </a:lnTo>
                    <a:lnTo>
                      <a:pt x="394" y="598"/>
                    </a:lnTo>
                    <a:lnTo>
                      <a:pt x="403" y="610"/>
                    </a:lnTo>
                    <a:lnTo>
                      <a:pt x="413" y="622"/>
                    </a:lnTo>
                    <a:lnTo>
                      <a:pt x="421" y="632"/>
                    </a:lnTo>
                    <a:lnTo>
                      <a:pt x="429" y="640"/>
                    </a:lnTo>
                    <a:lnTo>
                      <a:pt x="436" y="646"/>
                    </a:lnTo>
                    <a:lnTo>
                      <a:pt x="444" y="648"/>
                    </a:lnTo>
                    <a:lnTo>
                      <a:pt x="453" y="647"/>
                    </a:lnTo>
                    <a:lnTo>
                      <a:pt x="462" y="642"/>
                    </a:lnTo>
                    <a:lnTo>
                      <a:pt x="472" y="632"/>
                    </a:lnTo>
                    <a:lnTo>
                      <a:pt x="484" y="618"/>
                    </a:lnTo>
                    <a:lnTo>
                      <a:pt x="497" y="598"/>
                    </a:lnTo>
                    <a:lnTo>
                      <a:pt x="512" y="573"/>
                    </a:lnTo>
                    <a:lnTo>
                      <a:pt x="528" y="541"/>
                    </a:lnTo>
                    <a:lnTo>
                      <a:pt x="547" y="503"/>
                    </a:lnTo>
                    <a:lnTo>
                      <a:pt x="557" y="485"/>
                    </a:lnTo>
                    <a:lnTo>
                      <a:pt x="568" y="465"/>
                    </a:lnTo>
                    <a:lnTo>
                      <a:pt x="581" y="447"/>
                    </a:lnTo>
                    <a:lnTo>
                      <a:pt x="593" y="428"/>
                    </a:lnTo>
                    <a:lnTo>
                      <a:pt x="606" y="409"/>
                    </a:lnTo>
                    <a:lnTo>
                      <a:pt x="617" y="390"/>
                    </a:lnTo>
                    <a:lnTo>
                      <a:pt x="627" y="371"/>
                    </a:lnTo>
                    <a:lnTo>
                      <a:pt x="635" y="352"/>
                    </a:lnTo>
                    <a:lnTo>
                      <a:pt x="640" y="339"/>
                    </a:lnTo>
                    <a:lnTo>
                      <a:pt x="645" y="325"/>
                    </a:lnTo>
                    <a:lnTo>
                      <a:pt x="650" y="311"/>
                    </a:lnTo>
                    <a:lnTo>
                      <a:pt x="655" y="297"/>
                    </a:lnTo>
                    <a:lnTo>
                      <a:pt x="660" y="283"/>
                    </a:lnTo>
                    <a:lnTo>
                      <a:pt x="666" y="268"/>
                    </a:lnTo>
                    <a:lnTo>
                      <a:pt x="672" y="254"/>
                    </a:lnTo>
                    <a:lnTo>
                      <a:pt x="677" y="239"/>
                    </a:lnTo>
                    <a:lnTo>
                      <a:pt x="683" y="224"/>
                    </a:lnTo>
                    <a:lnTo>
                      <a:pt x="689" y="210"/>
                    </a:lnTo>
                    <a:lnTo>
                      <a:pt x="694" y="195"/>
                    </a:lnTo>
                    <a:lnTo>
                      <a:pt x="700" y="181"/>
                    </a:lnTo>
                    <a:lnTo>
                      <a:pt x="705" y="167"/>
                    </a:lnTo>
                    <a:lnTo>
                      <a:pt x="710" y="153"/>
                    </a:lnTo>
                    <a:lnTo>
                      <a:pt x="714" y="139"/>
                    </a:lnTo>
                    <a:lnTo>
                      <a:pt x="719" y="126"/>
                    </a:lnTo>
                    <a:lnTo>
                      <a:pt x="723" y="114"/>
                    </a:lnTo>
                    <a:lnTo>
                      <a:pt x="729" y="100"/>
                    </a:lnTo>
                    <a:lnTo>
                      <a:pt x="735" y="84"/>
                    </a:lnTo>
                    <a:lnTo>
                      <a:pt x="740" y="69"/>
                    </a:lnTo>
                    <a:lnTo>
                      <a:pt x="744" y="53"/>
                    </a:lnTo>
                    <a:lnTo>
                      <a:pt x="747" y="38"/>
                    </a:lnTo>
                    <a:lnTo>
                      <a:pt x="748" y="23"/>
                    </a:lnTo>
                    <a:lnTo>
                      <a:pt x="746" y="1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562000" y="1957320"/>
              <a:ext cx="2693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nit Pengelola Kegiatan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</a:t>
              </a:r>
              <a:r>
                <a:rPr b="0" lang="en-US" sz="16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Program Stu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914760" y="1957320"/>
            <a:ext cx="3047400" cy="2829960"/>
            <a:chOff x="914760" y="1957320"/>
            <a:chExt cx="3047400" cy="2829960"/>
          </a:xfrm>
        </p:grpSpPr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2286000" y="236232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"/>
            <a:stretch/>
          </p:blipFill>
          <p:spPr>
            <a:xfrm>
              <a:off x="1981080" y="4267080"/>
              <a:ext cx="685800" cy="3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1143000" y="3962520"/>
              <a:ext cx="530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6"/>
            <a:stretch/>
          </p:blipFill>
          <p:spPr>
            <a:xfrm>
              <a:off x="1981080" y="3352680"/>
              <a:ext cx="1803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4760" y="1957320"/>
              <a:ext cx="30474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nit Pengelola Sumberdaya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 Fakul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 Jurus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1219320" y="2971800"/>
              <a:ext cx="457200" cy="609480"/>
              <a:chOff x="1219320" y="2971800"/>
              <a:chExt cx="457200" cy="609480"/>
            </a:xfrm>
          </p:grpSpPr>
          <p:sp>
            <p:nvSpPr>
              <p:cNvPr id="318" name=""/>
              <p:cNvSpPr/>
              <p:nvPr/>
            </p:nvSpPr>
            <p:spPr>
              <a:xfrm>
                <a:off x="1277280" y="3057480"/>
                <a:ext cx="87120" cy="183600"/>
              </a:xfrm>
              <a:custGeom>
                <a:avLst/>
                <a:gdLst/>
                <a:ahLst/>
                <a:rect l="l" t="t" r="r" b="b"/>
                <a:pathLst>
                  <a:path w="2201" h="3517">
                    <a:moveTo>
                      <a:pt x="23" y="3517"/>
                    </a:moveTo>
                    <a:lnTo>
                      <a:pt x="0" y="0"/>
                    </a:lnTo>
                    <a:lnTo>
                      <a:pt x="9" y="75"/>
                    </a:lnTo>
                    <a:lnTo>
                      <a:pt x="46" y="140"/>
                    </a:lnTo>
                    <a:lnTo>
                      <a:pt x="89" y="198"/>
                    </a:lnTo>
                    <a:lnTo>
                      <a:pt x="166" y="268"/>
                    </a:lnTo>
                    <a:lnTo>
                      <a:pt x="252" y="320"/>
                    </a:lnTo>
                    <a:lnTo>
                      <a:pt x="357" y="366"/>
                    </a:lnTo>
                    <a:lnTo>
                      <a:pt x="477" y="406"/>
                    </a:lnTo>
                    <a:lnTo>
                      <a:pt x="615" y="447"/>
                    </a:lnTo>
                    <a:lnTo>
                      <a:pt x="754" y="470"/>
                    </a:lnTo>
                    <a:lnTo>
                      <a:pt x="910" y="488"/>
                    </a:lnTo>
                    <a:lnTo>
                      <a:pt x="1068" y="492"/>
                    </a:lnTo>
                    <a:lnTo>
                      <a:pt x="1227" y="488"/>
                    </a:lnTo>
                    <a:lnTo>
                      <a:pt x="1375" y="477"/>
                    </a:lnTo>
                    <a:lnTo>
                      <a:pt x="1520" y="454"/>
                    </a:lnTo>
                    <a:lnTo>
                      <a:pt x="1663" y="431"/>
                    </a:lnTo>
                    <a:lnTo>
                      <a:pt x="1787" y="382"/>
                    </a:lnTo>
                    <a:lnTo>
                      <a:pt x="1901" y="343"/>
                    </a:lnTo>
                    <a:lnTo>
                      <a:pt x="1998" y="295"/>
                    </a:lnTo>
                    <a:lnTo>
                      <a:pt x="2086" y="232"/>
                    </a:lnTo>
                    <a:lnTo>
                      <a:pt x="2144" y="171"/>
                    </a:lnTo>
                    <a:lnTo>
                      <a:pt x="2178" y="106"/>
                    </a:lnTo>
                    <a:lnTo>
                      <a:pt x="2201" y="34"/>
                    </a:lnTo>
                    <a:lnTo>
                      <a:pt x="2201" y="0"/>
                    </a:lnTo>
                    <a:lnTo>
                      <a:pt x="2201" y="3517"/>
                    </a:lnTo>
                    <a:lnTo>
                      <a:pt x="23" y="35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377720" y="2986560"/>
                <a:ext cx="87120" cy="184680"/>
              </a:xfrm>
              <a:custGeom>
                <a:avLst/>
                <a:gdLst/>
                <a:ahLst/>
                <a:rect l="l" t="t" r="r" b="b"/>
                <a:pathLst>
                  <a:path w="2200" h="3524">
                    <a:moveTo>
                      <a:pt x="23" y="3524"/>
                    </a:moveTo>
                    <a:lnTo>
                      <a:pt x="0" y="0"/>
                    </a:lnTo>
                    <a:lnTo>
                      <a:pt x="11" y="75"/>
                    </a:lnTo>
                    <a:lnTo>
                      <a:pt x="45" y="143"/>
                    </a:lnTo>
                    <a:lnTo>
                      <a:pt x="89" y="201"/>
                    </a:lnTo>
                    <a:lnTo>
                      <a:pt x="162" y="271"/>
                    </a:lnTo>
                    <a:lnTo>
                      <a:pt x="250" y="322"/>
                    </a:lnTo>
                    <a:lnTo>
                      <a:pt x="356" y="377"/>
                    </a:lnTo>
                    <a:lnTo>
                      <a:pt x="479" y="417"/>
                    </a:lnTo>
                    <a:lnTo>
                      <a:pt x="618" y="454"/>
                    </a:lnTo>
                    <a:lnTo>
                      <a:pt x="753" y="478"/>
                    </a:lnTo>
                    <a:lnTo>
                      <a:pt x="909" y="495"/>
                    </a:lnTo>
                    <a:lnTo>
                      <a:pt x="1066" y="497"/>
                    </a:lnTo>
                    <a:lnTo>
                      <a:pt x="1225" y="495"/>
                    </a:lnTo>
                    <a:lnTo>
                      <a:pt x="1370" y="485"/>
                    </a:lnTo>
                    <a:lnTo>
                      <a:pt x="1519" y="465"/>
                    </a:lnTo>
                    <a:lnTo>
                      <a:pt x="1660" y="435"/>
                    </a:lnTo>
                    <a:lnTo>
                      <a:pt x="1789" y="390"/>
                    </a:lnTo>
                    <a:lnTo>
                      <a:pt x="1900" y="350"/>
                    </a:lnTo>
                    <a:lnTo>
                      <a:pt x="2000" y="298"/>
                    </a:lnTo>
                    <a:lnTo>
                      <a:pt x="2085" y="234"/>
                    </a:lnTo>
                    <a:lnTo>
                      <a:pt x="2143" y="174"/>
                    </a:lnTo>
                    <a:lnTo>
                      <a:pt x="2177" y="109"/>
                    </a:lnTo>
                    <a:lnTo>
                      <a:pt x="2200" y="38"/>
                    </a:lnTo>
                    <a:lnTo>
                      <a:pt x="2200" y="0"/>
                    </a:lnTo>
                    <a:lnTo>
                      <a:pt x="2200" y="3524"/>
                    </a:lnTo>
                    <a:lnTo>
                      <a:pt x="23" y="35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77800" y="3021480"/>
                <a:ext cx="87120" cy="184320"/>
              </a:xfrm>
              <a:custGeom>
                <a:avLst/>
                <a:gdLst/>
                <a:ahLst/>
                <a:rect l="l" t="t" r="r" b="b"/>
                <a:pathLst>
                  <a:path w="2197" h="3514">
                    <a:moveTo>
                      <a:pt x="24" y="3514"/>
                    </a:moveTo>
                    <a:lnTo>
                      <a:pt x="0" y="0"/>
                    </a:lnTo>
                    <a:lnTo>
                      <a:pt x="11" y="74"/>
                    </a:lnTo>
                    <a:lnTo>
                      <a:pt x="45" y="134"/>
                    </a:lnTo>
                    <a:lnTo>
                      <a:pt x="89" y="195"/>
                    </a:lnTo>
                    <a:lnTo>
                      <a:pt x="166" y="263"/>
                    </a:lnTo>
                    <a:lnTo>
                      <a:pt x="254" y="321"/>
                    </a:lnTo>
                    <a:lnTo>
                      <a:pt x="356" y="368"/>
                    </a:lnTo>
                    <a:lnTo>
                      <a:pt x="476" y="410"/>
                    </a:lnTo>
                    <a:lnTo>
                      <a:pt x="619" y="449"/>
                    </a:lnTo>
                    <a:lnTo>
                      <a:pt x="757" y="472"/>
                    </a:lnTo>
                    <a:lnTo>
                      <a:pt x="911" y="490"/>
                    </a:lnTo>
                    <a:lnTo>
                      <a:pt x="1068" y="490"/>
                    </a:lnTo>
                    <a:lnTo>
                      <a:pt x="1225" y="490"/>
                    </a:lnTo>
                    <a:lnTo>
                      <a:pt x="1370" y="479"/>
                    </a:lnTo>
                    <a:lnTo>
                      <a:pt x="1521" y="456"/>
                    </a:lnTo>
                    <a:lnTo>
                      <a:pt x="1658" y="426"/>
                    </a:lnTo>
                    <a:lnTo>
                      <a:pt x="1793" y="381"/>
                    </a:lnTo>
                    <a:lnTo>
                      <a:pt x="1904" y="340"/>
                    </a:lnTo>
                    <a:lnTo>
                      <a:pt x="2004" y="290"/>
                    </a:lnTo>
                    <a:lnTo>
                      <a:pt x="2082" y="226"/>
                    </a:lnTo>
                    <a:lnTo>
                      <a:pt x="2143" y="165"/>
                    </a:lnTo>
                    <a:lnTo>
                      <a:pt x="2177" y="100"/>
                    </a:lnTo>
                    <a:lnTo>
                      <a:pt x="2197" y="32"/>
                    </a:lnTo>
                    <a:lnTo>
                      <a:pt x="2197" y="0"/>
                    </a:lnTo>
                    <a:lnTo>
                      <a:pt x="2197" y="3514"/>
                    </a:lnTo>
                    <a:lnTo>
                      <a:pt x="24" y="3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81840" y="3063240"/>
                <a:ext cx="87120" cy="183240"/>
              </a:xfrm>
              <a:custGeom>
                <a:avLst/>
                <a:gdLst/>
                <a:ahLst/>
                <a:rect l="l" t="t" r="r" b="b"/>
                <a:pathLst>
                  <a:path w="2199" h="3514">
                    <a:moveTo>
                      <a:pt x="27" y="3514"/>
                    </a:moveTo>
                    <a:lnTo>
                      <a:pt x="0" y="0"/>
                    </a:lnTo>
                    <a:lnTo>
                      <a:pt x="15" y="73"/>
                    </a:lnTo>
                    <a:lnTo>
                      <a:pt x="51" y="142"/>
                    </a:lnTo>
                    <a:lnTo>
                      <a:pt x="92" y="195"/>
                    </a:lnTo>
                    <a:lnTo>
                      <a:pt x="169" y="263"/>
                    </a:lnTo>
                    <a:lnTo>
                      <a:pt x="257" y="321"/>
                    </a:lnTo>
                    <a:lnTo>
                      <a:pt x="357" y="367"/>
                    </a:lnTo>
                    <a:lnTo>
                      <a:pt x="483" y="410"/>
                    </a:lnTo>
                    <a:lnTo>
                      <a:pt x="621" y="445"/>
                    </a:lnTo>
                    <a:lnTo>
                      <a:pt x="759" y="470"/>
                    </a:lnTo>
                    <a:lnTo>
                      <a:pt x="913" y="487"/>
                    </a:lnTo>
                    <a:lnTo>
                      <a:pt x="1070" y="494"/>
                    </a:lnTo>
                    <a:lnTo>
                      <a:pt x="1228" y="487"/>
                    </a:lnTo>
                    <a:lnTo>
                      <a:pt x="1377" y="476"/>
                    </a:lnTo>
                    <a:lnTo>
                      <a:pt x="1528" y="456"/>
                    </a:lnTo>
                    <a:lnTo>
                      <a:pt x="1662" y="426"/>
                    </a:lnTo>
                    <a:lnTo>
                      <a:pt x="1788" y="382"/>
                    </a:lnTo>
                    <a:lnTo>
                      <a:pt x="1903" y="340"/>
                    </a:lnTo>
                    <a:lnTo>
                      <a:pt x="2000" y="287"/>
                    </a:lnTo>
                    <a:lnTo>
                      <a:pt x="2088" y="233"/>
                    </a:lnTo>
                    <a:lnTo>
                      <a:pt x="2145" y="168"/>
                    </a:lnTo>
                    <a:lnTo>
                      <a:pt x="2180" y="104"/>
                    </a:lnTo>
                    <a:lnTo>
                      <a:pt x="2199" y="34"/>
                    </a:lnTo>
                    <a:lnTo>
                      <a:pt x="2199" y="0"/>
                    </a:lnTo>
                    <a:lnTo>
                      <a:pt x="2199" y="3514"/>
                    </a:lnTo>
                    <a:lnTo>
                      <a:pt x="27" y="3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19320" y="3047760"/>
                <a:ext cx="152640" cy="532080"/>
              </a:xfrm>
              <a:custGeom>
                <a:avLst/>
                <a:gdLst/>
                <a:ahLst/>
                <a:rect l="l" t="t" r="r" b="b"/>
                <a:pathLst>
                  <a:path w="3831" h="10170">
                    <a:moveTo>
                      <a:pt x="0" y="6000"/>
                    </a:moveTo>
                    <a:lnTo>
                      <a:pt x="1309" y="0"/>
                    </a:lnTo>
                    <a:lnTo>
                      <a:pt x="1490" y="0"/>
                    </a:lnTo>
                    <a:lnTo>
                      <a:pt x="1481" y="3143"/>
                    </a:lnTo>
                    <a:lnTo>
                      <a:pt x="1481" y="3215"/>
                    </a:lnTo>
                    <a:lnTo>
                      <a:pt x="1513" y="3282"/>
                    </a:lnTo>
                    <a:lnTo>
                      <a:pt x="1562" y="3353"/>
                    </a:lnTo>
                    <a:lnTo>
                      <a:pt x="1636" y="3411"/>
                    </a:lnTo>
                    <a:lnTo>
                      <a:pt x="1731" y="3461"/>
                    </a:lnTo>
                    <a:lnTo>
                      <a:pt x="1821" y="3515"/>
                    </a:lnTo>
                    <a:lnTo>
                      <a:pt x="1946" y="3552"/>
                    </a:lnTo>
                    <a:lnTo>
                      <a:pt x="2082" y="3594"/>
                    </a:lnTo>
                    <a:lnTo>
                      <a:pt x="2223" y="3618"/>
                    </a:lnTo>
                    <a:lnTo>
                      <a:pt x="2368" y="3634"/>
                    </a:lnTo>
                    <a:lnTo>
                      <a:pt x="2519" y="3641"/>
                    </a:lnTo>
                    <a:lnTo>
                      <a:pt x="2681" y="3641"/>
                    </a:lnTo>
                    <a:lnTo>
                      <a:pt x="2819" y="3625"/>
                    </a:lnTo>
                    <a:lnTo>
                      <a:pt x="2964" y="3603"/>
                    </a:lnTo>
                    <a:lnTo>
                      <a:pt x="3107" y="3575"/>
                    </a:lnTo>
                    <a:lnTo>
                      <a:pt x="3225" y="3540"/>
                    </a:lnTo>
                    <a:lnTo>
                      <a:pt x="3340" y="3488"/>
                    </a:lnTo>
                    <a:lnTo>
                      <a:pt x="3447" y="3434"/>
                    </a:lnTo>
                    <a:lnTo>
                      <a:pt x="3521" y="3377"/>
                    </a:lnTo>
                    <a:lnTo>
                      <a:pt x="3579" y="3312"/>
                    </a:lnTo>
                    <a:lnTo>
                      <a:pt x="3618" y="3246"/>
                    </a:lnTo>
                    <a:lnTo>
                      <a:pt x="3633" y="3174"/>
                    </a:lnTo>
                    <a:lnTo>
                      <a:pt x="3643" y="3143"/>
                    </a:lnTo>
                    <a:lnTo>
                      <a:pt x="3643" y="0"/>
                    </a:lnTo>
                    <a:lnTo>
                      <a:pt x="3831" y="0"/>
                    </a:lnTo>
                    <a:lnTo>
                      <a:pt x="3831" y="3793"/>
                    </a:lnTo>
                    <a:lnTo>
                      <a:pt x="2556" y="9655"/>
                    </a:lnTo>
                    <a:lnTo>
                      <a:pt x="2499" y="9746"/>
                    </a:lnTo>
                    <a:lnTo>
                      <a:pt x="2445" y="9821"/>
                    </a:lnTo>
                    <a:lnTo>
                      <a:pt x="2368" y="9891"/>
                    </a:lnTo>
                    <a:lnTo>
                      <a:pt x="2280" y="9952"/>
                    </a:lnTo>
                    <a:lnTo>
                      <a:pt x="2159" y="10006"/>
                    </a:lnTo>
                    <a:lnTo>
                      <a:pt x="2034" y="10058"/>
                    </a:lnTo>
                    <a:lnTo>
                      <a:pt x="1896" y="10098"/>
                    </a:lnTo>
                    <a:lnTo>
                      <a:pt x="1744" y="10129"/>
                    </a:lnTo>
                    <a:lnTo>
                      <a:pt x="1590" y="10156"/>
                    </a:lnTo>
                    <a:lnTo>
                      <a:pt x="1424" y="10166"/>
                    </a:lnTo>
                    <a:lnTo>
                      <a:pt x="1259" y="10170"/>
                    </a:lnTo>
                    <a:lnTo>
                      <a:pt x="1091" y="10166"/>
                    </a:lnTo>
                    <a:lnTo>
                      <a:pt x="925" y="10147"/>
                    </a:lnTo>
                    <a:lnTo>
                      <a:pt x="769" y="10123"/>
                    </a:lnTo>
                    <a:lnTo>
                      <a:pt x="618" y="10088"/>
                    </a:lnTo>
                    <a:lnTo>
                      <a:pt x="483" y="10054"/>
                    </a:lnTo>
                    <a:lnTo>
                      <a:pt x="358" y="9997"/>
                    </a:lnTo>
                    <a:lnTo>
                      <a:pt x="250" y="9943"/>
                    </a:lnTo>
                    <a:lnTo>
                      <a:pt x="159" y="9875"/>
                    </a:lnTo>
                    <a:lnTo>
                      <a:pt x="84" y="9811"/>
                    </a:lnTo>
                    <a:lnTo>
                      <a:pt x="38" y="9737"/>
                    </a:lnTo>
                    <a:lnTo>
                      <a:pt x="4" y="9703"/>
                    </a:lnTo>
                    <a:lnTo>
                      <a:pt x="0" y="600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71960" y="297180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7652" h="11636">
                    <a:moveTo>
                      <a:pt x="7473" y="4604"/>
                    </a:moveTo>
                    <a:lnTo>
                      <a:pt x="7473" y="4617"/>
                    </a:lnTo>
                    <a:lnTo>
                      <a:pt x="7457" y="4692"/>
                    </a:lnTo>
                    <a:lnTo>
                      <a:pt x="7415" y="4758"/>
                    </a:lnTo>
                    <a:lnTo>
                      <a:pt x="7351" y="4823"/>
                    </a:lnTo>
                    <a:lnTo>
                      <a:pt x="7285" y="4884"/>
                    </a:lnTo>
                    <a:lnTo>
                      <a:pt x="7185" y="4944"/>
                    </a:lnTo>
                    <a:lnTo>
                      <a:pt x="7072" y="4995"/>
                    </a:lnTo>
                    <a:lnTo>
                      <a:pt x="6943" y="5026"/>
                    </a:lnTo>
                    <a:lnTo>
                      <a:pt x="6812" y="5067"/>
                    </a:lnTo>
                    <a:lnTo>
                      <a:pt x="6670" y="5087"/>
                    </a:lnTo>
                    <a:lnTo>
                      <a:pt x="6516" y="5101"/>
                    </a:lnTo>
                    <a:lnTo>
                      <a:pt x="6356" y="5101"/>
                    </a:lnTo>
                    <a:lnTo>
                      <a:pt x="6201" y="5098"/>
                    </a:lnTo>
                    <a:lnTo>
                      <a:pt x="6052" y="5080"/>
                    </a:lnTo>
                    <a:lnTo>
                      <a:pt x="5905" y="5053"/>
                    </a:lnTo>
                    <a:lnTo>
                      <a:pt x="5776" y="5021"/>
                    </a:lnTo>
                    <a:lnTo>
                      <a:pt x="5655" y="4971"/>
                    </a:lnTo>
                    <a:lnTo>
                      <a:pt x="5548" y="4932"/>
                    </a:lnTo>
                    <a:lnTo>
                      <a:pt x="5453" y="4864"/>
                    </a:lnTo>
                    <a:lnTo>
                      <a:pt x="5388" y="4806"/>
                    </a:lnTo>
                    <a:lnTo>
                      <a:pt x="5335" y="4742"/>
                    </a:lnTo>
                    <a:lnTo>
                      <a:pt x="5304" y="4670"/>
                    </a:lnTo>
                    <a:lnTo>
                      <a:pt x="5295" y="4604"/>
                    </a:lnTo>
                    <a:lnTo>
                      <a:pt x="5277" y="4447"/>
                    </a:lnTo>
                    <a:lnTo>
                      <a:pt x="5277" y="1446"/>
                    </a:lnTo>
                    <a:lnTo>
                      <a:pt x="5099" y="1446"/>
                    </a:lnTo>
                    <a:lnTo>
                      <a:pt x="5099" y="749"/>
                    </a:lnTo>
                    <a:lnTo>
                      <a:pt x="4913" y="749"/>
                    </a:lnTo>
                    <a:lnTo>
                      <a:pt x="4913" y="3792"/>
                    </a:lnTo>
                    <a:lnTo>
                      <a:pt x="4911" y="3882"/>
                    </a:lnTo>
                    <a:lnTo>
                      <a:pt x="4911" y="3912"/>
                    </a:lnTo>
                    <a:lnTo>
                      <a:pt x="4889" y="3980"/>
                    </a:lnTo>
                    <a:lnTo>
                      <a:pt x="4854" y="4045"/>
                    </a:lnTo>
                    <a:lnTo>
                      <a:pt x="4796" y="4109"/>
                    </a:lnTo>
                    <a:lnTo>
                      <a:pt x="4719" y="4172"/>
                    </a:lnTo>
                    <a:lnTo>
                      <a:pt x="4612" y="4221"/>
                    </a:lnTo>
                    <a:lnTo>
                      <a:pt x="4505" y="4268"/>
                    </a:lnTo>
                    <a:lnTo>
                      <a:pt x="4371" y="4309"/>
                    </a:lnTo>
                    <a:lnTo>
                      <a:pt x="4236" y="4332"/>
                    </a:lnTo>
                    <a:lnTo>
                      <a:pt x="4083" y="4359"/>
                    </a:lnTo>
                    <a:lnTo>
                      <a:pt x="3925" y="4370"/>
                    </a:lnTo>
                    <a:lnTo>
                      <a:pt x="3780" y="4370"/>
                    </a:lnTo>
                    <a:lnTo>
                      <a:pt x="3621" y="4367"/>
                    </a:lnTo>
                    <a:lnTo>
                      <a:pt x="3471" y="4352"/>
                    </a:lnTo>
                    <a:lnTo>
                      <a:pt x="3333" y="4318"/>
                    </a:lnTo>
                    <a:lnTo>
                      <a:pt x="3190" y="4291"/>
                    </a:lnTo>
                    <a:lnTo>
                      <a:pt x="3065" y="4252"/>
                    </a:lnTo>
                    <a:lnTo>
                      <a:pt x="2965" y="4195"/>
                    </a:lnTo>
                    <a:lnTo>
                      <a:pt x="2880" y="4142"/>
                    </a:lnTo>
                    <a:lnTo>
                      <a:pt x="2803" y="4082"/>
                    </a:lnTo>
                    <a:lnTo>
                      <a:pt x="2750" y="4018"/>
                    </a:lnTo>
                    <a:lnTo>
                      <a:pt x="2722" y="3946"/>
                    </a:lnTo>
                    <a:lnTo>
                      <a:pt x="2715" y="3882"/>
                    </a:lnTo>
                    <a:lnTo>
                      <a:pt x="2732" y="3792"/>
                    </a:lnTo>
                    <a:lnTo>
                      <a:pt x="2732" y="749"/>
                    </a:lnTo>
                    <a:lnTo>
                      <a:pt x="2553" y="749"/>
                    </a:lnTo>
                    <a:lnTo>
                      <a:pt x="2553" y="0"/>
                    </a:lnTo>
                    <a:lnTo>
                      <a:pt x="2363" y="0"/>
                    </a:lnTo>
                    <a:lnTo>
                      <a:pt x="2363" y="3043"/>
                    </a:lnTo>
                    <a:lnTo>
                      <a:pt x="2367" y="3161"/>
                    </a:lnTo>
                    <a:lnTo>
                      <a:pt x="2363" y="3192"/>
                    </a:lnTo>
                    <a:lnTo>
                      <a:pt x="2344" y="3265"/>
                    </a:lnTo>
                    <a:lnTo>
                      <a:pt x="2310" y="3330"/>
                    </a:lnTo>
                    <a:lnTo>
                      <a:pt x="2251" y="3392"/>
                    </a:lnTo>
                    <a:lnTo>
                      <a:pt x="2169" y="3453"/>
                    </a:lnTo>
                    <a:lnTo>
                      <a:pt x="2067" y="3506"/>
                    </a:lnTo>
                    <a:lnTo>
                      <a:pt x="1956" y="3544"/>
                    </a:lnTo>
                    <a:lnTo>
                      <a:pt x="1825" y="3591"/>
                    </a:lnTo>
                    <a:lnTo>
                      <a:pt x="1690" y="3621"/>
                    </a:lnTo>
                    <a:lnTo>
                      <a:pt x="1537" y="3639"/>
                    </a:lnTo>
                    <a:lnTo>
                      <a:pt x="1390" y="3651"/>
                    </a:lnTo>
                    <a:lnTo>
                      <a:pt x="1230" y="3655"/>
                    </a:lnTo>
                    <a:lnTo>
                      <a:pt x="1076" y="3651"/>
                    </a:lnTo>
                    <a:lnTo>
                      <a:pt x="927" y="3635"/>
                    </a:lnTo>
                    <a:lnTo>
                      <a:pt x="784" y="3612"/>
                    </a:lnTo>
                    <a:lnTo>
                      <a:pt x="650" y="3571"/>
                    </a:lnTo>
                    <a:lnTo>
                      <a:pt x="526" y="3530"/>
                    </a:lnTo>
                    <a:lnTo>
                      <a:pt x="415" y="3483"/>
                    </a:lnTo>
                    <a:lnTo>
                      <a:pt x="328" y="3429"/>
                    </a:lnTo>
                    <a:lnTo>
                      <a:pt x="251" y="3353"/>
                    </a:lnTo>
                    <a:lnTo>
                      <a:pt x="205" y="3299"/>
                    </a:lnTo>
                    <a:lnTo>
                      <a:pt x="174" y="3233"/>
                    </a:lnTo>
                    <a:lnTo>
                      <a:pt x="173" y="3161"/>
                    </a:lnTo>
                    <a:lnTo>
                      <a:pt x="173" y="27"/>
                    </a:lnTo>
                    <a:lnTo>
                      <a:pt x="0" y="27"/>
                    </a:lnTo>
                    <a:lnTo>
                      <a:pt x="0" y="11053"/>
                    </a:lnTo>
                    <a:lnTo>
                      <a:pt x="0" y="11125"/>
                    </a:lnTo>
                    <a:lnTo>
                      <a:pt x="35" y="11199"/>
                    </a:lnTo>
                    <a:lnTo>
                      <a:pt x="81" y="11271"/>
                    </a:lnTo>
                    <a:lnTo>
                      <a:pt x="151" y="11341"/>
                    </a:lnTo>
                    <a:lnTo>
                      <a:pt x="243" y="11402"/>
                    </a:lnTo>
                    <a:lnTo>
                      <a:pt x="354" y="11459"/>
                    </a:lnTo>
                    <a:lnTo>
                      <a:pt x="480" y="11513"/>
                    </a:lnTo>
                    <a:lnTo>
                      <a:pt x="614" y="11559"/>
                    </a:lnTo>
                    <a:lnTo>
                      <a:pt x="766" y="11585"/>
                    </a:lnTo>
                    <a:lnTo>
                      <a:pt x="923" y="11612"/>
                    </a:lnTo>
                    <a:lnTo>
                      <a:pt x="1086" y="11632"/>
                    </a:lnTo>
                    <a:lnTo>
                      <a:pt x="1258" y="11636"/>
                    </a:lnTo>
                    <a:lnTo>
                      <a:pt x="1421" y="11632"/>
                    </a:lnTo>
                    <a:lnTo>
                      <a:pt x="1582" y="11616"/>
                    </a:lnTo>
                    <a:lnTo>
                      <a:pt x="1748" y="11593"/>
                    </a:lnTo>
                    <a:lnTo>
                      <a:pt x="1893" y="11562"/>
                    </a:lnTo>
                    <a:lnTo>
                      <a:pt x="2036" y="11524"/>
                    </a:lnTo>
                    <a:lnTo>
                      <a:pt x="2162" y="11473"/>
                    </a:lnTo>
                    <a:lnTo>
                      <a:pt x="2277" y="11423"/>
                    </a:lnTo>
                    <a:lnTo>
                      <a:pt x="2367" y="11348"/>
                    </a:lnTo>
                    <a:lnTo>
                      <a:pt x="2442" y="11283"/>
                    </a:lnTo>
                    <a:lnTo>
                      <a:pt x="2492" y="11210"/>
                    </a:lnTo>
                    <a:lnTo>
                      <a:pt x="2577" y="11199"/>
                    </a:lnTo>
                    <a:lnTo>
                      <a:pt x="2630" y="11271"/>
                    </a:lnTo>
                    <a:lnTo>
                      <a:pt x="2700" y="11341"/>
                    </a:lnTo>
                    <a:lnTo>
                      <a:pt x="2793" y="11402"/>
                    </a:lnTo>
                    <a:lnTo>
                      <a:pt x="2900" y="11459"/>
                    </a:lnTo>
                    <a:lnTo>
                      <a:pt x="3026" y="11513"/>
                    </a:lnTo>
                    <a:lnTo>
                      <a:pt x="3167" y="11559"/>
                    </a:lnTo>
                    <a:lnTo>
                      <a:pt x="3311" y="11585"/>
                    </a:lnTo>
                    <a:lnTo>
                      <a:pt x="3471" y="11612"/>
                    </a:lnTo>
                    <a:lnTo>
                      <a:pt x="3629" y="11632"/>
                    </a:lnTo>
                    <a:lnTo>
                      <a:pt x="3794" y="11636"/>
                    </a:lnTo>
                    <a:lnTo>
                      <a:pt x="3966" y="11632"/>
                    </a:lnTo>
                    <a:lnTo>
                      <a:pt x="4128" y="11616"/>
                    </a:lnTo>
                    <a:lnTo>
                      <a:pt x="4290" y="11593"/>
                    </a:lnTo>
                    <a:lnTo>
                      <a:pt x="4439" y="11562"/>
                    </a:lnTo>
                    <a:lnTo>
                      <a:pt x="4580" y="11524"/>
                    </a:lnTo>
                    <a:lnTo>
                      <a:pt x="4700" y="11473"/>
                    </a:lnTo>
                    <a:lnTo>
                      <a:pt x="4819" y="11423"/>
                    </a:lnTo>
                    <a:lnTo>
                      <a:pt x="4911" y="11348"/>
                    </a:lnTo>
                    <a:lnTo>
                      <a:pt x="4991" y="11283"/>
                    </a:lnTo>
                    <a:lnTo>
                      <a:pt x="5042" y="11210"/>
                    </a:lnTo>
                    <a:lnTo>
                      <a:pt x="5122" y="11199"/>
                    </a:lnTo>
                    <a:lnTo>
                      <a:pt x="5176" y="11271"/>
                    </a:lnTo>
                    <a:lnTo>
                      <a:pt x="5238" y="11341"/>
                    </a:lnTo>
                    <a:lnTo>
                      <a:pt x="5335" y="11402"/>
                    </a:lnTo>
                    <a:lnTo>
                      <a:pt x="5446" y="11459"/>
                    </a:lnTo>
                    <a:lnTo>
                      <a:pt x="5575" y="11513"/>
                    </a:lnTo>
                    <a:lnTo>
                      <a:pt x="5714" y="11559"/>
                    </a:lnTo>
                    <a:lnTo>
                      <a:pt x="5854" y="11585"/>
                    </a:lnTo>
                    <a:lnTo>
                      <a:pt x="6013" y="11612"/>
                    </a:lnTo>
                    <a:lnTo>
                      <a:pt x="6171" y="11632"/>
                    </a:lnTo>
                    <a:lnTo>
                      <a:pt x="6347" y="11636"/>
                    </a:lnTo>
                    <a:lnTo>
                      <a:pt x="6516" y="11632"/>
                    </a:lnTo>
                    <a:lnTo>
                      <a:pt x="6680" y="11616"/>
                    </a:lnTo>
                    <a:lnTo>
                      <a:pt x="6839" y="11593"/>
                    </a:lnTo>
                    <a:lnTo>
                      <a:pt x="6993" y="11562"/>
                    </a:lnTo>
                    <a:lnTo>
                      <a:pt x="7128" y="11524"/>
                    </a:lnTo>
                    <a:lnTo>
                      <a:pt x="7250" y="11473"/>
                    </a:lnTo>
                    <a:lnTo>
                      <a:pt x="7365" y="11423"/>
                    </a:lnTo>
                    <a:lnTo>
                      <a:pt x="7457" y="11348"/>
                    </a:lnTo>
                    <a:lnTo>
                      <a:pt x="7530" y="11283"/>
                    </a:lnTo>
                    <a:lnTo>
                      <a:pt x="7587" y="11210"/>
                    </a:lnTo>
                    <a:lnTo>
                      <a:pt x="7621" y="11138"/>
                    </a:lnTo>
                    <a:lnTo>
                      <a:pt x="7634" y="11067"/>
                    </a:lnTo>
                    <a:lnTo>
                      <a:pt x="7634" y="11053"/>
                    </a:lnTo>
                    <a:lnTo>
                      <a:pt x="7652" y="10915"/>
                    </a:lnTo>
                    <a:lnTo>
                      <a:pt x="7652" y="1446"/>
                    </a:lnTo>
                    <a:lnTo>
                      <a:pt x="7473" y="1446"/>
                    </a:lnTo>
                    <a:lnTo>
                      <a:pt x="7473" y="4447"/>
                    </a:lnTo>
                    <a:lnTo>
                      <a:pt x="7473" y="4604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989800" y="4052160"/>
              <a:ext cx="910080" cy="735120"/>
              <a:chOff x="2989800" y="4052160"/>
              <a:chExt cx="910080" cy="7351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2989800" y="4052160"/>
                <a:ext cx="910080" cy="735120"/>
                <a:chOff x="2989800" y="4052160"/>
                <a:chExt cx="910080" cy="73512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989800" y="4052160"/>
                  <a:ext cx="910080" cy="735120"/>
                  <a:chOff x="2989800" y="4052160"/>
                  <a:chExt cx="910080" cy="735120"/>
                </a:xfrm>
              </p:grpSpPr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989800" y="4052160"/>
                    <a:ext cx="910080" cy="735120"/>
                    <a:chOff x="2989800" y="4052160"/>
                    <a:chExt cx="910080" cy="735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408800">
                      <a:off x="3019320" y="432864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401"/>
                          </a:lnTo>
                          <a:lnTo>
                            <a:pt x="2334" y="2200"/>
                          </a:lnTo>
                          <a:lnTo>
                            <a:pt x="2595" y="1986"/>
                          </a:lnTo>
                          <a:lnTo>
                            <a:pt x="2786" y="1833"/>
                          </a:lnTo>
                          <a:lnTo>
                            <a:pt x="3055" y="1640"/>
                          </a:lnTo>
                          <a:lnTo>
                            <a:pt x="3334" y="1439"/>
                          </a:lnTo>
                          <a:lnTo>
                            <a:pt x="3565" y="1265"/>
                          </a:lnTo>
                          <a:lnTo>
                            <a:pt x="3776" y="1120"/>
                          </a:lnTo>
                          <a:lnTo>
                            <a:pt x="3980" y="986"/>
                          </a:lnTo>
                          <a:lnTo>
                            <a:pt x="4181" y="851"/>
                          </a:lnTo>
                          <a:lnTo>
                            <a:pt x="4384" y="725"/>
                          </a:lnTo>
                          <a:lnTo>
                            <a:pt x="2938" y="0"/>
                          </a:lnTo>
                          <a:lnTo>
                            <a:pt x="2700" y="140"/>
                          </a:lnTo>
                          <a:lnTo>
                            <a:pt x="2459" y="293"/>
                          </a:lnTo>
                          <a:lnTo>
                            <a:pt x="2276" y="418"/>
                          </a:lnTo>
                          <a:lnTo>
                            <a:pt x="2085" y="572"/>
                          </a:lnTo>
                          <a:lnTo>
                            <a:pt x="1881" y="735"/>
                          </a:lnTo>
                          <a:lnTo>
                            <a:pt x="1680" y="909"/>
                          </a:lnTo>
                          <a:lnTo>
                            <a:pt x="1363" y="1102"/>
                          </a:lnTo>
                          <a:lnTo>
                            <a:pt x="1084" y="1275"/>
                          </a:lnTo>
                          <a:lnTo>
                            <a:pt x="823" y="1429"/>
                          </a:lnTo>
                          <a:lnTo>
                            <a:pt x="534" y="1632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408800">
                      <a:off x="3022560" y="432108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3"/>
                          </a:moveTo>
                          <a:lnTo>
                            <a:pt x="1608" y="2857"/>
                          </a:lnTo>
                          <a:lnTo>
                            <a:pt x="1863" y="2620"/>
                          </a:lnTo>
                          <a:lnTo>
                            <a:pt x="2103" y="2399"/>
                          </a:lnTo>
                          <a:lnTo>
                            <a:pt x="2334" y="2198"/>
                          </a:lnTo>
                          <a:lnTo>
                            <a:pt x="2595" y="1987"/>
                          </a:lnTo>
                          <a:lnTo>
                            <a:pt x="2786" y="1831"/>
                          </a:lnTo>
                          <a:lnTo>
                            <a:pt x="3055" y="1640"/>
                          </a:lnTo>
                          <a:lnTo>
                            <a:pt x="3334" y="1437"/>
                          </a:lnTo>
                          <a:lnTo>
                            <a:pt x="3565" y="1264"/>
                          </a:lnTo>
                          <a:lnTo>
                            <a:pt x="3776" y="1120"/>
                          </a:lnTo>
                          <a:lnTo>
                            <a:pt x="3980" y="985"/>
                          </a:lnTo>
                          <a:lnTo>
                            <a:pt x="4181" y="851"/>
                          </a:lnTo>
                          <a:lnTo>
                            <a:pt x="4384" y="724"/>
                          </a:lnTo>
                          <a:lnTo>
                            <a:pt x="2938" y="0"/>
                          </a:lnTo>
                          <a:lnTo>
                            <a:pt x="2700" y="138"/>
                          </a:lnTo>
                          <a:lnTo>
                            <a:pt x="2459" y="291"/>
                          </a:lnTo>
                          <a:lnTo>
                            <a:pt x="2276" y="417"/>
                          </a:lnTo>
                          <a:lnTo>
                            <a:pt x="2085" y="570"/>
                          </a:lnTo>
                          <a:lnTo>
                            <a:pt x="1881" y="736"/>
                          </a:lnTo>
                          <a:lnTo>
                            <a:pt x="1680" y="909"/>
                          </a:lnTo>
                          <a:lnTo>
                            <a:pt x="1363" y="1100"/>
                          </a:lnTo>
                          <a:lnTo>
                            <a:pt x="1084" y="1273"/>
                          </a:lnTo>
                          <a:lnTo>
                            <a:pt x="823" y="1427"/>
                          </a:lnTo>
                          <a:lnTo>
                            <a:pt x="534" y="1630"/>
                          </a:lnTo>
                          <a:lnTo>
                            <a:pt x="275" y="1821"/>
                          </a:lnTo>
                          <a:lnTo>
                            <a:pt x="0" y="2053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408800">
                      <a:off x="3026160" y="431316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400"/>
                          </a:lnTo>
                          <a:lnTo>
                            <a:pt x="2334" y="2197"/>
                          </a:lnTo>
                          <a:lnTo>
                            <a:pt x="2595" y="1986"/>
                          </a:lnTo>
                          <a:lnTo>
                            <a:pt x="2786" y="1833"/>
                          </a:lnTo>
                          <a:lnTo>
                            <a:pt x="3055" y="1639"/>
                          </a:lnTo>
                          <a:lnTo>
                            <a:pt x="3334" y="1438"/>
                          </a:lnTo>
                          <a:lnTo>
                            <a:pt x="3565" y="1265"/>
                          </a:lnTo>
                          <a:lnTo>
                            <a:pt x="3776" y="1119"/>
                          </a:lnTo>
                          <a:lnTo>
                            <a:pt x="3980" y="986"/>
                          </a:lnTo>
                          <a:lnTo>
                            <a:pt x="4181" y="850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7"/>
                          </a:lnTo>
                          <a:lnTo>
                            <a:pt x="2459" y="293"/>
                          </a:lnTo>
                          <a:lnTo>
                            <a:pt x="2276" y="418"/>
                          </a:lnTo>
                          <a:lnTo>
                            <a:pt x="2085" y="571"/>
                          </a:lnTo>
                          <a:lnTo>
                            <a:pt x="1881" y="735"/>
                          </a:lnTo>
                          <a:lnTo>
                            <a:pt x="1680" y="908"/>
                          </a:lnTo>
                          <a:lnTo>
                            <a:pt x="1363" y="1101"/>
                          </a:lnTo>
                          <a:lnTo>
                            <a:pt x="1084" y="1273"/>
                          </a:lnTo>
                          <a:lnTo>
                            <a:pt x="823" y="1428"/>
                          </a:lnTo>
                          <a:lnTo>
                            <a:pt x="534" y="1629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1408800">
                      <a:off x="3029040" y="4305600"/>
                      <a:ext cx="79380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0"/>
                          </a:moveTo>
                          <a:lnTo>
                            <a:pt x="1608" y="2857"/>
                          </a:lnTo>
                          <a:lnTo>
                            <a:pt x="1863" y="2620"/>
                          </a:lnTo>
                          <a:lnTo>
                            <a:pt x="2103" y="2399"/>
                          </a:lnTo>
                          <a:lnTo>
                            <a:pt x="2334" y="2198"/>
                          </a:lnTo>
                          <a:lnTo>
                            <a:pt x="2595" y="1984"/>
                          </a:lnTo>
                          <a:lnTo>
                            <a:pt x="2786" y="1831"/>
                          </a:lnTo>
                          <a:lnTo>
                            <a:pt x="3055" y="1638"/>
                          </a:lnTo>
                          <a:lnTo>
                            <a:pt x="3334" y="1436"/>
                          </a:lnTo>
                          <a:lnTo>
                            <a:pt x="3565" y="1263"/>
                          </a:lnTo>
                          <a:lnTo>
                            <a:pt x="3776" y="1120"/>
                          </a:lnTo>
                          <a:lnTo>
                            <a:pt x="3980" y="984"/>
                          </a:lnTo>
                          <a:lnTo>
                            <a:pt x="4181" y="849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7"/>
                          </a:lnTo>
                          <a:lnTo>
                            <a:pt x="2459" y="291"/>
                          </a:lnTo>
                          <a:lnTo>
                            <a:pt x="2276" y="416"/>
                          </a:lnTo>
                          <a:lnTo>
                            <a:pt x="2085" y="570"/>
                          </a:lnTo>
                          <a:lnTo>
                            <a:pt x="1881" y="733"/>
                          </a:lnTo>
                          <a:lnTo>
                            <a:pt x="1680" y="906"/>
                          </a:lnTo>
                          <a:lnTo>
                            <a:pt x="1363" y="1100"/>
                          </a:lnTo>
                          <a:lnTo>
                            <a:pt x="1084" y="1273"/>
                          </a:lnTo>
                          <a:lnTo>
                            <a:pt x="823" y="1426"/>
                          </a:lnTo>
                          <a:lnTo>
                            <a:pt x="534" y="1630"/>
                          </a:lnTo>
                          <a:lnTo>
                            <a:pt x="275" y="1821"/>
                          </a:lnTo>
                          <a:lnTo>
                            <a:pt x="0" y="2050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1408800">
                      <a:off x="3032640" y="4297680"/>
                      <a:ext cx="79380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399"/>
                          </a:lnTo>
                          <a:lnTo>
                            <a:pt x="2334" y="2198"/>
                          </a:lnTo>
                          <a:lnTo>
                            <a:pt x="2595" y="1987"/>
                          </a:lnTo>
                          <a:lnTo>
                            <a:pt x="2786" y="1831"/>
                          </a:lnTo>
                          <a:lnTo>
                            <a:pt x="3055" y="1640"/>
                          </a:lnTo>
                          <a:lnTo>
                            <a:pt x="3334" y="1437"/>
                          </a:lnTo>
                          <a:lnTo>
                            <a:pt x="3565" y="1263"/>
                          </a:lnTo>
                          <a:lnTo>
                            <a:pt x="3776" y="1120"/>
                          </a:lnTo>
                          <a:lnTo>
                            <a:pt x="3980" y="984"/>
                          </a:lnTo>
                          <a:lnTo>
                            <a:pt x="4181" y="851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8"/>
                          </a:lnTo>
                          <a:lnTo>
                            <a:pt x="2459" y="291"/>
                          </a:lnTo>
                          <a:lnTo>
                            <a:pt x="2276" y="417"/>
                          </a:lnTo>
                          <a:lnTo>
                            <a:pt x="2085" y="572"/>
                          </a:lnTo>
                          <a:lnTo>
                            <a:pt x="1881" y="735"/>
                          </a:lnTo>
                          <a:lnTo>
                            <a:pt x="1680" y="909"/>
                          </a:lnTo>
                          <a:lnTo>
                            <a:pt x="1363" y="1100"/>
                          </a:lnTo>
                          <a:lnTo>
                            <a:pt x="1084" y="1273"/>
                          </a:lnTo>
                          <a:lnTo>
                            <a:pt x="823" y="1427"/>
                          </a:lnTo>
                          <a:lnTo>
                            <a:pt x="534" y="1630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rot="1408800">
                      <a:off x="3035880" y="4289760"/>
                      <a:ext cx="79380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400"/>
                          </a:lnTo>
                          <a:lnTo>
                            <a:pt x="2334" y="2197"/>
                          </a:lnTo>
                          <a:lnTo>
                            <a:pt x="2595" y="1986"/>
                          </a:lnTo>
                          <a:lnTo>
                            <a:pt x="2786" y="1833"/>
                          </a:lnTo>
                          <a:lnTo>
                            <a:pt x="3055" y="1639"/>
                          </a:lnTo>
                          <a:lnTo>
                            <a:pt x="3334" y="1438"/>
                          </a:lnTo>
                          <a:lnTo>
                            <a:pt x="3565" y="1265"/>
                          </a:lnTo>
                          <a:lnTo>
                            <a:pt x="3776" y="1119"/>
                          </a:lnTo>
                          <a:lnTo>
                            <a:pt x="3980" y="986"/>
                          </a:lnTo>
                          <a:lnTo>
                            <a:pt x="4181" y="850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9"/>
                          </a:lnTo>
                          <a:lnTo>
                            <a:pt x="2459" y="292"/>
                          </a:lnTo>
                          <a:lnTo>
                            <a:pt x="2276" y="418"/>
                          </a:lnTo>
                          <a:lnTo>
                            <a:pt x="2085" y="571"/>
                          </a:lnTo>
                          <a:lnTo>
                            <a:pt x="1881" y="735"/>
                          </a:lnTo>
                          <a:lnTo>
                            <a:pt x="1680" y="908"/>
                          </a:lnTo>
                          <a:lnTo>
                            <a:pt x="1363" y="1101"/>
                          </a:lnTo>
                          <a:lnTo>
                            <a:pt x="1084" y="1275"/>
                          </a:lnTo>
                          <a:lnTo>
                            <a:pt x="823" y="1428"/>
                          </a:lnTo>
                          <a:lnTo>
                            <a:pt x="534" y="1629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rot="1408800">
                      <a:off x="3039120" y="4282200"/>
                      <a:ext cx="79380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0"/>
                          </a:moveTo>
                          <a:lnTo>
                            <a:pt x="1608" y="2857"/>
                          </a:lnTo>
                          <a:lnTo>
                            <a:pt x="1863" y="2620"/>
                          </a:lnTo>
                          <a:lnTo>
                            <a:pt x="2103" y="2399"/>
                          </a:lnTo>
                          <a:lnTo>
                            <a:pt x="2334" y="2197"/>
                          </a:lnTo>
                          <a:lnTo>
                            <a:pt x="2595" y="1984"/>
                          </a:lnTo>
                          <a:lnTo>
                            <a:pt x="2786" y="1831"/>
                          </a:lnTo>
                          <a:lnTo>
                            <a:pt x="3055" y="1638"/>
                          </a:lnTo>
                          <a:lnTo>
                            <a:pt x="3334" y="1436"/>
                          </a:lnTo>
                          <a:lnTo>
                            <a:pt x="3565" y="1263"/>
                          </a:lnTo>
                          <a:lnTo>
                            <a:pt x="3776" y="1120"/>
                          </a:lnTo>
                          <a:lnTo>
                            <a:pt x="3980" y="984"/>
                          </a:lnTo>
                          <a:lnTo>
                            <a:pt x="4181" y="849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7"/>
                          </a:lnTo>
                          <a:lnTo>
                            <a:pt x="2459" y="291"/>
                          </a:lnTo>
                          <a:lnTo>
                            <a:pt x="2276" y="416"/>
                          </a:lnTo>
                          <a:lnTo>
                            <a:pt x="2085" y="570"/>
                          </a:lnTo>
                          <a:lnTo>
                            <a:pt x="1881" y="733"/>
                          </a:lnTo>
                          <a:lnTo>
                            <a:pt x="1680" y="906"/>
                          </a:lnTo>
                          <a:lnTo>
                            <a:pt x="1363" y="1100"/>
                          </a:lnTo>
                          <a:lnTo>
                            <a:pt x="1084" y="1273"/>
                          </a:lnTo>
                          <a:lnTo>
                            <a:pt x="823" y="1426"/>
                          </a:lnTo>
                          <a:lnTo>
                            <a:pt x="534" y="1630"/>
                          </a:lnTo>
                          <a:lnTo>
                            <a:pt x="275" y="1821"/>
                          </a:lnTo>
                          <a:lnTo>
                            <a:pt x="0" y="2050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408800">
                      <a:off x="3043080" y="427464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399"/>
                          </a:lnTo>
                          <a:lnTo>
                            <a:pt x="2334" y="2198"/>
                          </a:lnTo>
                          <a:lnTo>
                            <a:pt x="2595" y="1987"/>
                          </a:lnTo>
                          <a:lnTo>
                            <a:pt x="2786" y="1831"/>
                          </a:lnTo>
                          <a:lnTo>
                            <a:pt x="3055" y="1640"/>
                          </a:lnTo>
                          <a:lnTo>
                            <a:pt x="3334" y="1437"/>
                          </a:lnTo>
                          <a:lnTo>
                            <a:pt x="3565" y="1263"/>
                          </a:lnTo>
                          <a:lnTo>
                            <a:pt x="3776" y="1120"/>
                          </a:lnTo>
                          <a:lnTo>
                            <a:pt x="3980" y="984"/>
                          </a:lnTo>
                          <a:lnTo>
                            <a:pt x="4181" y="851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8"/>
                          </a:lnTo>
                          <a:lnTo>
                            <a:pt x="2459" y="293"/>
                          </a:lnTo>
                          <a:lnTo>
                            <a:pt x="2276" y="417"/>
                          </a:lnTo>
                          <a:lnTo>
                            <a:pt x="2085" y="572"/>
                          </a:lnTo>
                          <a:lnTo>
                            <a:pt x="1881" y="735"/>
                          </a:lnTo>
                          <a:lnTo>
                            <a:pt x="1680" y="909"/>
                          </a:lnTo>
                          <a:lnTo>
                            <a:pt x="1363" y="1100"/>
                          </a:lnTo>
                          <a:lnTo>
                            <a:pt x="1084" y="1273"/>
                          </a:lnTo>
                          <a:lnTo>
                            <a:pt x="823" y="1429"/>
                          </a:lnTo>
                          <a:lnTo>
                            <a:pt x="534" y="1630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rot="1408800">
                      <a:off x="3046320" y="426672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8">
                          <a:moveTo>
                            <a:pt x="0" y="2053"/>
                          </a:moveTo>
                          <a:lnTo>
                            <a:pt x="1608" y="2858"/>
                          </a:lnTo>
                          <a:lnTo>
                            <a:pt x="1863" y="2622"/>
                          </a:lnTo>
                          <a:lnTo>
                            <a:pt x="2103" y="2401"/>
                          </a:lnTo>
                          <a:lnTo>
                            <a:pt x="2334" y="2198"/>
                          </a:lnTo>
                          <a:lnTo>
                            <a:pt x="2595" y="1987"/>
                          </a:lnTo>
                          <a:lnTo>
                            <a:pt x="2786" y="1833"/>
                          </a:lnTo>
                          <a:lnTo>
                            <a:pt x="3055" y="1640"/>
                          </a:lnTo>
                          <a:lnTo>
                            <a:pt x="3334" y="1439"/>
                          </a:lnTo>
                          <a:lnTo>
                            <a:pt x="3565" y="1266"/>
                          </a:lnTo>
                          <a:lnTo>
                            <a:pt x="3776" y="1120"/>
                          </a:lnTo>
                          <a:lnTo>
                            <a:pt x="3980" y="987"/>
                          </a:lnTo>
                          <a:lnTo>
                            <a:pt x="4181" y="851"/>
                          </a:lnTo>
                          <a:lnTo>
                            <a:pt x="4384" y="724"/>
                          </a:lnTo>
                          <a:lnTo>
                            <a:pt x="2938" y="0"/>
                          </a:lnTo>
                          <a:lnTo>
                            <a:pt x="2700" y="140"/>
                          </a:lnTo>
                          <a:lnTo>
                            <a:pt x="2459" y="293"/>
                          </a:lnTo>
                          <a:lnTo>
                            <a:pt x="2276" y="419"/>
                          </a:lnTo>
                          <a:lnTo>
                            <a:pt x="2085" y="572"/>
                          </a:lnTo>
                          <a:lnTo>
                            <a:pt x="1881" y="736"/>
                          </a:lnTo>
                          <a:lnTo>
                            <a:pt x="1680" y="909"/>
                          </a:lnTo>
                          <a:lnTo>
                            <a:pt x="1363" y="1102"/>
                          </a:lnTo>
                          <a:lnTo>
                            <a:pt x="1084" y="1276"/>
                          </a:lnTo>
                          <a:lnTo>
                            <a:pt x="823" y="1429"/>
                          </a:lnTo>
                          <a:lnTo>
                            <a:pt x="534" y="1630"/>
                          </a:lnTo>
                          <a:lnTo>
                            <a:pt x="275" y="1823"/>
                          </a:lnTo>
                          <a:lnTo>
                            <a:pt x="0" y="2053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rot="1408800">
                      <a:off x="3049560" y="425916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0"/>
                          </a:moveTo>
                          <a:lnTo>
                            <a:pt x="1608" y="2857"/>
                          </a:lnTo>
                          <a:lnTo>
                            <a:pt x="1863" y="2620"/>
                          </a:lnTo>
                          <a:lnTo>
                            <a:pt x="2103" y="2399"/>
                          </a:lnTo>
                          <a:lnTo>
                            <a:pt x="2334" y="2197"/>
                          </a:lnTo>
                          <a:lnTo>
                            <a:pt x="2595" y="1984"/>
                          </a:lnTo>
                          <a:lnTo>
                            <a:pt x="2786" y="1831"/>
                          </a:lnTo>
                          <a:lnTo>
                            <a:pt x="3055" y="1639"/>
                          </a:lnTo>
                          <a:lnTo>
                            <a:pt x="3334" y="1436"/>
                          </a:lnTo>
                          <a:lnTo>
                            <a:pt x="3565" y="1263"/>
                          </a:lnTo>
                          <a:lnTo>
                            <a:pt x="3776" y="1119"/>
                          </a:lnTo>
                          <a:lnTo>
                            <a:pt x="3980" y="984"/>
                          </a:lnTo>
                          <a:lnTo>
                            <a:pt x="4181" y="848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7"/>
                          </a:lnTo>
                          <a:lnTo>
                            <a:pt x="2459" y="291"/>
                          </a:lnTo>
                          <a:lnTo>
                            <a:pt x="2276" y="416"/>
                          </a:lnTo>
                          <a:lnTo>
                            <a:pt x="2085" y="570"/>
                          </a:lnTo>
                          <a:lnTo>
                            <a:pt x="1881" y="733"/>
                          </a:lnTo>
                          <a:lnTo>
                            <a:pt x="1680" y="906"/>
                          </a:lnTo>
                          <a:lnTo>
                            <a:pt x="1363" y="1099"/>
                          </a:lnTo>
                          <a:lnTo>
                            <a:pt x="1084" y="1273"/>
                          </a:lnTo>
                          <a:lnTo>
                            <a:pt x="823" y="1426"/>
                          </a:lnTo>
                          <a:lnTo>
                            <a:pt x="534" y="1629"/>
                          </a:lnTo>
                          <a:lnTo>
                            <a:pt x="275" y="1821"/>
                          </a:lnTo>
                          <a:lnTo>
                            <a:pt x="0" y="2050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408800">
                      <a:off x="3052800" y="4251240"/>
                      <a:ext cx="79380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401"/>
                          </a:lnTo>
                          <a:lnTo>
                            <a:pt x="2334" y="2198"/>
                          </a:lnTo>
                          <a:lnTo>
                            <a:pt x="2595" y="1986"/>
                          </a:lnTo>
                          <a:lnTo>
                            <a:pt x="2786" y="1831"/>
                          </a:lnTo>
                          <a:lnTo>
                            <a:pt x="3055" y="1640"/>
                          </a:lnTo>
                          <a:lnTo>
                            <a:pt x="3334" y="1437"/>
                          </a:lnTo>
                          <a:lnTo>
                            <a:pt x="3565" y="1263"/>
                          </a:lnTo>
                          <a:lnTo>
                            <a:pt x="3776" y="1120"/>
                          </a:lnTo>
                          <a:lnTo>
                            <a:pt x="3980" y="984"/>
                          </a:lnTo>
                          <a:lnTo>
                            <a:pt x="4181" y="851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7"/>
                          </a:lnTo>
                          <a:lnTo>
                            <a:pt x="2459" y="293"/>
                          </a:lnTo>
                          <a:lnTo>
                            <a:pt x="2276" y="416"/>
                          </a:lnTo>
                          <a:lnTo>
                            <a:pt x="2085" y="572"/>
                          </a:lnTo>
                          <a:lnTo>
                            <a:pt x="1881" y="735"/>
                          </a:lnTo>
                          <a:lnTo>
                            <a:pt x="1680" y="909"/>
                          </a:lnTo>
                          <a:lnTo>
                            <a:pt x="1363" y="1100"/>
                          </a:lnTo>
                          <a:lnTo>
                            <a:pt x="1084" y="1273"/>
                          </a:lnTo>
                          <a:lnTo>
                            <a:pt x="823" y="1429"/>
                          </a:lnTo>
                          <a:lnTo>
                            <a:pt x="534" y="1630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rot="1408800">
                      <a:off x="3056040" y="4243320"/>
                      <a:ext cx="79380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401"/>
                          </a:lnTo>
                          <a:lnTo>
                            <a:pt x="2334" y="2198"/>
                          </a:lnTo>
                          <a:lnTo>
                            <a:pt x="2595" y="1987"/>
                          </a:lnTo>
                          <a:lnTo>
                            <a:pt x="2786" y="1833"/>
                          </a:lnTo>
                          <a:lnTo>
                            <a:pt x="3055" y="1640"/>
                          </a:lnTo>
                          <a:lnTo>
                            <a:pt x="3334" y="1439"/>
                          </a:lnTo>
                          <a:lnTo>
                            <a:pt x="3565" y="1265"/>
                          </a:lnTo>
                          <a:lnTo>
                            <a:pt x="3776" y="1120"/>
                          </a:lnTo>
                          <a:lnTo>
                            <a:pt x="3980" y="987"/>
                          </a:lnTo>
                          <a:lnTo>
                            <a:pt x="4181" y="851"/>
                          </a:lnTo>
                          <a:lnTo>
                            <a:pt x="4384" y="724"/>
                          </a:lnTo>
                          <a:lnTo>
                            <a:pt x="2938" y="0"/>
                          </a:lnTo>
                          <a:lnTo>
                            <a:pt x="2700" y="140"/>
                          </a:lnTo>
                          <a:lnTo>
                            <a:pt x="2459" y="293"/>
                          </a:lnTo>
                          <a:lnTo>
                            <a:pt x="2276" y="419"/>
                          </a:lnTo>
                          <a:lnTo>
                            <a:pt x="2085" y="572"/>
                          </a:lnTo>
                          <a:lnTo>
                            <a:pt x="1881" y="735"/>
                          </a:lnTo>
                          <a:lnTo>
                            <a:pt x="1680" y="909"/>
                          </a:lnTo>
                          <a:lnTo>
                            <a:pt x="1363" y="1102"/>
                          </a:lnTo>
                          <a:lnTo>
                            <a:pt x="1084" y="1275"/>
                          </a:lnTo>
                          <a:lnTo>
                            <a:pt x="823" y="1429"/>
                          </a:lnTo>
                          <a:lnTo>
                            <a:pt x="534" y="1630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1408800">
                      <a:off x="3059640" y="4235760"/>
                      <a:ext cx="79380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0"/>
                          </a:lnTo>
                          <a:lnTo>
                            <a:pt x="2103" y="2398"/>
                          </a:lnTo>
                          <a:lnTo>
                            <a:pt x="2334" y="2197"/>
                          </a:lnTo>
                          <a:lnTo>
                            <a:pt x="2595" y="1984"/>
                          </a:lnTo>
                          <a:lnTo>
                            <a:pt x="2786" y="1831"/>
                          </a:lnTo>
                          <a:lnTo>
                            <a:pt x="3055" y="1639"/>
                          </a:lnTo>
                          <a:lnTo>
                            <a:pt x="3334" y="1436"/>
                          </a:lnTo>
                          <a:lnTo>
                            <a:pt x="3565" y="1263"/>
                          </a:lnTo>
                          <a:lnTo>
                            <a:pt x="3776" y="1119"/>
                          </a:lnTo>
                          <a:lnTo>
                            <a:pt x="3980" y="984"/>
                          </a:lnTo>
                          <a:lnTo>
                            <a:pt x="4181" y="848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7"/>
                          </a:lnTo>
                          <a:lnTo>
                            <a:pt x="2459" y="290"/>
                          </a:lnTo>
                          <a:lnTo>
                            <a:pt x="2276" y="416"/>
                          </a:lnTo>
                          <a:lnTo>
                            <a:pt x="2085" y="569"/>
                          </a:lnTo>
                          <a:lnTo>
                            <a:pt x="1881" y="733"/>
                          </a:lnTo>
                          <a:lnTo>
                            <a:pt x="1680" y="906"/>
                          </a:lnTo>
                          <a:lnTo>
                            <a:pt x="1363" y="1099"/>
                          </a:lnTo>
                          <a:lnTo>
                            <a:pt x="1084" y="1273"/>
                          </a:lnTo>
                          <a:lnTo>
                            <a:pt x="823" y="1426"/>
                          </a:lnTo>
                          <a:lnTo>
                            <a:pt x="534" y="1629"/>
                          </a:lnTo>
                          <a:lnTo>
                            <a:pt x="275" y="1821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408800">
                      <a:off x="3062880" y="4227840"/>
                      <a:ext cx="79380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401"/>
                          </a:lnTo>
                          <a:lnTo>
                            <a:pt x="2334" y="2197"/>
                          </a:lnTo>
                          <a:lnTo>
                            <a:pt x="2595" y="1986"/>
                          </a:lnTo>
                          <a:lnTo>
                            <a:pt x="2786" y="1833"/>
                          </a:lnTo>
                          <a:lnTo>
                            <a:pt x="3055" y="1640"/>
                          </a:lnTo>
                          <a:lnTo>
                            <a:pt x="3334" y="1436"/>
                          </a:lnTo>
                          <a:lnTo>
                            <a:pt x="3565" y="1265"/>
                          </a:lnTo>
                          <a:lnTo>
                            <a:pt x="3776" y="1120"/>
                          </a:lnTo>
                          <a:lnTo>
                            <a:pt x="3980" y="984"/>
                          </a:lnTo>
                          <a:lnTo>
                            <a:pt x="4181" y="851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7"/>
                          </a:lnTo>
                          <a:lnTo>
                            <a:pt x="2459" y="293"/>
                          </a:lnTo>
                          <a:lnTo>
                            <a:pt x="2276" y="416"/>
                          </a:lnTo>
                          <a:lnTo>
                            <a:pt x="2085" y="572"/>
                          </a:lnTo>
                          <a:lnTo>
                            <a:pt x="1881" y="735"/>
                          </a:lnTo>
                          <a:lnTo>
                            <a:pt x="1680" y="908"/>
                          </a:lnTo>
                          <a:lnTo>
                            <a:pt x="1363" y="1100"/>
                          </a:lnTo>
                          <a:lnTo>
                            <a:pt x="1084" y="1273"/>
                          </a:lnTo>
                          <a:lnTo>
                            <a:pt x="823" y="1428"/>
                          </a:lnTo>
                          <a:lnTo>
                            <a:pt x="534" y="1630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1408800">
                      <a:off x="3066480" y="422028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401"/>
                          </a:lnTo>
                          <a:lnTo>
                            <a:pt x="2334" y="2198"/>
                          </a:lnTo>
                          <a:lnTo>
                            <a:pt x="2595" y="1987"/>
                          </a:lnTo>
                          <a:lnTo>
                            <a:pt x="2786" y="1833"/>
                          </a:lnTo>
                          <a:lnTo>
                            <a:pt x="3055" y="1640"/>
                          </a:lnTo>
                          <a:lnTo>
                            <a:pt x="3334" y="1439"/>
                          </a:lnTo>
                          <a:lnTo>
                            <a:pt x="3565" y="1265"/>
                          </a:lnTo>
                          <a:lnTo>
                            <a:pt x="3776" y="1120"/>
                          </a:lnTo>
                          <a:lnTo>
                            <a:pt x="3980" y="986"/>
                          </a:lnTo>
                          <a:lnTo>
                            <a:pt x="4181" y="851"/>
                          </a:lnTo>
                          <a:lnTo>
                            <a:pt x="4384" y="725"/>
                          </a:lnTo>
                          <a:lnTo>
                            <a:pt x="2938" y="0"/>
                          </a:lnTo>
                          <a:lnTo>
                            <a:pt x="2700" y="140"/>
                          </a:lnTo>
                          <a:lnTo>
                            <a:pt x="2459" y="293"/>
                          </a:lnTo>
                          <a:lnTo>
                            <a:pt x="2276" y="419"/>
                          </a:lnTo>
                          <a:lnTo>
                            <a:pt x="2085" y="572"/>
                          </a:lnTo>
                          <a:lnTo>
                            <a:pt x="1881" y="735"/>
                          </a:lnTo>
                          <a:lnTo>
                            <a:pt x="1680" y="909"/>
                          </a:lnTo>
                          <a:lnTo>
                            <a:pt x="1363" y="1102"/>
                          </a:lnTo>
                          <a:lnTo>
                            <a:pt x="1084" y="1275"/>
                          </a:lnTo>
                          <a:lnTo>
                            <a:pt x="823" y="1429"/>
                          </a:lnTo>
                          <a:lnTo>
                            <a:pt x="534" y="1630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1408800">
                      <a:off x="3070080" y="421272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8">
                          <a:moveTo>
                            <a:pt x="0" y="2053"/>
                          </a:moveTo>
                          <a:lnTo>
                            <a:pt x="1608" y="2858"/>
                          </a:lnTo>
                          <a:lnTo>
                            <a:pt x="1863" y="2620"/>
                          </a:lnTo>
                          <a:lnTo>
                            <a:pt x="2103" y="2399"/>
                          </a:lnTo>
                          <a:lnTo>
                            <a:pt x="2334" y="2198"/>
                          </a:lnTo>
                          <a:lnTo>
                            <a:pt x="2595" y="1987"/>
                          </a:lnTo>
                          <a:lnTo>
                            <a:pt x="2786" y="1831"/>
                          </a:lnTo>
                          <a:lnTo>
                            <a:pt x="3055" y="1640"/>
                          </a:lnTo>
                          <a:lnTo>
                            <a:pt x="3334" y="1437"/>
                          </a:lnTo>
                          <a:lnTo>
                            <a:pt x="3565" y="1264"/>
                          </a:lnTo>
                          <a:lnTo>
                            <a:pt x="3776" y="1120"/>
                          </a:lnTo>
                          <a:lnTo>
                            <a:pt x="3980" y="985"/>
                          </a:lnTo>
                          <a:lnTo>
                            <a:pt x="4181" y="851"/>
                          </a:lnTo>
                          <a:lnTo>
                            <a:pt x="4384" y="724"/>
                          </a:lnTo>
                          <a:lnTo>
                            <a:pt x="2938" y="0"/>
                          </a:lnTo>
                          <a:lnTo>
                            <a:pt x="2700" y="138"/>
                          </a:lnTo>
                          <a:lnTo>
                            <a:pt x="2459" y="291"/>
                          </a:lnTo>
                          <a:lnTo>
                            <a:pt x="2276" y="417"/>
                          </a:lnTo>
                          <a:lnTo>
                            <a:pt x="2085" y="570"/>
                          </a:lnTo>
                          <a:lnTo>
                            <a:pt x="1881" y="736"/>
                          </a:lnTo>
                          <a:lnTo>
                            <a:pt x="1680" y="909"/>
                          </a:lnTo>
                          <a:lnTo>
                            <a:pt x="1363" y="1100"/>
                          </a:lnTo>
                          <a:lnTo>
                            <a:pt x="1084" y="1274"/>
                          </a:lnTo>
                          <a:lnTo>
                            <a:pt x="823" y="1427"/>
                          </a:lnTo>
                          <a:lnTo>
                            <a:pt x="534" y="1630"/>
                          </a:lnTo>
                          <a:lnTo>
                            <a:pt x="275" y="1822"/>
                          </a:lnTo>
                          <a:lnTo>
                            <a:pt x="0" y="2053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rot="1408800">
                      <a:off x="3073320" y="420480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7">
                          <a:moveTo>
                            <a:pt x="0" y="2052"/>
                          </a:moveTo>
                          <a:lnTo>
                            <a:pt x="1608" y="2857"/>
                          </a:lnTo>
                          <a:lnTo>
                            <a:pt x="1863" y="2622"/>
                          </a:lnTo>
                          <a:lnTo>
                            <a:pt x="2103" y="2401"/>
                          </a:lnTo>
                          <a:lnTo>
                            <a:pt x="2334" y="2197"/>
                          </a:lnTo>
                          <a:lnTo>
                            <a:pt x="2595" y="1986"/>
                          </a:lnTo>
                          <a:lnTo>
                            <a:pt x="2786" y="1833"/>
                          </a:lnTo>
                          <a:lnTo>
                            <a:pt x="3055" y="1639"/>
                          </a:lnTo>
                          <a:lnTo>
                            <a:pt x="3334" y="1438"/>
                          </a:lnTo>
                          <a:lnTo>
                            <a:pt x="3565" y="1265"/>
                          </a:lnTo>
                          <a:lnTo>
                            <a:pt x="3776" y="1119"/>
                          </a:lnTo>
                          <a:lnTo>
                            <a:pt x="3980" y="986"/>
                          </a:lnTo>
                          <a:lnTo>
                            <a:pt x="4181" y="851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7"/>
                          </a:lnTo>
                          <a:lnTo>
                            <a:pt x="2459" y="293"/>
                          </a:lnTo>
                          <a:lnTo>
                            <a:pt x="2276" y="416"/>
                          </a:lnTo>
                          <a:lnTo>
                            <a:pt x="2085" y="572"/>
                          </a:lnTo>
                          <a:lnTo>
                            <a:pt x="1881" y="735"/>
                          </a:lnTo>
                          <a:lnTo>
                            <a:pt x="1680" y="908"/>
                          </a:lnTo>
                          <a:lnTo>
                            <a:pt x="1363" y="1100"/>
                          </a:lnTo>
                          <a:lnTo>
                            <a:pt x="1084" y="1273"/>
                          </a:lnTo>
                          <a:lnTo>
                            <a:pt x="823" y="1428"/>
                          </a:lnTo>
                          <a:lnTo>
                            <a:pt x="534" y="1630"/>
                          </a:lnTo>
                          <a:lnTo>
                            <a:pt x="275" y="1823"/>
                          </a:lnTo>
                          <a:lnTo>
                            <a:pt x="0" y="2052"/>
                          </a:lnTo>
                          <a:close/>
                        </a:path>
                      </a:pathLst>
                    </a:custGeom>
                    <a:solidFill>
                      <a:srgbClr val="7ff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408800">
                      <a:off x="3076560" y="4197240"/>
                      <a:ext cx="79380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4" h="2855">
                          <a:moveTo>
                            <a:pt x="0" y="2050"/>
                          </a:moveTo>
                          <a:lnTo>
                            <a:pt x="1608" y="2855"/>
                          </a:lnTo>
                          <a:lnTo>
                            <a:pt x="1863" y="2620"/>
                          </a:lnTo>
                          <a:lnTo>
                            <a:pt x="2103" y="2399"/>
                          </a:lnTo>
                          <a:lnTo>
                            <a:pt x="2334" y="2198"/>
                          </a:lnTo>
                          <a:lnTo>
                            <a:pt x="2595" y="1984"/>
                          </a:lnTo>
                          <a:lnTo>
                            <a:pt x="2786" y="1831"/>
                          </a:lnTo>
                          <a:lnTo>
                            <a:pt x="3055" y="1638"/>
                          </a:lnTo>
                          <a:lnTo>
                            <a:pt x="3334" y="1437"/>
                          </a:lnTo>
                          <a:lnTo>
                            <a:pt x="3565" y="1263"/>
                          </a:lnTo>
                          <a:lnTo>
                            <a:pt x="3776" y="1118"/>
                          </a:lnTo>
                          <a:lnTo>
                            <a:pt x="3980" y="984"/>
                          </a:lnTo>
                          <a:lnTo>
                            <a:pt x="4181" y="849"/>
                          </a:lnTo>
                          <a:lnTo>
                            <a:pt x="4384" y="723"/>
                          </a:lnTo>
                          <a:lnTo>
                            <a:pt x="2938" y="0"/>
                          </a:lnTo>
                          <a:lnTo>
                            <a:pt x="2700" y="138"/>
                          </a:lnTo>
                          <a:lnTo>
                            <a:pt x="2459" y="291"/>
                          </a:lnTo>
                          <a:lnTo>
                            <a:pt x="2276" y="416"/>
                          </a:lnTo>
                          <a:lnTo>
                            <a:pt x="2085" y="570"/>
                          </a:lnTo>
                          <a:lnTo>
                            <a:pt x="1881" y="733"/>
                          </a:lnTo>
                          <a:lnTo>
                            <a:pt x="1680" y="907"/>
                          </a:lnTo>
                          <a:lnTo>
                            <a:pt x="1363" y="1100"/>
                          </a:lnTo>
                          <a:lnTo>
                            <a:pt x="1084" y="1259"/>
                          </a:lnTo>
                          <a:lnTo>
                            <a:pt x="823" y="1427"/>
                          </a:lnTo>
                          <a:lnTo>
                            <a:pt x="534" y="1630"/>
                          </a:lnTo>
                          <a:lnTo>
                            <a:pt x="275" y="1821"/>
                          </a:lnTo>
                          <a:lnTo>
                            <a:pt x="0" y="2050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3122640" y="4103280"/>
                    <a:ext cx="703080" cy="497880"/>
                    <a:chOff x="3122640" y="4103280"/>
                    <a:chExt cx="703080" cy="49788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rot="1408800">
                      <a:off x="3146760" y="4222800"/>
                      <a:ext cx="65448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5" h="2355">
                          <a:moveTo>
                            <a:pt x="0" y="1690"/>
                          </a:moveTo>
                          <a:lnTo>
                            <a:pt x="1325" y="2355"/>
                          </a:lnTo>
                          <a:lnTo>
                            <a:pt x="1536" y="2160"/>
                          </a:lnTo>
                          <a:lnTo>
                            <a:pt x="1733" y="1977"/>
                          </a:lnTo>
                          <a:lnTo>
                            <a:pt x="1923" y="1811"/>
                          </a:lnTo>
                          <a:lnTo>
                            <a:pt x="2138" y="1638"/>
                          </a:lnTo>
                          <a:lnTo>
                            <a:pt x="2295" y="1508"/>
                          </a:lnTo>
                          <a:lnTo>
                            <a:pt x="2519" y="1351"/>
                          </a:lnTo>
                          <a:lnTo>
                            <a:pt x="2748" y="1186"/>
                          </a:lnTo>
                          <a:lnTo>
                            <a:pt x="2939" y="1040"/>
                          </a:lnTo>
                          <a:lnTo>
                            <a:pt x="3112" y="923"/>
                          </a:lnTo>
                          <a:lnTo>
                            <a:pt x="3280" y="811"/>
                          </a:lnTo>
                          <a:lnTo>
                            <a:pt x="3447" y="701"/>
                          </a:lnTo>
                          <a:lnTo>
                            <a:pt x="3615" y="594"/>
                          </a:lnTo>
                          <a:lnTo>
                            <a:pt x="2421" y="0"/>
                          </a:lnTo>
                          <a:lnTo>
                            <a:pt x="2226" y="112"/>
                          </a:lnTo>
                          <a:lnTo>
                            <a:pt x="2026" y="239"/>
                          </a:lnTo>
                          <a:lnTo>
                            <a:pt x="1875" y="343"/>
                          </a:lnTo>
                          <a:lnTo>
                            <a:pt x="1718" y="470"/>
                          </a:lnTo>
                          <a:lnTo>
                            <a:pt x="1550" y="604"/>
                          </a:lnTo>
                          <a:lnTo>
                            <a:pt x="1385" y="747"/>
                          </a:lnTo>
                          <a:lnTo>
                            <a:pt x="1122" y="907"/>
                          </a:lnTo>
                          <a:lnTo>
                            <a:pt x="918" y="1022"/>
                          </a:lnTo>
                          <a:lnTo>
                            <a:pt x="677" y="1178"/>
                          </a:lnTo>
                          <a:lnTo>
                            <a:pt x="440" y="1343"/>
                          </a:lnTo>
                          <a:lnTo>
                            <a:pt x="225" y="1500"/>
                          </a:lnTo>
                          <a:lnTo>
                            <a:pt x="0" y="169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rot="1408800">
                      <a:off x="3167640" y="4230000"/>
                      <a:ext cx="61452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4" h="2221">
                          <a:moveTo>
                            <a:pt x="0" y="1612"/>
                          </a:moveTo>
                          <a:lnTo>
                            <a:pt x="1206" y="2221"/>
                          </a:lnTo>
                          <a:lnTo>
                            <a:pt x="1407" y="2022"/>
                          </a:lnTo>
                          <a:lnTo>
                            <a:pt x="1624" y="1831"/>
                          </a:lnTo>
                          <a:lnTo>
                            <a:pt x="1796" y="1679"/>
                          </a:lnTo>
                          <a:lnTo>
                            <a:pt x="1989" y="1524"/>
                          </a:lnTo>
                          <a:lnTo>
                            <a:pt x="2131" y="1409"/>
                          </a:lnTo>
                          <a:lnTo>
                            <a:pt x="2332" y="1267"/>
                          </a:lnTo>
                          <a:lnTo>
                            <a:pt x="2537" y="1118"/>
                          </a:lnTo>
                          <a:lnTo>
                            <a:pt x="2711" y="988"/>
                          </a:lnTo>
                          <a:lnTo>
                            <a:pt x="2868" y="881"/>
                          </a:lnTo>
                          <a:lnTo>
                            <a:pt x="3017" y="781"/>
                          </a:lnTo>
                          <a:lnTo>
                            <a:pt x="3195" y="667"/>
                          </a:lnTo>
                          <a:lnTo>
                            <a:pt x="3394" y="536"/>
                          </a:lnTo>
                          <a:lnTo>
                            <a:pt x="2308" y="0"/>
                          </a:lnTo>
                          <a:lnTo>
                            <a:pt x="2119" y="113"/>
                          </a:lnTo>
                          <a:lnTo>
                            <a:pt x="1927" y="229"/>
                          </a:lnTo>
                          <a:lnTo>
                            <a:pt x="1752" y="359"/>
                          </a:lnTo>
                          <a:lnTo>
                            <a:pt x="1610" y="472"/>
                          </a:lnTo>
                          <a:lnTo>
                            <a:pt x="1459" y="594"/>
                          </a:lnTo>
                          <a:lnTo>
                            <a:pt x="1312" y="723"/>
                          </a:lnTo>
                          <a:lnTo>
                            <a:pt x="1074" y="865"/>
                          </a:lnTo>
                          <a:lnTo>
                            <a:pt x="891" y="972"/>
                          </a:lnTo>
                          <a:lnTo>
                            <a:pt x="674" y="1110"/>
                          </a:lnTo>
                          <a:lnTo>
                            <a:pt x="473" y="1261"/>
                          </a:lnTo>
                          <a:lnTo>
                            <a:pt x="265" y="1414"/>
                          </a:lnTo>
                          <a:lnTo>
                            <a:pt x="0" y="1612"/>
                          </a:lnTo>
                          <a:close/>
                        </a:path>
                      </a:pathLst>
                    </a:custGeom>
                    <a:solidFill>
                      <a:srgbClr val="d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3196800" y="4285080"/>
                  <a:ext cx="562320" cy="132120"/>
                  <a:chOff x="3196800" y="4285080"/>
                  <a:chExt cx="562320" cy="13212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3196800" y="4289040"/>
                    <a:ext cx="62640" cy="9360"/>
                    <a:chOff x="3196800" y="4289040"/>
                    <a:chExt cx="62640" cy="93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V="1">
                      <a:off x="3196800" y="4289040"/>
                      <a:ext cx="5328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3206160" y="4296960"/>
                      <a:ext cx="5328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3336120" y="4402080"/>
                    <a:ext cx="59400" cy="15120"/>
                    <a:chOff x="3336120" y="4402080"/>
                    <a:chExt cx="59400" cy="151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V="1">
                      <a:off x="3336120" y="4402080"/>
                      <a:ext cx="47520" cy="5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V="1">
                      <a:off x="3347640" y="4412160"/>
                      <a:ext cx="47880" cy="5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702240" y="4395600"/>
                    <a:ext cx="56880" cy="11160"/>
                    <a:chOff x="3702240" y="4395600"/>
                    <a:chExt cx="56880" cy="111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flipV="1">
                      <a:off x="3713400" y="4405680"/>
                      <a:ext cx="45720" cy="1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flipV="1">
                      <a:off x="3702240" y="4395600"/>
                      <a:ext cx="45000" cy="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3579120" y="4290840"/>
                    <a:ext cx="53280" cy="10440"/>
                    <a:chOff x="3579120" y="4290840"/>
                    <a:chExt cx="53280" cy="1044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flipV="1">
                      <a:off x="3579120" y="4290840"/>
                      <a:ext cx="43920" cy="2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flipV="1">
                      <a:off x="3588120" y="4299120"/>
                      <a:ext cx="44280" cy="2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3423600" y="4285080"/>
                    <a:ext cx="167040" cy="127800"/>
                    <a:chOff x="3423600" y="4285080"/>
                    <a:chExt cx="167040" cy="12780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408800">
                      <a:off x="3432240" y="4311360"/>
                      <a:ext cx="14868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9951" y="16535"/>
                          </a:moveTo>
                          <a:arcTo wR="10800" hR="10800" stAng="1924498" swAng="109031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9951" y="16535"/>
                          </a:moveTo>
                          <a:arcTo wR="10800" hR="10800" stAng="1924498" swAng="10903139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408800">
                      <a:off x="3432960" y="4311720"/>
                      <a:ext cx="1486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93" y="4995"/>
                          </a:moveTo>
                          <a:arcTo wR="10800" hR="10800" stAng="-8849188" swAng="1086162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93" y="4995"/>
                          </a:moveTo>
                          <a:arcTo wR="10800" hR="10800" stAng="-8849188" swAng="10861628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65" name=""/>
              <p:cNvSpPr/>
              <p:nvPr/>
            </p:nvSpPr>
            <p:spPr>
              <a:xfrm rot="1408800">
                <a:off x="3353760" y="4303440"/>
                <a:ext cx="252720" cy="227160"/>
              </a:xfrm>
              <a:custGeom>
                <a:avLst/>
                <a:gdLst/>
                <a:ahLst/>
                <a:rect l="l" t="t" r="r" b="b"/>
                <a:pathLst>
                  <a:path w="1397" h="2070">
                    <a:moveTo>
                      <a:pt x="0" y="0"/>
                    </a:moveTo>
                    <a:lnTo>
                      <a:pt x="1397" y="723"/>
                    </a:lnTo>
                    <a:lnTo>
                      <a:pt x="1395" y="207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5486400" y="487692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ulu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ses Pendidik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hasis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urikul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erformance Indi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87692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stem Manaje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f Akademis dan Staf Penduk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uan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silitas Fisik (gedung, laboratorium, ds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dan Inform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85800" y="1600200"/>
            <a:ext cx="7924680" cy="5029200"/>
            <a:chOff x="685800" y="1600200"/>
            <a:chExt cx="7924680" cy="5029200"/>
          </a:xfrm>
        </p:grpSpPr>
        <p:sp>
          <p:nvSpPr>
            <p:cNvPr id="369" name=""/>
            <p:cNvSpPr/>
            <p:nvPr/>
          </p:nvSpPr>
          <p:spPr>
            <a:xfrm>
              <a:off x="5105520" y="1600200"/>
              <a:ext cx="0" cy="502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5800" y="4800600"/>
              <a:ext cx="7924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4950720" y="380880"/>
            <a:ext cx="1927080" cy="1447920"/>
            <a:chOff x="4950720" y="380880"/>
            <a:chExt cx="1927080" cy="1447920"/>
          </a:xfrm>
        </p:grpSpPr>
        <p:grpSp>
          <p:nvGrpSpPr>
            <p:cNvPr id="372" name=""/>
            <p:cNvGrpSpPr/>
            <p:nvPr/>
          </p:nvGrpSpPr>
          <p:grpSpPr>
            <a:xfrm>
              <a:off x="4950720" y="380880"/>
              <a:ext cx="1927080" cy="1099440"/>
              <a:chOff x="4950720" y="380880"/>
              <a:chExt cx="1927080" cy="1099440"/>
            </a:xfrm>
          </p:grpSpPr>
          <p:pic>
            <p:nvPicPr>
              <p:cNvPr id="3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81480" y="380880"/>
                <a:ext cx="1371600" cy="9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50720" y="1143000"/>
                <a:ext cx="192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enguiat Bk BT"/>
                  </a:rPr>
                  <a:t>Board of Directo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5791320" y="1447920"/>
              <a:ext cx="304560" cy="380880"/>
            </a:xfrm>
            <a:prstGeom prst="downArrow">
              <a:avLst>
                <a:gd name="adj1" fmla="val 50000"/>
                <a:gd name="adj2" fmla="val 4689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800600" y="304920"/>
            <a:ext cx="21337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432320" y="3086280"/>
            <a:ext cx="2273400" cy="2933640"/>
            <a:chOff x="4432320" y="3086280"/>
            <a:chExt cx="2273400" cy="2933640"/>
          </a:xfrm>
        </p:grpSpPr>
        <p:sp>
          <p:nvSpPr>
            <p:cNvPr id="378" name=""/>
            <p:cNvSpPr/>
            <p:nvPr/>
          </p:nvSpPr>
          <p:spPr>
            <a:xfrm>
              <a:off x="4432320" y="3086280"/>
              <a:ext cx="2273400" cy="2933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22680" y="579132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enguiat Bk BT"/>
                </a:rPr>
                <a:t>Proposed-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523880" y="1650960"/>
            <a:ext cx="7191360" cy="4368960"/>
            <a:chOff x="1523880" y="1650960"/>
            <a:chExt cx="7191360" cy="4368960"/>
          </a:xfrm>
        </p:grpSpPr>
        <p:sp>
          <p:nvSpPr>
            <p:cNvPr id="381" name=""/>
            <p:cNvSpPr/>
            <p:nvPr/>
          </p:nvSpPr>
          <p:spPr>
            <a:xfrm>
              <a:off x="1523880" y="1650960"/>
              <a:ext cx="7191360" cy="4368960"/>
            </a:xfrm>
            <a:custGeom>
              <a:avLst/>
              <a:gdLst/>
              <a:ahLst/>
              <a:rect l="l" t="t" r="r" b="b"/>
              <a:pathLst>
                <a:path w="4530" h="2752">
                  <a:moveTo>
                    <a:pt x="0" y="0"/>
                  </a:moveTo>
                  <a:lnTo>
                    <a:pt x="1" y="2066"/>
                  </a:lnTo>
                  <a:lnTo>
                    <a:pt x="1833" y="2066"/>
                  </a:lnTo>
                  <a:lnTo>
                    <a:pt x="1832" y="935"/>
                  </a:lnTo>
                  <a:lnTo>
                    <a:pt x="3256" y="935"/>
                  </a:lnTo>
                  <a:lnTo>
                    <a:pt x="3258" y="2752"/>
                  </a:lnTo>
                  <a:lnTo>
                    <a:pt x="4530" y="2752"/>
                  </a:lnTo>
                  <a:lnTo>
                    <a:pt x="45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68760" y="1676520"/>
              <a:ext cx="13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enguiat Bk BT"/>
                </a:rPr>
                <a:t>Self-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362320" y="762120"/>
            <a:ext cx="1295280" cy="761760"/>
            <a:chOff x="2362320" y="762120"/>
            <a:chExt cx="1295280" cy="761760"/>
          </a:xfrm>
        </p:grpSpPr>
        <p:sp>
          <p:nvSpPr>
            <p:cNvPr id="384" name=""/>
            <p:cNvSpPr/>
            <p:nvPr/>
          </p:nvSpPr>
          <p:spPr>
            <a:xfrm>
              <a:off x="2362320" y="762120"/>
              <a:ext cx="12952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21000" y="776160"/>
              <a:ext cx="117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t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334120" y="1924200"/>
            <a:ext cx="1295280" cy="890640"/>
            <a:chOff x="5334120" y="1924200"/>
            <a:chExt cx="1295280" cy="890640"/>
          </a:xfrm>
        </p:grpSpPr>
        <p:sp>
          <p:nvSpPr>
            <p:cNvPr id="387" name=""/>
            <p:cNvSpPr/>
            <p:nvPr/>
          </p:nvSpPr>
          <p:spPr>
            <a:xfrm>
              <a:off x="5334120" y="1924200"/>
              <a:ext cx="12952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71560" y="1990800"/>
              <a:ext cx="1218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rective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ssum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676520" y="1530360"/>
            <a:ext cx="1295280" cy="1117440"/>
            <a:chOff x="1676520" y="1530360"/>
            <a:chExt cx="1295280" cy="1117440"/>
          </a:xfrm>
        </p:grpSpPr>
        <p:grpSp>
          <p:nvGrpSpPr>
            <p:cNvPr id="390" name=""/>
            <p:cNvGrpSpPr/>
            <p:nvPr/>
          </p:nvGrpSpPr>
          <p:grpSpPr>
            <a:xfrm>
              <a:off x="1676520" y="2038320"/>
              <a:ext cx="1066680" cy="609480"/>
              <a:chOff x="1676520" y="2038320"/>
              <a:chExt cx="1066680" cy="609480"/>
            </a:xfrm>
          </p:grpSpPr>
          <p:sp>
            <p:nvSpPr>
              <p:cNvPr id="391" name=""/>
              <p:cNvSpPr/>
              <p:nvPr/>
            </p:nvSpPr>
            <p:spPr>
              <a:xfrm>
                <a:off x="1676520" y="203832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69760" y="2100240"/>
                <a:ext cx="88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osi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(data-dat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146320" y="1530360"/>
              <a:ext cx="825480" cy="501480"/>
            </a:xfrm>
            <a:custGeom>
              <a:avLst/>
              <a:gdLst/>
              <a:ahLst/>
              <a:rect l="l" t="t" r="r" b="b"/>
              <a:pathLst>
                <a:path w="520" h="316">
                  <a:moveTo>
                    <a:pt x="520" y="0"/>
                  </a:moveTo>
                  <a:lnTo>
                    <a:pt x="520" y="120"/>
                  </a:lnTo>
                  <a:lnTo>
                    <a:pt x="0" y="120"/>
                  </a:lnTo>
                  <a:lnTo>
                    <a:pt x="0" y="3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743200" y="1517760"/>
            <a:ext cx="2590920" cy="1206360"/>
            <a:chOff x="2743200" y="1517760"/>
            <a:chExt cx="2590920" cy="1206360"/>
          </a:xfrm>
        </p:grpSpPr>
        <p:grpSp>
          <p:nvGrpSpPr>
            <p:cNvPr id="395" name=""/>
            <p:cNvGrpSpPr/>
            <p:nvPr/>
          </p:nvGrpSpPr>
          <p:grpSpPr>
            <a:xfrm>
              <a:off x="3505320" y="1962000"/>
              <a:ext cx="1218960" cy="762120"/>
              <a:chOff x="3505320" y="1962000"/>
              <a:chExt cx="1218960" cy="762120"/>
            </a:xfrm>
          </p:grpSpPr>
          <p:sp>
            <p:nvSpPr>
              <p:cNvPr id="396" name=""/>
              <p:cNvSpPr/>
              <p:nvPr/>
            </p:nvSpPr>
            <p:spPr>
              <a:xfrm>
                <a:off x="3505320" y="1962000"/>
                <a:ext cx="1218960" cy="7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49600" y="1984320"/>
                <a:ext cx="11286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ituat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(SWOT, CR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2743200" y="23432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5320" y="1517760"/>
              <a:ext cx="1149480" cy="438120"/>
            </a:xfrm>
            <a:custGeom>
              <a:avLst/>
              <a:gdLst/>
              <a:ahLst/>
              <a:rect l="l" t="t" r="r" b="b"/>
              <a:pathLst>
                <a:path w="724" h="276">
                  <a:moveTo>
                    <a:pt x="0" y="0"/>
                  </a:moveTo>
                  <a:lnTo>
                    <a:pt x="0" y="128"/>
                  </a:lnTo>
                  <a:lnTo>
                    <a:pt x="724" y="128"/>
                  </a:lnTo>
                  <a:lnTo>
                    <a:pt x="724" y="2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24280" y="2343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629400" y="1924200"/>
            <a:ext cx="1762200" cy="838080"/>
            <a:chOff x="6629400" y="1924200"/>
            <a:chExt cx="1762200" cy="838080"/>
          </a:xfrm>
        </p:grpSpPr>
        <p:grpSp>
          <p:nvGrpSpPr>
            <p:cNvPr id="402" name=""/>
            <p:cNvGrpSpPr/>
            <p:nvPr/>
          </p:nvGrpSpPr>
          <p:grpSpPr>
            <a:xfrm>
              <a:off x="7248600" y="1924200"/>
              <a:ext cx="1143000" cy="838080"/>
              <a:chOff x="7248600" y="1924200"/>
              <a:chExt cx="1143000" cy="838080"/>
            </a:xfrm>
          </p:grpSpPr>
          <p:sp>
            <p:nvSpPr>
              <p:cNvPr id="403" name=""/>
              <p:cNvSpPr/>
              <p:nvPr/>
            </p:nvSpPr>
            <p:spPr>
              <a:xfrm>
                <a:off x="7248600" y="1924200"/>
                <a:ext cx="11430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43280" y="1990800"/>
                <a:ext cx="9532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ision 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(RJP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629400" y="23432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038480" y="3276720"/>
            <a:ext cx="3073680" cy="890640"/>
            <a:chOff x="4038480" y="3276720"/>
            <a:chExt cx="3073680" cy="890640"/>
          </a:xfrm>
        </p:grpSpPr>
        <p:grpSp>
          <p:nvGrpSpPr>
            <p:cNvPr id="407" name=""/>
            <p:cNvGrpSpPr/>
            <p:nvPr/>
          </p:nvGrpSpPr>
          <p:grpSpPr>
            <a:xfrm>
              <a:off x="5054760" y="3276720"/>
              <a:ext cx="1218960" cy="890640"/>
              <a:chOff x="5054760" y="3276720"/>
              <a:chExt cx="1218960" cy="890640"/>
            </a:xfrm>
          </p:grpSpPr>
          <p:sp>
            <p:nvSpPr>
              <p:cNvPr id="408" name=""/>
              <p:cNvSpPr/>
              <p:nvPr/>
            </p:nvSpPr>
            <p:spPr>
              <a:xfrm>
                <a:off x="5054760" y="3276720"/>
                <a:ext cx="12189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185080" y="3343320"/>
                <a:ext cx="957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trateg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ov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4038480" y="36957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92800" y="3692520"/>
              <a:ext cx="819360" cy="6480"/>
            </a:xfrm>
            <a:custGeom>
              <a:avLst/>
              <a:gdLst/>
              <a:ahLst/>
              <a:rect l="l" t="t" r="r" b="b"/>
              <a:pathLst>
                <a:path w="516" h="4">
                  <a:moveTo>
                    <a:pt x="0" y="0"/>
                  </a:moveTo>
                  <a:lnTo>
                    <a:pt x="516" y="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7134120" y="2743200"/>
            <a:ext cx="1371600" cy="1371600"/>
            <a:chOff x="7134120" y="2743200"/>
            <a:chExt cx="1371600" cy="1371600"/>
          </a:xfrm>
        </p:grpSpPr>
        <p:grpSp>
          <p:nvGrpSpPr>
            <p:cNvPr id="413" name=""/>
            <p:cNvGrpSpPr/>
            <p:nvPr/>
          </p:nvGrpSpPr>
          <p:grpSpPr>
            <a:xfrm>
              <a:off x="7134120" y="3276720"/>
              <a:ext cx="1371600" cy="838080"/>
              <a:chOff x="7134120" y="3276720"/>
              <a:chExt cx="1371600" cy="838080"/>
            </a:xfrm>
          </p:grpSpPr>
          <p:sp>
            <p:nvSpPr>
              <p:cNvPr id="414" name=""/>
              <p:cNvSpPr/>
              <p:nvPr/>
            </p:nvSpPr>
            <p:spPr>
              <a:xfrm>
                <a:off x="7134120" y="3276720"/>
                <a:ext cx="13716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193880" y="3343320"/>
                <a:ext cx="1252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stitut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(RJP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7819920" y="2743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136640" y="4114800"/>
            <a:ext cx="1368000" cy="1538280"/>
            <a:chOff x="7136640" y="4114800"/>
            <a:chExt cx="1368000" cy="1538280"/>
          </a:xfrm>
        </p:grpSpPr>
        <p:grpSp>
          <p:nvGrpSpPr>
            <p:cNvPr id="418" name=""/>
            <p:cNvGrpSpPr/>
            <p:nvPr/>
          </p:nvGrpSpPr>
          <p:grpSpPr>
            <a:xfrm>
              <a:off x="7136640" y="4800600"/>
              <a:ext cx="1368000" cy="852480"/>
              <a:chOff x="7136640" y="4800600"/>
              <a:chExt cx="1368000" cy="852480"/>
            </a:xfrm>
          </p:grpSpPr>
          <p:sp>
            <p:nvSpPr>
              <p:cNvPr id="419" name=""/>
              <p:cNvSpPr/>
              <p:nvPr/>
            </p:nvSpPr>
            <p:spPr>
              <a:xfrm>
                <a:off x="7172280" y="4800600"/>
                <a:ext cx="1295280" cy="7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36640" y="4829040"/>
                <a:ext cx="136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dicators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erform. In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7819920" y="41148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881240" y="4114800"/>
            <a:ext cx="1567440" cy="1661040"/>
            <a:chOff x="4881240" y="4114800"/>
            <a:chExt cx="1567440" cy="1661040"/>
          </a:xfrm>
        </p:grpSpPr>
        <p:grpSp>
          <p:nvGrpSpPr>
            <p:cNvPr id="423" name=""/>
            <p:cNvGrpSpPr/>
            <p:nvPr/>
          </p:nvGrpSpPr>
          <p:grpSpPr>
            <a:xfrm>
              <a:off x="4881240" y="4648320"/>
              <a:ext cx="1567440" cy="1127520"/>
              <a:chOff x="4881240" y="4648320"/>
              <a:chExt cx="1567440" cy="1127520"/>
            </a:xfrm>
          </p:grpSpPr>
          <p:sp>
            <p:nvSpPr>
              <p:cNvPr id="424" name=""/>
              <p:cNvSpPr/>
              <p:nvPr/>
            </p:nvSpPr>
            <p:spPr>
              <a:xfrm>
                <a:off x="4902120" y="4648320"/>
                <a:ext cx="152424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81240" y="4708440"/>
                <a:ext cx="15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mplem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gra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Activitie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664240" y="4114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97360" y="5181480"/>
            <a:ext cx="382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Sel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426360" y="5187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133720" y="2666880"/>
            <a:ext cx="1981080" cy="2057400"/>
            <a:chOff x="2133720" y="2666880"/>
            <a:chExt cx="1981080" cy="2057400"/>
          </a:xfrm>
        </p:grpSpPr>
        <p:grpSp>
          <p:nvGrpSpPr>
            <p:cNvPr id="430" name=""/>
            <p:cNvGrpSpPr/>
            <p:nvPr/>
          </p:nvGrpSpPr>
          <p:grpSpPr>
            <a:xfrm>
              <a:off x="2133720" y="2666880"/>
              <a:ext cx="1981080" cy="1257480"/>
              <a:chOff x="2133720" y="2666880"/>
              <a:chExt cx="1981080" cy="125748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2514600" y="3467160"/>
                <a:ext cx="1523880" cy="457200"/>
                <a:chOff x="2514600" y="3467160"/>
                <a:chExt cx="1523880" cy="457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514600" y="346716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77777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661120" y="3527280"/>
                  <a:ext cx="1230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nclusio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2133720" y="2666880"/>
                <a:ext cx="1092240" cy="793800"/>
              </a:xfrm>
              <a:custGeom>
                <a:avLst/>
                <a:gdLst/>
                <a:ahLst/>
                <a:rect l="l" t="t" r="r" b="b"/>
                <a:pathLst>
                  <a:path w="688" h="500">
                    <a:moveTo>
                      <a:pt x="0" y="0"/>
                    </a:moveTo>
                    <a:lnTo>
                      <a:pt x="0" y="228"/>
                    </a:lnTo>
                    <a:lnTo>
                      <a:pt x="688" y="228"/>
                    </a:lnTo>
                    <a:lnTo>
                      <a:pt x="688" y="50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25960" y="2743200"/>
                <a:ext cx="888840" cy="717480"/>
              </a:xfrm>
              <a:custGeom>
                <a:avLst/>
                <a:gdLst/>
                <a:ahLst/>
                <a:rect l="l" t="t" r="r" b="b"/>
                <a:pathLst>
                  <a:path w="560" h="452">
                    <a:moveTo>
                      <a:pt x="0" y="452"/>
                    </a:moveTo>
                    <a:lnTo>
                      <a:pt x="0" y="180"/>
                    </a:lnTo>
                    <a:lnTo>
                      <a:pt x="560" y="180"/>
                    </a:lnTo>
                    <a:lnTo>
                      <a:pt x="56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666880" y="3962520"/>
              <a:ext cx="1295280" cy="761760"/>
              <a:chOff x="2666880" y="3962520"/>
              <a:chExt cx="1295280" cy="761760"/>
            </a:xfrm>
          </p:grpSpPr>
          <p:sp>
            <p:nvSpPr>
              <p:cNvPr id="437" name=""/>
              <p:cNvSpPr/>
              <p:nvPr/>
            </p:nvSpPr>
            <p:spPr>
              <a:xfrm>
                <a:off x="2666880" y="3962520"/>
                <a:ext cx="1295280" cy="761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02960" y="3990600"/>
                <a:ext cx="10249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dentifi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ble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(Root problem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Situational Analysi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600" y="2057400"/>
            <a:ext cx="3429000" cy="3382920"/>
            <a:chOff x="228600" y="2057400"/>
            <a:chExt cx="3429000" cy="3382920"/>
          </a:xfrm>
        </p:grpSpPr>
        <p:grpSp>
          <p:nvGrpSpPr>
            <p:cNvPr id="441" name=""/>
            <p:cNvGrpSpPr/>
            <p:nvPr/>
          </p:nvGrpSpPr>
          <p:grpSpPr>
            <a:xfrm>
              <a:off x="228600" y="2057400"/>
              <a:ext cx="3429000" cy="3382920"/>
              <a:chOff x="228600" y="2057400"/>
              <a:chExt cx="3429000" cy="3382920"/>
            </a:xfrm>
          </p:grpSpPr>
          <p:sp>
            <p:nvSpPr>
              <p:cNvPr id="442" name=""/>
              <p:cNvSpPr/>
              <p:nvPr/>
            </p:nvSpPr>
            <p:spPr>
              <a:xfrm>
                <a:off x="228600" y="2946240"/>
                <a:ext cx="3429000" cy="2494080"/>
              </a:xfrm>
              <a:custGeom>
                <a:avLst/>
                <a:gdLst/>
                <a:ahLst/>
                <a:rect l="l" t="t" r="r" b="b"/>
                <a:pathLst>
                  <a:path w="2160" h="1571">
                    <a:moveTo>
                      <a:pt x="0" y="0"/>
                    </a:moveTo>
                    <a:lnTo>
                      <a:pt x="0" y="1571"/>
                    </a:lnTo>
                    <a:lnTo>
                      <a:pt x="1832" y="1571"/>
                    </a:lnTo>
                    <a:lnTo>
                      <a:pt x="1832" y="935"/>
                    </a:lnTo>
                    <a:lnTo>
                      <a:pt x="2160" y="936"/>
                    </a:lnTo>
                    <a:lnTo>
                      <a:pt x="2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1067040" y="2057400"/>
                <a:ext cx="1295280" cy="761760"/>
                <a:chOff x="1067040" y="2057400"/>
                <a:chExt cx="1295280" cy="7617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067040" y="2057400"/>
                  <a:ext cx="1295280" cy="761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5490a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125720" y="2071440"/>
                  <a:ext cx="11728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urr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itu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381240" y="2825640"/>
                <a:ext cx="1295280" cy="1117440"/>
                <a:chOff x="381240" y="2825640"/>
                <a:chExt cx="1295280" cy="111744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381240" y="3333600"/>
                  <a:ext cx="1066680" cy="609480"/>
                  <a:chOff x="381240" y="3333600"/>
                  <a:chExt cx="1066680" cy="6094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81240" y="3333600"/>
                    <a:ext cx="1066680" cy="609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777777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22640" y="3395520"/>
                    <a:ext cx="9838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si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data section 2-12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0" name=""/>
                <p:cNvSpPr/>
                <p:nvPr/>
              </p:nvSpPr>
              <p:spPr>
                <a:xfrm>
                  <a:off x="851040" y="2825640"/>
                  <a:ext cx="825480" cy="501480"/>
                </a:xfrm>
                <a:custGeom>
                  <a:avLst/>
                  <a:gdLst/>
                  <a:ahLst/>
                  <a:rect l="l" t="t" r="r" b="b"/>
                  <a:pathLst>
                    <a:path w="520" h="316">
                      <a:moveTo>
                        <a:pt x="520" y="0"/>
                      </a:moveTo>
                      <a:lnTo>
                        <a:pt x="520" y="120"/>
                      </a:lnTo>
                      <a:lnTo>
                        <a:pt x="0" y="120"/>
                      </a:lnTo>
                      <a:lnTo>
                        <a:pt x="0" y="31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210040" y="3257280"/>
                <a:ext cx="1218960" cy="762120"/>
                <a:chOff x="2210040" y="3257280"/>
                <a:chExt cx="1218960" cy="762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210040" y="3257280"/>
                  <a:ext cx="1218960" cy="762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77777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254320" y="3279600"/>
                  <a:ext cx="1128600" cy="7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ituation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naly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(Section 2-12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1447920" y="36385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670040" y="2813040"/>
                <a:ext cx="1149480" cy="438120"/>
              </a:xfrm>
              <a:custGeom>
                <a:avLst/>
                <a:gdLst/>
                <a:ahLst/>
                <a:rect l="l" t="t" r="r" b="b"/>
                <a:pathLst>
                  <a:path w="724" h="276">
                    <a:moveTo>
                      <a:pt x="0" y="0"/>
                    </a:moveTo>
                    <a:lnTo>
                      <a:pt x="0" y="128"/>
                    </a:lnTo>
                    <a:lnTo>
                      <a:pt x="724" y="128"/>
                    </a:lnTo>
                    <a:lnTo>
                      <a:pt x="724" y="27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838440" y="3962160"/>
                <a:ext cx="1981080" cy="1257480"/>
                <a:chOff x="838440" y="3962160"/>
                <a:chExt cx="1981080" cy="125748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1219320" y="4762440"/>
                  <a:ext cx="1523880" cy="457200"/>
                  <a:chOff x="1219320" y="4762440"/>
                  <a:chExt cx="1523880" cy="4572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219320" y="4762440"/>
                    <a:ext cx="152388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777777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365840" y="4822560"/>
                    <a:ext cx="1230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clus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838440" y="3962160"/>
                  <a:ext cx="1092240" cy="793800"/>
                </a:xfrm>
                <a:custGeom>
                  <a:avLst/>
                  <a:gdLst/>
                  <a:ahLst/>
                  <a:rect l="l" t="t" r="r" b="b"/>
                  <a:pathLst>
                    <a:path w="688" h="500">
                      <a:moveTo>
                        <a:pt x="0" y="0"/>
                      </a:moveTo>
                      <a:lnTo>
                        <a:pt x="0" y="228"/>
                      </a:lnTo>
                      <a:lnTo>
                        <a:pt x="688" y="228"/>
                      </a:lnTo>
                      <a:lnTo>
                        <a:pt x="688" y="50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930680" y="4038480"/>
                  <a:ext cx="888840" cy="717480"/>
                </a:xfrm>
                <a:custGeom>
                  <a:avLst/>
                  <a:gdLst/>
                  <a:ahLst/>
                  <a:rect l="l" t="t" r="r" b="b"/>
                  <a:pathLst>
                    <a:path w="560" h="452">
                      <a:moveTo>
                        <a:pt x="0" y="452"/>
                      </a:moveTo>
                      <a:lnTo>
                        <a:pt x="0" y="180"/>
                      </a:lnTo>
                      <a:lnTo>
                        <a:pt x="560" y="180"/>
                      </a:lnTo>
                      <a:lnTo>
                        <a:pt x="56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410760" y="4419360"/>
              <a:ext cx="13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enguiat Bk BT"/>
                </a:rPr>
                <a:t>Self-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505320" y="1695600"/>
            <a:ext cx="2514600" cy="1885680"/>
            <a:chOff x="3505320" y="1695600"/>
            <a:chExt cx="2514600" cy="1885680"/>
          </a:xfrm>
        </p:grpSpPr>
        <p:grpSp>
          <p:nvGrpSpPr>
            <p:cNvPr id="464" name=""/>
            <p:cNvGrpSpPr/>
            <p:nvPr/>
          </p:nvGrpSpPr>
          <p:grpSpPr>
            <a:xfrm>
              <a:off x="4343400" y="1695600"/>
              <a:ext cx="1676520" cy="914400"/>
              <a:chOff x="4343400" y="1695600"/>
              <a:chExt cx="1676520" cy="914400"/>
            </a:xfrm>
          </p:grpSpPr>
          <p:sp>
            <p:nvSpPr>
              <p:cNvPr id="465" name=""/>
              <p:cNvSpPr/>
              <p:nvPr/>
            </p:nvSpPr>
            <p:spPr>
              <a:xfrm>
                <a:off x="4343400" y="1695600"/>
                <a:ext cx="1676520" cy="9144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617000" y="1832040"/>
                <a:ext cx="1127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SWO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Analys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3505320" y="2133720"/>
              <a:ext cx="761760" cy="14475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0" y="720"/>
                  </a:moveTo>
                  <a:lnTo>
                    <a:pt x="192" y="720"/>
                  </a:lnTo>
                  <a:lnTo>
                    <a:pt x="192" y="0"/>
                  </a:lnTo>
                  <a:lnTo>
                    <a:pt x="48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505320" y="3581280"/>
            <a:ext cx="2523960" cy="938160"/>
            <a:chOff x="3505320" y="3581280"/>
            <a:chExt cx="2523960" cy="938160"/>
          </a:xfrm>
        </p:grpSpPr>
        <p:grpSp>
          <p:nvGrpSpPr>
            <p:cNvPr id="469" name=""/>
            <p:cNvGrpSpPr/>
            <p:nvPr/>
          </p:nvGrpSpPr>
          <p:grpSpPr>
            <a:xfrm>
              <a:off x="4352760" y="3605040"/>
              <a:ext cx="1676520" cy="914400"/>
              <a:chOff x="4352760" y="3605040"/>
              <a:chExt cx="1676520" cy="914400"/>
            </a:xfrm>
          </p:grpSpPr>
          <p:sp>
            <p:nvSpPr>
              <p:cNvPr id="470" name=""/>
              <p:cNvSpPr/>
              <p:nvPr/>
            </p:nvSpPr>
            <p:spPr>
              <a:xfrm>
                <a:off x="4352760" y="3605040"/>
                <a:ext cx="1676520" cy="9144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55720" y="3741480"/>
                <a:ext cx="1473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Root-Cau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Analys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3505320" y="3581280"/>
              <a:ext cx="761760" cy="45720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80" y="19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095880" y="3657600"/>
            <a:ext cx="2123280" cy="809640"/>
            <a:chOff x="6095880" y="3657600"/>
            <a:chExt cx="2123280" cy="809640"/>
          </a:xfrm>
        </p:grpSpPr>
        <p:grpSp>
          <p:nvGrpSpPr>
            <p:cNvPr id="474" name=""/>
            <p:cNvGrpSpPr/>
            <p:nvPr/>
          </p:nvGrpSpPr>
          <p:grpSpPr>
            <a:xfrm>
              <a:off x="6942600" y="3657600"/>
              <a:ext cx="1276560" cy="809640"/>
              <a:chOff x="6942600" y="3657600"/>
              <a:chExt cx="1276560" cy="809640"/>
            </a:xfrm>
          </p:grpSpPr>
          <p:sp>
            <p:nvSpPr>
              <p:cNvPr id="475" name=""/>
              <p:cNvSpPr/>
              <p:nvPr/>
            </p:nvSpPr>
            <p:spPr>
              <a:xfrm>
                <a:off x="6946560" y="3657600"/>
                <a:ext cx="1247400" cy="8096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42600" y="3711600"/>
                <a:ext cx="1276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Problems State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095880" y="40626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095880" y="1523880"/>
            <a:ext cx="2362320" cy="1199880"/>
            <a:chOff x="6095880" y="1523880"/>
            <a:chExt cx="2362320" cy="1199880"/>
          </a:xfrm>
        </p:grpSpPr>
        <p:grpSp>
          <p:nvGrpSpPr>
            <p:cNvPr id="479" name=""/>
            <p:cNvGrpSpPr/>
            <p:nvPr/>
          </p:nvGrpSpPr>
          <p:grpSpPr>
            <a:xfrm>
              <a:off x="6705720" y="1523880"/>
              <a:ext cx="1752480" cy="1199880"/>
              <a:chOff x="6705720" y="1523880"/>
              <a:chExt cx="1752480" cy="1199880"/>
            </a:xfrm>
          </p:grpSpPr>
          <p:sp>
            <p:nvSpPr>
              <p:cNvPr id="480" name=""/>
              <p:cNvSpPr/>
              <p:nvPr/>
            </p:nvSpPr>
            <p:spPr>
              <a:xfrm>
                <a:off x="6705720" y="1523880"/>
                <a:ext cx="1752480" cy="1199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10400" y="1620360"/>
                <a:ext cx="1741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trength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Weakness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 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 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Opportunities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Threa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 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 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095880" y="212400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6095880" y="5151600"/>
            <a:ext cx="2362320" cy="1249200"/>
            <a:chOff x="6095880" y="5151600"/>
            <a:chExt cx="2362320" cy="1249200"/>
          </a:xfrm>
        </p:grpSpPr>
        <p:sp>
          <p:nvSpPr>
            <p:cNvPr id="484" name=""/>
            <p:cNvSpPr/>
            <p:nvPr/>
          </p:nvSpPr>
          <p:spPr>
            <a:xfrm>
              <a:off x="6095880" y="57913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705720" y="5151600"/>
              <a:ext cx="1752480" cy="1249200"/>
              <a:chOff x="6705720" y="5151600"/>
              <a:chExt cx="1752480" cy="1249200"/>
            </a:xfrm>
          </p:grpSpPr>
          <p:sp>
            <p:nvSpPr>
              <p:cNvPr id="486" name=""/>
              <p:cNvSpPr/>
              <p:nvPr/>
            </p:nvSpPr>
            <p:spPr>
              <a:xfrm>
                <a:off x="6705720" y="5181840"/>
                <a:ext cx="1752480" cy="121896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6778800" y="5451480"/>
                <a:ext cx="1604880" cy="677520"/>
                <a:chOff x="6778800" y="5451480"/>
                <a:chExt cx="1604880" cy="6775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778800" y="5804280"/>
                  <a:ext cx="1604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200720" y="5830560"/>
                  <a:ext cx="338760" cy="217080"/>
                </a:xfrm>
                <a:prstGeom prst="upArrow">
                  <a:avLst>
                    <a:gd name="adj1" fmla="val 50000"/>
                    <a:gd name="adj2" fmla="val 47917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00720" y="5451480"/>
                  <a:ext cx="338760" cy="325080"/>
                </a:xfrm>
                <a:prstGeom prst="downArrow">
                  <a:avLst>
                    <a:gd name="adj1" fmla="val 50000"/>
                    <a:gd name="adj2" fmla="val 36111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6820920" y="5829840"/>
                  <a:ext cx="336960" cy="271080"/>
                </a:xfrm>
                <a:prstGeom prst="downArrow">
                  <a:avLst>
                    <a:gd name="adj1" fmla="val 50000"/>
                    <a:gd name="adj2" fmla="val 36111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820920" y="5641200"/>
                  <a:ext cx="336960" cy="135360"/>
                </a:xfrm>
                <a:prstGeom prst="downArrow">
                  <a:avLst>
                    <a:gd name="adj1" fmla="val 54167"/>
                    <a:gd name="adj2" fmla="val 48810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580160" y="5830560"/>
                  <a:ext cx="338760" cy="298440"/>
                </a:xfrm>
                <a:prstGeom prst="upArrow">
                  <a:avLst>
                    <a:gd name="adj1" fmla="val 54167"/>
                    <a:gd name="adj2" fmla="val 32764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580160" y="5587200"/>
                  <a:ext cx="338760" cy="189360"/>
                </a:xfrm>
                <a:prstGeom prst="downArrow">
                  <a:avLst>
                    <a:gd name="adj1" fmla="val 45833"/>
                    <a:gd name="adj2" fmla="val 50296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61400" y="5830560"/>
                  <a:ext cx="336960" cy="244800"/>
                </a:xfrm>
                <a:prstGeom prst="upArrow">
                  <a:avLst>
                    <a:gd name="adj1" fmla="val 54167"/>
                    <a:gd name="adj2" fmla="val 40278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61400" y="5451480"/>
                  <a:ext cx="336960" cy="325080"/>
                </a:xfrm>
                <a:prstGeom prst="downArrow">
                  <a:avLst>
                    <a:gd name="adj1" fmla="val 50000"/>
                    <a:gd name="adj2" fmla="val 36111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6913080" y="5151600"/>
                <a:ext cx="133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straining for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41240" y="6118200"/>
                <a:ext cx="108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iving for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9" name=""/>
          <p:cNvGrpSpPr/>
          <p:nvPr/>
        </p:nvGrpSpPr>
        <p:grpSpPr>
          <a:xfrm>
            <a:off x="4343400" y="4495680"/>
            <a:ext cx="3200400" cy="1752840"/>
            <a:chOff x="4343400" y="4495680"/>
            <a:chExt cx="3200400" cy="1752840"/>
          </a:xfrm>
        </p:grpSpPr>
        <p:grpSp>
          <p:nvGrpSpPr>
            <p:cNvPr id="500" name=""/>
            <p:cNvGrpSpPr/>
            <p:nvPr/>
          </p:nvGrpSpPr>
          <p:grpSpPr>
            <a:xfrm>
              <a:off x="4343400" y="5334120"/>
              <a:ext cx="1676520" cy="914400"/>
              <a:chOff x="4343400" y="5334120"/>
              <a:chExt cx="1676520" cy="914400"/>
            </a:xfrm>
          </p:grpSpPr>
          <p:sp>
            <p:nvSpPr>
              <p:cNvPr id="501" name=""/>
              <p:cNvSpPr/>
              <p:nvPr/>
            </p:nvSpPr>
            <p:spPr>
              <a:xfrm>
                <a:off x="4343400" y="5334120"/>
                <a:ext cx="1676520" cy="9144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470840" y="5470920"/>
                <a:ext cx="142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Force-Fie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Analys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181480" y="4495680"/>
              <a:ext cx="2362320" cy="762120"/>
            </a:xfrm>
            <a:custGeom>
              <a:avLst/>
              <a:gdLst/>
              <a:ahLst/>
              <a:rect l="l" t="t" r="r" b="b"/>
              <a:pathLst>
                <a:path w="1536" h="480">
                  <a:moveTo>
                    <a:pt x="0" y="480"/>
                  </a:moveTo>
                  <a:lnTo>
                    <a:pt x="0" y="216"/>
                  </a:lnTo>
                  <a:lnTo>
                    <a:pt x="1536" y="216"/>
                  </a:lnTo>
                  <a:lnTo>
                    <a:pt x="1536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705120" y="2819520"/>
            <a:ext cx="5133960" cy="642600"/>
            <a:chOff x="3705120" y="2819520"/>
            <a:chExt cx="5133960" cy="642600"/>
          </a:xfrm>
        </p:grpSpPr>
        <p:sp>
          <p:nvSpPr>
            <p:cNvPr id="505" name=""/>
            <p:cNvSpPr/>
            <p:nvPr/>
          </p:nvSpPr>
          <p:spPr>
            <a:xfrm>
              <a:off x="3957480" y="2819520"/>
              <a:ext cx="470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Rencana Strategis - 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Times New Roman"/>
                </a:rPr>
                <a:t>Strategic Planning (glob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Rencana Operasional - 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Times New Roman"/>
                </a:rPr>
                <a:t>Tactical Planning (deta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5120" y="3162240"/>
              <a:ext cx="5133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35:25Z</dcterms:created>
  <dc:creator>Iik Wilarso</dc:creator>
  <dc:description/>
  <dc:language>en-US</dc:language>
  <cp:lastModifiedBy>Jack la Motta</cp:lastModifiedBy>
  <cp:lastPrinted>2002-09-30T03:18:26Z</cp:lastPrinted>
  <dcterms:modified xsi:type="dcterms:W3CDTF">2003-10-04T23:50:37Z</dcterms:modified>
  <cp:revision>148</cp:revision>
  <dc:subject/>
  <dc:title>Self-Evaluation  dalam Konteks Perencanaan  </dc:title>
</cp:coreProperties>
</file>